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2983-01B0-404F-ADB9-03989847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CA65-6B55-4AC0-AB82-419CEBBC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A805-2E3B-40E8-8664-311B4A8E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09AB-A51F-45A0-91AC-08B26F05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914D-65FC-431E-AEC1-39F60614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55E3-3670-4A5E-8C5D-E60A94E1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C529-05FD-41EF-AFBE-C1BB7487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4B37-E533-4DF5-9189-F7EB0104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A413-F615-406D-A1C5-28CFD824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1E98-FF41-46AD-A0CB-E073A882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D804-09AE-4B60-BE26-8D50F0F6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465E8-13DE-4C9B-A20B-10B8310D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0FAA-E927-489A-A931-99491D6C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70E9-7C9A-4C50-98C9-29868CF9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59AF-4A99-48F2-8758-EE61364E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9E97-EA7D-4ECB-B03F-1CD82C1C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8B84-1F48-4F63-8E98-055188D9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A88E-8D0B-4281-A2CD-115AC6CD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2148-D837-48EC-9367-A6475D15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DE85-D50F-4FBF-8AF8-F205F20C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ADF7-EB28-4754-8082-A7EAB3FE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5D45-2EBF-4DC9-BD93-2B564C46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B5BC-AB20-431C-A5F0-F5030FAB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6D60-5F68-434E-98B1-F0CC0EA7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A4BA-CB41-4FE6-A9AE-3A49EA2591F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862D-EE8B-4633-B204-5E168F463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ECF1-E752-4906-8C11-DA89529086E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0E5B-D66D-4DCF-8539-A21E734CC4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مفاهيم المتعلقة بالبيانات و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هدف من المحاضرة(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تعرف على مفهوم البيانات و المعلومات، المعرفة و الخبر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تعرف على مفهوم جودة المعلومات وخصائصها ومصادر الاخطاء فيها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تعرف على شرائح المعلومات داخل المنظم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حوجة للمعلومات في منظمات الاعمال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تعرف على تحديات التعامل مع المعلومات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طرق جمع البيانات و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Garamond"/>
              </a:rPr>
              <a:t>الطرق المكتبية : تعتمد على الرجوع للكتب و المراجع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طرق الميدانية : (اسلوب المسح الشامل، المسح بالعينة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خصائص المعلومات الجيد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Garamond"/>
              </a:rPr>
              <a:t>جودة المعلومة : خصائص المعلومات التي تقابل أو تتخطى توقعات المستفيد منها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الشمولية : بحيث تغطي هذه المعلومات جميع جوانب الموضوع قيد الدراس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الدقة : بحيث تخلو هذه المعلومات من الأخطاء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المناسبة زمنياً: بحيث تتوفر هذه المعلومات في الوقت المناسب للإستفادة منها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الواقعية: و تمثل واقع عمل المستفيد لتكون ذات فائدة في التعامل مع هذا الموضو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الكلفة : وتكون كلفة المعلومات اقل من فائدتها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المرونة و القابلية للقياس: اي قابليتها للإستخدام لاكثر من مستخدم(المرونة ) كما يمكن اجراء مقارنات أو تحليل كمي للربط بين المعلومات وبالتالي نتائج اكثر دقة(القابلية للقياس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عدم التضارب : كل جزء من المعلومة لديه معنى واحد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سهولة والوضوح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بمعني أن تكون المعلومات واضحة ومفهومة لمستخدميها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SimSun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وخالية من الرموز و الكلمات الغير واضح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سرية المعلوم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يقصد بها عدم السماح  للاشخاص غير المصرح لهم بالاطلاع على المعلومة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اخفاؤها ومنع تسربها الى افراد غير مخول لهم الحصول عليها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أمن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مجموعة الاجراءات الوقائية المتخذه لحماية المعلومات من السرقة أو الضياع أو التلف و وضعها في شكل أمن لحمايتها من أي اعتداء عليها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صادر الأخطاء في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خطاء جمع البيان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خطاء المعالج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خطاء الادخال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خطاء المتعمد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المعلومات الإدار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تعتبر المعلومة اهم واضخم مورد للمنظمة لانها المحور و الركيزة لكافة العمليات الإداري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أنواع المعلومات الإدارية حسب الوظائف الإدارية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** المعلومات الانتاجية و التصنيع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** معلومات الافراد و القوى البش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** معلومات التمويل و المحاس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** المعلومات التسويقية و البيعي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أنواع المعلومات الإدارية حسب المستويات الإدارية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علومات الإستراتيجية (للمستوى الاستراتيجي)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علومات التكتيكية (للمستوى التكتيكي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علومات الفنية (للمستوى الفني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معلومات التشغيل (للمستوى التشغيلي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هيكلية المعلومات الادارية في المنظم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48" name="Diagram 5"/>
          <p:cNvGrpSpPr/>
          <p:nvPr/>
        </p:nvGrpSpPr>
        <p:grpSpPr>
          <a:xfrm>
            <a:off x="2400480" y="1982520"/>
            <a:ext cx="4343400" cy="3760560"/>
            <a:chOff x="2400480" y="1982520"/>
            <a:chExt cx="4343400" cy="3760560"/>
          </a:xfrm>
        </p:grpSpPr>
        <p:sp>
          <p:nvSpPr>
            <p:cNvPr id="149" name="_s1028"/>
            <p:cNvSpPr/>
            <p:nvPr/>
          </p:nvSpPr>
          <p:spPr>
            <a:xfrm flipV="1">
              <a:off x="3848040" y="1982160"/>
              <a:ext cx="1447920" cy="1253880"/>
            </a:xfrm>
            <a:custGeom>
              <a:avLst/>
              <a:gdLst>
                <a:gd name="textAreaLeft" fmla="*/ 519480 w 1447920"/>
                <a:gd name="textAreaRight" fmla="*/ 928440 w 1447920"/>
                <a:gd name="textAreaTop" fmla="*/ 450000 h 1253880"/>
                <a:gd name="textAreaBottom" fmla="*/ 803880 h 125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5400" spc="-1" strike="noStrike">
                  <a:solidFill>
                    <a:srgbClr val="ff0000"/>
                  </a:solidFill>
                  <a:latin typeface="Garamond"/>
                </a:rPr>
                <a:t>1</a:t>
              </a:r>
              <a:endParaRPr b="0" lang="en-US" sz="5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_s1029"/>
            <p:cNvSpPr/>
            <p:nvPr/>
          </p:nvSpPr>
          <p:spPr>
            <a:xfrm flipV="1">
              <a:off x="3124080" y="3236760"/>
              <a:ext cx="2895840" cy="1254240"/>
            </a:xfrm>
            <a:custGeom>
              <a:avLst/>
              <a:gdLst>
                <a:gd name="textAreaLeft" fmla="*/ 636840 w 2895840"/>
                <a:gd name="textAreaRight" fmla="*/ 2259000 w 2895840"/>
                <a:gd name="textAreaTop" fmla="*/ 275760 h 1254240"/>
                <a:gd name="textAreaBottom" fmla="*/ 97848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7200" spc="-1" strike="noStrike">
                  <a:solidFill>
                    <a:srgbClr val="ff0000"/>
                  </a:solidFill>
                  <a:latin typeface="Garamond"/>
                </a:rPr>
                <a:t>2</a:t>
              </a:r>
              <a:endParaRPr b="0" lang="en-US" sz="7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_s1030"/>
            <p:cNvSpPr/>
            <p:nvPr/>
          </p:nvSpPr>
          <p:spPr>
            <a:xfrm flipV="1">
              <a:off x="2400480" y="4490280"/>
              <a:ext cx="4343400" cy="1252440"/>
            </a:xfrm>
            <a:custGeom>
              <a:avLst/>
              <a:gdLst>
                <a:gd name="textAreaLeft" fmla="*/ 753840 w 4343400"/>
                <a:gd name="textAreaRight" fmla="*/ 3589560 w 4343400"/>
                <a:gd name="textAreaTop" fmla="*/ 217440 h 1252440"/>
                <a:gd name="textAreaBottom" fmla="*/ 1035000 h 12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6600" spc="-1" strike="noStrike">
                  <a:solidFill>
                    <a:srgbClr val="ff0000"/>
                  </a:solidFill>
                  <a:latin typeface="Garamond"/>
                </a:rPr>
                <a:t>3</a:t>
              </a:r>
              <a:endParaRPr b="0" lang="en-US" sz="6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شرائح المعلومات داخل المنظمة(متابعة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شريحة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3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(في قاعدة الهرم):تحتوي الشريحة الأولى على المعلومات الخاصة بالعمليات داخل المنظمة ، و تتميز هذه الشريحة باحتوائها على معلومات يومية تتميز باحجامها الكبير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شريحة 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(في وسط الهرم): تحتوي على معلومات تم استخلاصها بعناية من مستوى المعلومات الأدنى لمساعدة الإدارة في تنفيذ النشاطات التكتيكية و حل المشاكل التي تواجه الإدارة في هذا المستوى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شريحة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 (في قمة الهرم):تحتوي المعلومات الإستنتاجية و التحليلية التي تم إستخلاصها من المستوى الادنى و التي يستفاد منها في إتخاذ القرارات الإستراتيجية للتخطيط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80880" y="3276720"/>
            <a:ext cx="853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حاجة إلى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Garamond"/>
              </a:rPr>
              <a:t>تعتبر المعلومة هامه للإدارة وذلك لانه يمكن استخدامها في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Garamond"/>
              </a:rPr>
              <a:t>***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عكس المعلومات واقع الأداء بأقسام وأنشطة المنظمة المختلفة، وبالتالي تمكن الإدارة ما معرفة ما هو حديث في أداء المنظمة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Garamond"/>
              </a:rPr>
              <a:t>***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 تعتبرعنصراُ رئيسياً في اتخاذ القرار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Garamond"/>
              </a:rPr>
              <a:t>***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 الحوجة لجمع البيانات و المعلومات عن بيئة المنظمة الخارجية (السوق، الموردين،...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Garamond"/>
              </a:rPr>
              <a:t>***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 الحوجة للانتشار و التوسع في السو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بيانات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Da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مجموعة الأرقام أو الحروف أو الرموز أو الجمل غير المنظمة والتي قد لايستفاد منها في شكلها الحالى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ادة الخام التى تستخرج منها المعلوم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الأسباب التي تجعل ضرورة إهتمام المنظمة على المعلومات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كبر حجم المنظمات وتفرعها و تعقيدها يؤدي لضرورة الاهتمام بالمعلوم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منافسة في بيئة الاعما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تغير السريع في بيئة المنظم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حالة عدم الاستقرار نتيجة التغير في الظروف الإقتصادية والسياسية، وارتباطها بنشاط الأعمال وبالتالي انعكاس آثارها عليه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اهتمام بالبيئة الداخلية للمنظم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3300"/>
                </a:solidFill>
                <a:latin typeface="Garamond"/>
              </a:rPr>
              <a:t>تحديات التعامل مع البيانات و المعلوما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معالجة..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تخزين..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استرجاع..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كم الهائل من البيانات..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بيانات المترابطة..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معلومات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nformation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بيانات التى تمت معالجتها لتحقيق هدف معين أو لاستعمال محدد</a:t>
            </a:r>
            <a:r>
              <a:rPr b="0" lang="ar-SA" sz="4000" spc="-1" strike="noStrike">
                <a:solidFill>
                  <a:srgbClr val="ffff00"/>
                </a:solidFill>
                <a:latin typeface="Garamond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مجموعة من البيانات المعالجة، المنظّمة، المترابطة و المعدّة للإستخدام و إتخاذ القرار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لمعالجة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عمليات تجرى على البيانات لتحويلها لبيان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وتشمل : 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إضافة ، الحذف ، التعديل،التبويب،التصنيف ، التنظيم ، التحليل ،.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حويل البيانات لمعلوم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بيانات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+معالجة= معلوم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معرفة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Knowled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مجموعة من المعلومات الموجهه و المختبره والتي تخدم موضوع معين تمت معالجتها و إثباتها وترقيتها بصورة تراكمي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الخبرة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erienc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جموعة المعرفة المثبتة و المختبرة و التي تخدم مواضيع عدة تم إثباتها و تعميمها و تجميعها وترقيتها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جموعة من المعرفة المتراكم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أنواع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aramond"/>
              </a:rPr>
              <a:t>تتنوع بتنوع محتواها و هدفها و حجمها و على حسب ارتباطها بالموضوع  منها: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Garamond"/>
              </a:rPr>
              <a:t>    -- المعلومات التاريخية : معلومات تتعلق بفترات سابق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Garamond"/>
              </a:rPr>
              <a:t>    -- المعلومات الفنية: معلومات توضح كيفية أداء و إنجاز الامور الفني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Garamond"/>
              </a:rPr>
              <a:t>    -- المعلومات الوظيفية: المعلومات التي تتعلق باي من المجالات العامة مثل الاقتصادية و غيرها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aramond"/>
              </a:rPr>
              <a:t>-- 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</a:rPr>
              <a:t>المعلومات الادارية: معلومات تتعلق بكافة مجالات و أنشطة ووظائف المنظم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مصادر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يمكن تقسيمها الى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صادر الداخلية : وهي البيانات و المعلومات المتوفرة و الموجودة داخل المنظم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المصادر الخارجية : هي المعلومات  التي يتم الحصول عليها من بيئة المنظمة الخارجي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مصادر أخرى للمعلومات و البيان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مصادر الثانوية: تشمل المراجع،الكتب ، الدوريات و النشرات و المجل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مصادر الاولية: تشمل الملاحظة الشخصية و الاستقصاء و التجربة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بنوك المعلومات : فيها يتم تجميع اكبر قدر من المعلومات المرتبطة وتخزينها كل حسب الفئة بحيث يتم استرجاعها بسرعة للاستفادة منها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انترنت:  تكون البيانات و المعلومات قد اعدتها و نظمتها منظمات و عرضتها على مواقعها على شبكة الانترنت ليتثنى للجميع تداولها و الاستفادة منها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user 111</cp:lastModifiedBy>
  <dcterms:modified xsi:type="dcterms:W3CDTF">2021-10-18T14:17:26Z</dcterms:modified>
  <cp:revision>219</cp:revision>
  <dc:subject/>
  <dc:title>Internet Application </dc:title>
</cp:coreProperties>
</file>