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نظم العلومات الإدارية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9096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73520" cy="35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9096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AF9B9C2-848C-48FC-B772-7EB6B9A6D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نظم ال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نظم ال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4880" y="4439880"/>
            <a:ext cx="56354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4B0E1-B140-464F-A6B6-D87CBAB3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4128-C29C-45A8-8018-428D2FEC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D29AB-238F-486C-A91F-5BC98DD5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24A0-CF3C-439A-A11C-558D5404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55C7-1215-43AA-9231-8BEAAB03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3AC3-FD16-463A-9494-2B58ED71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65A7-8C34-4765-812F-F558B40A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E7EA-8971-466F-93F0-57D37A4B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7257-8E83-43C3-BB15-566860F6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9015-7040-4BB8-A0FD-2220BC55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42B4-0D89-432F-9CE7-448500F4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9DA4-2B53-4357-A36B-624CED3C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503F-2C2F-4A19-85A9-C487AE03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7B84-ED48-4062-B59D-55EAAD32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33D6-B79F-457A-BB35-18F8DB5A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905B-7E0A-4812-81B1-847C6F28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1A13-E145-4337-BC57-019B8044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F0F34-674F-473A-A04C-F4FECF12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75A12-62E2-4832-954C-50D3051F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8B185-6EF2-48DC-9C12-F49C8011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72E97-5B89-4FBD-A681-3EAA260C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24A10-09D6-4863-AE92-7C6AE48A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84A2-F65A-4296-92F6-9A5AC9CA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432B8-AFBF-4A44-AF80-991254E5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7E0F-7A12-47FA-B8BC-1E25B09B5DE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40F3-C55A-4867-85FB-5DD5A9549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7D7E-751B-44B1-8E0F-D060E215B911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7D50-95C7-433F-A2F6-94DD83096E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أهداف</a:t>
            </a: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محاض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aramond"/>
              </a:rPr>
              <a:t>التعرف على 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:</a:t>
            </a:r>
            <a:r>
              <a:rPr b="0" lang="ar-SA" sz="36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أنظمة أتمتة المكاتب ،فوائدها، مميزاتها ،انواعها والبرامج المستخدمة فيها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العلاقة بين الانظمة الرئيسية الاربع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نظم المعلومات بناء على وظيفة التنظي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Garamond"/>
              </a:rPr>
              <a:t>النظره التقليديه لنظم المعلومات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00"/>
                </a:solidFill>
                <a:latin typeface="Garamond"/>
              </a:rPr>
              <a:t>دعم تكامل و تنسيق كامل للاجراءات التي تقوم ب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0" lang="ar-JO" sz="3200" spc="-1" strike="noStrike">
                <a:solidFill>
                  <a:srgbClr val="ffff00"/>
                </a:solidFill>
                <a:latin typeface="Garamond"/>
              </a:rPr>
              <a:t>ا المنظمة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نظام إدارة موارد المنشاة، نظام إدارة سلسلة التزويد، نظام إدارة العلاقة مع الزبون و نظم إدارة المعرف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نظم المعلومات بناء على وظيفة التنظي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-4935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أولاً:  نظم معلومات التسويق و المبيع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35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** مسؤولة عن تشغيل جميع عمليات التسويق والمبيعات تكنولوجي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35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** </a:t>
            </a: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تعرف بأنها النظم المحوسبة المصممة تكنولوجيا لتشغيل عمليات التسويق والمبيعات في المنظم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935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ff"/>
                </a:solidFill>
                <a:uFillTx/>
                <a:latin typeface="Garamond"/>
              </a:rPr>
              <a:t>++ من تطبيقات نظم معلومات التسويق و المبيعات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التنبؤ باتجاه المبيعات (المستوى الاستراتيجي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تحليل الاسعار(التكتيكي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تحليل السوق (الفني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93560" indent="-49356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تنفيذ طلبات الشراء (التشغيلي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5e5ff"/>
                </a:solidFill>
                <a:latin typeface="Garamond"/>
              </a:rPr>
              <a:t>مصادر معلومات نظم معلومات التسويق والمبيعات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00"/>
                </a:solidFill>
                <a:latin typeface="Garamond"/>
              </a:rPr>
              <a:t>المصادر الداخلية</a:t>
            </a:r>
            <a:r>
              <a:rPr b="0" lang="ar-SA" sz="60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1" lang="ar-SA" sz="4800" spc="-1" strike="noStrike">
                <a:solidFill>
                  <a:srgbClr val="ffffff"/>
                </a:solidFill>
                <a:latin typeface="Garamond"/>
              </a:rPr>
              <a:t>من بيانات المنظمة الخاصة عن عمليات التسويق والمبيعات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Garamond"/>
              </a:rPr>
              <a:t>المصادر الخارجية :من بيانات من خارج المنظمة مثل معلومات المنافسين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فوائد نظم معلومات التسويق و المبيع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لتنبؤ باتجاه المبيعات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توثيق جميع عمليات المبيعات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تحليل وتحديد اسعار السلع و الخدمات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تحليل وتحديد الحصة السوقية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نظم معلومات التصنيع و العملي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تعرف بانها نظم مصممه تكنولوجيا لدعم وتشغيل نشاطات الانتاج والتصنيع و العمليات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تقوم نظم التصنيع والعمليات بتوفير تطبيقات حاسوبية تساعد في إنجاز عمليات ونشاطات الانتاج في كافة مراحله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تطبيقات نظم معلومات التصنيع و العملي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600200"/>
          <a:ext cx="8229600" cy="5156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المستو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وصف النظا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اسم التطبي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الاستراتيج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تقرير اماكن وضع المصان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اختيار الموق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التكتيك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تقرير اين وكيف سيتم الانتا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تخطيط المنتج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الفن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تصميم المنتجات الجديد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نظام التصمي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التشغيل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مراقبة نشاطات الال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مراقبة الال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0000"/>
                </a:solidFill>
                <a:latin typeface="Garamond"/>
              </a:rPr>
              <a:t>النظره التقليديه لنظم المعلومات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في الاعمال : هنالك مجموعه من الوظائف ( التصنيع و الانتاج , الماليه و المحاسبه , المبيعات و التسويق , الموارد البشريه ) كل منها لها أستخدامها في نظم المعلومات ( نظام التصنيع و الانتاج , نظام الماليه و المحاسبه , نظام المبيعات و التسويق , نظام الموارد البشريه 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خارج حدود المنظمه : هنالك العميل و البائ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الوظائف ( الانظمه الوظيفي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 )  تعمل منفصله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في الشركات التقليدية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ذة الانظمة تكون منفصلة عن بعض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ا البعض مما يسبب العديد من المشاكل الناتجة عن عدم سلاسة أنسياب المعلومات و تضارب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ا نتيجة تكرار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ا في الانظمة المختلف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في الشركات الرقمية الحديثة الانواع المختلفة للانظمة مرتبطة ببعض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ا البعض بأحكام. و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ذة الفكرة الاساسية في الشركات الرقمية الحديثة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كيف يتم 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دعم تكامل و تنسيق كامل للاجراءات التي تقوم ب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ا المنظمة ( الداخلية و الخارجية 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لدعم التنسيق و التكامل بين  الانظمة الوظيفية الاربع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 ( نظام التسويق و المبيعات و نظام التصنيع و الانتاج و نظام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المالية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 و المحاسب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3600" spc="-1" strike="noStrike">
                <a:solidFill>
                  <a:srgbClr val="ffff00"/>
                </a:solidFill>
                <a:latin typeface="Garamond"/>
              </a:rPr>
              <a:t> و نظام الموارد البشرية ) بالاضافة الى الى نظام المعرفة و نظام الاتمتة </a:t>
            </a:r>
            <a:r>
              <a:rPr b="1" lang="ar-JO" sz="3600" spc="-1" strike="noStrike" u="sng">
                <a:solidFill>
                  <a:srgbClr val="ffffff"/>
                </a:solidFill>
                <a:uFillTx/>
                <a:latin typeface="Garamond"/>
              </a:rPr>
              <a:t>للوصول الى نظام موحد للمعلومات الداخلي</a:t>
            </a:r>
            <a:r>
              <a:rPr b="1" lang="ar-SA" sz="3600" spc="-1" strike="noStrike" u="sng">
                <a:solidFill>
                  <a:srgbClr val="ffffff"/>
                </a:solidFill>
                <a:uFillTx/>
                <a:latin typeface="Garamond"/>
              </a:rPr>
              <a:t>ة</a:t>
            </a:r>
            <a:r>
              <a:rPr b="1" lang="ar-JO" sz="3600" spc="-1" strike="noStrike" u="sng">
                <a:solidFill>
                  <a:srgbClr val="ffffff"/>
                </a:solidFill>
                <a:uFillTx/>
                <a:latin typeface="Garamond"/>
              </a:rPr>
              <a:t> الخاص</a:t>
            </a:r>
            <a:r>
              <a:rPr b="1" lang="ar-SA" sz="3600" spc="-1" strike="noStrike" u="sng">
                <a:solidFill>
                  <a:srgbClr val="ffffff"/>
                </a:solidFill>
                <a:uFillTx/>
                <a:latin typeface="Garamond"/>
              </a:rPr>
              <a:t>ة</a:t>
            </a:r>
            <a:r>
              <a:rPr b="1" lang="ar-JO" sz="3600" spc="-1" strike="noStrike" u="sng">
                <a:solidFill>
                  <a:srgbClr val="ffffff"/>
                </a:solidFill>
                <a:uFillTx/>
                <a:latin typeface="Garamond"/>
              </a:rPr>
              <a:t> بالمنظم</a:t>
            </a:r>
            <a:r>
              <a:rPr b="1" lang="ar-SA" sz="3600" spc="-1" strike="noStrike" u="sng">
                <a:solidFill>
                  <a:srgbClr val="ffffff"/>
                </a:solidFill>
                <a:uFillTx/>
                <a:latin typeface="Garamond"/>
              </a:rPr>
              <a:t>ة</a:t>
            </a:r>
            <a:r>
              <a:rPr b="1" lang="ar-JO" sz="3600" spc="-1" strike="noStrike" u="sng">
                <a:solidFill>
                  <a:srgbClr val="ffffff"/>
                </a:solidFill>
                <a:uFillTx/>
                <a:latin typeface="Garamond"/>
              </a:rPr>
              <a:t> لتعظيم قيمة المنظم</a:t>
            </a:r>
            <a:r>
              <a:rPr b="1" lang="ar-SA" sz="3600" spc="-1" strike="noStrike" u="sng">
                <a:solidFill>
                  <a:srgbClr val="ffffff"/>
                </a:solidFill>
                <a:uFillTx/>
                <a:latin typeface="Garamond"/>
              </a:rPr>
              <a:t>ة</a:t>
            </a:r>
            <a:r>
              <a:rPr b="1" lang="ar-JO" sz="3600" spc="-1" strike="noStrike" u="sng">
                <a:solidFill>
                  <a:srgbClr val="ffffff"/>
                </a:solidFill>
                <a:uFillTx/>
                <a:latin typeface="Garamond"/>
              </a:rPr>
              <a:t>  و ربط</a:t>
            </a:r>
            <a:r>
              <a:rPr b="1" lang="ar-SA" sz="3600" spc="-1" strike="noStrike" u="sng">
                <a:solidFill>
                  <a:srgbClr val="ffffff"/>
                </a:solidFill>
                <a:uFillTx/>
                <a:latin typeface="Garamond"/>
              </a:rPr>
              <a:t>ه</a:t>
            </a:r>
            <a:r>
              <a:rPr b="1" lang="ar-JO" sz="3600" spc="-1" strike="noStrike" u="sng">
                <a:solidFill>
                  <a:srgbClr val="ffffff"/>
                </a:solidFill>
                <a:uFillTx/>
                <a:latin typeface="Garamond"/>
              </a:rPr>
              <a:t>ا و مشاركت</a:t>
            </a:r>
            <a:r>
              <a:rPr b="1" lang="ar-SA" sz="3600" spc="-1" strike="noStrike" u="sng">
                <a:solidFill>
                  <a:srgbClr val="ffffff"/>
                </a:solidFill>
                <a:uFillTx/>
                <a:latin typeface="Garamond"/>
              </a:rPr>
              <a:t>ه</a:t>
            </a:r>
            <a:r>
              <a:rPr b="1" lang="ar-JO" sz="3600" spc="-1" strike="noStrike" u="sng">
                <a:solidFill>
                  <a:srgbClr val="ffffff"/>
                </a:solidFill>
                <a:uFillTx/>
                <a:latin typeface="Garamond"/>
              </a:rPr>
              <a:t>ا  مع أنظمة الاطراف ( المنظمات ) الخارجية الاخرى ذات العلاقة (المتعلقة بالزبون و المورد و الموزع ) وذلك من خلال مجموعة من التطبيقات أو الانظمة.</a:t>
            </a:r>
            <a:r>
              <a:rPr b="1" lang="ar-SA" sz="36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أنظمة المستخدمة ل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لتنسيق و التكامل بين  الانظمة الوظيفية الاربع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ة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أنظمة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Enterprise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 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و تدعى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(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ERP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 )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Systems    Enterprise Resource Planning Syst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( الخاصة بالتكامل و التنسيق بين الأنظمة الوظيفية للمنظمة )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أنظمة أدارة سلسلة التزويد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Supply Chain Management Systems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SCM ) Systems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 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( الخاصة بربط المنظمة مع الاطراف الخارجية – المورد و الموزع 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نظام خدمة الزبائن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Customer Relationship Management Systems  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CRM ) Systems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 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نظام أدارة المعرفة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MS PGothic"/>
              </a:rPr>
              <a:t>KMS ) Knowledge management system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MS PGothic"/>
              </a:rPr>
              <a:t> </a:t>
            </a:r>
            <a:r>
              <a:rPr b="1" lang="ar-JO" sz="2800" spc="-1" strike="noStrike">
                <a:solidFill>
                  <a:srgbClr val="ffffff"/>
                </a:solidFill>
                <a:latin typeface="Garamond"/>
              </a:rPr>
              <a:t> )</a:t>
            </a:r>
            <a:r>
              <a:rPr b="0" lang="ar-JO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نظام تخطيط موارد المؤسسة 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  <a:ea typeface="MS PGothic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  <a:ea typeface="MS PGothic"/>
              </a:rPr>
              <a:t>ERP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  <a:ea typeface="MS PGothic"/>
              </a:rPr>
              <a:t>) 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  <a:ea typeface="MS PGothic"/>
              </a:rPr>
              <a:t>Enterprise Resources Planning Syst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برامج جاهزة تحتوي علي مجموعة متكاملة من تطبيقات الحاسب الآلي التي تلبي إحتياجات المعلومات للوظائف المختلفة مثل المحاسبة و العمليات و الموارد البشرية و التسويق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  <a:ea typeface="MS PGothic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الغرض منها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 : 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تقوم بتوحيد كامل الانظمة الداخلية للمنظمة في نظام موحد للمعلومات الخاصة بنشاطات المنظمة بما يمكن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ذ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 المعلومات التي سبق معالجتة في الانظمة الوظيفية المختلفة من الانسياب بس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ولة مما يحقق مشاركت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ه</a:t>
            </a:r>
            <a:r>
              <a:rPr b="1" lang="ar-JO" sz="2800" spc="-1" strike="noStrike">
                <a:solidFill>
                  <a:srgbClr val="ffff00"/>
                </a:solidFill>
                <a:latin typeface="Garamond"/>
              </a:rPr>
              <a:t>ا في كافة أجراءات النشاطات الوظيفية للمنظمة ( أجراءات العمل الخاصة بالبيع و التصنيع و المالية و الموارد البشرية و الوظائف الاخرى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350640"/>
            <a:ext cx="91440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Garamond"/>
                <a:cs typeface="Times New Roman"/>
              </a:rPr>
              <a:t>نظم معلومات المكاتب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  <a:ea typeface="Times New Roman"/>
              </a:rPr>
              <a:t>Office Information System(OIS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بارة عن نظم محوسبة و مدعومة تكنولوجيا و اتصاليا لتشغيل وانجاز مهام و امور المكتب الكترونيا 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يخدم جميع المستويات الإدارية في المنظمة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مبدا عمل نظم تخطيط موارد المنشأة (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RP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Garamond"/>
              </a:rPr>
              <a:t>وجود قاعدة بيانات مركزية يتم فيها إدخال البيانات، حيث يتم ربط بين المنشأة و مورديها و عملائها. كما تربط عمليات المنشأة في المواقع المختلفة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0000"/>
                </a:solidFill>
                <a:latin typeface="Garamond"/>
              </a:rPr>
              <a:t>أنظمة أدارة سلسلة التزويد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MS PGothic"/>
              </a:rPr>
              <a:t>Supply Chain Management Systems</a:t>
            </a:r>
            <a:r>
              <a:rPr b="1" lang="ar-JO" sz="2800" spc="-1" strike="noStrike">
                <a:solidFill>
                  <a:srgbClr val="ff0000"/>
                </a:solidFill>
                <a:latin typeface="Garamond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MS PGothic"/>
              </a:rPr>
              <a:t>SCM ) Systems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MS PGothic"/>
              </a:rPr>
              <a:t> </a:t>
            </a:r>
            <a:r>
              <a:rPr b="1" lang="ar-JO" sz="2800" spc="-1" strike="noStrike">
                <a:solidFill>
                  <a:srgbClr val="ff0000"/>
                </a:solidFill>
                <a:latin typeface="Garamond"/>
              </a:rPr>
              <a:t> 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تقوم بالتنسيق و الربط بين النشاطات المتعلقه بشراء و عمل و تحريك المنتج لتحقيق التكامل بين المزود و المصنع و الموزع و المستهلك ليشكل شبكه من المنظمات التي تعمل مع بعضها البعض مما يحقق الوفر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 في الوقت و الجهد و كلفة المخزون و المساعده في الحصول على المواد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و </a:t>
            </a:r>
            <a:r>
              <a:rPr b="1" lang="ar-JO" sz="4000" spc="-1" strike="noStrike">
                <a:solidFill>
                  <a:srgbClr val="ffff00"/>
                </a:solidFill>
                <a:latin typeface="Garamond"/>
              </a:rPr>
              <a:t>تقديم خدمات ما بعد البيع و  كذلك أرجاع مردودات المبيعات  في الاتجاه العكسي من المشتري للبائع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MS P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JO" sz="4000" spc="-1" strike="noStrike">
                <a:solidFill>
                  <a:srgbClr val="ff0000"/>
                </a:solidFill>
                <a:latin typeface="Garamond"/>
              </a:rPr>
              <a:t>فوائد و مزايا 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  <a:ea typeface="MS PGothic"/>
              </a:rPr>
              <a:t>SCM System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  <a:ea typeface="MS PGothic"/>
              </a:rPr>
              <a:t> </a:t>
            </a:r>
            <a:r>
              <a:rPr b="1" lang="ar-JO" sz="4000" spc="-1" strike="noStrike">
                <a:solidFill>
                  <a:srgbClr val="ff0000"/>
                </a:solidFill>
                <a:latin typeface="Garamond"/>
              </a:rPr>
              <a:t>  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تقر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ي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ر متى و ما سيتم أنتاجه و تخزينه و تحريك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سرعة الاستجاب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 لاوامر البيع و طلبات خدمات ما بعد البي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سهولة تتبع الوضع الحالي للاوام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سهولة مراقبة توفر المخزون و مستويات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تخفيض المخزون و النقل و كلفة التخزي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سهولة تتبع الشح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تخطيط الانتاج على أساس طلبات عملاء فعلي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سرعة الاتصال و الاستجاب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 للتغيير في تصميم المنتج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Garamond"/>
              </a:rPr>
              <a:t>إ</a:t>
            </a:r>
            <a:r>
              <a:rPr b="1" lang="ar-JO" sz="4000" spc="-1" strike="noStrike">
                <a:solidFill>
                  <a:srgbClr val="ff0000"/>
                </a:solidFill>
                <a:latin typeface="Garamond"/>
              </a:rPr>
              <a:t>دارة خدمة الزبائن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  <a:ea typeface="MS PGothic"/>
              </a:rPr>
              <a:t>Customer Relationship Management </a:t>
            </a:r>
            <a:r>
              <a:rPr b="1" lang="ar-JO" sz="4000" spc="-1" strike="noStrike">
                <a:solidFill>
                  <a:srgbClr val="ff0000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  <a:ea typeface="MS PGothic"/>
              </a:rPr>
              <a:t>CRM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  <a:ea typeface="MS PGothic"/>
              </a:rPr>
              <a:t> ) </a:t>
            </a:r>
            <a:r>
              <a:rPr b="1" lang="ar-JO" sz="4000" spc="-1" strike="noStrike">
                <a:solidFill>
                  <a:srgbClr val="ff0000"/>
                </a:solidFill>
                <a:latin typeface="Garamond"/>
              </a:rPr>
              <a:t> 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ا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دارة  كافة الطرق المستخدم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 من قبل المنظم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 للتعامل مع المستهلك الحالي و المتوقع معتمده على التكنولوجيا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Garamond"/>
              </a:rPr>
              <a:t>يتم ا</a:t>
            </a:r>
            <a:r>
              <a:rPr b="1" lang="ar-JO" sz="3600" spc="-1" strike="noStrike" u="sng">
                <a:solidFill>
                  <a:srgbClr val="ffff00"/>
                </a:solidFill>
                <a:uFillTx/>
                <a:latin typeface="Garamond"/>
              </a:rPr>
              <a:t>ستخدام معلومات النظام لتنسيق أجراءات عمل المنظم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Garamond"/>
              </a:rPr>
              <a:t>ة</a:t>
            </a:r>
            <a:r>
              <a:rPr b="1" lang="ar-JO" sz="3600" spc="-1" strike="noStrike" u="sng">
                <a:solidFill>
                  <a:srgbClr val="ffff00"/>
                </a:solidFill>
                <a:uFillTx/>
                <a:latin typeface="Garamond"/>
              </a:rPr>
              <a:t> لتزويد الزبون بنهاية الخدم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Garamond"/>
              </a:rPr>
              <a:t>ة</a:t>
            </a:r>
            <a:r>
              <a:rPr b="1" lang="ar-JO" sz="3600" spc="-1" strike="noStrike" u="sng">
                <a:solidFill>
                  <a:srgbClr val="ffff00"/>
                </a:solidFill>
                <a:uFillTx/>
                <a:latin typeface="Garamond"/>
              </a:rPr>
              <a:t> و أعطاء صوره موحده للزبون من خلال الشرك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Garamond"/>
              </a:rPr>
              <a:t>ة</a:t>
            </a:r>
            <a:r>
              <a:rPr b="1" lang="ar-JO" sz="3600" spc="-1" strike="noStrike" u="sng">
                <a:solidFill>
                  <a:srgbClr val="ffff00"/>
                </a:solidFill>
                <a:uFillTx/>
                <a:latin typeface="Garamond"/>
              </a:rPr>
              <a:t> التي تقوم بتوحيد معلومات الزبون من مصادر متعدده و تزويد أدوات التحليل الاجابات على الاسئل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Garamond"/>
              </a:rPr>
              <a:t>ة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MS P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 u="sng">
                <a:solidFill>
                  <a:srgbClr val="ff0000"/>
                </a:solidFill>
                <a:uFillTx/>
                <a:latin typeface="Garamond"/>
              </a:rPr>
              <a:t>تعظيم قيمة المنظمه من خلال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Garamond"/>
                <a:ea typeface="MS PGothic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Garamond"/>
                <a:ea typeface="MS PGothic"/>
              </a:rPr>
              <a:t>CRM</a:t>
            </a:r>
            <a:r>
              <a:rPr b="1" lang="ar-JO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يصعب خدمة كل عميل على حده ( بشكل فردي ) و عليه يتم تجميع العملاء في مجموع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تحويل العملاء من عميل عادي الى عملاء لهم ولاء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  <a:ea typeface="MS PGothic"/>
              </a:rPr>
              <a:t>loyalty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 للمنظمه التي تنتج المنتج ( حيث تبنى على رضاء العميل على منتجات المنظمه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  <a:ea typeface="MS PGothic"/>
              </a:rPr>
              <a:t>Costumer Satisfaction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  <a:ea typeface="MS P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  <a:ea typeface="MS PGothic"/>
              </a:rPr>
              <a:t>CRM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  <a:ea typeface="MS PGothic"/>
              </a:rPr>
              <a:t> </a:t>
            </a: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   أصبح مرتبطا بالمستوى الاسترلتيجي للمنظمه و يؤثر على كل الوظائف للمنظم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قاعدة البيانات موجوده في كل المستوي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ff00"/>
                </a:solidFill>
                <a:latin typeface="Garamond"/>
              </a:rPr>
              <a:t>أدارة علاقات الزبائن حديثا أصبحت في المستوى الاداري الاستراتيجي حيث أنه يؤثر على كامل المنظمه و أنشطتها الوظيفي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e5e5ff"/>
                </a:solidFill>
                <a:latin typeface="Garamond"/>
              </a:rPr>
              <a:t>لماذا تحتاج المنشآت إلى أتمتة الوظائف المتعلقة بالزبون؟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 rtl="1">
              <a:lnSpc>
                <a:spcPct val="15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ff00"/>
                </a:solidFill>
                <a:latin typeface="Garamond"/>
              </a:rPr>
              <a:t>الحاجة إلى المعلومة بهدف فهم استراتيجيات المنافسة والعمل على تطوير المزيج التسويقي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4P’s</a:t>
            </a:r>
            <a:r>
              <a:rPr b="1" lang="ar-SY" sz="2400" spc="-1" strike="noStrike">
                <a:solidFill>
                  <a:srgbClr val="ffff00"/>
                </a:solidFill>
                <a:latin typeface="Garamond"/>
              </a:rPr>
              <a:t> المناسب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 rtl="1">
              <a:lnSpc>
                <a:spcPct val="150000"/>
              </a:lnSpc>
              <a:buClr>
                <a:srgbClr val="ffffff"/>
              </a:buClr>
              <a:buSzPct val="70000"/>
              <a:buFont typeface="Wingdings 2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ff00"/>
                </a:solidFill>
                <a:latin typeface="Garamond"/>
              </a:rPr>
              <a:t>تسويق أفضل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 rtl="1">
              <a:lnSpc>
                <a:spcPct val="150000"/>
              </a:lnSpc>
              <a:buClr>
                <a:srgbClr val="ffffff"/>
              </a:buClr>
              <a:buSzPct val="70000"/>
              <a:buFont typeface="Wingdings 2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ff00"/>
                </a:solidFill>
                <a:latin typeface="Garamond"/>
              </a:rPr>
              <a:t>معلومات أفضل عن البيع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 rtl="1">
              <a:lnSpc>
                <a:spcPct val="150000"/>
              </a:lnSpc>
              <a:buClr>
                <a:srgbClr val="ffffff"/>
              </a:buClr>
              <a:buSzPct val="70000"/>
              <a:buFont typeface="Wingdings 2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ff00"/>
                </a:solidFill>
                <a:latin typeface="Garamond"/>
              </a:rPr>
              <a:t>عناية أفضل بالزبون وهذا يقود في النهاية إلى الاحتفاظ به وانتقاله إلى مرحلة الولاء والإخلا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 rtl="1">
              <a:lnSpc>
                <a:spcPct val="15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ff00"/>
                </a:solidFill>
                <a:latin typeface="Garamond"/>
              </a:rPr>
              <a:t>مراقبة تطورات السوق بشكل أفضل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 rtl="1">
              <a:lnSpc>
                <a:spcPct val="15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ff00"/>
                </a:solidFill>
                <a:latin typeface="Garamond"/>
              </a:rPr>
              <a:t>توفير خدمة أفضل للزبون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 rtl="1">
              <a:lnSpc>
                <a:spcPct val="15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ff00"/>
                </a:solidFill>
                <a:latin typeface="Garamond"/>
              </a:rPr>
              <a:t>ضمان التوافق بين متطلبات الزبون وخطة العرض المقدمة له</a:t>
            </a:r>
            <a:r>
              <a:rPr b="1" lang="ar-SA" sz="18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0000"/>
                </a:solidFill>
                <a:latin typeface="Garamond"/>
              </a:rPr>
              <a:t>نظام أدارة المعرفه   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MS PGothic"/>
              </a:rPr>
              <a:t>KMS ) Knowledge management systems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MS PGothic"/>
              </a:rPr>
              <a:t> </a:t>
            </a:r>
            <a:r>
              <a:rPr b="1" lang="ar-JO" sz="2800" spc="-1" strike="noStrike">
                <a:solidFill>
                  <a:srgbClr val="ff0000"/>
                </a:solidFill>
                <a:latin typeface="Garamond"/>
              </a:rPr>
              <a:t> )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نظام يقوم على جمع المعرف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 و جعلها متاحه للجميع في أي مكان وزمان يتم الاحتياج اليها لدعم نشاطات ال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أ</a:t>
            </a: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عمال و القرارات الاداري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 و كذلك يعمل على ربط المنظم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 بمصادر معرفه خارجي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1" lang="ar-JO" sz="4400" spc="-1" strike="noStrike">
                <a:solidFill>
                  <a:srgbClr val="ffff00"/>
                </a:solidFill>
                <a:latin typeface="Garamond"/>
              </a:rPr>
              <a:t> بهدف  تقديم و أكتساب و تخزين و توزيع و أستعمال المعرف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ة</a:t>
            </a:r>
            <a:r>
              <a:rPr b="0" lang="ar-JO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فوائد نظم معلومات المكاتب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سرعة: في انجاز المعاملات و المهام الإدار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دقة: في الحصول على المعلوم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فعالية : تحسين نوعية الانجا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انتاجية : زيادة انتاجية الموظ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قليل التكلف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زيادة معنوية العاملي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مميزات نظم معلومات  المكاتب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سهولة الاستخدام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لملائمة: ملائمة التطبيق لجميع المستويات الادارية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بساطة التكلفة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أنواع نظم معلومات المكاتب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أولاً: نظم معالجة الوثائق :نظم تقوم بمعالجة المعاملات المحررة ورقيا وتحريرها حاسوبيا. من هذه التطبيقات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** برنامج معالج النصو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** برامج الجداول الالكترونية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** برامج معالجة الصور و الرسومات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** برامج الارشيف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ثانياً: نظم الاتصال و المراسلة</a:t>
            </a: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برامج البريد الالكتروني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برامج البريد الصوتي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برامج الفاكس الالكتروني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ثالثاً: نظم الاجتماع عن بع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برامج الالتقاء عن بعد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برامج المؤتمرات عن بعد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برامج العمل التشاركي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رابعاً: نظم التنظيم المكتبي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برامج قواعد البيانات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برامج العرض التقديمي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برامج التنسيق المكتبي (يستخدم لمساعدة الاداريين في استعمال الادوات المكتبية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د.مدثر سعد احمد سعد       - نظم المعلومات الإدارية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العلاقة بين الانظمة الرئيسية الاربع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838080" y="1325520"/>
            <a:ext cx="6743880" cy="5532480"/>
            <a:chOff x="838080" y="1325520"/>
            <a:chExt cx="6743880" cy="5532480"/>
          </a:xfrm>
        </p:grpSpPr>
        <p:pic>
          <p:nvPicPr>
            <p:cNvPr id="136" name="Picture 5" descr="Picture3"/>
            <p:cNvPicPr/>
            <p:nvPr/>
          </p:nvPicPr>
          <p:blipFill>
            <a:blip r:embed="rId1"/>
            <a:stretch/>
          </p:blipFill>
          <p:spPr>
            <a:xfrm>
              <a:off x="1562040" y="2400480"/>
              <a:ext cx="5372280" cy="44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6"/>
            <p:cNvSpPr/>
            <p:nvPr/>
          </p:nvSpPr>
          <p:spPr>
            <a:xfrm>
              <a:off x="838080" y="6286680"/>
              <a:ext cx="6743880" cy="33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15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العلاقات المتبادلة بين الانظمة الاربعة    ( </a:t>
              </a: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TPS  MIS  DSS  ESS</a:t>
              </a: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  )     </a:t>
              </a: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Interrelationships among systems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Line 7"/>
            <p:cNvSpPr/>
            <p:nvPr/>
          </p:nvSpPr>
          <p:spPr>
            <a:xfrm flipH="1">
              <a:off x="1104480" y="5029200"/>
              <a:ext cx="617220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 flipH="1">
              <a:off x="1104480" y="3314880"/>
              <a:ext cx="617220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Rectangle 9"/>
            <p:cNvSpPr/>
            <p:nvPr/>
          </p:nvSpPr>
          <p:spPr>
            <a:xfrm>
              <a:off x="6010200" y="5285880"/>
              <a:ext cx="1028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المستوى التشغيلي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3733560" y="3886200"/>
              <a:ext cx="1028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المستوى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الاداري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Rectangle 11"/>
            <p:cNvSpPr/>
            <p:nvPr/>
          </p:nvSpPr>
          <p:spPr>
            <a:xfrm>
              <a:off x="6134040" y="2287800"/>
              <a:ext cx="1028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المستوى الاستراتيجي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Rectangle 12"/>
            <p:cNvSpPr/>
            <p:nvPr/>
          </p:nvSpPr>
          <p:spPr>
            <a:xfrm>
              <a:off x="4876560" y="5143680"/>
              <a:ext cx="6858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خرجات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Out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Rectangle 13"/>
            <p:cNvSpPr/>
            <p:nvPr/>
          </p:nvSpPr>
          <p:spPr>
            <a:xfrm>
              <a:off x="2819160" y="5143680"/>
              <a:ext cx="685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خرجات </a:t>
              </a:r>
              <a:r>
                <a:rPr b="1" lang="en-US" sz="1000" spc="-1" strike="noStrike">
                  <a:solidFill>
                    <a:srgbClr val="ffff00"/>
                  </a:solidFill>
                  <a:latin typeface="Times New Roman"/>
                </a:rPr>
                <a:t>Out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Rectangle 14"/>
            <p:cNvSpPr/>
            <p:nvPr/>
          </p:nvSpPr>
          <p:spPr>
            <a:xfrm>
              <a:off x="2904840" y="3638520"/>
              <a:ext cx="6858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خرجات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Out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Rectangle 15"/>
            <p:cNvSpPr/>
            <p:nvPr/>
          </p:nvSpPr>
          <p:spPr>
            <a:xfrm>
              <a:off x="6010200" y="3124440"/>
              <a:ext cx="685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خرجا</a:t>
              </a:r>
              <a:r>
                <a:rPr b="1" lang="ar-SA" sz="1000" spc="-1" strike="noStrike">
                  <a:solidFill>
                    <a:srgbClr val="ffff00"/>
                  </a:solidFill>
                  <a:latin typeface="Times New Roman"/>
                  <a:cs typeface="Times New Roman"/>
                </a:rPr>
                <a:t>ت </a:t>
              </a:r>
              <a:r>
                <a:rPr b="1" lang="en-US" sz="1000" spc="-1" strike="noStrike">
                  <a:solidFill>
                    <a:srgbClr val="ffff00"/>
                  </a:solidFill>
                  <a:latin typeface="Times New Roman"/>
                </a:rPr>
                <a:t>Out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Rectangle 16"/>
            <p:cNvSpPr/>
            <p:nvPr/>
          </p:nvSpPr>
          <p:spPr>
            <a:xfrm>
              <a:off x="1552320" y="3152880"/>
              <a:ext cx="6858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خرجات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Out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Rectangle 17"/>
            <p:cNvSpPr/>
            <p:nvPr/>
          </p:nvSpPr>
          <p:spPr>
            <a:xfrm>
              <a:off x="6248520" y="4686480"/>
              <a:ext cx="571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1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دخلات</a:t>
              </a:r>
              <a:r>
                <a:rPr b="1" lang="en-US" sz="1000" spc="-1" strike="noStrike">
                  <a:solidFill>
                    <a:srgbClr val="ffff00"/>
                  </a:solidFill>
                  <a:latin typeface="Times New Roman"/>
                </a:rPr>
                <a:t>In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Rectangle 18"/>
            <p:cNvSpPr/>
            <p:nvPr/>
          </p:nvSpPr>
          <p:spPr>
            <a:xfrm>
              <a:off x="1562040" y="4686480"/>
              <a:ext cx="571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1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دخلات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In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Rectangle 19"/>
            <p:cNvSpPr/>
            <p:nvPr/>
          </p:nvSpPr>
          <p:spPr>
            <a:xfrm>
              <a:off x="4876560" y="3657600"/>
              <a:ext cx="571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1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دخلات</a:t>
              </a:r>
              <a:r>
                <a:rPr b="1" lang="en-US" sz="1000" spc="-1" strike="noStrike">
                  <a:solidFill>
                    <a:srgbClr val="ffff00"/>
                  </a:solidFill>
                  <a:latin typeface="Times New Roman"/>
                </a:rPr>
                <a:t>In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Rectangle 20"/>
            <p:cNvSpPr/>
            <p:nvPr/>
          </p:nvSpPr>
          <p:spPr>
            <a:xfrm>
              <a:off x="2933640" y="2400480"/>
              <a:ext cx="571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1000" spc="-1" strike="noStrike">
                  <a:solidFill>
                    <a:srgbClr val="ffff00"/>
                  </a:solidFill>
                  <a:latin typeface="Times New Roman"/>
                  <a:cs typeface="Times New Roman"/>
                </a:rPr>
                <a:t>مدخلات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In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Rectangle 21"/>
            <p:cNvSpPr/>
            <p:nvPr/>
          </p:nvSpPr>
          <p:spPr>
            <a:xfrm>
              <a:off x="4991040" y="2400480"/>
              <a:ext cx="571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1000" spc="-1" strike="noStrike">
                  <a:solidFill>
                    <a:srgbClr val="ffff00"/>
                  </a:solidFill>
                  <a:latin typeface="Times New Roman"/>
                  <a:cs typeface="Times New Roman"/>
                </a:rPr>
                <a:t>مدخلات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In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AutoShape 22"/>
            <p:cNvSpPr/>
            <p:nvPr/>
          </p:nvSpPr>
          <p:spPr>
            <a:xfrm rot="16200000">
              <a:off x="4062240" y="1985400"/>
              <a:ext cx="342720" cy="3711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Rectangle 23"/>
            <p:cNvSpPr/>
            <p:nvPr/>
          </p:nvSpPr>
          <p:spPr>
            <a:xfrm>
              <a:off x="3343320" y="1325520"/>
              <a:ext cx="1714320" cy="610200"/>
            </a:xfrm>
            <a:prstGeom prst="rect">
              <a:avLst/>
            </a:prstGeom>
            <a:solidFill>
              <a:srgbClr val="6600ff"/>
            </a:solidFill>
            <a:ln w="1908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14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أقتراحات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1200" spc="-1" strike="noStrike">
                  <a:solidFill>
                    <a:srgbClr val="ffff00"/>
                  </a:solidFill>
                  <a:latin typeface="Times New Roman"/>
                  <a:cs typeface="Times New Roman"/>
                </a:rPr>
                <a:t>خاصة بقرارات الاستراتيجية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Rectangle 24"/>
            <p:cNvSpPr/>
            <p:nvPr/>
          </p:nvSpPr>
          <p:spPr>
            <a:xfrm>
              <a:off x="3276360" y="1945080"/>
              <a:ext cx="685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ffff00"/>
                  </a:solidFill>
                  <a:latin typeface="Times New Roman"/>
                  <a:cs typeface="Times New Roman"/>
                </a:rPr>
                <a:t>مخرجات </a:t>
              </a:r>
              <a:r>
                <a:rPr b="1" lang="en-US" sz="1000" spc="-1" strike="noStrike">
                  <a:solidFill>
                    <a:srgbClr val="ffff00"/>
                  </a:solidFill>
                  <a:latin typeface="Times New Roman"/>
                </a:rPr>
                <a:t>Out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Rectangle 25"/>
            <p:cNvSpPr/>
            <p:nvPr/>
          </p:nvSpPr>
          <p:spPr>
            <a:xfrm>
              <a:off x="4419360" y="1945080"/>
              <a:ext cx="6858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ffff00"/>
                  </a:solidFill>
                  <a:latin typeface="Times New Roman"/>
                  <a:cs typeface="Times New Roman"/>
                </a:rPr>
                <a:t>مخرجات </a:t>
              </a:r>
              <a:r>
                <a:rPr b="1" lang="en-US" sz="1000" spc="-1" strike="noStrike">
                  <a:solidFill>
                    <a:srgbClr val="ffff00"/>
                  </a:solidFill>
                  <a:latin typeface="Times New Roman"/>
                </a:rPr>
                <a:t>Output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user 111</cp:lastModifiedBy>
  <dcterms:modified xsi:type="dcterms:W3CDTF">2021-10-19T05:04:22Z</dcterms:modified>
  <cp:revision>396</cp:revision>
  <dc:subject/>
  <dc:title>Internet Application </dc:title>
</cp:coreProperties>
</file>