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9F6B-5299-4F08-BDE7-F50864F4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1E14-C060-4B5F-A839-2E75936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4C2D-0A1B-4E47-B458-CDD2E3DA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1E50-7660-449F-9FEB-075AF8EA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04E7-AA4C-4537-8D21-2E3440C6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71D6-8C0C-4A9D-B9A7-37F1581E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D8BB-D832-4498-9509-E3A85CF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B8E2-9043-4A27-AB05-C486B05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DF65-9F22-499E-B85B-AE94092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423-D630-47A1-9F4C-56BB317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7F83-F02C-4310-9F05-7FC7C07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053C-36DC-42DF-9086-1E386E8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821-B674-48DF-9516-1DB9C54A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5BDD-75E2-462F-93D6-F1A3DEA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8D1-C9FB-42D9-BC2F-BFF5821A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7E3-72F0-4322-8C27-025EFAE9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F26-BF48-4C50-9B0D-6D56ACDA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F3D2-2152-4F5D-BB4C-54F603B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33D6-12CE-472C-B2D9-307DEA72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0DCF-3AE8-4194-8432-31076094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A5EF-BAA0-4726-8C06-0AFF8A10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9DE9-7A44-48C6-BD88-969669E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FDB1-F45D-4666-8FF3-47D6989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738D-B790-4D70-B2F8-00D09F7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57A-AE9C-4A52-97A5-77DDA6CAB6B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5FB5-9279-4BB2-ACB7-4BE8D0803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B51-BE0A-4BF7-8065-BAF441E4FC5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2C60-096C-4488-B350-4BE002DC0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هداف</a:t>
            </a: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محاض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التعرف على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:</a:t>
            </a: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فهوم الأداء، الفاعلية و الكفاءة في إ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عوامل التي تؤثر على فاعلية القرار و كيفية زيادة الفاعلية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بعض الأساليب الكمية التي تحسن كفاءة إتخاذ القرار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سلوب المحاكاة مميزاته و عيوبه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مميزات وعيوب الأساليب الكمية في إتخاذ القرارات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قارنة بين الفاعلية و الكفاء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Garamond"/>
                          <a:cs typeface="Arial"/>
                        </a:rPr>
                        <a:t>الكف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Garamond"/>
                          <a:cs typeface="Arial"/>
                        </a:rPr>
                        <a:t>الفاعل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عمل الأشياء بشكل صحيح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عمل الأشياء الصحيح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ؤدي الى الإستخدام الأمثل للموارد في تحقيق الأهداف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درجة تحقيق الأهداف المرغوب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تشير الى البعد الإقتصادي في تحقيق الأهداف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00"/>
                          </a:solidFill>
                          <a:latin typeface="Garamond"/>
                          <a:cs typeface="Arial"/>
                        </a:rPr>
                        <a:t>الفاعلية = الأهداف المحققة/ الأهداف المتوقعة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بعض </a:t>
            </a:r>
            <a:r>
              <a:rPr b="1" lang="ar" sz="3200" spc="-1" strike="noStrike">
                <a:solidFill>
                  <a:srgbClr val="ff0000"/>
                </a:solidFill>
                <a:latin typeface="Garamond"/>
              </a:rPr>
              <a:t>النماذج الكمية التي تؤدي الى تحسين كفاءة إتخاذ القرارات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غرض من هذه الطرق ا</a:t>
            </a: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لمساعدة في عملية الاختيار من بين البدائل .تلك العملية التي تمثل قلب عملية إتخاذ القرارات و بصفة عامة فان هذه الطرق تفترض ان كل البدائل قد تم بحثها و تم تجميع كل المعلومات اللآزمة عنها . يمكن تقسيم هذه الطرق الى عدة مجموعات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منها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أساليب التعظيم 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 . </a:t>
            </a:r>
            <a:r>
              <a:rPr b="0" lang="ar" sz="3200" spc="-1" strike="noStrike">
                <a:solidFill>
                  <a:srgbClr val="ffff00"/>
                </a:solidFill>
                <a:latin typeface="Garamond"/>
              </a:rPr>
              <a:t>مصفوفة العائد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. اشجار القرارات   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أولاً : اساليب التعظيم في ظل التاك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200" spc="-1" strike="noStrike">
                <a:solidFill>
                  <a:srgbClr val="ffff00"/>
                </a:solidFill>
                <a:latin typeface="Garamond"/>
              </a:rPr>
              <a:t>تفترض كل الأساليب الخاصة بتعظيم دالة معينة ان كل البدائل و نتائجها معروفة تماماً للفرد الذي يقوم بإتخاذ القرار و تكون المشكلة الحسابية في ظل هذه الأساليب هي حساب و تحديد البديل الأمثل للوصول الى دالة هدف محددة و هنالك عدة اساليب تستخدم للوصول الى هذا البديل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منها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** </a:t>
            </a:r>
            <a:r>
              <a:rPr b="0" lang="ar" sz="3200" spc="-1" strike="noStrike">
                <a:solidFill>
                  <a:srgbClr val="ff0000"/>
                </a:solidFill>
                <a:latin typeface="Garamond"/>
              </a:rPr>
              <a:t>نظم المعادلات  ، اسلوب البرمجة الخطية ، نماذج الصفوف  ، نماذج المخزون ،   تحليل التعادل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ثانياً : 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نموذج المحاكا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Garamond"/>
              </a:rPr>
              <a:t>يعتبر اسلوب المحاكاة احد الاساليب الكمية التي يمكن استخدامها في التنبؤ و إتخاذ القرارات حيث يتم بناء نموذج يمثل الواقع ثم استخدام هذا النموذج في التنبؤ و إتخاذ القرارات ، وذلك عن طريق الحصول على حلول تقريبية عن طريق المحاكاة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ميزات النمذجة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مكن سرعة عملية المحاكاة من اختبار عدد كبير من البدائل عن طريق توفير مقدرة تقويم تاثير القرارات في فترة زمنية قصير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توفر النماذج قوة تنبؤية، نظرة مستقبلية لاتقدمها اي طريقة اخرى لانتاج المعلومات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كون النماذج اقل تكلفة عن طريق المحأولة و الخطأ. و تكون عملية النمذجة مكلفة بالنسبة لوقت التطوير و نظم البرامج و نظم المكونات اللآزمة للمحاكاة ، الا ان التكلفة لاتكون مرتفعة مقارنة بإتخاذ قرارات رديئ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يوب النمذج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تلزم درجة كبيرة من المهارات الرياضية لتطوير نماذج اكثر تعقيداً كما تلزم مثل المهارة لتفسير المخرجات تفسيراً مناسباً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ينتج من صعوبة نمذجة نظام الاعمال نموذجاً لايحتوي على كل التاثيرات على الكينونة وهذا يعني انه يجب عمل احكام كثيرة عند تنفيذ القرارات المعتمدة على نتائج المحاكاة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محاسن إستخدام الأساليب الكمية في إتخاذ القرارت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ساعد الأساليب الكمية متخذ القرار أو الإدارة في تبسيط الكثير من المشاكل المعقدة و تنظيمها بشكل علمي مدروس بعيداً عن الأراء الشخصية، و تجعل احتمالات الوقوع في الخطأ اقل بكثير من استخدام الأساليب الأخرى في إتخاذ القرا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تساعد الأساليب الكمية متخذ القرار أو الإدارة على تطوير نماذج واساليب رياضية تصلح لمعالجة المشكلات الإدارية التي يمكن التعبير عنها بصورة كمي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ان النماذج و المعادلات التي يتم وضعها بصورة ملائمة ، كثيراً ما تساعد متخذ القرار على رؤية الحقائق و الأساليب وإتخاذ القرار المناسب الأكثر موضوعية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يوب إستخدام الأساليب الكمية في إتخاذ القرار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لايمكن اخضاع جميع المشكلات الإدارية لأساليب التحليل الكمي لانه لا يمكن التعبير بصورة كمية عن الكثير من خصائصها الأساسية كما في دراسة معنويات العاملين و رضاهم في العمل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يعتبر استخدام الأساليب الكمية مكلفاً من وجهة نظر الإدارة لان القليل من الإدارات تستطيع تطوير النماذج الكمية بنفسها ، فتحتاج للإستعانة بفريق من الباحثين أو شراء نماذج جاهزة و تعديلها حسب متطلبات عملها و بالرغم من إنتشار الحاسوب الا ان شراء البرامج الجاهزة مكلف ايضاً ويحتاج الى خبراء لاستخدامها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مفهوم الأد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الأداء : المخرجات أو الأهداف التي يسعى النظام الى تحقيقها اضافة الى ذلك يعرف بانه مدى تحقيق الأهداف، و يتحقق من خلال مقارنة الأداء الفعلي مع الأهداف التي خطط لها مسبقاً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هو النتيجة أو الحصيلة التي تسعى المؤسسات و الشركات و المرافق الحكومية و غيرها من المنشآت الأخرى الى تحقيقها و الوصول اليها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ساليب قياس الأداء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اساليب القياس الكم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</a:rPr>
              <a:t>و تتصف بالسهولة في قياس أداء المنظمات، إلا ان ما يعيبها هو انها تقييس الماضي، و الحاضر فقط و يصعب إستخدامها للتنبؤ في المستقبل و من أمثلت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معايير الأداء المالي مثل: العائد على راس المال، هامش الربح معدل المبيعات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نسب المالية مثل نسبة التدأول =الاصول المتدأول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الخصوم المتدأول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نسب التسويقية مثل المبيعات في الإعلان= المبيعات الإجمالية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/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ميزانية الإعلان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أساليب قياس الأداء(متابع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أساليب القياس النوعية أو الوصف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و هي الأكثر في تنفيذها و من امثلتها، معايير خدمة المستفيدين اضافة الى المسؤولية الخاصة بالمنظمة تجاه المجتمع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و هنالك عدة مجالات يمكن من خلالها الحكم على مستوى الأداء منها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انتاج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ربح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مركز السوقي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كفاءة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fficiency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هي مقياس لدرجة الإستخدام الرشيد للموارد المتاحة و الذي يحقق أقل مستوى للتكلفة دون التضحية بجودة مخرجات النظام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الإستخدام الحكيم للموارد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Resources</a:t>
            </a:r>
            <a:r>
              <a:rPr b="1" lang="ar-SA" sz="3200" spc="-1" strike="noStrike">
                <a:solidFill>
                  <a:srgbClr val="ff0000"/>
                </a:solidFill>
                <a:latin typeface="Garamond"/>
              </a:rPr>
              <a:t> المتاحة و على النحو الذي يؤدي الى خفض التكاليف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لقدرة على أداء الاشياء بطريقة صحيحة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oing things in write way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، ومن ثم فهي تعتمد على مفهوم المدخلات – المخرجات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aramond"/>
              </a:rPr>
              <a:t>فالنظام الكفء هو الذي يتمكن من تحقيق مخرجات (أو نتائج) تفوق المدخلات المستخدمة (موارد بشرية ،مواد ،معدات وآلات) في الحصول على على هذه المخرجات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الفاعلية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effectiveness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تعلق بالمخرجات و النتائج النهائية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تعبير عن مدى القدرة على تحقيق الأهداف.  أو هي أداء الأشياء الصحيحة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Doing the right thing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تقيس  مدى تحقيق الوحدة للأهداف المخطط لها مسبقاً و يتم ذلك عن طريق مقارنة الهدف المحقق فعلياً مع الهدف المخطط له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Garamond"/>
              </a:rPr>
              <a:t>فاعلية القرار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</a:rPr>
              <a:t>تعني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دى نجاح القرار في تحقيق أهدافه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44680" y="182880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828800"/>
                    <a:ext cx="8229600" cy="457200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بعض ا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لعوامل التي تؤثر على </a:t>
            </a: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فاعلية</a:t>
            </a:r>
            <a:r>
              <a:rPr b="1" lang="ar" sz="4400" spc="-1" strike="noStrike">
                <a:solidFill>
                  <a:srgbClr val="ff0000"/>
                </a:solidFill>
                <a:latin typeface="Garamond"/>
              </a:rPr>
              <a:t> القرار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غياب المعلومات اللازمة لإتخاذ القرار السليم </a:t>
            </a: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عدم وضوح المشكلة المطلوب إتخاذ قرار بشأنها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مركزية إتخاذ القرار وعدم التفويض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" sz="3600" spc="-1" strike="noStrike">
                <a:solidFill>
                  <a:srgbClr val="ffff00"/>
                </a:solidFill>
                <a:latin typeface="Garamond"/>
              </a:rPr>
              <a:t>نقص الإمكانات المطلوبة لتنفيذ القرار</a:t>
            </a:r>
            <a:r>
              <a:rPr b="0" lang="a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aramond"/>
              </a:rPr>
              <a:t>عوامل زيادة فعالية إتخاذ القرار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يمكن تقسيم العوامل التي تزيد من فعالية إتخاذ القرار الى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aramond"/>
              </a:rPr>
              <a:t>اولاً: عوامل عمليات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:  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تتمثل العوامل العملياتية بتتبع الخطوات </a:t>
            </a:r>
            <a:r>
              <a:rPr b="1" lang="ar-SA" sz="4000" spc="-1" strike="noStrike">
                <a:solidFill>
                  <a:srgbClr val="ffff00"/>
                </a:solidFill>
                <a:latin typeface="Garamond"/>
              </a:rPr>
              <a:t>المنطقية و العملية في إتخاذ القرار دون إهمال نوع القرار و العوامل المؤثرة عليه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aramond"/>
              </a:rPr>
              <a:t>ثانياً:  العوامل المعلوماتية</a:t>
            </a:r>
            <a:r>
              <a:rPr b="0" lang="ar-SA" sz="4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ar-SA" sz="4000" spc="-1" strike="noStrike">
                <a:solidFill>
                  <a:srgbClr val="ffff00"/>
                </a:solidFill>
                <a:latin typeface="Garamond"/>
              </a:rPr>
              <a:t>فتتعلق بالمعلومات، البيانات و التقنيات الواجب توفيرها لزيادة هذه الفاعلية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د.مدثر سعد احمد سعد</a:t>
            </a: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ud</cp:lastModifiedBy>
  <dcterms:modified xsi:type="dcterms:W3CDTF">2016-01-03T07:34:31Z</dcterms:modified>
  <cp:revision>275</cp:revision>
  <dc:subject/>
  <dc:title>Internet Application </dc:title>
</cp:coreProperties>
</file>