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A1AA-1840-4B77-A3DC-B1F84C76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EAEB-3AEF-417B-AC09-AA2612CD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99B8-B3CB-458C-B9A1-35D35882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C60E-1C72-48BF-AA0E-94A64040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3AAB-5735-42A8-B34C-2273A9B3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D269-7462-4264-A566-CD1AA619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D591-3F86-4F10-A092-138B0B76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F941-5D3C-4FD9-933E-0DC8C4C0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2E8C-D2E3-4D1C-B436-E43EB5CB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5854-3C86-4A02-B391-3785FB6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97FF-7C87-4D84-BF2F-1A19CCE2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2278-195B-4978-B20D-8263CB79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A391-0EAE-46BD-A2F6-2C71456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9F4C-0E95-4E52-A3B4-FA3D321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9CFC-B9BA-4C98-AC00-1492658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95FB-A8AE-4AC4-AF84-EC0C31B2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9B44-5E0A-40F6-B5FD-83B31AC8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7816-A2CD-4755-B285-68E1F93E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3827-4989-45D9-8608-0E9338FB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A304-EE1A-48C6-A430-B194A170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3D01-72E7-4E8C-BD9C-65EB753A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C509-51E4-431A-B9D8-F489D23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123D-C7FE-4FF2-A30B-FBE52B33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4114-7BD3-4413-8759-A947171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E66F-76AC-4613-98D6-738C04D669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5D03-B08B-408B-AAC0-2F0FE404D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C8C6-D7A2-42D0-A45C-2D7DDCCEAA1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BDB7-DDB3-43FA-B900-408A10F0A1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هداف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مفهوم نظم المعلومات و فوائدها و دورها في حل المشكلات في منظمات الأعمال و المشاكل التي تواجه هذه الأنظمة وخصائص نظام المعلومات الفعال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أنواع نظم المعلومات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عناصر و متطلبات تشغيل نظم المعلوما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وفقاً لوظائف التنظيم نجد النظم الفرعية للمعلومات تكون كما يلي منها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Garamond"/>
              </a:rPr>
              <a:t>نظم الإنتاج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وتتمثل في نظم تخطيط الإنتاج، ونظم الرقابة على الإنتاج، ونظم تحليل تكلفة الإنتاج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Garamond"/>
              </a:rPr>
              <a:t>نظم التسويق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وتشمل تخطيط المبيعات، وتحليل ورصد المبيعات، وتوزيع المبيعات، وكذلك نظم بحوث التسويق ورغبات العملا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نظام المشتريات والمخزون، وتوزيع المستودعات والأرصد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Garamond"/>
              </a:rPr>
              <a:t>نظام الأفراد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ويشمل تخطيط القوى العاملة، وتحديد الإحتياجات منها، وتحليل الأداء، وإدارة نظم الأجور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Garamond"/>
              </a:rPr>
              <a:t>النظم المالية والمحاسبية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وتشمل نظام المحاسبة، والتحليل المالي، وتحليل التكلفة وكل ما يتعلق بالنواحي المالي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... الخ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انواع نظم المعلومات وفقا للمستوى الإداري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توجد ثلاثة مستويات من نظم المعلومات تدعم المستويات الإدارية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perational level system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مستوى التشغيلي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ystem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anagement level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مستوىالإداري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trategic level Syst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مستوى الاستراتيجي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operational level system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Garamond"/>
              </a:rPr>
              <a:t>نظم تشغيلية تعمل على مراقبة النشاطات المختلفة والمعاملات التجارية في المنظمة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 algn="r" rtl="1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يدعم الادارة التشغيلية فيما يتعلق بالحركات اليومية والنشاطات البسيطة التي تقوم بها المؤسسة مثل المبيعات، الايداعات، تدفق المواد في المخازن، الرواتب....الخ</a:t>
            </a: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System  Management lev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Garamond"/>
              </a:rPr>
              <a:t>نظم معلومات تعمل على دعم مراقبة ومراجعة، اتخاذ القرار، وإدارة الأنشطة في الإدارة الوسطى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ي</a:t>
            </a:r>
            <a:r>
              <a:rPr b="1" lang="ar-SY" sz="4000" spc="-1" strike="noStrike">
                <a:solidFill>
                  <a:srgbClr val="ffff00"/>
                </a:solidFill>
                <a:latin typeface="Garamond"/>
              </a:rPr>
              <a:t>قدم ملخص روتيني يهدف إلى السرعة في إنجاز التقارير المطلوبة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Strategic level System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r" rtl="1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ff00"/>
                </a:solidFill>
                <a:latin typeface="Garamond"/>
              </a:rPr>
              <a:t>نظم معلومات </a:t>
            </a: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تخدم</a:t>
            </a:r>
            <a:r>
              <a:rPr b="1" lang="ar-SY" sz="5400" spc="-1" strike="noStrike">
                <a:solidFill>
                  <a:srgbClr val="ffff00"/>
                </a:solidFill>
                <a:latin typeface="Garamond"/>
              </a:rPr>
              <a:t> نشاطات التخطيط طويل الأجل والاستراتيجي</a:t>
            </a: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(القضايا الاستراتيجية)</a:t>
            </a:r>
            <a:r>
              <a:rPr b="1" lang="ar-SY" sz="5400" spc="-1" strike="noStrike">
                <a:solidFill>
                  <a:srgbClr val="ffff00"/>
                </a:solidFill>
                <a:latin typeface="Garamond"/>
              </a:rPr>
              <a:t> ل</a:t>
            </a: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ل</a:t>
            </a:r>
            <a:r>
              <a:rPr b="1" lang="ar-SY" sz="5400" spc="-1" strike="noStrike">
                <a:solidFill>
                  <a:srgbClr val="ffff00"/>
                </a:solidFill>
                <a:latin typeface="Garamond"/>
              </a:rPr>
              <a:t>إدارة العليا في المنظمة</a:t>
            </a: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و البيئة المحيطة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r" rtl="1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" spc="-1" strike="noStrike">
                <a:solidFill>
                  <a:srgbClr val="ffff00"/>
                </a:solidFill>
                <a:latin typeface="Garamond"/>
                <a:ea typeface="Times New Roman"/>
              </a:rPr>
              <a:t>  </a:t>
            </a: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عناصر و متطلبات تشغيل نظم المعلومات(البنية التحتية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لتشغيل نظم المعلومات في منظمات الأعمال يجب توفر مجموعة من العناصر منها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عناصر المادي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شمل : محطات الطاقة، المخدمات، أجهزة الحاسوب، نظم الحماية الكهربائية ، نظم الاتصال، نظام الشبك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عناصر البرمجية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تشمل (نظام التشغيل،البرمجيات المساندة،التطبيقات الجاهزة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قوى البشرية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: تشمل (المتخصصين في نظم المعلومات،المستخدمين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69720" y="408240"/>
            <a:ext cx="5973480" cy="493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أهم مشكلات استخدام نظم المعلومات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عتقاد بعض الإدارات بعدم الحاجة إلى تطبيق نظام 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عدم استخدام موارد المعلومات والمتوفرة في المؤسسات الاستخدام الأمثل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عدم اكتمال البنية التحتية للاتصالات وال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خلل في نشر ثقافة تكنولوجيا المعلومات داخل المؤسسات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خلل في الاستفادة من الموارد البشرية المؤهلة داخل المؤسس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نعدام التخطيط والتنسيق والرقابة على الأنشطة المتعلقة باستخدام نظم ال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602400"/>
            <a:ext cx="28958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AutoShape 2"/>
          <p:cNvSpPr/>
          <p:nvPr/>
        </p:nvSpPr>
        <p:spPr>
          <a:xfrm rot="16200000">
            <a:off x="1115640" y="765000"/>
            <a:ext cx="1368720" cy="1368360"/>
          </a:xfrm>
          <a:prstGeom prst="cube">
            <a:avLst>
              <a:gd name="adj" fmla="val 7768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32000" y="1125360"/>
            <a:ext cx="11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إدارة المشاريع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AutoShape 4"/>
          <p:cNvSpPr/>
          <p:nvPr/>
        </p:nvSpPr>
        <p:spPr>
          <a:xfrm rot="16200000">
            <a:off x="3708360" y="2133360"/>
            <a:ext cx="1368360" cy="1368360"/>
          </a:xfrm>
          <a:prstGeom prst="cube">
            <a:avLst>
              <a:gd name="adj" fmla="val 7768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5"/>
          <p:cNvSpPr/>
          <p:nvPr/>
        </p:nvSpPr>
        <p:spPr>
          <a:xfrm rot="16200000">
            <a:off x="971640" y="2707920"/>
            <a:ext cx="1368360" cy="1368360"/>
          </a:xfrm>
          <a:prstGeom prst="cube">
            <a:avLst>
              <a:gd name="adj" fmla="val 7768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6"/>
          <p:cNvSpPr/>
          <p:nvPr/>
        </p:nvSpPr>
        <p:spPr>
          <a:xfrm rot="16200000">
            <a:off x="4356000" y="259920"/>
            <a:ext cx="1368360" cy="1368360"/>
          </a:xfrm>
          <a:prstGeom prst="cube">
            <a:avLst>
              <a:gd name="adj" fmla="val 7768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7"/>
          <p:cNvSpPr/>
          <p:nvPr/>
        </p:nvSpPr>
        <p:spPr>
          <a:xfrm rot="16200000">
            <a:off x="7164360" y="1557000"/>
            <a:ext cx="1368360" cy="1368360"/>
          </a:xfrm>
          <a:prstGeom prst="cube">
            <a:avLst>
              <a:gd name="adj" fmla="val 7768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5651640" y="2997360"/>
          <a:ext cx="2801880" cy="313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51640" y="2997360"/>
                    <a:ext cx="28018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9"/>
          <p:cNvSpPr/>
          <p:nvPr/>
        </p:nvSpPr>
        <p:spPr>
          <a:xfrm>
            <a:off x="1476360" y="3860640"/>
            <a:ext cx="4214880" cy="2160720"/>
          </a:xfrm>
          <a:prstGeom prst="cloudCallout">
            <a:avLst>
              <a:gd name="adj1" fmla="val 73203"/>
              <a:gd name="adj2" fmla="val -5653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عبت وأنا أجمع معلومات عن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المنظم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كيف يمكن أن أحل المشكلة؟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rc 10"/>
          <p:cNvSpPr/>
          <p:nvPr/>
        </p:nvSpPr>
        <p:spPr>
          <a:xfrm flipH="1" flipV="1">
            <a:off x="5795280" y="1052640"/>
            <a:ext cx="1297080" cy="288720"/>
          </a:xfrm>
          <a:prstGeom prst="pie">
            <a:avLst/>
          </a:prstGeom>
          <a:noFill/>
          <a:ln w="12708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rc 11"/>
          <p:cNvSpPr/>
          <p:nvPr/>
        </p:nvSpPr>
        <p:spPr>
          <a:xfrm flipV="1" rot="11137800">
            <a:off x="2555640" y="980640"/>
            <a:ext cx="1511280" cy="647640"/>
          </a:xfrm>
          <a:prstGeom prst="pie">
            <a:avLst/>
          </a:prstGeom>
          <a:noFill/>
          <a:ln w="10152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rc 12"/>
          <p:cNvSpPr/>
          <p:nvPr/>
        </p:nvSpPr>
        <p:spPr>
          <a:xfrm flipH="1" rot="11020800">
            <a:off x="5291640" y="2348640"/>
            <a:ext cx="1655640" cy="792360"/>
          </a:xfrm>
          <a:prstGeom prst="pie">
            <a:avLst/>
          </a:prstGeom>
          <a:noFill/>
          <a:ln w="19368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Freeform 13"/>
          <p:cNvSpPr/>
          <p:nvPr/>
        </p:nvSpPr>
        <p:spPr>
          <a:xfrm>
            <a:off x="2411280" y="2708280"/>
            <a:ext cx="1224000" cy="720720"/>
          </a:xfrm>
          <a:prstGeom prst="pie">
            <a:avLst/>
          </a:prstGeom>
          <a:noFill/>
          <a:ln w="19044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427640" y="549360"/>
            <a:ext cx="115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إدارة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الشئون المالي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7451640" y="1916280"/>
            <a:ext cx="115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إدارة شئون الموظفي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924360" y="2349360"/>
            <a:ext cx="118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رئيس المؤسسة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914400" y="2997360"/>
            <a:ext cx="13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إدارة العلاقات العام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الحل في إستخدام 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مفهوم نظام المعلومات 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نظام يقوم بجمع وتنظيم وإيصال وعرض المعلومات لاستعمالها في عمليات المنظمة من قبل الأفراد العاملين فيها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Garamond"/>
              </a:rPr>
              <a:t>النظام الذي يقوم بتزويد المنظمة بالمعلومات الضرورية اللازمة لأداء أنشطنها واتخاذ القرارات وذلك في الوقت المناسب وعند المستوى الإداري الملائم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Garamond"/>
              </a:rPr>
              <a:t>النظام يتكون من مجموعة من الأجزاء(معلومات،أفراد،تجهيزات،اجراءات) المترابطة التي تعمل على (تجميع،تخزين،معالجة،تحليل) وعرض المخرجات و النتائج بالاشكال المختلفة للمعلومات(نقارير،اشكال،رسومات،مخططات) للمستفيدين من النظام في منظمات الاعمال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حوجة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لنظم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علومات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في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جال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أعمال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دعم نظم المعلومات العمليات وطرق تنفيذها من حيث السرعة والدقة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YE" sz="4400" spc="-1" strike="noStrike">
                <a:solidFill>
                  <a:srgbClr val="ffff00"/>
                </a:solidFill>
                <a:latin typeface="Garamond"/>
              </a:rPr>
              <a:t>متابعة التغيرات التي تتم في 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بيئة</a:t>
            </a:r>
            <a:r>
              <a:rPr b="1" lang="ar-YE" sz="4400" spc="-1" strike="noStrike">
                <a:solidFill>
                  <a:srgbClr val="ffff00"/>
                </a:solidFill>
                <a:latin typeface="Garamond"/>
              </a:rPr>
              <a:t> المنظمة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دعم نظم المعلومات الانشطة الإدارية في مجال الأعمال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  من خلال توفير المعلوم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نمو في حجم منظمة الأعمال وتوزع فروعها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دثر سعد احمد سعد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خصائص نظم المعلومات الفعال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تكامل بين اجزاء المنشأة الداخلية و البيئة الخارج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وفير البيانات و المعلومات التي تحتاجها المنشأة (مقننة، محدثة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ستخدام اساليب متقدمة في تحليل البيان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رون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 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نواع نظم المعلومات من حيث طبيعتها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نظم المعلومات اليدوية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: هي النظم التي تجري جميع عملياتها بشكل يدوي دون إستخدام أي أداة تكنولوجي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نظم المعلومات المحوسبة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 : هي النظم التي تعتمد على الأجهزة الالكترونية في عمليات الادخال و المعالجة و الاخراج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Garamond"/>
              </a:rPr>
              <a:t>نظم المعلومات المتكاملة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: تطبيق لمجموعة من النظم بنفس الوقت داخل منظمة واحدة أو عدة منظمات لتجنب تكرار إستخدام نظم المعلوم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بعض أشكال نظم المعلوم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المعلومات الإدارية: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معلومات تختص بمعالجة و تشغيل العمليات الإدار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المعلومات المحاسب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 تعالج المعلومات المتعلقة بالمحاسب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معلومات جغراف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 تجمع وتنظم و تصنف وتبوب وتعالج المعلومات الجغراف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المعلومات الطب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 تحتوي على معلومات طبية وتخدم العاملين في الحقل الطبي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نظم المعلومات الهندس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نظم تحتوي على معلومات هندسية وتخدم العاملين في الحقل الهندسي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وظيفة  نظم المعلومات في منظمات الأعما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إدخال كافة البيانات ومعالجتها، للحصول على المعلومات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وذلك من خلال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جميع، وتحليل وتبويب وتلخيص البيانات، إلى جانب حفظ سجلات المعلومات، واستخراج المعلومات وفق طلب الجهات المستخدمة للمعلومة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وصيل المعلومات لكافة المستفيدين منها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د.محمد عثمان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أنظمة الفرعية لنظام المعلومات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أي نظام يتكون من مجموعة من الأنظمة الفرعية، والتي تتفاعل فيما بين جزئياتها من جهة، لتحقيق هدف نظامها الفرعي، كما تتفاعل أيضاً مع الأنظمة الفرعية الأخرى، لتحقيق هدف النظام الكلي للمنظمة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Garamond"/>
              </a:rPr>
              <a:t>يتفاعل نظام المنظمة بدوره مع الأنظمة المختلفة بالبيئة الخارجية تحقيقاً لأهدافه</a:t>
            </a: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ar-SA" sz="4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user 111</cp:lastModifiedBy>
  <dcterms:modified xsi:type="dcterms:W3CDTF">2021-11-12T13:17:47Z</dcterms:modified>
  <cp:revision>229</cp:revision>
  <dc:subject/>
  <dc:title>Internet Application </dc:title>
</cp:coreProperties>
</file>