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CDB9-0EA9-4D8B-8449-205E36DD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1FA0-3DE4-4406-BA45-B9A62911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730F-B22C-4CC9-B933-6B814733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5FE0-7FCA-4251-B486-8D037FD1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B9F7-493D-4690-A414-BAC7D3EB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4BEB-F6E8-40AE-9DEE-4C8E6B3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658-1901-4750-B43F-357F380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63B8-D3FD-4C87-B2EF-C901763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1343-7C0E-4EEF-AC78-1E6DBB1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5140-F880-4AE3-863F-86A45F5B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650C-1BBA-4060-8D70-2BF3DC8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1A2E-39C9-42DE-9CBC-DC5B0DAE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3978-7AA4-4626-B03D-59A45A88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B365-895A-4C13-BC33-24B83AA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8AB-EC69-46FD-A8C7-DD4E477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4616-C01C-49BE-A1FD-666A4EB2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464E-ACA0-4FFF-B85B-19F25046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0772-E282-4158-8DDD-7E65358F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CD1C-F1C5-402E-A258-5A78F90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0D4C-2B2F-4B02-824A-A7781D82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C186-5D58-475F-9ACA-62EA785E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69FD-52F1-42ED-BD19-9BAF1295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4F5A-DC05-4786-957B-D143FA66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8304-485F-4F83-8217-F6459C6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52A-8B45-4929-ADB4-BAE11607898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C61B-E636-4E74-92BB-539E0D0492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6226-0FF6-4F07-A153-B27B0AB7101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FBE-DA3F-48C2-89E5-42534B57C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Garamond"/>
              </a:rPr>
              <a:t>تهدف المحاضرة للتعرف على التالي:-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Garamond"/>
              </a:rPr>
              <a:t>مفهوم المزايا التنافسية ودور نظم المعلومات فيها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فهوم الخطة الاستراتيجية لنظم المعلومات و الفرص، التحديات و الحلول في إمتلاك نظم المعلومات في منظمات الاعمال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راحل التخطيط الاستراتيجي لنظم المعلومات و التحديات التي تواجهه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3D0D-B252-440E-A9B9-AFB154CFE722}" type="slidenum">
              <a:t>1</a:t>
            </a:fld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مراحل التخطيط الإستراتيجي ل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ولاً: تحليل البيئة الداخلية و الخارج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ثانياً: تحديد الرسالة في 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ثالثاً: تحديد أهداف 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رابعاً: تحديد نظم المعلومات المطلوبة و أولويات النظ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خامساً: تقدير موارد 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ادساً: تحديد السياس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711E-F36A-42DA-B058-27A6457B7901}" type="slidenum">
              <a:t>10</a:t>
            </a:fld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اول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حليل الب</a:t>
            </a: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يئ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ة الداخلية و الخارج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تحليل البيئة الداخلية لتحديد مصادر القوة و الضعف التي تملكها المنظمة في نظم المعلومات ، و تحليل البيئة الخارجية و التي تشمل جميع العوامل التي تحيط بالمنظمة للوقوف على الفرص و التهديدات التي يمكن أن تواجه نظم المعلومات في المنظمة مستقبلا 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39F7-FF2B-4A0C-8E6B-79F57805A6C4}" type="slidenum">
              <a:t>11</a:t>
            </a:fld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ثاني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حديد الرسالة في 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صف الرؤية الإستراتيجية الإجابة عن تساؤل مقدرة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نظمة 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 في الوصول الى أهدافها ؟ و هي غالبا متمثلة في رسالة المنظمة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و الرسالة في نظم المعلومات تعمل على إتمام الدور الرئيسي في تطوير رسالة المنظمة بواسطة العمل التضامني مع الإدارة العليا لتنفيذ تكنولوجيا معلومات مناسبة للوصول الى الغايات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والاهداف.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4D39-152C-4A48-AAF5-AD7E5B10B2B1}" type="slidenum">
              <a:t>12</a:t>
            </a:fld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ff"/>
                </a:solidFill>
                <a:uFillTx/>
                <a:latin typeface="Garamond"/>
              </a:rPr>
              <a:t>ثالث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حديد أهداف نظام المعلومات</a:t>
            </a:r>
            <a:r>
              <a:rPr b="1" lang="ar-JO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هدف الأساسي من نظام المعلومات هو مساعدة المنظمة على تحقيق أهدافها . لذا فإن تحقيق أهداف النظام يتم في ضوء إستراتيجية المنظمة و أهدافها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من خلال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حليل و فهم الخطة الإستراتيجية للمنشأة و أهدافها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ربط أهداف نظام المعلومات بالأهداف العامة للمنشأة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دراسة الهيكل التنظيمي للمنشأة و مهام الإدارات و الأقسام المختلف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9A44-6B67-4A03-B7A8-12D2EE525664}" type="slidenum">
              <a:t>13</a:t>
            </a:fld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ff"/>
                </a:solidFill>
                <a:uFillTx/>
                <a:latin typeface="Garamond"/>
              </a:rPr>
              <a:t>رابعاً: </a:t>
            </a:r>
            <a:r>
              <a:rPr b="1" lang="ar-JO" sz="4000" spc="-1" strike="noStrike" u="sng">
                <a:solidFill>
                  <a:srgbClr val="ffffff"/>
                </a:solidFill>
                <a:uFillTx/>
                <a:latin typeface="Garamond"/>
              </a:rPr>
              <a:t>تحديد نظم المعلومات المطلوبة و أولويات النظم</a:t>
            </a:r>
            <a:r>
              <a:rPr b="1" lang="ar-JO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تجميع الأفكار و المعلومات لمشاريع نظم المعلومات من خلال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تبادل</a:t>
            </a: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افكار.</a:t>
            </a:r>
            <a:r>
              <a:rPr b="0" lang="ar-JO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دراسة خيارات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</a:t>
            </a: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بدائل التقنية المختلفة من خلال اعتماد أسلوب تخصيص الأسبقيات كأساس منطقي في اختيار مشاريع نظم المعلومات 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0B75-7F7A-43BD-98C4-CF4E86EC3C37}" type="slidenum">
              <a:t>14</a:t>
            </a:fld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خامساً: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تقدير موارد نظم المعلومات</a:t>
            </a:r>
            <a:r>
              <a:rPr b="1" lang="ar-JO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ffff00"/>
                </a:solidFill>
                <a:latin typeface="Garamond"/>
              </a:rPr>
              <a:t>تحديد العناصر الأساسية لنظم المعلومات مع تحديد طاقتها التشغيلية و متطلباتها و لا بد من تحديد القرارات الإدارية الرئيسة حول الأجهزة ، الإمتلاك ، الإتصالات المركزية و اللامركزية ، السلطات ، البيانات ، البرمجيات ، و متطلبات إدارة التغيير</a:t>
            </a: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085F-4E6C-45C0-A13B-9B88BF0E4318}" type="slidenum">
              <a:t>15</a:t>
            </a:fld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سادساً: </a:t>
            </a:r>
            <a:r>
              <a:rPr b="1" lang="ar-JO" sz="4400" spc="-1" strike="noStrike" u="sng">
                <a:solidFill>
                  <a:srgbClr val="ffffff"/>
                </a:solidFill>
                <a:uFillTx/>
                <a:latin typeface="Garamond"/>
              </a:rPr>
              <a:t>السياسات</a:t>
            </a:r>
            <a:r>
              <a:rPr b="1" lang="ar-JO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هي آليات تنفيذ الاستراتيجيات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تهدف الى ضمان إنجاز عملية التنفيذ بشكل يتماشى و صياغة الإستراتيجية ، و التأكد من أن العاملين يأخذون قراراتهم و تصرفاتهم بشكل يعزز رسالة نظم المعلومات و أهدافها و استراتيجياتها و التي تنطلق أصلا من الرسالة العامة للمنظم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A53B-8EEA-4216-9627-36F6CACE6272}" type="slidenum">
              <a:t>16</a:t>
            </a:fld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دور نظام المعلومات في تحقيق المزايا التنافسي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عرف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مزايا التنافسي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على أنها الوضع الذي يتيح للمنظمة الفرصة لتحقيق الأرباح العالية مقارنة مع المنافسين و ذلك من خلال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مييز منتجات المنظمة عن منتجات المنافسي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اقتصا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د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على الإنتاج أو قنوات التوزيع</a:t>
            </a:r>
            <a:r>
              <a:rPr b="0" lang="ar-JO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C463-072F-4FF1-97D6-79434F49CD43}" type="slidenum">
              <a:t>2</a:t>
            </a:fld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كيف تساعد نظم وتكنولوجيا المعلومات المنظمة لتحقيق ميزة تنافسية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ستخدام نظم وتكنولوجيا المعلومات يساعد في الحصول على المعلومات الضرورية لعمليات إتخاذ القرار عند المفاضلة بين البدائل و انشطة المنظم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تحسن من أدائها بإستخدام نظم المعلومات خاصة عند اختراق أسواق جديد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وصول الى عالم  أوسع من المستهلكين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و فهم احتياجاتهم و توقعاتهم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كذلك زيادة القدرة على تقديم الخدمة للمستهلك بشكل أسرع مما يؤدي الى زيادة رضا المستهلك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مراقبة أفضل على التشغيل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وتحسين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إختصار وقت تسويق المنتج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9572-A282-4F7F-B433-EFA19E091D1A}" type="slidenum">
              <a:t>3</a:t>
            </a:fld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ff"/>
                </a:solidFill>
                <a:latin typeface="Garamond"/>
              </a:rPr>
              <a:t>التخطيط الإستراتيجي لنظم المعلومات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trategic Planning of Inform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الحاجة للتخطيط الاستراتيجي لنظم المعلوم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ي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عتبر التخطيط الإستراتيجي ضرورة حتمية في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منظمات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سواء كانت صغيرة أم كبيرة</a:t>
            </a:r>
            <a:r>
              <a:rPr b="0" lang="ar-JO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ff"/>
                </a:solidFill>
                <a:latin typeface="Garamond"/>
              </a:rPr>
              <a:t>إن تطوير و بناء نظم جيدة للمعلومات له علاقة مباشرة بنمو و تطوير العمل بالمنشأة </a:t>
            </a: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إن الحاجة الى إنتاج معلومات أصبحت من المتطلبات الأولية و الأساسية للبقاء و الإستمرا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تكنولوجيا المعلومات تتغير سريعا فإن هذا يخلق تحدي لإدارة التكنولوجيا لذا لا بد من متابعة هذا التغيير و السيطرة عليه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43A5-CBBA-41E8-B650-4EE710817BB7}" type="slidenum">
              <a:t>4</a:t>
            </a:fld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مفهوم استراتيجية نظم المعلومات</a:t>
            </a:r>
            <a:r>
              <a:rPr b="1" lang="ar-JO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تعرف بأنها:-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ffff00"/>
                </a:solidFill>
                <a:latin typeface="Garamond"/>
              </a:rPr>
              <a:t>الإستراتيجية التي تحدد النظم التي تحتاجها المنظمة ، لإستكمال احتياجات المعلومات لديها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ffffff"/>
                </a:solidFill>
                <a:latin typeface="Garamond"/>
              </a:rPr>
              <a:t>إنها خريطة الطريق  التي تؤثر باتجاه تطوير النظم</a:t>
            </a:r>
            <a:r>
              <a:rPr b="0" lang="ar-JO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5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FFE1-8055-4239-A72D-52BD75C10763}" type="slidenum">
              <a:t>5</a:t>
            </a:fld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الفرص، التحديات و الحلول في إمتلاك نظم المعلومات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 u="sng">
                <a:solidFill>
                  <a:srgbClr val="ffffff"/>
                </a:solidFill>
                <a:uFillTx/>
                <a:latin typeface="Garamond"/>
              </a:rPr>
              <a:t>فرص الادار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  <a:ea typeface="ＭＳ Ｐゴシック"/>
              </a:rPr>
              <a:t>Management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منظمات الاعمال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تواجه مجموعه متدفق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من 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الفرص المبنيه على تكنولوجيا المعلومات للاستفاده منها للوصول الى تحقيق أهداف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ff"/>
                </a:solidFill>
                <a:uFillTx/>
                <a:latin typeface="Garamond"/>
              </a:rPr>
              <a:t>تحديات الادار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  <a:ea typeface="ＭＳ Ｐゴシック"/>
              </a:rPr>
              <a:t>Management Challe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بعض الشركات تواجه عقبات كبيره في تطبيق ال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أ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نظم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المعاصر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في حالة تحقيق المزايا يكون هنالك 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صعوبه في الم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ح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افظه على هذه المزاي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المنظمات عادة لا تستطيع تحقيق التغيير السريع و الكافي لمواكبة التقنيات الحديث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0" lang="ar-J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الحلول العريض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Solution Guidel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التفكير في كيفي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دارة التحولات الاستراتيجي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من خلال 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البحث عن تطبيق أنظم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تعود بالفوائد و المزايا التنافس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 على الشرك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1471-F697-483D-96B4-C82A80D120B0}" type="slidenum">
              <a:t>6</a:t>
            </a:fld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الخطة الإستراتيجية لنظام المعلومات</a:t>
            </a:r>
            <a:r>
              <a:rPr b="1" lang="ar-JO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ff"/>
                </a:solidFill>
                <a:latin typeface="Garamond"/>
              </a:rPr>
              <a:t>تخطيط استراتيجي رسمي لنظام المعلومات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JO" sz="3600" spc="-1" strike="noStrike">
                <a:solidFill>
                  <a:srgbClr val="ff0000"/>
                </a:solidFill>
                <a:latin typeface="Garamond"/>
              </a:rPr>
              <a:t>يوفر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خطة استراتيجية للمعلومات تنسجم مع الخطة الإستراتيجية العامة للمنشأة بما يترجم استراتيجياتهاو يعمل على تحقيق أهداف و غايات المنشأة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يؤدي الوصول الى تصميم نظام فعال للمعلومات من وجهة نظر </a:t>
            </a:r>
            <a:r>
              <a:rPr b="1" lang="ar-JO" sz="3200" spc="-1" strike="noStrike">
                <a:solidFill>
                  <a:srgbClr val="ffffff"/>
                </a:solidFill>
                <a:latin typeface="Garamond"/>
              </a:rPr>
              <a:t>المستفيدين و أفراد النظام الى تعاظم الفوائد من النظام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، و عندها يمكن الوصول الى دقة و تكامل في المعلومات و سرعة الحصول عليها و زيادة كفاءة العاملين و تحسين الخدمات العامة و تحسين الإتصالات الإدارية و تطوير و تحسين الأداء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E47C-6CF3-481F-B255-2E374F81CC22}" type="slidenum">
              <a:t>7</a:t>
            </a:fld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 u="sng">
                <a:solidFill>
                  <a:srgbClr val="ff0000"/>
                </a:solidFill>
                <a:uFillTx/>
                <a:latin typeface="Garamond"/>
              </a:rPr>
              <a:t>التحديات التي تواجه التخطيط الإستراتيجي لنظم المعلومات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الكيفية التي تدار بها المنشأة ، و السياسات المختلفة التي تتبعها في التعامل مع نظم المعلومات كمورد رئيس من موارد المنشأة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مدى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التناسق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 بين التخطيط الإستراتيجي لنظم المعلومات ، و الخطة الإستراتيجية العامة للمنظ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صعوبة بناء النظم المعقدة في المؤسسات الكبيرة ، و طول الفترة الزمنية اللازمة لإنجازه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مدى القدرة على إدامة نظام المعلومات في تقديم الدعم المطلوب منه للمنظ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مدى التعاون بين متخصصي نظم المعلومات و مستخدمي النظام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القدرة على تقييم الفرص المتاحة من خلال الإعتماد على نظام المعلومات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2BC6-2E22-463C-8983-44F49C420D22}" type="slidenum">
              <a:t>8</a:t>
            </a:fld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مراحل التخطيط الإستراتيجي ل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  اولاً يجب الإجابة على الأسئلة التالية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ما هو نطاق التخطيط الإستراتيجي المطلوب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أين نحن الآن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أين نريد أن نكون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كيف نصل الى الهدف المنشود 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2E43-24F9-4834-9FFD-10E356FAD060}" type="slidenum">
              <a:t>9</a:t>
            </a:fld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1-04T06:28:21Z</dcterms:modified>
  <cp:revision>214</cp:revision>
  <dc:subject/>
  <dc:title>Internet Application </dc:title>
</cp:coreProperties>
</file>