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DF601-7427-4C25-BDC4-0C581612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21ABD-04A6-4E60-B1CE-AED95D8A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D377C-D24F-4C89-B7DE-A455C2C5C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A187A-040D-4C20-A48C-E6FCF11B6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3890-7171-4A9E-AC88-C9CEBF27C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98F1-8E68-4421-BA1C-03023BA2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0E0D-ED41-4A88-B4BE-19DEBE7D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5E6B-4C2B-449A-9B22-1C95A2C1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EF5D-2B3E-4AAB-B379-E0392582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3C04-3E5C-491F-9257-7D13A508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CC64-BED2-4CE6-98A3-E0DE1140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A04D3-CE4A-415E-AE5D-FDACB4BB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C796-29DA-4D03-9E1A-552B28E8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D841-3B2B-4ECC-9AAE-BC40745F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250E-7177-43A9-A981-A6A8F378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4BA2-174E-49CB-A6D0-D991ECF25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FD70-B73B-4A0C-A3D0-EA069FAF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5C32A-3C6F-4310-8780-3EB4E888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05C45-DFDB-49AC-AF08-9793CF94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02631-83D4-4310-8ECA-DE8C3B97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B7F52-2F6D-4D72-8480-9423DB1F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C6A19-E1F8-49B5-8CCD-FB93F3DE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8223A-EBB9-4CDB-8C21-0B914A01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1122E-0C40-4E44-8534-18BF54B8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A704-3480-49A8-A50A-48076D3394F7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367A-4877-4356-A731-1C5C516A8B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4323-4504-4A78-9030-CAD18A4698D7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83F2-72CC-4B4D-9683-C153089BE0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Garamond"/>
              </a:rPr>
              <a:t>تطوير نظام دعم القرار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Garamond"/>
              </a:rPr>
              <a:t>تهدف المحاضرة للتعرف على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1" lang="ar-SA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Garamond"/>
              </a:rPr>
              <a:t>مراحل تطوير نظام دعم القرار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Garamond"/>
              </a:rPr>
              <a:t>الاسلوب التطويري لبناء نظم دعم القرار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Garamond"/>
              </a:rPr>
              <a:t>فوائد الاسلوب التطويري لبناء نظم دعم القرار</a:t>
            </a:r>
            <a:r>
              <a:rPr b="0" lang="ar-SA" sz="3200" spc="-1" strike="noStrike">
                <a:solidFill>
                  <a:srgbClr val="ffff66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ثامناً: مرحلة الملائمة</a:t>
            </a: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66"/>
                </a:solidFill>
                <a:latin typeface="Garamond"/>
              </a:rPr>
              <a:t>استجابة لحوجات المستخدمين المتغيرة يعاد تدوير الخطوات السابقة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Garamond"/>
              </a:rPr>
              <a:t>الاسلوب التطويري لبناء نظم دعم القرار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الهدف من الاسلوب التطويري هو بناء نظام دعم القرار من خلال خطوات قصيرة مع معلومات من قبل المستخدمين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عملية التصميم المتكرر تشمل الاتي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 algn="r" rtl="1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اختيار مشكلة فرعية مهمة لبنائها اولاً ثم بناء نظام دعم القرار عليها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 algn="r" rtl="1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تطوير نظام صغير ويمكن استخدامه في المساعدة لاتخاذ القرار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 algn="r" rtl="1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تقييم النظام بشكل منتظم وتقييمه من قبل المستخدم و القائمين على بناء النظا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 algn="r" rtl="1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توسيع وتحسين دورات النظا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Garamond"/>
              </a:rPr>
              <a:t>فوائد الاسلوب التطويري لبناء نظام دعم القرار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الوقت القصير للتطوير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Garamond"/>
              </a:rPr>
              <a:t>التكلفة القليلة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الوقت القصير لرد فعل المستخدم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Garamond"/>
              </a:rPr>
              <a:t>تحسن مفهوم المستخدم للنظام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مقدمة</a:t>
            </a: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66"/>
                </a:solidFill>
                <a:latin typeface="Garamond"/>
              </a:rPr>
              <a:t>حوجة المدراء من المعلومات لحل المشاكل الغير مهيكلة و الشبه مهيكلة تتغير تبعا للمشاكل التي تطرحها نظم دعم القرار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66"/>
                </a:solidFill>
                <a:latin typeface="Garamond"/>
              </a:rPr>
              <a:t>كيف يمكن بناء نظام دعم قرار ليواكب هذه التغيرات ؟؟؟</a:t>
            </a: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مراحل تطوير نظام دعم القرار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Garamond"/>
              </a:rPr>
              <a:t>أولاً: مرحلة التخطيط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Garamond"/>
              </a:rPr>
              <a:t>** التخطيط يبحث في تقييم الاحتياجات و تحليل المشكلة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Garamond"/>
              </a:rPr>
              <a:t>** أهم خطوة في عملية التخطيط لنظام دعم </a:t>
            </a:r>
            <a:r>
              <a:rPr b="1" lang="ar-SA" sz="4800" spc="-1" strike="noStrike">
                <a:solidFill>
                  <a:srgbClr val="ffff66"/>
                </a:solidFill>
                <a:latin typeface="Garamond"/>
              </a:rPr>
              <a:t>القرارهو في </a:t>
            </a:r>
            <a:r>
              <a:rPr b="1" lang="ar-SA" sz="4800" spc="-1" strike="noStrike">
                <a:solidFill>
                  <a:srgbClr val="ffffff"/>
                </a:solidFill>
                <a:latin typeface="Garamond"/>
              </a:rPr>
              <a:t>معرفة مفتاح القرار في نظام دعم القرار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مراحل تطوير نظام دعم القرار(متابعة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Garamond"/>
              </a:rPr>
              <a:t>ثانياً: مرحلة البحث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Garamond"/>
              </a:rPr>
              <a:t>** </a:t>
            </a:r>
            <a:r>
              <a:rPr b="1" lang="ar-SA" sz="5400" spc="-1" strike="noStrike">
                <a:solidFill>
                  <a:srgbClr val="ffff66"/>
                </a:solidFill>
                <a:latin typeface="Garamond"/>
              </a:rPr>
              <a:t>تشمل ايجاد الاسلوب المناسب لاظهار احتياجات المستخدم و المصادر المتوفرة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66"/>
                </a:solidFill>
                <a:latin typeface="Garamond"/>
              </a:rPr>
              <a:t>** يتم مراجعة طبيعة نظام دعم القرار بشكل اقرب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Garamond"/>
              </a:rPr>
              <a:t>ثالثاً: مرحلة التحليل و التصميم الأولي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تشمل هذه المرحلة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** </a:t>
            </a: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إيجاد الأسلوب المناسب و المصادر المطلوبة كالتقنية، العمالية ، المادية و التنظيمية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** عمل التصميم الأولي ثم دراسة الجدوى و تشمل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       - دراسة الجدوى الفن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       - دراسة الجدوى التظيم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        - دراسة الجدوى الاقتصاد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** تحديد النماذج المثالية التي يمكن ان تعطى معلومات لمفتاح القرار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Garamond"/>
              </a:rPr>
              <a:t>رابعاً : مرحلة التصميم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في هذه المرحلة يتم 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** إيجاد مواصفات النظا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** مكونات النظا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**  هيكل النظام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ff"/>
                </a:solidFill>
                <a:uFillTx/>
                <a:latin typeface="Garamond"/>
              </a:rPr>
              <a:t>و يمكن تقسيم مرحلة التصميم الى الأجزاء التالية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** نظام تخزين المعلومات و إ دارت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** نظام قاعدة النماذج و إدارت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** النظام الفرعي للتحاور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** نظام للثقافة الإدار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خامساً : مرحلة البناء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66"/>
                </a:solidFill>
                <a:latin typeface="Garamond"/>
              </a:rPr>
              <a:t>هو التطبيق التقني للتصميم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66"/>
                </a:solidFill>
                <a:latin typeface="Garamond"/>
              </a:rPr>
              <a:t>يتم بناء نظام دعم القرار اعتمادا على فلسفة التصميم و الأدوات التي تم إستخدامها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Garamond"/>
              </a:rPr>
              <a:t>سادساً: مرحلة التطبي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935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بعد أن أصبح النظام جاهزاً لتطبيقه و تحتوي مرحلة التطبيق على 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3560" indent="-49356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الإختبار</a:t>
            </a: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: يتم فيها تقييم النظام لمعرفة كيف يتناسب مع احتياجات المستخدم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93560" indent="-49356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العرض</a:t>
            </a: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 : يتم عرض قدرات النظام على المستخدمين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93560" indent="-49356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التوجيه</a:t>
            </a: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 : تشمل ارشادات المدراء المستخدمين في تشغيل وقدرات النظام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93560" indent="-49356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التدريب</a:t>
            </a: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 : تدريب المشغلين المستخدمين على هيكل النظام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93560" indent="-49356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النشر</a:t>
            </a: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 : نشر النظام لجميع أعضاء المنظمة و المهتمين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Garamond"/>
              </a:rPr>
              <a:t>سابعاً: مرحلة الصيانة و التوثي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Garamond"/>
              </a:rPr>
              <a:t>الصيانة</a:t>
            </a:r>
            <a:r>
              <a:rPr b="1" lang="ar-SA" sz="4800" spc="-1" strike="noStrike">
                <a:solidFill>
                  <a:srgbClr val="ffff66"/>
                </a:solidFill>
                <a:latin typeface="Garamond"/>
              </a:rPr>
              <a:t> : تشمل التخطيط للدعم المستمر للنظام و المستخدمين 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r" rtl="1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Garamond"/>
              </a:rPr>
              <a:t>التوثيق</a:t>
            </a:r>
            <a:r>
              <a:rPr b="1" lang="ar-SA" sz="4800" spc="-1" strike="noStrike">
                <a:solidFill>
                  <a:srgbClr val="ffff66"/>
                </a:solidFill>
                <a:latin typeface="Garamond"/>
              </a:rPr>
              <a:t>: يشمل توثيق كل مرحلة من مراحل النظام في شكل مسودة يتم الرجوع اليها  عند الحوجة اليها او لفهم طبيعة عمل النظام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ud</cp:lastModifiedBy>
  <dcterms:modified xsi:type="dcterms:W3CDTF">2015-11-12T06:45:59Z</dcterms:modified>
  <cp:revision>389</cp:revision>
  <dc:subject/>
  <dc:title>Internet Application </dc:title>
</cp:coreProperties>
</file>