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7F90-017F-46EB-981D-BA6EDFA6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4782-1418-4300-B05F-DA2968C4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F3E9-0DE0-4939-AC71-93812180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7679-D5AF-400C-955E-72F95388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5335-1355-4DE1-B5F4-C3A7A6CA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B5EE-BC8B-403A-BAA8-FAB70805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CCD3-4441-4D0F-819F-FF768C82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1C95-9395-478E-92CF-527FA2EC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8E18-706B-412F-A704-B7F239C2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DA47-0CA7-477C-A90B-E4865A12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89C9-606E-4194-B929-64C7DA3A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BA2D-7DF2-4D03-B2D8-55F6EE0B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DD93-F1DA-4973-952A-0EDCFD45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6F2C-B781-4ADA-AC6E-4BB2F8DB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0293-53BD-4C61-8E7D-57223522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2631-349F-42CB-8A1F-83FCBBF9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34EA-0898-4ABD-B4EB-A6F53783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F8FEB-D17E-49F0-9BBA-262FFF22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84D8-9F55-467F-8728-098E5DE8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50AE-DD52-4181-A13B-E2DE23E8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0A433-5784-4EEC-911A-DF85D33D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850FA-162F-44DB-8BCD-35DA3616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C970-DBB8-4866-9C0A-F098C1CE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F82D-D670-4397-878C-417FB812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3E1D-739F-4C1E-BA75-0753A3AFB8A3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75D4-0799-4A70-9752-A647F38913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EB20-D315-41B5-8177-5644510330DC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EEBE-3ECC-4AFF-B6AB-53A73F6BF4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Garamond"/>
              </a:rPr>
              <a:t>أهداف المحاض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التعرف على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:</a:t>
            </a: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الطرق الممكنة لدعم الإدارةلحل مشكلة ما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أنواع نظم دعم القرار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نظم مستودعات البيانات ودورها في دعم عملية اتخاذ القرار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Garamond"/>
              </a:rPr>
              <a:t>نظم التنقيب عن البيانات ودورها في دعم عملية اتخاذ القرار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Garamond"/>
              </a:rPr>
              <a:t>نظم مستودعات البيانات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ي </a:t>
            </a: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أنظمة تستعمل تقنيات جديدة في تخزين كميات كبيرة من المعلومات الغير متشابهة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Heterogeneous</a:t>
            </a: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 بهدف إستعمالها في سرعة اتخاذ القرار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600" spc="-1" strike="noStrike">
                <a:solidFill>
                  <a:srgbClr val="ffffff"/>
                </a:solidFill>
                <a:latin typeface="Garamond"/>
              </a:rPr>
              <a:t>عبارة عن آلية لتخزين البيانات الكبيرة الحجم، خاصة الغير متشابهة و التي تخص منظمات الأعمال، ذات الفرع الواحد أو التي لها عدد من الفروع ذات الأنشطة المختلفة.</a:t>
            </a:r>
            <a:r>
              <a:rPr b="0" lang="ar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نوعية البيانات التي تخزن في مخازن البيانات وفترات معالجتها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تحتوي مخازن البياتات على البيانات التالية للمنظمة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البيانات التاريخ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البيانات التشغي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البيانات الخارجي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200" spc="-1" strike="noStrike">
                <a:solidFill>
                  <a:srgbClr val="ffff66"/>
                </a:solidFill>
                <a:latin typeface="Garamond"/>
              </a:rPr>
              <a:t>البيانات المخزنة في مخازن البيانات تعالج بفترات محددة (يومياً، اسبوعياً، شهرياً، ...الخ) و تختلف مستودعات البيانات عن قواعد البيانات في انه </a:t>
            </a:r>
            <a:r>
              <a:rPr b="1" lang="ar" sz="3200" spc="-1" strike="noStrike" u="sng">
                <a:solidFill>
                  <a:srgbClr val="ff0000"/>
                </a:solidFill>
                <a:uFillTx/>
                <a:latin typeface="Garamond"/>
              </a:rPr>
              <a:t>لاتخزن فيها البيانات التي تستخدم لمعالجة العمليات اليومية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4000" spc="-1" strike="noStrike">
                <a:solidFill>
                  <a:srgbClr val="ffffff"/>
                </a:solidFill>
                <a:latin typeface="Garamond"/>
              </a:rPr>
              <a:t>الحاجة لإستخدام مخازن البيانات في منظمات الأعمال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4000" spc="-1" strike="noStrike">
                <a:solidFill>
                  <a:srgbClr val="ffff00"/>
                </a:solidFill>
                <a:latin typeface="Garamond"/>
              </a:rPr>
              <a:t>نتيجة للتوسع الكبير الذي طرأ على منظمات الأعمال في كل من نشاطها و زيادة فروعها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4000" spc="-1" strike="noStrike">
                <a:solidFill>
                  <a:srgbClr val="ffff00"/>
                </a:solidFill>
                <a:latin typeface="Garamond"/>
              </a:rPr>
              <a:t>ان الانظمة التشغيلية غير مهيئة لاجراء التحليلات المعقدة على البيان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4000" spc="-1" strike="noStrike">
                <a:solidFill>
                  <a:srgbClr val="ffff00"/>
                </a:solidFill>
                <a:latin typeface="Garamond"/>
              </a:rPr>
              <a:t>تتوزع البياتات داخل ارجاء المنظمة كما تتعدد انظمة انتاجها وادراتها فمن صور الى ورقات عمل الى بيانات مال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Garamond"/>
              </a:rPr>
              <a:t>دور نظم مستودعات البيانات في دعم عملية إتخاذ القرار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200" spc="-1" strike="noStrike">
                <a:solidFill>
                  <a:srgbClr val="ffffff"/>
                </a:solidFill>
                <a:latin typeface="Garamond"/>
              </a:rPr>
              <a:t>يعمل على تأمين المعلومات المطورة و المحسنة، بغرض حصول المخططين و صانعي القرارات عليها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غير محدود من حيث المستويات و المجاميع التي يقدم الخدمات لها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لمساهمة في ترشيد القرارات الإدارية في مختلف المستويات، و ذلك بإسترجاع معلومات مستقاه من مجموعة مختلفة من قواعد البيانا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تتيح للتنفيذيين النظر للمنظمة ككل. كما تتيح إمكانية إستخدام نماذج البيانات للإستعلام عن المهام و العمليات الصعبة المعالجة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شكلة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5771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تطور في العلم، الاقتصاد و تكنولوجيا المعلومات و الإتصالات أدى الى زيادة كمية البيانات الرقمية في الاونة الاخيرة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الكميات الهائلة من البيانات لم تعد وسائل التحليل التقليدية (الاحصائية مثلاُ) قادرة على التعامل معها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 كيف يمكن مساعدة منظمات الاعمال في  تحليل البيانات و استخراج المعلومات و المعارف منها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؟؟؟؟؟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مفهوم نظم التنقيب عن البيان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43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تقوم بعملية بحث داخل مستودع البيانات عن معرفة غير مكتشفة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يعتبر التنقيب عن البيانات جزءاً مكملاً من إكتشاف المعرفة في قواعد البيانات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تقوم بالكشف و البحث عن البيانات تساعد الإدارة في تقسيم المعلومات للاستفادة منها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تنقيب عن البيانات ودعم عملية إتخاذ القرار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5500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ساعد نظم التنقيب وتقنيات التنقيب عن البيانات في دعم عملية إتخاذ القرار من خلال عدة أوجه منها :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تساعد متخذي القرار في تحليل البيانات و وايجاد الأنماط المخفية والغير متوقعة في البيانات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إستخدامها يوفر لمتخذي القرار  القدرة على إستكشاف والتركيز على أهم البيانات في قواعد البيان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إستخدامها يساعد في  بناء التنبؤات المستقبلية واستكشاف السلوك والاتجاهات، مما يسمح بتقدير القرارات الصحيحة و إتخاذها في الوقت المناسب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400" spc="-1" strike="noStrike">
                <a:solidFill>
                  <a:srgbClr val="ffff00"/>
                </a:solidFill>
                <a:latin typeface="Garamond"/>
              </a:rPr>
              <a:t>أنواع تنقيب البيانات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ypes of Data Mining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43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لتنقيب التنبؤي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edictive Data Mining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يحاول إيجاد أفضل التنبؤات إعتماداً على المعطيات ويعتمد هذا النوع من أنواع التنقيب على إستخدام المعلومات القديمة لتوقع ما سيحدث في المستقبل وتكون لمثل هذه البيانات هدف محدد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ffff00"/>
                </a:solidFill>
                <a:latin typeface="Garamond"/>
              </a:rPr>
              <a:t>التنقيب الوصفي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scriptive Data M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يعتمد على إعادة تنظيم البيانات، والتنقيب في أعماقها لإستخراج النماذج الموجودة فيها ولايستوجب وجود هدف لهذه البيانا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خطوات إستكشاف المعرفة من قواعد البيان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43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إختيار البيانات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ata Sel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في هذه المرحلة يتم تحديد وإسترجاع البيانات الملائمة من مجموعة البيان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هيئة البيانات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ata Preprocessing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يتم فيها تجهيز وعزل البيانات التي تحتوي على بيانات مبهمة أو مفقودة  أو شوائب من مجموعة البيانات كإلغاء المعلومات المتكررة، التصحيح الشكلي، معالجة المعلومات الناقصة وجعلها جاهزة للتطبيق و تشمل هذه المرحلة عدة خطوات ( تنظيف البيانات، إزالة البيانات المفقودة ،إشتقاق البيانات، دمج البيانات).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خطوات إستكشاف المعرفة من مخازن البيانات (متابعة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686800" cy="52722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نقل البيانات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ata Trans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مثل عملية نقل البيانات التي تم إختيارها الى شكل ملائم لإجراءات البحث والإسترجا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نقيب البيانات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ata Mining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في هذه المرحلة سيتم تطبيق اسلوب ذكي لإستخراج نماذج مفيدة قدر الإمكان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قييم النماذج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attern Evaluation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بعد إستخراج النماذج المهمة والتي تمثل المعرفة يتم تقيمها إستناداً الى مقاييس محدد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Garamond"/>
              </a:rPr>
              <a:t>طرق نظم دعم الإدارة الممكنة لحل مشكلة ما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دف نظم المعلومات المبنية على الحاسوب بأنواعها المختلفة هو </a:t>
            </a: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مساعدة الإدارة في حل المشكلات بصورة اسر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طرق نظم دعم الإدارة الممكنة  لحل مشكلة ما: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Garamond"/>
              </a:rPr>
              <a:t>** استخدام أداة بصورة مستقلة لحل جانب من المشكل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** استخدام عدة أدوات غير محكمة التكامل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**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ستخدام عدة أدوات محكمة التكامل(تظهر الأداة للمستخدم كوحدة واحدة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Garamond"/>
              </a:rPr>
              <a:t>أنواع نظم دعم القرار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 – </a:t>
            </a:r>
            <a:br>
              <a:rPr sz="3200"/>
            </a:b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ولاً : نظم دعم القرار ونظم دعم القرارات الجماعية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ي أنظمة معلومات حاسوبية موجهة لمساعدة المستخدم في تحليل المشكلات المعقدة والوصول إلى القرارات اللازمة لحلها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صممت لتزويد الإدارة التكتيكية بالمعلومات الضرورية و الحيوية والحديثة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عد مصدراً حيويا ورئيسياً من مصادر المعلومات لنظم معلومات دعم منفذي الإدارة العليا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SS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نظم دعم القرارات الجماعية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Group Decision Support System (GDS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عبارة عن النظام المصمم تكنولوجيا لمساعدة مجموعة من المدراء الذين يعملون كفريق ويواجهون اتخاذ قرارات بشكل جماعي بشان قضايا مبرمجة او شبه مبرمجة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مصادر المعلومات في نظم دعم القرار ونظم دعم القرارات الجماعية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مصادر داخلية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من البيئة الداخلية مثل معلومات نظم معالجة المعاملات ، معلومات نظم التقارير الإدارية، وغيرها من الانظمة وجميع المعلومات المتاحة في المنظمة يتم استخلاص المفيد منها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مصادر خارجية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مثل المعلومات التي يتم الحصول عليها من البيئة الخارجية مثل معلومات المنافسين و معلومات الأسواق المحلية والعالمي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خصائص نظم دعم القرارات الجماعية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متعدد الاطراف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 :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يستخدم من قبل مجموعة من المدراء الذين يعملون كفريق لاتخاذ قرار جماعي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مصمم للمساعدة في القرارات الغير روتينية والشبيهة بالروتينية لزيادة فاعليتها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مصمم ليتلائم مع المستوى التكتيكي ويمكن استخدامه في المستوى الاستراتيجي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يعتبر حلقة الوصل المعلوماتية: تستسقي جزء من معلوماتها من المستوى الفني وتمد نظم دعم القرار العليا بالمعلوما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شكال نظم دعم القرارات الجماع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غرفة القرار الداخلية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عبارة عن غرفة قرارات جماعية توجد بها اجهزة بها نظم دعم القرارات الجماعية حيث يقوم المدراء بتبادل الاراء والافكار ويقوم النظام بتحليلها وفرزها وتلخيص النتائج المتوصل اليها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شبكة الاتصالات المحلية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يوجد مجموعة من المدراء وغير موجودين في مكان واحد بل عبر شبكة ويقومون بالاتصال عبر شبكة ويقوم نظام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دعم القرارات الجماعية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بتحليل وفرز وتلخيص النتائج المتوصل اليها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غرفة القرار عبر شبكة الاتصالات العاليمة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فيها يكون المدراء في أماكن متباعدة جدا ويستخدمون شبكة الاتصالات العالمية في التواصل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ويقوم نظام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دعم القرارات الجماعية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بتحليل وفرز وتلخيص النتائج المتوصل اليه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ثانياً: نظم دعم القرار الذكي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6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Garamond"/>
              </a:rPr>
              <a:t>ترتبط بمجال الذكاء الاصطناعي مثل الشبكات العصبية والمنطق الغامض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ثالثاً: فئة نظم دعم القرار الاخرى ومنها</a:t>
            </a: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:-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نظم مستودعات البيانات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المعالجة التحليلية الفور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التنقيب عن البيانات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المعلومات الادارية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اتمتة المكاتب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نظم القرار المعتمدة على الانترنت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نظم دعم قرارات الزبائن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ud</cp:lastModifiedBy>
  <dcterms:modified xsi:type="dcterms:W3CDTF">2015-11-19T06:01:50Z</dcterms:modified>
  <cp:revision>411</cp:revision>
  <dc:subject/>
  <dc:title>Internet Application </dc:title>
</cp:coreProperties>
</file>