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A6307-137D-4CEE-9C3E-5D1C3286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7965-122B-44C1-8108-5D83B0F8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994E-44C8-4E4D-A383-AF8F54BD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079A-919B-49E6-BFF5-B51EC4E2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B19E-3E59-490E-9E09-EEBB8BF0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A32B-B0D7-409D-B475-CBB977D8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DF7E-FEBF-48B2-A880-069F5098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DFF8-A12A-4CDE-B31A-A8D30AB6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C954-68E2-44CD-AAE8-76B7E53A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52A8-19B4-4BF5-A8C8-445076D4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4226-58FD-454D-B720-4FAE896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9C0F2-27C2-4943-87D3-23C956EE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F5CC-3E2F-4CFC-8569-C015C3F6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6F0E-3EB6-4C5D-9DE3-D06F5411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EF0A-49C3-4FD6-8B80-9E2CDC54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3B6D-E062-43D3-92D2-08EC98AF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D343-DA16-47C0-B482-B2265E55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8A00-95A5-4C39-8CFF-A51FA245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D0EF-E1E7-4627-93C4-69A78D58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1D390-5695-48BC-B77D-46BD41A2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9F15-6DDF-48B4-8E2B-4E09E93C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17CA-4A5C-49C3-A708-2421A298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FA41-A331-423B-9887-BA61EE43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461E-4559-4F1E-983F-3EE3A15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354C-97EE-48E3-A742-9372BE30016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CEA2-7EC1-4222-AB6B-07E7B5B1BE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4E72-497C-426E-B0B3-6D5E5ABD4B2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BB7E-3960-41EC-95B2-7FCBDC47D1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أهداف المحاض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التعرف على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:</a:t>
            </a: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مفهوم نظم دعم القرا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مواصفات نظام دعم القرار الناجح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خصائص ، فوائد ، امكانيات وتطبيقات نظام دعم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مكونات نظام دعم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فرق بين نظم دعم القرار و نظم المعلومات الإدار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نظم دعم القرار ودعم القرارات الاستراتيج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تقييم نجاح وفشل نظم دعم القرار و دور الادارة العليا في نظم دعم القرار.</a:t>
            </a: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ffff00"/>
                </a:solidFill>
                <a:latin typeface="Garamond"/>
              </a:rPr>
              <a:t>مكونات نظم دعم القرار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(متابعة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ar-AE" sz="3200" spc="-1" strike="noStrike">
                <a:solidFill>
                  <a:srgbClr val="ffff00"/>
                </a:solidFill>
                <a:latin typeface="Garamond"/>
              </a:rPr>
              <a:t>- قاعدة البيانا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هى مخزن لكافة البيانات ذات الأهمية و القيمة بالنسبة للمستخدمين و نظام دعم القرارات و الخاصة بمنشأة معينة أو نشاط محدد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.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تكون قاعدة البيانات من عناصر البيانات المخزنة بطريقة مرتبطة ومنظمة فى شكل ملفات و سجلات و حقول بيانات تتلاءم مع احتياجات و متطلبات المستخدمين ، و يتم تدأولها بواسطة نظم إدارة قواعد البيانات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3- </a:t>
            </a:r>
            <a:r>
              <a:rPr b="0" lang="ar-SA" sz="4400" spc="-1" strike="noStrike">
                <a:solidFill>
                  <a:srgbClr val="ffff00"/>
                </a:solidFill>
                <a:latin typeface="Garamond"/>
              </a:rPr>
              <a:t>قاعدة النماذج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تتضمن جميع نماذج الطرق الكمية فى الإدارة و التى توفر لمتخذ القرار تنوعاً هائلا من نماذج بحوث العمليات التي تساعد فى دراسة مجموعة البدائل و الاختيارات المختلف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. </a:t>
            </a: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مثل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Garamond"/>
              </a:rPr>
              <a:t>نموذج البرمجة الخطية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Garamond"/>
              </a:rPr>
              <a:t>نموذج المحاكاة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Garamond"/>
              </a:rPr>
              <a:t>نموذج النقل والتخصي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النظم الفرعية المكونة ل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أولاً : النظام الفرعي لإدارة قاعدة البيان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يوفر المعلومات التي تستخدمها النماذج في التحليل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مكن المدير من القيام باستفسارات مباشرة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ثانياً : النظام الفرعي لإدارة قاعدة النماذج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تفاعل مع النظام و إدارة الحوار لتمكين المدير من رؤية النماذج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إدارة النماذج و التاكد من توفر النماذج التي يطلبها المدير بشكل متجان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تفاعل مع نظام إدارة قواعد البيانات للحصول على البيان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ثالثاً : النظام الفرعي لإدارة الحوار البيني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يقوم بتوليد و إدارة الحوار بين مستخدم نظام دعم القرار و قاعدة النماذج و قاعدة البيانات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يسهل عملية إستخدام نظام دعم القرار  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يجعل النظام مرن في التعامل مع البيانات و النماذج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بعض الفرق بين نظم المعلومات الإدارية و نظم دعم القرار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نظم دعم القرا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نظم المعلومات الإدار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يمكن استعماله لعنونة المشاكل غير المتوقعة</a:t>
                      </a: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تاثيره الرئيس يكون في الأعمال المهيكل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تقارير تعبر عن مواقف محددة وغير روتينية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تقارير موحدة و تجيب على امور عامة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يركز على الفاعل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يركز على الكفاء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يركز على سهولة الإستعمال و التكيف و المرونة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يركز على تدفق المعلومات.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نظم دعم القرار و القرارات الاستراتيج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يوفر نظم دعم القرار المعلومات الاستراتيجية والتي تستخدم من قبل الادارة العليا في عملية التخطيط الاستراتيجي للمنظمة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يدعم الادارة العليا في قراراتها الاستراتيجية من خلال </a:t>
            </a:r>
            <a:r>
              <a:rPr b="1" lang="ar-SA" sz="4400" spc="-1" strike="noStrike" u="sng">
                <a:solidFill>
                  <a:srgbClr val="ffff66"/>
                </a:solidFill>
                <a:uFillTx/>
                <a:latin typeface="Garamond"/>
              </a:rPr>
              <a:t>توفير التكنولوجيا</a:t>
            </a: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 أو </a:t>
            </a:r>
            <a:r>
              <a:rPr b="1" lang="ar-SA" sz="4400" spc="-1" strike="noStrike" u="sng">
                <a:solidFill>
                  <a:srgbClr val="ffff66"/>
                </a:solidFill>
                <a:uFillTx/>
                <a:latin typeface="Garamond"/>
              </a:rPr>
              <a:t>في البحث عن المشاكل وحلها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دور الادارة العليا في 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يعتمد </a:t>
            </a: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نجاح و فشل نظم دعم القرار على تفاعل الإدارة العليا مع هذا النظام. من خلال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مشاركة في تقييم النظام المقترح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موافقة على قبول وادخال النظام في المنظم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وضع و متابعة السياسات الخاصة بنظام دعم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المشاركة في تطوير و تشغيل نظام دعم القرار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تقييم مدى نجاح أو فشل 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يمكن الحكم على نجاح نظام دعم القرار في المنظمة من خلال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رضا عن النظام من قبل المستخدمين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قبول أو رفض المدير متخذ القرار للنظا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تكرار استخدام النظام  اذا كان استخدام النظام اختياريا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ستخدام النظام في حالات معينة غير مكرر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مشكلة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تطور في مجال الحاسب وكافة مجالات الحياة ادى الى التوسع في الانشطة التجارية وغيرها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تخاذ القرارات السريعة يحتاج لمعلومات جيدة في اسرع وق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ادارة العليا لايوجد لديها الوقت الكافي في عملية جمع المعلومات وتحليلها واصدار قرارات بناء على هذه المعلوم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كيف يمكن مساعدة الادارة العليا في حل هذه المشكلة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نظم دعم القرار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cision Support System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يعرف نظم دعم القرار على انه مجموعة من البيانات و معدات المعالجة التي تستخدم في التعامل مع البيانات للإجابة عن الأسئلة المجهولة و غير المهيكلة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نظام معلومات مبني على الحاسب يساعد متخذ القرار على اتخاذ قرار أفضل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ام معتمد على الحاسوب يوفر امكانيات متنوعة تساعد في حل المشكلات التي تواجه المستخد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مواصفات نظام دعم القرار الناج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بسيط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سهل السيطر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سهل الاتصال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مكتمل على مواضيع مهم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قوي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متكيف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خصائص 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مساعدة متخذ القرار في اتخاذ القرارات  خاصة غير المهيكلة وشبه المهيكل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تحسين فعالية عملية اتخاذ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دعم عملية اتخاذ القرار لا استبدال صاحب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تكون تحت سيطرة صاحب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ستخدام النماذج مع الطرق التقليدية لاسترجاع البيان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الفوائد الرئيسية ل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القدرة على دعم حلول المشاكل المعقد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ردود الفعل السريعة للمواقف غير المتوقع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توفير التكلف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انتاج قرارات اكثر ايجاب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تساعد في تدريب المدراء غير الخبيرين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تحسين فعالية الإدار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امكانيات نظم دعم القرا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توفير الوسائل التحليلية المساعدة في اتخاذ القرار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قدرة على توفير التقاري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ستخدام الرسوم البياني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قدرة على البحث عن الهدف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تعامل مع القرارات المتكررة والقرارات الخاصة بحالات معين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القدرة على اسئلة ماذا – لو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تطبيقات نظم دعم القرار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تستخدم المنظمات نظم دعم القرار في عدة تطبيقات منها: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التخطيط الاستراتيجي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التخطيط المالي الاستراتيجي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تحليل المخاط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إدارة الانتاج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ffff00"/>
                </a:solidFill>
                <a:latin typeface="Garamond"/>
              </a:rPr>
              <a:t>مكونات نظم دعم القرار 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omponent of Decision Support System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واجهة المستخدمين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ي أوجه التداخل بين المستخدمين و نظام دعم القرار من خلال شبكات الحاسبات، وهي الطريقة التي يتم بها الحوار و كيفية إدخال الأوامر و الحصول على استفسارات و استخراج معلومات ، ويتم إدخال الأوامر بطرق متنوعة عن طريق لوحة المفاتيح أو ملىء مربعات حوار أما المخرجات فتكون في تقارير أو رسوم بيانية .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ud</cp:lastModifiedBy>
  <dcterms:modified xsi:type="dcterms:W3CDTF">2015-10-22T08:32:24Z</dcterms:modified>
  <cp:revision>329</cp:revision>
  <dc:subject/>
  <dc:title>Internet Application </dc:title>
</cp:coreProperties>
</file>