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8BF-1231-4438-81DE-743E2FEC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620-9EF4-4280-83E4-DFD250D2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FB2-2191-421B-8C0E-E0890C31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2F8-DC08-426E-97F1-E3C8609B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603-7E10-4351-BBDF-85B7497A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B66-AD2D-4304-8D96-14ADC4B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833-3897-4F98-A3F1-4A06F88D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76E-7948-4FFC-87F9-C859A8C7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09F-AD41-458B-8CD9-DF8BEA57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091-8268-4D24-AADD-AD8E062B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A4C-2F7E-42D8-8FA4-C16E9DA5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D7F-FDFD-426E-80A7-2E63A297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AE0-1219-4FAD-A2EE-5D66A8DD4EE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adwords.google.com/um/StartNewLogin?sourceid=awo&amp;subid=ww-ar-et-ads_title&amp;hl=ar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819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99"/>
                </a:solidFill>
                <a:latin typeface="Arial"/>
              </a:rPr>
              <a:t>المحاضرة السادسة</a:t>
            </a:r>
            <a:br>
              <a:rPr sz="4800"/>
            </a:br>
            <a:r>
              <a:rPr b="1" lang="ar-EG" sz="4800" spc="-1" strike="noStrike">
                <a:solidFill>
                  <a:srgbClr val="000099"/>
                </a:solidFill>
                <a:latin typeface="Arial"/>
              </a:rPr>
              <a:t>مقدمة عن التسويق الالكتروني</a:t>
            </a:r>
            <a:br>
              <a:rPr sz="48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E.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emkg"/>
          <p:cNvPicPr/>
          <p:nvPr/>
        </p:nvPicPr>
        <p:blipFill>
          <a:blip r:embed="rId1"/>
          <a:stretch/>
        </p:blipFill>
        <p:spPr>
          <a:xfrm>
            <a:off x="2916360" y="2652840"/>
            <a:ext cx="339084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cc0000"/>
                </a:solidFill>
                <a:latin typeface="Arial"/>
              </a:rPr>
              <a:t>أساسيات التسويق بواسطة الايمي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عنوان ايميلك اوتعريفــــك يدل علي الج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r" rtl="1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c0000"/>
                </a:solidFill>
                <a:latin typeface="Arial"/>
              </a:rPr>
              <a:t>استغرق </a:t>
            </a:r>
            <a:r>
              <a:rPr b="1" lang="ar-EG" sz="3200" spc="-1" strike="noStrike">
                <a:solidFill>
                  <a:srgbClr val="cc0000"/>
                </a:solidFill>
                <a:latin typeface="Arial"/>
              </a:rPr>
              <a:t>80</a:t>
            </a:r>
            <a:r>
              <a:rPr b="1" lang="ar-EG" sz="3200" spc="-1" strike="noStrike">
                <a:solidFill>
                  <a:srgbClr val="cc0000"/>
                </a:solidFill>
                <a:latin typeface="Arial"/>
              </a:rPr>
              <a:t>% من وقتــك لكتابة عنوان 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r" rtl="1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6600"/>
                </a:solidFill>
                <a:latin typeface="Arial"/>
              </a:rPr>
              <a:t>اختار المحتوي الجيــــــــد والمنظم لتوصيف خدمتـك اوسلع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حصل علي الايميـــــــلات بطريقة شر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خدمة-الاتصال-الدولي-من-جوجل-عبر-جي-ميل_435210"/>
          <p:cNvPicPr/>
          <p:nvPr/>
        </p:nvPicPr>
        <p:blipFill>
          <a:blip r:embed="rId1"/>
          <a:stretch/>
        </p:blipFill>
        <p:spPr>
          <a:xfrm>
            <a:off x="755640" y="1916280"/>
            <a:ext cx="303516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ages"/>
          <p:cNvPicPr/>
          <p:nvPr/>
        </p:nvPicPr>
        <p:blipFill>
          <a:blip r:embed="rId2"/>
          <a:stretch/>
        </p:blipFill>
        <p:spPr>
          <a:xfrm>
            <a:off x="971640" y="3284640"/>
            <a:ext cx="2592360" cy="122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yahoo_20mail2"/>
          <p:cNvPicPr/>
          <p:nvPr/>
        </p:nvPicPr>
        <p:blipFill>
          <a:blip r:embed="rId3"/>
          <a:stretch/>
        </p:blipFill>
        <p:spPr>
          <a:xfrm>
            <a:off x="395280" y="4703760"/>
            <a:ext cx="3419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cc0000"/>
                </a:solidFill>
                <a:latin typeface="Arial"/>
              </a:rPr>
              <a:t>التسويق عبر الشبكات الاجتماعية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cial network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8000"/>
                </a:solidFill>
                <a:latin typeface="Arial"/>
              </a:rPr>
              <a:t>يطلق عليه اسم التـــسويــــــق الاجتماعي ويمكنك بواســــطته اخبار الاصدقاء بكل جديد لديك من المنتجات والخدمــــات عن طريق الرسائ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990033"/>
                </a:solidFill>
                <a:latin typeface="Arial"/>
              </a:rPr>
              <a:t>كذلك يمكنك انشاء مجموعــات (جروب) ودعوة الاصدقاء اليه في نفس الاهتمامات والمجا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يمكنك ايضا عمــــل اعـــــلانات مـــدفـــــوعــة الاجــــر لمنتجك اوخدمت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57888c5"/>
          <p:cNvPicPr/>
          <p:nvPr/>
        </p:nvPicPr>
        <p:blipFill>
          <a:blip r:embed="rId1"/>
          <a:stretch/>
        </p:blipFill>
        <p:spPr>
          <a:xfrm>
            <a:off x="755640" y="1628640"/>
            <a:ext cx="3683160" cy="208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201010301612090"/>
          <p:cNvPicPr/>
          <p:nvPr/>
        </p:nvPicPr>
        <p:blipFill>
          <a:blip r:embed="rId2"/>
          <a:stretch/>
        </p:blipFill>
        <p:spPr>
          <a:xfrm>
            <a:off x="755640" y="3573360"/>
            <a:ext cx="3672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c0000"/>
                </a:solidFill>
                <a:latin typeface="Arial"/>
              </a:rPr>
              <a:t>التسويق عبر المنتديا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ru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التسويق عبر المنتـــــديات هوان تعــــلن عن المـــنتج اوالخـــدمة في الـــمنتديات العامة والمتخص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cc"/>
                </a:solidFill>
                <a:latin typeface="Arial"/>
              </a:rPr>
              <a:t>يكـــون ذلك عـــن طـــريق الاشـــتراك في المنتـــديات وهو مجـــاني غالبا وكذلك عـــبر الرســـائل الخــاصة لاعضاء المنتد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4a08791697e34"/>
          <p:cNvPicPr/>
          <p:nvPr/>
        </p:nvPicPr>
        <p:blipFill>
          <a:blip r:embed="rId1"/>
          <a:stretch/>
        </p:blipFill>
        <p:spPr>
          <a:xfrm>
            <a:off x="179280" y="1413000"/>
            <a:ext cx="4392720" cy="24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a98646824c0133ad01f73f2a07ef9be"/>
          <p:cNvPicPr/>
          <p:nvPr/>
        </p:nvPicPr>
        <p:blipFill>
          <a:blip r:embed="rId2"/>
          <a:stretch/>
        </p:blipFill>
        <p:spPr>
          <a:xfrm>
            <a:off x="179280" y="3860640"/>
            <a:ext cx="439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c0000"/>
                </a:solidFill>
                <a:latin typeface="Arial"/>
              </a:rPr>
              <a:t>التسويق عن طريق قنوات المشاهدة يوتيوب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99"/>
                </a:solidFill>
                <a:latin typeface="Arial"/>
              </a:rPr>
              <a:t>القيام باعداد المادة الاعلانيــــة والدعائية للمنتج اوالخدمة عن طريق برامج الفيدي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6600"/>
                </a:solidFill>
                <a:latin typeface="Arial"/>
              </a:rPr>
              <a:t>الاشــــتراك فــي موقــــــــــــــع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ou Tubo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ar-EG" sz="2800" spc="-1" strike="noStrike">
                <a:solidFill>
                  <a:srgbClr val="006600"/>
                </a:solidFill>
                <a:latin typeface="Arial"/>
              </a:rPr>
              <a:t>) وعمل قنــاة خاصة للاعلان عن المنتج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cc"/>
                </a:solidFill>
                <a:latin typeface="Arial"/>
              </a:rPr>
              <a:t>يتم مشاهدة مليار فيديو يومـيا في مـــــوقع يوتيــــوب حسـب احصائيات جو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youtube"/>
          <p:cNvPicPr/>
          <p:nvPr/>
        </p:nvPicPr>
        <p:blipFill>
          <a:blip r:embed="rId1"/>
          <a:stretch/>
        </p:blipFill>
        <p:spPr>
          <a:xfrm>
            <a:off x="2987640" y="549360"/>
            <a:ext cx="316872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دورة الاستخلاص الجمركي.mp4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174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c0000"/>
                </a:solidFill>
                <a:latin typeface="Arial"/>
              </a:rPr>
              <a:t>التسويق عن طريق المواقع الاعلانية المبوب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400" spc="-1" strike="noStrike" u="sng">
                <a:solidFill>
                  <a:srgbClr val="006600"/>
                </a:solidFill>
                <a:uFillTx/>
                <a:latin typeface="Arabic Typesetting"/>
                <a:cs typeface="Amoriah"/>
              </a:rPr>
              <a:t>هوعبـــــــارة عــن عــــــرض المــــــنتـــج او الخــــــدمة</a:t>
            </a: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abic Typesetting"/>
                <a:ea typeface="Amoriah"/>
              </a:rPr>
              <a:t> </a:t>
            </a:r>
            <a:r>
              <a:rPr b="1" i="1" lang="ar-EG" sz="2400" spc="-1" strike="noStrike" u="sng">
                <a:solidFill>
                  <a:srgbClr val="006600"/>
                </a:solidFill>
                <a:uFillTx/>
                <a:latin typeface="Arabic Typesetting"/>
                <a:cs typeface="Amoriah"/>
              </a:rPr>
              <a:t>علي موقع الاعلانات وفق شروط الموق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400" spc="-1" strike="noStrike" u="sng">
                <a:solidFill>
                  <a:srgbClr val="000066"/>
                </a:solidFill>
                <a:uFillTx/>
                <a:latin typeface="Arabic Typesetting"/>
                <a:cs typeface="Amoriah"/>
              </a:rPr>
              <a:t>يجب مراعاة وضــع الاعــــــــلان للمنتج اوالخــدمة في التصــنيف الخـــــاص بــها ...كـمبيــوتـرات –دورات تــــــدربـــــية-خدمات ص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2400" spc="-1" strike="noStrike" u="sng">
                <a:solidFill>
                  <a:srgbClr val="cc0000"/>
                </a:solidFill>
                <a:uFillTx/>
                <a:latin typeface="Arabic Typesetting"/>
                <a:cs typeface="Amoriah"/>
              </a:rPr>
              <a:t>توجد مواقع اعلانـــية مجــــــــانية واخري مدفوعة الاجر واخـــري برســوم رمزي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bezaat-screenshot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23-8-2010-19-0-13318"/>
          <p:cNvPicPr/>
          <p:nvPr/>
        </p:nvPicPr>
        <p:blipFill>
          <a:blip r:embed="rId2"/>
          <a:stretch/>
        </p:blipFill>
        <p:spPr>
          <a:xfrm>
            <a:off x="468360" y="3860640"/>
            <a:ext cx="4032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cc0000"/>
                </a:solidFill>
                <a:latin typeface="Arial"/>
              </a:rPr>
              <a:t>التسويق بواسطة الموقع الشخصي والمدو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Arial"/>
              </a:rPr>
              <a:t>التســـــويق عـــــبر الموقع الشخـــصي يكون بان نقوم بانشــــــاء مــوقع شخصي وشــراء دومين ومـــساحة استـــضــــافة وعـــــــرض النشاط والمنتجات عل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cc"/>
                </a:solidFill>
                <a:latin typeface="Arial"/>
              </a:rPr>
              <a:t>يمكــــن كــذلك انشـــــاء مدونة مجانيــــة وعــرض الـــمنتجات والخدمات التى نقـــوم بتقديم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ss3"/>
          <p:cNvPicPr/>
          <p:nvPr/>
        </p:nvPicPr>
        <p:blipFill>
          <a:blip r:embed="rId1"/>
          <a:stretch/>
        </p:blipFill>
        <p:spPr>
          <a:xfrm>
            <a:off x="539640" y="1557360"/>
            <a:ext cx="403884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blogger_vs_wp"/>
          <p:cNvPicPr/>
          <p:nvPr/>
        </p:nvPicPr>
        <p:blipFill>
          <a:blip r:embed="rId2"/>
          <a:stretch/>
        </p:blipFill>
        <p:spPr>
          <a:xfrm>
            <a:off x="539640" y="4221000"/>
            <a:ext cx="4032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cc0000"/>
                </a:solidFill>
                <a:latin typeface="Arial"/>
              </a:rPr>
              <a:t>التسويق عبر جوجل ادورد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cs typeface="AdvertisingExtraBold"/>
              </a:rPr>
              <a:t>جذب عملاء جددًا: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 Black"/>
                <a:ea typeface="AdvertisingExtraBold"/>
                <a:hlinkClick r:id="rId1"/>
              </a:rPr>
              <a:t>Google Ad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Black"/>
                <a:cs typeface="AdvertisingExtraBold"/>
              </a:rPr>
              <a:t>فوائد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dvertisingExtraBold"/>
              </a:rPr>
              <a:t>Ad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9900"/>
                </a:solidFill>
                <a:latin typeface="Arial Black"/>
                <a:cs typeface="AdvertisingExtraBold"/>
              </a:rPr>
              <a:t>جذب مزيد من العملاء لأعمالك: الإعلان عن نشاطك التجاري للأشخاص الذين يجرون البحث على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  <a:ea typeface="AdvertisingExtraBold"/>
              </a:rPr>
              <a:t>Google</a:t>
            </a:r>
            <a:r>
              <a:rPr b="1" lang="ar-SA" sz="2000" spc="-1" strike="noStrike">
                <a:solidFill>
                  <a:srgbClr val="009900"/>
                </a:solidFill>
                <a:latin typeface="Arial Black"/>
                <a:ea typeface="AdvertisingExtraBold"/>
              </a:rPr>
              <a:t> وعلى شبكة الإعلا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00"/>
                </a:solidFill>
                <a:latin typeface="Arial Black"/>
                <a:cs typeface="AdvertisingExtraBold"/>
              </a:rPr>
              <a:t>الوصول إلى الأشخاص الذين يبحثون بنشاط عن معلومات تتعلق بمنتجاتك وخدماتك عبر الإنترن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99"/>
                </a:solidFill>
                <a:latin typeface="Arial Black"/>
                <a:cs typeface="AdvertisingExtraBold"/>
              </a:rPr>
              <a:t>التحكم في التكاليف بسهولة - لن تدفع إلا عند نقر الأشخاص على</a:t>
            </a:r>
            <a:r>
              <a:rPr b="1" lang="ar-SA" sz="2000" spc="-1" strike="noStrike">
                <a:solidFill>
                  <a:srgbClr val="ffff99"/>
                </a:solidFill>
                <a:latin typeface="Arial Black"/>
                <a:ea typeface="DecoType Thuluth"/>
              </a:rPr>
              <a:t> إعلان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250x250"/>
          <p:cNvPicPr/>
          <p:nvPr/>
        </p:nvPicPr>
        <p:blipFill>
          <a:blip r:embed="rId2"/>
          <a:stretch/>
        </p:blipFill>
        <p:spPr>
          <a:xfrm>
            <a:off x="250920" y="3068640"/>
            <a:ext cx="4465440" cy="360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Google-Adwords"/>
          <p:cNvPicPr/>
          <p:nvPr/>
        </p:nvPicPr>
        <p:blipFill>
          <a:blip r:embed="rId3"/>
          <a:stretch/>
        </p:blipFill>
        <p:spPr>
          <a:xfrm>
            <a:off x="250920" y="1484280"/>
            <a:ext cx="44654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3300"/>
                </a:solidFill>
                <a:latin typeface="Arial"/>
                <a:cs typeface="AdvertisingExtraBold"/>
              </a:rPr>
              <a:t>خاتــــــــمـ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r" rtl="1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66"/>
                </a:solidFill>
                <a:latin typeface="Arial"/>
              </a:rPr>
              <a:t>التســـويق الالكــــتروني هوالـــطريق السريع الي العمــلاء والاقــــل تكلفة والاعلي جودة والاسهل في التفيذ والاجدي علي المدي البعيد....بمعنـــي التســـويق الالــكتروني سلم النجا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moo7"/>
          <p:cNvPicPr/>
          <p:nvPr/>
        </p:nvPicPr>
        <p:blipFill>
          <a:blip r:embed="rId2"/>
          <a:stretch/>
        </p:blipFill>
        <p:spPr>
          <a:xfrm>
            <a:off x="395280" y="155736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8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660033"/>
                </a:solidFill>
                <a:latin typeface="Arial"/>
              </a:rPr>
              <a:t>تعريف التسويق الالكترون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يمكن تعريف التسويق الالكتروني علــــي انه نوع من التســـــــويق لسلعة اوخدمة معينـة علي شبكة الانترنــت وادارة التفاعل مــــع العمل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affiliate"/>
          <p:cNvPicPr/>
          <p:nvPr/>
        </p:nvPicPr>
        <p:blipFill>
          <a:blip r:embed="rId1"/>
          <a:stretch/>
        </p:blipFill>
        <p:spPr>
          <a:xfrm>
            <a:off x="611280" y="1844640"/>
            <a:ext cx="4032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990000"/>
                </a:solidFill>
                <a:latin typeface="Arial"/>
              </a:rPr>
              <a:t>أهمية التسويق عبر الانترن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387360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لماذا يجب علينا التسويق عبر شبكة الانترن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990000"/>
                </a:solidFill>
                <a:latin typeface="Arial"/>
              </a:rPr>
              <a:t>استمرارية توفر خدمة شبكة الانترن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حدث عالم الانترنت طفرة نوعية في عالم التسويــق وبات من السهل بنــــــــاء العلامة التجارية وعرض المنتج اوالخدمة عبـــــــر قنوات الكترونية تعمــــــل لمد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ساعة يوميــــــا ولمدة سبعة ايام اسبوعيا و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يوما سنــويا دون توق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img0069ss2"/>
          <p:cNvPicPr/>
          <p:nvPr/>
        </p:nvPicPr>
        <p:blipFill>
          <a:blip r:embed="rId1"/>
          <a:stretch/>
        </p:blipFill>
        <p:spPr>
          <a:xfrm>
            <a:off x="395280" y="1628640"/>
            <a:ext cx="4132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990000"/>
                </a:solidFill>
                <a:latin typeface="Arial"/>
              </a:rPr>
              <a:t>العدد الهائل لمستخدمي شبكة الانترن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حيث اصبـــح عـــــــدد مستــــخدمي شبــــــكة الانترنت في العالــم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مليار وفي الوطـــــــن العربي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مليــــــون وفي مصر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مليــون حسب احصائيـــــــات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tem82220"/>
          <p:cNvPicPr/>
          <p:nvPr/>
        </p:nvPicPr>
        <p:blipFill>
          <a:blip r:embed="rId1"/>
          <a:stretch/>
        </p:blipFill>
        <p:spPr>
          <a:xfrm>
            <a:off x="539640" y="1628640"/>
            <a:ext cx="4038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990000"/>
                </a:solidFill>
                <a:latin typeface="Arial"/>
              </a:rPr>
              <a:t>المساواة بين الجميع في التسوي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فتح الانترنت المجال امــام الجميع لتسويق سلعــــهـم اوخدماتهم اوخبراتهم دون التمييز بين الــــشركــــــــة العمـــلاقة ذات راس مـــال ضخم وبين الــفرد العـــادي اوالشركة الصغيرة محدودة ا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s (9)"/>
          <p:cNvPicPr/>
          <p:nvPr/>
        </p:nvPicPr>
        <p:blipFill>
          <a:blip r:embed="rId1"/>
          <a:stretch/>
        </p:blipFill>
        <p:spPr>
          <a:xfrm>
            <a:off x="395280" y="155736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990033"/>
                </a:solidFill>
                <a:latin typeface="Arial"/>
              </a:rPr>
              <a:t>من الذى يجب عليه استخدام التسويق الالكترو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403848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حلات واصحاب المتــاج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6600"/>
                </a:solidFill>
                <a:latin typeface="Arial"/>
              </a:rPr>
              <a:t>شركات الاستيراد والتص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c0000"/>
                </a:solidFill>
                <a:latin typeface="Arial"/>
              </a:rPr>
              <a:t>كل من لديه خدمة اومنتـــ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2997000"/>
            <a:ext cx="40384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جميع المصانع والشركــــــ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c3300"/>
                </a:solidFill>
                <a:latin typeface="Arial"/>
              </a:rPr>
              <a:t>الجهات والمواقع الدعــــــو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6600"/>
                </a:solidFill>
                <a:latin typeface="Arial"/>
              </a:rPr>
              <a:t>المراكز التعليمية والتدريبيـــ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990000"/>
                </a:solidFill>
                <a:latin typeface="Arial"/>
                <a:cs typeface="Amoriah"/>
              </a:rPr>
              <a:t>طرق التسويق الالكتروني عبرالانترن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تســــــــويق عبرالايــــــمي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66"/>
                </a:solidFill>
                <a:latin typeface="Arial"/>
              </a:rPr>
              <a:t>التســــــويق عبر الشبكــــات الاجتم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6600"/>
                </a:solidFill>
                <a:latin typeface="Arial"/>
              </a:rPr>
              <a:t>التسويق عبر المنتـــــــــدي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c0000"/>
                </a:solidFill>
                <a:latin typeface="Arial"/>
              </a:rPr>
              <a:t>التسويق عن طريق قنـــــوات المشاهدة يوتي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تسويق عبرمواقع الاعل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cc00"/>
                </a:solidFill>
                <a:latin typeface="Arial"/>
              </a:rPr>
              <a:t>التسويق بواسطة الموقـــــــع الشخصي والمد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سويق عبر جوجــل ادو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406p"/>
          <p:cNvPicPr/>
          <p:nvPr/>
        </p:nvPicPr>
        <p:blipFill>
          <a:blip r:embed="rId1"/>
          <a:stretch/>
        </p:blipFill>
        <p:spPr>
          <a:xfrm>
            <a:off x="468360" y="1557360"/>
            <a:ext cx="3674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cc0000"/>
                </a:solidFill>
                <a:latin typeface="Arial"/>
              </a:rPr>
              <a:t>التسويق عبر الايميل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.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ويقصد به ارســـــــال ايميلات تحتوي عــلي مواد دعائية واعلانية لتسويق خدمة اومنتج للعملاء اوالشرائـــــح المستهدفة بالبرنامـج التسو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email_icon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0:20:12Z</dcterms:created>
  <dc:creator>professional</dc:creator>
  <dc:description/>
  <dc:language>en-US</dc:language>
  <cp:lastModifiedBy>user 111</cp:lastModifiedBy>
  <dcterms:modified xsi:type="dcterms:W3CDTF">2021-12-30T07:54:31Z</dcterms:modified>
  <cp:revision>27</cp:revision>
  <dc:subject/>
  <dc:title>مقدمة في التسويق الالكتروني E.MARKTENIG</dc:title>
</cp:coreProperties>
</file>