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45275" cy="9958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68341-A990-4889-9C4D-16D8E7ABD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CEFF2-3EAB-444C-B6A0-739E97DD1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65BC-4B00-4BF8-B098-B25C90FFD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56BE-C974-4059-BBD1-F9551BEA8C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582B-A1D8-4C51-BAE6-D3CF77FDEF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D1AF-3977-4D00-B675-2982D99F4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8826-2C7C-4C35-975C-AB6B171C5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8DF00-00BF-4981-B8B6-111518A8A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EF5F-94A0-4CEA-820F-7C3CD4FB0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67D9F-C1C3-4538-9E51-E1977352C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F745-2A36-498E-8746-3BABF8172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361B0-F799-4D0F-B447-854BEFA03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1E9D-AAEF-4B67-9D22-FE771318D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447920"/>
            <a:ext cx="594360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S 299 – Web Programming and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supomona.edu/~ftang/www/courses/CS299-S09/examples/frame.html" TargetMode="External"/><Relationship Id="rId2" Type="http://schemas.openxmlformats.org/officeDocument/2006/relationships/hyperlink" Target="http://www.w3schools.com/html/html_frames.asp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w3schools.com/xhtml/xhtml_html.asp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3schools.com/xhtml/xhtml_syntax.asp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upomona.edu/~ftang/www/courses/CS299-S09/examples/ex1.html" TargetMode="External"/><Relationship Id="rId2" Type="http://schemas.openxmlformats.org/officeDocument/2006/relationships/hyperlink" Target="http://www.csupomona.edu/~ftang/www/courses/CS299-S09/examples/ex1.html" TargetMode="External"/><Relationship Id="rId3" Type="http://schemas.openxmlformats.org/officeDocument/2006/relationships/hyperlink" Target="http://www.csupomona.edu/~ftang/www/courses/CS299-S09/examples/ex1.html" TargetMode="External"/><Relationship Id="rId4" Type="http://schemas.openxmlformats.org/officeDocument/2006/relationships/hyperlink" Target="http://www.csupomona.edu/~ftang/www/courses/CS299-S09/examples/ex1.html" TargetMode="External"/><Relationship Id="rId5" Type="http://schemas.openxmlformats.org/officeDocument/2006/relationships/hyperlink" Target="http://www.csupomona.edu/~ftang/www/courses/CS299-S09/examples/ex1.html" TargetMode="External"/><Relationship Id="rId6" Type="http://schemas.openxmlformats.org/officeDocument/2006/relationships/hyperlink" Target="http://www.csupomona.edu/~ftang/www/courses/CS299-S09/examples/ex2.html" TargetMode="Externa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ebdesign.about.com/od/layout/a/aa062104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82844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roduction to HTM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ML Fr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ML frames are a means of having several browser windows open within a single larger wind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HTML document is called a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t keep track of more HTML docu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icult to print the entire p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of using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http://www.csupomona.edu/~ftang/www/courses/CS299-S09/examples/frame.htm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  <a:hlinkClick r:id="rId2"/>
              </a:rPr>
              <a:t>http://www.w3schools.com/html/html_frames.as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302B-EA2A-4BA4-85D7-A1B5927214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ML Advanc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pics Cov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HTML tutorial on w3schools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ML C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ML Ent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ML He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ML Me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ML UR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ML Scrip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ML Attribu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ML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ML URL En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ML Webser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303A-7E2F-4392-B57F-732D97F874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ript Ex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scripts to HTML pages can make them more dynamic and intera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from W3sch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r simple examp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csupomona.edu/~ftang/www/courses/CS299-S09/examples/jscript.htm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10D69-99B1-4265-849E-C91C21ADFA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ML and XHTML Full Re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 Reference from W3school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w3schools.com/tags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your HTM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w3schools.com/html/html_whyusehtml4.as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18A20-D85F-43BE-BBC0-DD0F4FF7A0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w3schools.com/xhtml/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XHTM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HTML is a stricter and cleaner version of 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nsibl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per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kup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gu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imed to replace 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cal to HTML 4.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bination of HTML and XML (EXtensible Markup Lanuag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3C Recommen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987E-2E98-4AE2-9047-2612EFEF23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XHTM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pages contain “bad” 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Verdana"/>
              </a:rPr>
              <a:t>&lt;html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Verdana"/>
              </a:rPr>
              <a:t>&lt;head&gt; &lt;title&gt;This is bad HTML&lt;/title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Verdana"/>
              </a:rPr>
              <a:t>&lt;body&gt; &lt;h1&gt;Bad HTML &lt;/body&gt;</a:t>
            </a:r>
            <a:r>
              <a:rPr b="0" lang="en-US" sz="1800" spc="-1" strike="noStrike">
                <a:solidFill>
                  <a:srgbClr val="0066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 is a markup language where everything has to be marked up correctly, which results in “well-formed” docu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browser technologies require “good” markup langu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HTML combines the strengths of HTML and X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16D1-1ABB-4EAB-8374-E91BABB78F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Important Differences From 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HTML elements must b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perly nes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HTML elements must always b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o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HTML elements must be in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werc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HTML documents must hav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ne root el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http://www.w3schools.com/xhtml/xhtml_html.as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661D-8C27-40C7-945B-58A8A244DD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HTML Synta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XHMTL Syntax 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ribute names must be in lower c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ribute values must be quo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ribute minimization is forbid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d attribute replaces the name attrib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datory elemen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http://www.w3schools.com/xhtml/xhtml_syntax.as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your XHTML with the W3C Valid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F1A6-343F-42C9-B2EC-77667ADBFB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ML: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per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kup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u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ML documents are simply text documents with a specific 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cuments comprised of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up ta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ent: actual information being convey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arkup tags tell the Web brows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w to displ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p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HTML file must have a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t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tm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le ext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HTML file can be created using 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mple text edi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24EC9-B73E-45E7-B16B-46C237CB64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r First Exam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you are running Windows, start Notep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you are on a Mac, start Simple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you telnet to csupomona.edu, use “pico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 in the follow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this file using a browser, and you will see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3352680"/>
            <a:ext cx="7543800" cy="205740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 Unicode MS"/>
              </a:rPr>
              <a:t>&lt;html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 Unicode MS"/>
              </a:rPr>
              <a:t>&lt;head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 Unicode MS"/>
              </a:rPr>
              <a:t>&lt;title&gt;Title of page&lt;/title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 Unicode MS"/>
              </a:rPr>
              <a:t>&lt;/head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 Unicode MS"/>
              </a:rPr>
              <a:t>&lt;body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 Unicode MS"/>
              </a:rPr>
              <a:t>This is my first homepage. &lt;b&gt;This text is bold&lt;/b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 Unicode MS"/>
              </a:rPr>
              <a:t>&lt;/body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 Unicode MS"/>
              </a:rPr>
              <a:t>&lt;/html&gt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86C4-FA97-4F02-BF87-CBB81571E6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ML Ta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ML tags are used to mark-up HTML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rrounded by angle brackets </a:t>
            </a: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ML tags normally come in pairs, like </a:t>
            </a:r>
            <a:r>
              <a:rPr b="0" lang="en-US" sz="2000" spc="-1" strike="noStrike">
                <a:solidFill>
                  <a:srgbClr val="0066ff"/>
                </a:solidFill>
                <a:latin typeface="Verdana"/>
              </a:rPr>
              <a:t>&lt;tagname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tart tag) and </a:t>
            </a:r>
            <a:r>
              <a:rPr b="0" lang="en-US" sz="2000" spc="-1" strike="noStrike">
                <a:solidFill>
                  <a:srgbClr val="0066ff"/>
                </a:solidFill>
                <a:latin typeface="Verdana"/>
              </a:rPr>
              <a:t>&lt;/tagname&gt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end ta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ext between the start and end tags is the element cont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case-sensi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llow the latest web standard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lowercase ta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0CAB-901C-4EAB-B259-76155BCAF2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g Attrib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gs can have attributes that provide additional information to an HTML el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ributes always come in name/value pairs like: </a:t>
            </a:r>
            <a:r>
              <a:rPr b="0" lang="en-US" sz="2000" spc="-1" strike="noStrike">
                <a:solidFill>
                  <a:srgbClr val="0066ff"/>
                </a:solidFill>
                <a:latin typeface="Verdana"/>
              </a:rPr>
              <a:t>name=“valu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ributes are always specified in the start t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ribute values should always be enclosed in quotes. Double quotes are most comm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so case-insensitive: however, lowercase is recommen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Verdana"/>
              </a:rPr>
              <a:t>&lt;tagname a1=“v1” a2=“v2”&gt;&lt;/tagnam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example, &lt;table border=“0”&gt; is a start tag that defines a table that has no bor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BDB4D-BEB1-42D3-A1E7-C27D03C6CB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ML Document 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ire document enclosed within </a:t>
            </a:r>
            <a:r>
              <a:rPr b="0" lang="en-US" sz="2400" spc="-1" strike="noStrike">
                <a:solidFill>
                  <a:srgbClr val="0066ff"/>
                </a:solidFill>
                <a:latin typeface="Verdana"/>
              </a:rPr>
              <a:t>&lt;html&gt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Verdana"/>
              </a:rPr>
              <a:t>&lt;/html&gt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a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subpar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closed within </a:t>
            </a:r>
            <a:r>
              <a:rPr b="0" lang="en-US" sz="1800" spc="-1" strike="noStrike">
                <a:solidFill>
                  <a:srgbClr val="0066ff"/>
                </a:solidFill>
                <a:latin typeface="Verdana"/>
              </a:rPr>
              <a:t>&lt;head&gt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800" spc="-1" strike="noStrike">
                <a:solidFill>
                  <a:srgbClr val="0066ff"/>
                </a:solidFill>
                <a:latin typeface="Verdana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thin the head, more tags can be used to specify title of the page, meta-information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closed within </a:t>
            </a:r>
            <a:r>
              <a:rPr b="0" lang="en-US" sz="1800" spc="-1" strike="noStrike">
                <a:solidFill>
                  <a:srgbClr val="0066ff"/>
                </a:solidFill>
                <a:latin typeface="Verdana"/>
              </a:rPr>
              <a:t>&lt;body&gt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800" spc="-1" strike="noStrike">
                <a:solidFill>
                  <a:srgbClr val="0066ff"/>
                </a:solidFill>
                <a:latin typeface="Verdana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thin the body, content is to be display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ther tags can be embedded in the bo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55E1-0C1E-46B7-ACFA-524660A22C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’ll Study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ML Basics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www.w3schools.com/html/html_intro.as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ML El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ML Head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ML Paragraph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ML Format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ML Sty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ML Im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ML T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ML Li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ML Fo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ML Col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D03D-500B-4D46-BA00-1F13FBA6B9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Basic Ex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basic tags: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http://www.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Verdana"/>
                <a:hlinkClick r:id="rId2"/>
              </a:rPr>
              <a:t>csupomona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Verdana"/>
                <a:hlinkClick r:id="rId3"/>
              </a:rPr>
              <a:t>.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Verdana"/>
                <a:hlinkClick r:id="rId4"/>
              </a:rPr>
              <a:t>edu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Verdana"/>
                <a:hlinkClick r:id="rId5"/>
              </a:rPr>
              <a:t>/~ftang/www/courses/CS299-S09/examples/ex1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xt formatting: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Verdana"/>
                <a:hlinkClick r:id="rId6"/>
              </a:rPr>
              <a:t>http://www.csupomona.edu/~ftang/www/courses/CS299-S09/examples/ex2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ML links: http://www.csupomona.edu/~ftang/www/courses/CS299-S09/examples/ex3.htm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9D68C-665F-4E1D-90FB-0B6F7A2454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ML Lay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 common way is to use HTML tables to format the layout of an HTML p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rick is to use a table without borders, and maybe a little extra cell-pad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tip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ep screen resolution in mi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 color to define spa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 your imag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lance the graphics and text on a p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nk about text width – scan length 7 – 11 wor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ntering text is inadvis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re is the link: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http://webdesign.about.com/od/layout/a/aa062104.ht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856C-4F0B-40D3-8D99-0E6B9508B2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isy</cp:lastModifiedBy>
  <dcterms:modified xsi:type="dcterms:W3CDTF">2009-04-13T19:12:19Z</dcterms:modified>
  <cp:revision>1462</cp:revision>
  <dc:subject/>
  <dc:title>PowerPoint Presentation</dc:title>
</cp:coreProperties>
</file>