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3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4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58067A-4C2F-4434-897E-996B2AC0F4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1B83A9-32F0-4536-AEBC-2675492665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BA71D-852E-47DA-B1AD-DD9E6B2026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D019A-7F7D-4836-9803-931236FFC3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8651B-04A0-482A-9968-8C95AD66CD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2952C-E5F5-4497-86A2-A24B6E09DE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BC612-5932-4D65-BE13-2EC8307220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488CE-A44E-4E76-88CF-F0E1A6586D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4BBC8-F9D7-4A5D-9D1A-D606F21FB9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8F4D9-CD3B-4683-A770-474E72DADD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FEC5C-36B6-4FCE-ACC3-E9E21E9880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8695F-3C35-4398-8EFB-AE2971380D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5B138-BC8B-4532-B85A-F8C997E97C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E7695-C123-4CEC-AA11-4C4787C421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99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DCD76-D80E-483A-8423-7C1B386D0B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7"/>
          <p:cNvSpPr/>
          <p:nvPr/>
        </p:nvSpPr>
        <p:spPr>
          <a:xfrm>
            <a:off x="685800" y="1447920"/>
            <a:ext cx="5943600" cy="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60948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S 299 – Web Programming and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1828440"/>
            <a:ext cx="754380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cc"/>
                </a:solidFill>
                <a:latin typeface="Verdana"/>
              </a:rPr>
              <a:t>IT 715: </a:t>
            </a:r>
            <a:br>
              <a:rPr sz="4000"/>
            </a:br>
            <a:r>
              <a:rPr b="0" lang="en-US" sz="4000" spc="-1" strike="noStrike">
                <a:solidFill>
                  <a:srgbClr val="cc00cc"/>
                </a:solidFill>
                <a:latin typeface="Verdana"/>
              </a:rPr>
              <a:t>Web APPLICATION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2000"/>
            </a:br>
            <a:r>
              <a:rPr b="0" lang="en-US" sz="2000" spc="-1" strike="noStrike">
                <a:solidFill>
                  <a:srgbClr val="cc00cc"/>
                </a:solidFill>
                <a:latin typeface="Verdana"/>
              </a:rPr>
              <a:t>Instructor: Ahmed Salih</a:t>
            </a:r>
            <a:endParaRPr b="0" lang="en-US" sz="2000" spc="-1" strike="noStrike">
              <a:solidFill>
                <a:srgbClr val="cc00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Verdana"/>
              </a:rPr>
              <a:t>Basics of the WWW</a:t>
            </a:r>
            <a:endParaRPr b="0" lang="en-US" sz="32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ypertex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a format of information which allows one to move from one part of a document to another or from one document to another through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yperlin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iform Resource Locator (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R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: unique identifiers used to locate a particular resource on the net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rkup languag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defines the structure and content of hypertext docu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Verdana"/>
              </a:rPr>
              <a:t>Web Client: Browser</a:t>
            </a:r>
            <a:endParaRPr b="0" lang="en-US" sz="32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kes HTTP requests on behalf of the us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format the URL entered as a valid HTTP reque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 DNS to convert server’s host name to appropriate IP addr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tablish a TCP connection using the IP addr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nd HTTP request over the connection and wait for server’s respon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play the document contained in the respon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the document is not a plain-text document but instead is written in HTML, this involve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ndering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the document (positioning text, graphics, creating table borders, using appropriate fonts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Verdana"/>
              </a:rPr>
              <a:t>Web Servers</a:t>
            </a:r>
            <a:endParaRPr b="0" lang="en-US" sz="32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 functionaliti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rver waits for connect reques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a connection request is received, the server creates a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new proces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handle this conn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new process establishes the TCP connection and waits for HTTP reques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new process invokes software that maps the requested URL to a resource on the serv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the resource is a file, creates an HTTP response that contains the file in the body of the response mess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the resource is a program, runs the program, and returns the outpu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Verdana"/>
              </a:rPr>
              <a:t>Static Web: HTML/XHTML, CSS</a:t>
            </a:r>
            <a:endParaRPr b="0" lang="en-US" sz="32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TM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ands for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per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t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kup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gu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is a text file containing small markup tags that </a:t>
            </a:r>
            <a:r>
              <a:rPr b="0" lang="en-US" sz="2000" spc="-1" strike="noStrike">
                <a:solidFill>
                  <a:srgbClr val="0000e7"/>
                </a:solidFill>
                <a:latin typeface="Verdana"/>
              </a:rPr>
              <a:t>tell the Web browser how to display the p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XHTM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ands for e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nsibl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per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t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kup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gu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is identical to HTML 4.0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is a stricter and cleaner version of 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S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ands for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cading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yl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defines how to display HTML ele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Verdana"/>
              </a:rPr>
              <a:t>Why Programmability?</a:t>
            </a:r>
            <a:endParaRPr b="0" lang="en-US" sz="32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’s the drawback to simple document model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t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ume that documents are created before they are reques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What are examples of information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at might be part of web documents that may not be known before they are requested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Verdana"/>
              </a:rPr>
              <a:t>Client-Side Programmability</a:t>
            </a:r>
            <a:endParaRPr b="0" lang="en-US" sz="32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ripting language: a lightweight programming langu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owser scripting: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JavaScrip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igned to add interactivity to HTML pag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ually embedded into HTML pag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What can a JavaScript Do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ut dynamic text into an HTML pa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act to eve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ad and write HTML eleme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alidate data before it is submitted to a serv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reate cook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99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Verdana"/>
              </a:rPr>
              <a:t>Server-Side Programmability</a:t>
            </a:r>
            <a:endParaRPr b="0" lang="en-US" sz="32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equests cause the response to be genera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r scripting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GI/Per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Common Gate Way Interface (*.pl, *.cg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HP: Open source, strong database support (*.ph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P: Microsoft product, uses .Net framework (*.as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ava via JavaServer Pages (*.js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Verdana"/>
              </a:rPr>
              <a:t>CGI</a:t>
            </a:r>
            <a:endParaRPr b="0" lang="en-US" sz="32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on Gateway Interfac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GI provides a way by which a web server can obtain data from (or send data to) database, and other programs, and present that data to viewers via the web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CGI program can be written in any programming language, C++,Java…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Verdana"/>
              </a:rPr>
              <a:t>What’s Ahead?</a:t>
            </a:r>
            <a:endParaRPr b="0" lang="en-US" sz="32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TML, XHTM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ple client-side interactivity (JavaScrip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Simple server-side interactivity (CGI/Perl/jav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We will not “teach” these langua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We will provide an overview of the basics, and learn how to use the web resources to help build a web p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Verdana"/>
              </a:rPr>
              <a:t>The Big Picture</a:t>
            </a:r>
            <a:endParaRPr b="0" lang="en-US" sz="36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b Essential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ents, Servers, and Commun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Verdana"/>
              </a:rPr>
              <a:t>Web Essentials</a:t>
            </a:r>
            <a:endParaRPr b="0" lang="en-US" sz="32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lie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web browsers, used to surf the We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erv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ystems: used to supply information to these brows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uter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etwork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used to support the browser-server commun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" name="Object 4" descr=""/>
          <p:cNvPicPr/>
          <p:nvPr/>
        </p:nvPicPr>
        <p:blipFill>
          <a:blip r:embed="rId1"/>
          <a:stretch/>
        </p:blipFill>
        <p:spPr>
          <a:xfrm>
            <a:off x="1676520" y="3886200"/>
            <a:ext cx="1199880" cy="1219320"/>
          </a:xfrm>
          <a:prstGeom prst="rect">
            <a:avLst/>
          </a:prstGeom>
          <a:ln w="0">
            <a:noFill/>
          </a:ln>
        </p:spPr>
      </p:pic>
      <p:pic>
        <p:nvPicPr>
          <p:cNvPr id="54" name="Object 5" descr=""/>
          <p:cNvPicPr/>
          <p:nvPr/>
        </p:nvPicPr>
        <p:blipFill>
          <a:blip r:embed="rId2"/>
          <a:stretch/>
        </p:blipFill>
        <p:spPr>
          <a:xfrm>
            <a:off x="6248520" y="3581280"/>
            <a:ext cx="920520" cy="16160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1676520" y="5105520"/>
            <a:ext cx="12189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6095880" y="5105520"/>
            <a:ext cx="12193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9"/>
          <p:cNvSpPr/>
          <p:nvPr/>
        </p:nvSpPr>
        <p:spPr>
          <a:xfrm>
            <a:off x="2895480" y="4267080"/>
            <a:ext cx="3429000" cy="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0"/>
          <p:cNvSpPr/>
          <p:nvPr/>
        </p:nvSpPr>
        <p:spPr>
          <a:xfrm flipH="1">
            <a:off x="2895120" y="4572000"/>
            <a:ext cx="3429000" cy="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3124080" y="38098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quest “document A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3657600" y="4586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ocument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Verdana"/>
              </a:rPr>
              <a:t>Internet v.s. Web</a:t>
            </a:r>
            <a:endParaRPr b="0" lang="en-US" sz="32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Interne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a inter-connected computer networks, linked by wires, cables, wireless connections,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e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a collection of interconnected documents and other resourc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world wide web (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WW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is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accessibl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via the Internet, as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are many other services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luding email, file sharing,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Verdana"/>
              </a:rPr>
              <a:t>How does the Internet Work?</a:t>
            </a:r>
            <a:endParaRPr b="0" lang="en-US" sz="32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rough communication protoc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cation protoco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a specification of how communication between two computers will be carried ou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P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Internet Protocol): defines the packets that carry blocks of data from one node to anot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CP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Transmission Control Protocol) and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DP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User Datagram Protocol): the protocols by which one host sends data to anoth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ther application protocols: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Domain Name Service),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MTP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Simple Mail Transmission Protocol), and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TP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File Transmission Protoco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Verdana"/>
              </a:rPr>
              <a:t>The Internet Protocol (IP)</a:t>
            </a:r>
            <a:endParaRPr b="0" lang="en-US" sz="32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key element of IP is 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IP addres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a 32-bit numb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Internet authorities assign ranges of numbers to different organiz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P is responsible for moving 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packe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f data from node to no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packet contains information such as the data to be transferred, the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sourc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destination IP address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ckets are sent through different local network through 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gateway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checksu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created to ensure the correctness of the data; corrupted packets are discard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P-based communication is 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unreli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Verdana"/>
              </a:rPr>
              <a:t>The Transmission Control Protocol (TCP)</a:t>
            </a:r>
            <a:endParaRPr b="0" lang="en-US" sz="32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CP is a higher-level protocol that extends IP to provide additional functionality: 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reliabl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ommun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CP adds support to detect errors or lost data and to trigger 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retransmiss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until the data is correctly and completely receiv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knowledg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Verdana"/>
              </a:rPr>
              <a:t>TCP/IP Protocol Suites</a:t>
            </a:r>
            <a:endParaRPr b="0" lang="en-US" sz="3200" spc="-1" strike="noStrike">
              <a:solidFill>
                <a:srgbClr val="cc00cc"/>
              </a:solidFill>
              <a:latin typeface="Verdana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4753080" cy="47246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6019920" y="167652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, FTP, Telnet, DNS, SMTP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6019920" y="283356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CP, U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6019920" y="420516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P (IPv4, IPv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Verdana"/>
              </a:rPr>
              <a:t>The World Wide Web (WWW)</a:t>
            </a:r>
            <a:endParaRPr b="0" lang="en-US" sz="3200" spc="-1" strike="noStrike">
              <a:solidFill>
                <a:srgbClr val="cc00cc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WW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a system of interlinked, hypertext documents that runs over the Intern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wo types of softwar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lie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a system that wishes to access the information provided by servers must run client software (e.g., web browse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erv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an internet-connected computer that wishes to provide information to others must run server softwa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ent and server applications communicate over the Internet by following a protocol built on top of TCP/IP – 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HyperText Transport Protoco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Administrator</cp:lastModifiedBy>
  <dcterms:modified xsi:type="dcterms:W3CDTF">2021-03-24T08:09:58Z</dcterms:modified>
  <cp:revision>1348</cp:revision>
  <dc:subject/>
  <dc:title>PowerPoint Presentation</dc:title>
</cp:coreProperties>
</file>