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4E38-C82B-4FA4-9108-4A4849181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4AA9-1BA4-4D44-9DAD-CB28BF710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895E-E558-4614-8FC6-82E374006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5A60-79B3-40D6-B16A-C9D2910C1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8EBB-4489-4C35-8386-35B100710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1D46-6F74-4D90-9357-DEEFF0250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CB2C-7EEB-483B-8DAB-8248E694E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F690-CC1D-4C89-BCAF-6E107547C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99A7-EB48-4A0A-BB44-E606A195B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BFF4-9C8B-44B4-A891-282BD7C63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BB68-B26C-4BDE-847E-9513653DA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10A8-49F4-4C6D-9FB5-562D9C9DF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B6C9-AAF1-423F-9B99-B454254B3D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46B8-F125-4419-A57D-7DC2C37CCBD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utorial(2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al User Interface (</a:t>
            </a:r>
            <a:r>
              <a:rPr b="1" lang="en-US" sz="36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Components: 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t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81EF-31E1-4099-9F2B-1763D84BEA6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Registration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Registration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container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GridLayout(12,2,5,15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350, 60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true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1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Username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1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TextFiel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T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2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Password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W1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PasswordField(2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PW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0A1B-49AC-4B2D-AA32-BF7CC754180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76320"/>
            <a:ext cx="77724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2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Confirm Password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W2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PasswordField(2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PW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3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Gender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3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1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Radio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Male",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R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2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Radio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Female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R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G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ButtonGrou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G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R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G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R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396D-BD91-40DB-B99F-37BEC770BD5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4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Interesting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Label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1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Sport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2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Technology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3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Entertainment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4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Business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3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4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Select Country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B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ombo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ountry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B90F-C6D7-4C91-8C96-C2B9981ADF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5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Enter Code below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Image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img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Image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Code.jpg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6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img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6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2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TextFiel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T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1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Clear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B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2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Submit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B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990E-14B0-4CC9-935A-09F1A03953B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Handl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handler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Handl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W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handler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handler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ActionListe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handler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Hand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l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ctionListen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ctionPerformed(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ActionEven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ring P1,P2,msg="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1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tring(PW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Passwor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2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tring(PW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Passwor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Boolea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correct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2735-0EF6-4678-8F56-1AD60F49FE5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534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 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Sour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 == PW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!(P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qual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P2)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Option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howMessageDialo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"Password no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tch","Error Input", JOptionPane.ERRORMESSAG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Option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howMessageDialo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"Successfully Match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"Successful",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0A1C-15B7-4008-985E-771845561BE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Sour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 == B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W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W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event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Sourc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 == B2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(T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qual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"))  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sg+="Please Enter User name\n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rrect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P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qual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"))      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sg+="Please Enter Password\n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rrect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  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E999-44D5-492F-825A-DFB90467270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P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qual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sg+="Please Confirm Your Password\n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rrect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!(P1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qual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P2)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sg+="Password not Match\n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rrect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!(T2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Tex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toLowerCa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qual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abc")))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sg+="Code not Correct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rrect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B44-8B9B-4CF1-BB2D-3B8EFC918AF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correct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Option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howMessageDialo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"Registr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ccessful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Option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howMessageDialo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msg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tat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main(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Str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rgs[]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Registrat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pplication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Registrat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lication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DefaultCloseOperat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JFrame.EXIT_ON_CLOSE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5CDC-80F8-41CE-B77C-D625C4B62A4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كتب برنامج كاملاً يقوم على عرض النافذة التالي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3EB4-F974-4D20-8003-FFD1B196F76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340000" y="0"/>
            <a:ext cx="3870360" cy="617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362320" y="6095880"/>
            <a:ext cx="3886200" cy="60984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0" y="0"/>
            <a:ext cx="9142920" cy="7086240"/>
            <a:chOff x="0" y="0"/>
            <a:chExt cx="9142920" cy="7086240"/>
          </a:xfrm>
        </p:grpSpPr>
        <p:pic>
          <p:nvPicPr>
            <p:cNvPr id="48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055080" cy="65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7" descr=""/>
            <p:cNvPicPr/>
            <p:nvPr/>
          </p:nvPicPr>
          <p:blipFill>
            <a:blip r:embed="rId4"/>
            <a:stretch/>
          </p:blipFill>
          <p:spPr>
            <a:xfrm>
              <a:off x="51120" y="6441840"/>
              <a:ext cx="909180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CC49-4467-4EEE-91DF-8EB4C2C16CD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0" y="0"/>
            <a:ext cx="4288680" cy="6705720"/>
            <a:chOff x="0" y="0"/>
            <a:chExt cx="4288680" cy="6705720"/>
          </a:xfrm>
        </p:grpSpPr>
        <p:pic>
          <p:nvPicPr>
            <p:cNvPr id="5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47640" cy="61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2"/>
            <a:stretch/>
          </p:blipFill>
          <p:spPr>
            <a:xfrm>
              <a:off x="23760" y="6095880"/>
              <a:ext cx="426492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Line 8"/>
          <p:cNvSpPr/>
          <p:nvPr/>
        </p:nvSpPr>
        <p:spPr>
          <a:xfrm flipH="1" flipV="1">
            <a:off x="3733920" y="9907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657600" y="137160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 flipV="1">
            <a:off x="3733920" y="990720"/>
            <a:ext cx="13716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3657600" y="137160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5"/>
          <p:cNvGrpSpPr/>
          <p:nvPr/>
        </p:nvGrpSpPr>
        <p:grpSpPr>
          <a:xfrm>
            <a:off x="3657600" y="990720"/>
            <a:ext cx="1447920" cy="609480"/>
            <a:chOff x="3657600" y="990720"/>
            <a:chExt cx="1447920" cy="609480"/>
          </a:xfrm>
        </p:grpSpPr>
        <p:sp>
          <p:nvSpPr>
            <p:cNvPr id="59" name="Line 13"/>
            <p:cNvSpPr/>
            <p:nvPr/>
          </p:nvSpPr>
          <p:spPr>
            <a:xfrm flipH="1" flipV="1">
              <a:off x="3733920" y="990720"/>
              <a:ext cx="13716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 flipH="1">
              <a:off x="3657600" y="1371600"/>
              <a:ext cx="1447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6"/>
          <p:cNvSpPr/>
          <p:nvPr/>
        </p:nvSpPr>
        <p:spPr>
          <a:xfrm>
            <a:off x="5105520" y="838080"/>
            <a:ext cx="3657600" cy="183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ي حالة تطابق المحتوى تظهر رسالة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essful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في حالة عدم التطابق تظهر رسال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 Not M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05520" y="4560840"/>
            <a:ext cx="36576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عند الضغط عل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يتم مسح محتوى كل من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rm Password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 flipH="1">
            <a:off x="1218960" y="4952880"/>
            <a:ext cx="38862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90A7-0766-4377-8E03-CD7744CC52D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0" y="0"/>
            <a:ext cx="4288680" cy="6705720"/>
            <a:chOff x="0" y="0"/>
            <a:chExt cx="4288680" cy="6705720"/>
          </a:xfrm>
        </p:grpSpPr>
        <p:pic>
          <p:nvPicPr>
            <p:cNvPr id="6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47640" cy="61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" descr=""/>
            <p:cNvPicPr/>
            <p:nvPr/>
          </p:nvPicPr>
          <p:blipFill>
            <a:blip r:embed="rId2"/>
            <a:stretch/>
          </p:blipFill>
          <p:spPr>
            <a:xfrm>
              <a:off x="23760" y="6095880"/>
              <a:ext cx="426492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 Box 13"/>
          <p:cNvSpPr/>
          <p:nvPr/>
        </p:nvSpPr>
        <p:spPr>
          <a:xfrm>
            <a:off x="4648320" y="1752480"/>
            <a:ext cx="365760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أن يحتوي هذا العنصر على نفس الكلمة الموجودة في الصورة المجاور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425760" y="919080"/>
            <a:ext cx="6500880" cy="44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ند الضغط على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يتم التحقق من الآتي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4648320" y="2717640"/>
            <a:ext cx="3657600" cy="1313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أن تحتوي هذه العناصر على قيم (أي لا تكون فارغة)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Passwor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 flipH="1">
            <a:off x="830556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883908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2"/>
          <p:cNvGrpSpPr/>
          <p:nvPr/>
        </p:nvGrpSpPr>
        <p:grpSpPr>
          <a:xfrm>
            <a:off x="8305560" y="1371600"/>
            <a:ext cx="533520" cy="1905120"/>
            <a:chOff x="8305560" y="1371600"/>
            <a:chExt cx="533520" cy="1905120"/>
          </a:xfrm>
        </p:grpSpPr>
        <p:sp>
          <p:nvSpPr>
            <p:cNvPr id="74" name="Line 17"/>
            <p:cNvSpPr/>
            <p:nvPr/>
          </p:nvSpPr>
          <p:spPr>
            <a:xfrm flipH="1">
              <a:off x="8305560" y="32767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 flipH="1">
              <a:off x="8305560" y="20574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>
              <a:off x="8839080" y="1371600"/>
              <a:ext cx="0" cy="190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23"/>
          <p:cNvSpPr/>
          <p:nvPr/>
        </p:nvSpPr>
        <p:spPr>
          <a:xfrm>
            <a:off x="4059720" y="4606920"/>
            <a:ext cx="5141520" cy="1144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في حالة التحقق من الشرطين أعلاه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تظهر رسالة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gistration Successfu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CB51-6FA0-45BC-A8C7-EEDE7804EE9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0" y="0"/>
            <a:ext cx="4288680" cy="6705720"/>
            <a:chOff x="0" y="0"/>
            <a:chExt cx="4288680" cy="6705720"/>
          </a:xfrm>
        </p:grpSpPr>
        <p:pic>
          <p:nvPicPr>
            <p:cNvPr id="8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47640" cy="61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4" descr=""/>
            <p:cNvPicPr/>
            <p:nvPr/>
          </p:nvPicPr>
          <p:blipFill>
            <a:blip r:embed="rId2"/>
            <a:stretch/>
          </p:blipFill>
          <p:spPr>
            <a:xfrm>
              <a:off x="23760" y="6095880"/>
              <a:ext cx="426492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 Box 5"/>
          <p:cNvSpPr/>
          <p:nvPr/>
        </p:nvSpPr>
        <p:spPr>
          <a:xfrm>
            <a:off x="4648320" y="1752480"/>
            <a:ext cx="365760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أن يحتوي هذا العنصر على نفس الكلمة الموجودة في الصورة المجاور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425760" y="919080"/>
            <a:ext cx="6500880" cy="44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ند الضغط على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يتم التحقق من الآتي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648320" y="2717640"/>
            <a:ext cx="3657600" cy="1313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أن تحتوي هذه العناصر على قيم (أي لا تكون فارغة)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Passwor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830556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883908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8305560" y="1371600"/>
            <a:ext cx="533520" cy="1905120"/>
            <a:chOff x="8305560" y="1371600"/>
            <a:chExt cx="533520" cy="1905120"/>
          </a:xfrm>
        </p:grpSpPr>
        <p:sp>
          <p:nvSpPr>
            <p:cNvPr id="88" name="Line 11"/>
            <p:cNvSpPr/>
            <p:nvPr/>
          </p:nvSpPr>
          <p:spPr>
            <a:xfrm flipH="1">
              <a:off x="8305560" y="32767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H="1">
              <a:off x="8305560" y="20574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8839080" y="1371600"/>
              <a:ext cx="0" cy="190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4"/>
          <p:cNvSpPr/>
          <p:nvPr/>
        </p:nvSpPr>
        <p:spPr>
          <a:xfrm>
            <a:off x="4876200" y="4191120"/>
            <a:ext cx="3524400" cy="1144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دم تحقق الشرط الأول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تظهر رسالة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de Not Correc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4245120" y="5475240"/>
            <a:ext cx="4794120" cy="1144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دم تحقق الشرط الثاني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تظهر رسالة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lease Enter…(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تحدد اسم العنص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CDA8-111E-4746-A3D4-EE1F1DBD062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AvantGarde"/>
                <a:cs typeface="Arial"/>
              </a:rPr>
              <a:t>خطوات حل المسائل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 algn="r" rtl="1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بل البدء في كتابة البرنامج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93840" algn="r" rtl="1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دراسة النافذة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ame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وتحديد الطريقة المناسبة لعرض عناصر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I Component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أي تحديد نوع الــ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93840" algn="r" rtl="1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تحديد نوع كل عنصر من عناصر الـ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I Component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أي تحديد الــ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xtfield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و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tton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و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 algn="r" rtl="1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دء بتصميم النافذة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93840" algn="r" rtl="1">
              <a:spcBef>
                <a:spcPts val="575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بعد تحديد نوع الـ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yout</a:t>
            </a:r>
            <a:r>
              <a:rPr b="1" lang="ar-SA" sz="2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تبدأ بتصميم النافذة عنصر عنصر بصورة تدريجية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لاحظة هامه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93840" algn="r" rtl="1"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لك بعض المطلوبات التي لن يتم ذكرها في السؤال لكن يجب على الطالب مراعاتها مثل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نوع الـ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أحجام الخطوط ، الألوان ، المسافات بين عناصر الـ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وأحجام عناصر الـ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عنوان النافذة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title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E63-4F94-4C9A-86AD-C5013EF55F4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عناصر الـ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 Components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تي تحتوي على حدث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ة الـ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e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تابة كود الحدث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vantGarde"/>
                <a:cs typeface="Arial"/>
              </a:rPr>
              <a:t>خطوات حل المسائل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1B96-9576-4E59-BE32-98076D42BE6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ava.aw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ava.awt.even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avax.swing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egist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xtend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JFra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TextFie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1,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1,L2,L3,L4,L5,L6,L7,L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PasswordFie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W1,PW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1,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1,C2,C3,C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Radio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1,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ButtonGro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ComboBo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tring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untry[]={"Sudan","Egypt","KSA","Qatar","UAE"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eed</cp:lastModifiedBy>
  <dcterms:modified xsi:type="dcterms:W3CDTF">2012-04-12T06:27:13Z</dcterms:modified>
  <cp:revision>496</cp:revision>
  <dc:subject/>
  <dc:title>PowerPoint Presentation</dc:title>
</cp:coreProperties>
</file>