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7ACD-AE04-4AC6-8386-7AD7DF642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A23B-E7D6-47FA-8F8D-7C7DCB74A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6C19-664F-42FB-B313-AE9B01D64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0930-4BE7-469D-BEC9-E145D18FF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126E-8539-4391-A9C8-B0EAF4342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0A85-1874-47F5-9AAD-8A70F124A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0A67-784A-4EEB-B4E8-4D037BF63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DC99-CDE9-4B49-966F-201C51BF3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7D38-4AE4-4EB0-B67B-358E05853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5364-B5C1-41CF-91B8-95EBCA5D5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AB55-13C8-4621-A322-939ABCEA0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A039-56D5-4F42-814F-F3BB4F0F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528E-1CA5-4301-BFA4-DA389DD8C29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torial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320B-63F5-4313-9891-9411945E41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تب برنامج كاملاً يقوم على عرض النافذة التالي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 اختيار نوع الخط أو تحديد اللون أو حجم الخط أو النم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ينعكس تأثير التنسيق على النص المكت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1463760"/>
            <a:ext cx="6419880" cy="31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085D-2F3C-4CBF-947C-96C39801B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م بتعديل البرنامج السابق ليكون ضمن قائمة من النو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كما في الشكل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435400"/>
            <a:ext cx="6905520" cy="3431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828440" y="1828800"/>
            <a:ext cx="1524240" cy="1066680"/>
            <a:chOff x="1828440" y="1828800"/>
            <a:chExt cx="1524240" cy="1066680"/>
          </a:xfrm>
        </p:grpSpPr>
        <p:sp>
          <p:nvSpPr>
            <p:cNvPr id="45" name=""/>
            <p:cNvSpPr/>
            <p:nvPr/>
          </p:nvSpPr>
          <p:spPr>
            <a:xfrm flipH="1">
              <a:off x="1828440" y="1828800"/>
              <a:ext cx="60948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38280" y="1828800"/>
              <a:ext cx="15264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1828800"/>
              <a:ext cx="91440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503F-9BC4-43F2-A70C-3C2B45C01C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741320"/>
            <a:ext cx="643896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90D1-9E59-4CFF-816E-3570A2F69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534000" cy="444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1160" y="6045120"/>
            <a:ext cx="268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رجات اللون الأحم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2640" y="6070680"/>
            <a:ext cx="276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رجات اللون الأخض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9040" y="6070680"/>
            <a:ext cx="2692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رجات اللون الأزر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4040" y="82224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 algn="r" rtl="1"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د تحريك شريط التمري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يتغير لون الخلفية حسب القيمة المحدد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867280" y="4191120"/>
            <a:ext cx="1981440" cy="1828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191120" y="4724280"/>
            <a:ext cx="3808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5257800"/>
            <a:ext cx="4572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96320" y="228600"/>
            <a:ext cx="449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يحتوي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 2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على الآتي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9A19-1E03-480F-87FE-5D42B145D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1457280"/>
            <a:ext cx="6724800" cy="486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92560" y="289080"/>
            <a:ext cx="6802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 algn="r" rtl="1">
              <a:spcBef>
                <a:spcPts val="1250"/>
              </a:spcBef>
              <a:buClr>
                <a:srgbClr val="00000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رسم مستطيل باستخدام الماو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r" rtl="1">
              <a:spcBef>
                <a:spcPts val="1250"/>
              </a:spcBef>
              <a:buClr>
                <a:srgbClr val="00000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حريك المستطيل باستخدام لوحة المفاتيح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7E52-33BC-4223-ADC6-C358D83C3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6400" y="136440"/>
            <a:ext cx="7642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 algn="r" rtl="1">
              <a:spcBef>
                <a:spcPts val="1250"/>
              </a:spcBef>
              <a:buClr>
                <a:srgbClr val="00000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ند الضغط على زر الماوس الأيمن تظهر قائمة تحتوي على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 algn="r" rtl="1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o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تكبير المستطي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 algn="r" rtl="1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o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تصغير المستطي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38760" y="2819520"/>
            <a:ext cx="1028520" cy="6858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990720" y="1609560"/>
            <a:ext cx="6724440" cy="4867200"/>
            <a:chOff x="990720" y="1609560"/>
            <a:chExt cx="6724440" cy="48672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990720" y="1609560"/>
              <a:ext cx="6724440" cy="48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4838760" y="2981160"/>
              <a:ext cx="10285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78A0-A205-4119-A1DA-DE48F6D46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dor</cp:lastModifiedBy>
  <dcterms:modified xsi:type="dcterms:W3CDTF">2012-04-22T06:58:05Z</dcterms:modified>
  <cp:revision>500</cp:revision>
  <dc:subject/>
  <dc:title>PowerPoint Presentation</dc:title>
</cp:coreProperties>
</file>