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645275" cy="9172575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56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765240" y="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1440" y="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28880" y="686880"/>
            <a:ext cx="458784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3765240" y="871380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E061-B6AE-4212-9D36-3E73A1F5F4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E546-E7E9-4852-8A70-6B7F9A5350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037-6FC2-4B65-B712-A1601E7711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8576-1CD5-4779-B25C-F56DF98F9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1BE6-018E-4F54-8E79-746D46A0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36DC-1E3B-471A-9ABC-462B9A700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B657-4A86-4800-B887-F3305EA45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9265-60AE-417F-BAC6-C0F8F0E58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A70B-DF3E-4838-846E-DA2F486073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75B6-EB02-4746-881F-BFFE49A607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5361-7AC8-462E-888E-E4CAF4A78A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31DF-DB31-4274-8400-3BB3A69368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BAB8C-0613-4B80-B0C1-41A8F1A6D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A292-0876-42BA-83AE-F03F7DB2C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0E8B-278A-4BC6-B6A6-DC90677B2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0F6B-FD6C-4A78-842E-3E64277EF5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5D35-7B72-4C1C-95EA-0A858F3E25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26C4-FEE7-423E-BAC5-A0375AFD40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1DE17-602C-469E-8CBE-2F4FBAC8A1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7431-55D4-4506-9946-7B551C623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D90F-06A6-4F0E-B798-828D8859C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FA3E-AB11-46F4-B3C6-30A3563DE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88ED-6D1F-4533-953A-8F932C1D9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03B2-EC2F-4459-8EB7-0CC3738AB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132E-2A3F-4D9E-9B7D-3F4DDCBD0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179F-EC59-4EC7-B282-64A61DD7F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D370-2BB3-4ADA-B8F8-31161F274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5C5-5713-4ABC-85CC-DE15B03AB7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49A-BE4D-482D-AB03-F59303516B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3BC8-18AF-49CD-B0D0-3C3E34AAAF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cture 5: 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1 cont.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D06-FE10-400E-9459-B8EDF0E7298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ep7: Add Event To Combo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comboIm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Item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set up JLabel  to display Image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bel  =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Lab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co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 0 ]  ); 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et default Icons[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add(  label 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end of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tep8: handle JComboBox 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 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temStateChanged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ItemEvent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// determine whether check box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333333"/>
                </a:solidFill>
                <a:latin typeface="Times New Roman"/>
              </a:rPr>
              <a:t>label.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setIcon </a:t>
            </a:r>
            <a:r>
              <a:rPr b="1" lang="en-US" sz="2100" spc="-1" strike="noStrike">
                <a:solidFill>
                  <a:srgbClr val="333333"/>
                </a:solidFill>
                <a:latin typeface="Times New Roman"/>
              </a:rPr>
              <a:t>( 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icons </a:t>
            </a:r>
            <a:r>
              <a:rPr b="1" lang="en-US" sz="2100" spc="-1" strike="noStrike">
                <a:solidFill>
                  <a:srgbClr val="333333"/>
                </a:solidFill>
                <a:latin typeface="Times New Roman"/>
              </a:rPr>
              <a:t>[ comboImg.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getSelectedIndex</a:t>
            </a:r>
            <a:r>
              <a:rPr b="1" lang="en-US" sz="2100" spc="-1" strike="noStrike">
                <a:solidFill>
                  <a:srgbClr val="333333"/>
                </a:solidFill>
                <a:latin typeface="Times New Roman"/>
              </a:rPr>
              <a:t>(  ) ] 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}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5334120" y="5105520"/>
            <a:ext cx="3200400" cy="885240"/>
            <a:chOff x="5334120" y="5105520"/>
            <a:chExt cx="3200400" cy="885240"/>
          </a:xfrm>
        </p:grpSpPr>
        <p:sp>
          <p:nvSpPr>
            <p:cNvPr id="142" name="Text Box 6"/>
            <p:cNvSpPr/>
            <p:nvPr/>
          </p:nvSpPr>
          <p:spPr>
            <a:xfrm>
              <a:off x="5334120" y="5410080"/>
              <a:ext cx="320040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Return index of selected item from (0 - 3 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H="1" flipV="1">
              <a:off x="5943600" y="5105520"/>
              <a:ext cx="457200" cy="3045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boBox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boBox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304920" y="228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80880" y="609480"/>
            <a:ext cx="8382240" cy="4343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Li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ies of i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 can select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one or mor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gle-selection  vs.  multiple-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J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is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388-22A6-4BB0-93FF-9D288FC7CC3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Construc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List( ); 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default construc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List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ject[ ]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etSelectedIndex(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(an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) the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nde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رقم المؤشر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 selected i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etSelectedIndices(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(arra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[ 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of all the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elected indic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increasing or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is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F74A-C0C0-4D04-A30C-33E350EFFEB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etSelectedValue(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the 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first selected item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li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etSelectedValues(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 an array of all the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Times New Roman"/>
              </a:rPr>
              <a:t>selected item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increasing index ord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SelectionMode(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lectionMod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the selection Mode of the list(</a:t>
            </a:r>
            <a:r>
              <a:rPr b="1" lang="ar-SA" sz="2300" spc="-1" strike="noStrike">
                <a:solidFill>
                  <a:srgbClr val="ff0000"/>
                </a:solidFill>
                <a:latin typeface="Times New Roman"/>
              </a:rPr>
              <a:t>تحديد طريقة الأختيار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istSelectionMod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_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2060"/>
                </a:solidFill>
                <a:latin typeface="Times New Roman"/>
              </a:rPr>
              <a:t>ListSelectionMode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MULTIPLE_INTERVAL_SELE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5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</a:rPr>
              <a:t>ListSelectionMode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INGLE_INTERVAL_SELE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26"/>
          <p:cNvSpPr/>
          <p:nvPr/>
        </p:nvSpPr>
        <p:spPr>
          <a:xfrm>
            <a:off x="457200" y="152280"/>
            <a:ext cx="77724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is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Jlist Mod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6" name="Content Placeholder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8211960" cy="31240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A617-3FD8-4D71-8A7A-D7E92F65707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F5D8-4C36-483F-AFFD-A5E093C476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etSelectionMode(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the selection Mode of the list(as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SelectionBackground(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the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background color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 the selected i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VisibleRowCount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howIt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 number of items that can be shown in the li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26"/>
          <p:cNvSpPr/>
          <p:nvPr/>
        </p:nvSpPr>
        <p:spPr>
          <a:xfrm>
            <a:off x="457200" y="152280"/>
            <a:ext cx="77724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is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750F-585F-4D88-BAF4-14DC0B4E576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2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is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Console"/>
              </a:rPr>
              <a:t>Event Type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: 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ListSelectionEvent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95959"/>
                </a:solidFill>
                <a:latin typeface="Lucida Console"/>
              </a:rPr>
              <a:t>Implements Interfac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</a:rPr>
              <a:t>ListSelectionListener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dd Event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إضافة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ist.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addListSelectionListen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andle Even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تنفيذ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ValueChange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ListSelection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// determine whether check box selected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D13F-5F73-482F-9D20-798C8EAB48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(7): Using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List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(Single Selection)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e following frame when the user select a color from list,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ackground colo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chang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ccording to the selected col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724640" cy="2666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343400" y="4176720"/>
            <a:ext cx="262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AE3-B4BD-41A2-8A12-396204BC69C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(7): outpu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685800" y="1219320"/>
            <a:ext cx="4648320" cy="2514600"/>
            <a:chOff x="685800" y="1219320"/>
            <a:chExt cx="4648320" cy="251460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6483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" descr=""/>
            <p:cNvPicPr/>
            <p:nvPr/>
          </p:nvPicPr>
          <p:blipFill>
            <a:blip r:embed="rId2"/>
            <a:stretch/>
          </p:blipFill>
          <p:spPr>
            <a:xfrm>
              <a:off x="3124440" y="2210040"/>
              <a:ext cx="261720" cy="3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25"/>
          <p:cNvGrpSpPr/>
          <p:nvPr/>
        </p:nvGrpSpPr>
        <p:grpSpPr>
          <a:xfrm>
            <a:off x="3514680" y="3505320"/>
            <a:ext cx="4638600" cy="2666880"/>
            <a:chOff x="3514680" y="3505320"/>
            <a:chExt cx="4638600" cy="2666880"/>
          </a:xfrm>
        </p:grpSpPr>
        <p:pic>
          <p:nvPicPr>
            <p:cNvPr id="175" name="Picture 3" descr=""/>
            <p:cNvPicPr/>
            <p:nvPr/>
          </p:nvPicPr>
          <p:blipFill>
            <a:blip r:embed="rId3"/>
            <a:stretch/>
          </p:blipFill>
          <p:spPr>
            <a:xfrm>
              <a:off x="3514680" y="3505320"/>
              <a:ext cx="46386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" descr=""/>
            <p:cNvPicPr/>
            <p:nvPr/>
          </p:nvPicPr>
          <p:blipFill>
            <a:blip r:embed="rId4"/>
            <a:stretch/>
          </p:blipFill>
          <p:spPr>
            <a:xfrm>
              <a:off x="5943600" y="4724280"/>
              <a:ext cx="261720" cy="3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34DF-3FC6-4747-B8EF-B66D85662BF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91440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</a:rPr>
              <a:t>Overview of Swing Components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Lucida Console"/>
                <a:ea typeface="Times New Roman"/>
              </a:rPr>
              <a:t>JLabel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Lucida Console"/>
                <a:ea typeface="Times New Roman"/>
              </a:rPr>
              <a:t>JButton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Lucida Console"/>
                <a:ea typeface="Times New Roman"/>
              </a:rPr>
              <a:t>JTextField &amp; JPasswordField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Lucida Console"/>
                <a:ea typeface="Times New Roman"/>
              </a:rPr>
              <a:t>JCheckBox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7f7f7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Lucida Console"/>
                <a:ea typeface="Times New Roman"/>
              </a:rPr>
              <a:t>JRadioButton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ComboBox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lis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</a:rPr>
              <a:t>Multiple-Selection List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</a:rPr>
              <a:t>Mouse Event Handling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69FE-C6BB-42F6-A213-370EBC3751E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74280" y="1218960"/>
            <a:ext cx="84582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clas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st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plements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istSele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List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lorl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Container  con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f7f7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et the  array  of  List 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ring 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{ “Black", “Blue", “Cyan", “Orange“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"Gray", "Green", "Yellow" 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et   Color  array  for 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100" spc="-1" strike="noStrike">
                <a:solidFill>
                  <a:srgbClr val="c00000"/>
                </a:solidFill>
                <a:latin typeface="Times New Roman"/>
              </a:rPr>
              <a:t>color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BLACK,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UE,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CY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ORANGE,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GRAY,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GREEN,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YELLOW 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7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6813720" y="2057400"/>
            <a:ext cx="1949400" cy="641880"/>
            <a:chOff x="6813720" y="2057400"/>
            <a:chExt cx="1949400" cy="641880"/>
          </a:xfrm>
        </p:grpSpPr>
        <p:sp>
          <p:nvSpPr>
            <p:cNvPr id="182" name="Text Box 6"/>
            <p:cNvSpPr/>
            <p:nvPr/>
          </p:nvSpPr>
          <p:spPr>
            <a:xfrm>
              <a:off x="6813720" y="236196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 flipV="1">
              <a:off x="7314840" y="2057400"/>
              <a:ext cx="30492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588-BE00-483D-9419-B60FEC220F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List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5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Using  List  with Single  Selec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6: set up JList  and register  its event hand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colorlis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= new  JList(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display Four Items  when the user clicked on  List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colorlis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setVisibleRowCoun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list.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etSelectionMode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istSelectionMod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NGLE_SELECTION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7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6585120" y="5257800"/>
            <a:ext cx="1949400" cy="685800"/>
            <a:chOff x="6585120" y="5257800"/>
            <a:chExt cx="1949400" cy="685800"/>
          </a:xfrm>
        </p:grpSpPr>
        <p:sp>
          <p:nvSpPr>
            <p:cNvPr id="189" name="Text Box 6"/>
            <p:cNvSpPr/>
            <p:nvPr/>
          </p:nvSpPr>
          <p:spPr>
            <a:xfrm>
              <a:off x="6585120" y="525780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election Mode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 flipH="1">
              <a:off x="7346880" y="5638680"/>
              <a:ext cx="22860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90D-6D56-4F0C-9D03-24613D337A3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add List to container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colorlis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// add a JScrollPane  containing  JList  to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cont.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(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ew  </a:t>
            </a:r>
            <a:r>
              <a:rPr b="1" lang="en-US" sz="2100" spc="-1" strike="noStrike">
                <a:solidFill>
                  <a:srgbClr val="c00000"/>
                </a:solidFill>
                <a:latin typeface="Times New Roman"/>
              </a:rPr>
              <a:t>JScrollPane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 ( colorlist ) 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ep7: Add Event To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colorlist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ListSelectionListener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end of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tep8: handle JLis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 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alueChanged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istSelectionEvent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// Change the Container’s Background with selected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ont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Background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colors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[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lorlist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tSelectedIndex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( )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}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7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4648320" y="5562360"/>
            <a:ext cx="3124080" cy="758160"/>
            <a:chOff x="4648320" y="5562360"/>
            <a:chExt cx="3124080" cy="758160"/>
          </a:xfrm>
        </p:grpSpPr>
        <p:sp>
          <p:nvSpPr>
            <p:cNvPr id="196" name="Text Box 6"/>
            <p:cNvSpPr/>
            <p:nvPr/>
          </p:nvSpPr>
          <p:spPr>
            <a:xfrm>
              <a:off x="4648320" y="5739840"/>
              <a:ext cx="31240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Return index of selected item from (0 - 6 )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H="1" flipV="1">
              <a:off x="5790960" y="5562360"/>
              <a:ext cx="228600" cy="228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98" name="Group 16"/>
          <p:cNvGrpSpPr/>
          <p:nvPr/>
        </p:nvGrpSpPr>
        <p:grpSpPr>
          <a:xfrm>
            <a:off x="6172200" y="1828800"/>
            <a:ext cx="1371600" cy="1035000"/>
            <a:chOff x="6172200" y="1828800"/>
            <a:chExt cx="1371600" cy="1035000"/>
          </a:xfrm>
        </p:grpSpPr>
        <p:pic>
          <p:nvPicPr>
            <p:cNvPr id="199" name="Picture 2" descr=""/>
            <p:cNvPicPr/>
            <p:nvPr/>
          </p:nvPicPr>
          <p:blipFill>
            <a:blip r:embed="rId1"/>
            <a:stretch/>
          </p:blipFill>
          <p:spPr>
            <a:xfrm>
              <a:off x="61722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ight Brace 12"/>
            <p:cNvSpPr/>
            <p:nvPr/>
          </p:nvSpPr>
          <p:spPr>
            <a:xfrm>
              <a:off x="7315200" y="1828800"/>
              <a:ext cx="228600" cy="1035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400 h 1035000"/>
                <a:gd name="textAreaBottom" fmla="*/ 1029600 h 10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10440"/>
                  </a:lnTo>
                  <a:cubicBezTo>
                    <a:pt x="10800" y="10620"/>
                    <a:pt x="16200" y="10800"/>
                    <a:pt x="21600" y="10800"/>
                  </a:cubicBezTo>
                  <a:cubicBezTo>
                    <a:pt x="16200" y="10800"/>
                    <a:pt x="10800" y="10980"/>
                    <a:pt x="10800" y="11160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201" name="Text Box 6"/>
          <p:cNvSpPr/>
          <p:nvPr/>
        </p:nvSpPr>
        <p:spPr>
          <a:xfrm>
            <a:off x="7543800" y="2130480"/>
            <a:ext cx="13716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ScrollPane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304920" y="228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7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80880" y="609480"/>
            <a:ext cx="8382240" cy="4343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Multiple-selec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lect many items from 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J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continuous range sel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istSelectionMod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MULTIPLE_INTERVAL_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ist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FEBB-8B0C-4567-97D9-F8F31D7676F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Example(8) :Using </a:t>
            </a:r>
            <a:r>
              <a:rPr b="1" lang="en-US" sz="2600" spc="-1" strike="noStrike">
                <a:solidFill>
                  <a:srgbClr val="ff0000"/>
                </a:solidFill>
                <a:latin typeface="Lucida Console"/>
              </a:rPr>
              <a:t>JList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(Multiple Selection)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e following two Lis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13_15"/>
          <p:cNvPicPr/>
          <p:nvPr/>
        </p:nvPicPr>
        <p:blipFill>
          <a:blip r:embed="rId1"/>
          <a:stretch/>
        </p:blipFill>
        <p:spPr>
          <a:xfrm>
            <a:off x="1523880" y="2590920"/>
            <a:ext cx="6324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12E-D1B3-464F-A95C-4A64C203631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clas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st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plements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List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List1, List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JButton    copy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f7f7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et the  array  of  List 1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ring 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{ “Black", “Blue", “Cyan", “Orange“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"Gray", "Green", "Yellow“, “Pink“ 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ListTes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2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Multiple Selection Lists</a:t>
            </a:r>
            <a:r>
              <a:rPr b="1" lang="en-US" sz="22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8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6813720" y="2057400"/>
            <a:ext cx="1949400" cy="641880"/>
            <a:chOff x="6813720" y="2057400"/>
            <a:chExt cx="1949400" cy="641880"/>
          </a:xfrm>
        </p:grpSpPr>
        <p:sp>
          <p:nvSpPr>
            <p:cNvPr id="216" name="Text Box 6"/>
            <p:cNvSpPr/>
            <p:nvPr/>
          </p:nvSpPr>
          <p:spPr>
            <a:xfrm>
              <a:off x="6813720" y="236196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V="1">
              <a:off x="7314840" y="2057400"/>
              <a:ext cx="30492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C512-4BCF-4249-98D5-D392D7C3864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Container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)</a:t>
            </a:r>
            <a:r>
              <a:rPr b="1" lang="en-US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6: set up  JList 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List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new  JList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display Five  Items  when the user clicked on  List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List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VisibleRowCou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5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st1.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setSelectionMo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ListSelectionMod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ULTIPLE_INTERVAL_SELECTIO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List1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add List to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// add a JScrollPane  containing  JList  to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c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JScrollPane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( List1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8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5410080" y="3886200"/>
            <a:ext cx="1949400" cy="685800"/>
            <a:chOff x="5410080" y="3886200"/>
            <a:chExt cx="1949400" cy="685800"/>
          </a:xfrm>
        </p:grpSpPr>
        <p:sp>
          <p:nvSpPr>
            <p:cNvPr id="223" name="Text Box 6"/>
            <p:cNvSpPr/>
            <p:nvPr/>
          </p:nvSpPr>
          <p:spPr>
            <a:xfrm>
              <a:off x="5410080" y="388620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election Mode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 flipH="1">
              <a:off x="6171840" y="4267080"/>
              <a:ext cx="22860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D4A5-E7F4-48B5-A350-BA2D48AD964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7:  create copy button and register its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py =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JButton( "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Copy &gt;&gt;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Add Button Event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py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opy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8: set up  JList 2 (Second List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List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new  JList(  );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display Five  Items  when the user clicked on  List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List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VisibleRowCou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5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st2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FixedCellWid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st2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FixedCellHeigh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List2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end of  constru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20"/>
          <p:cNvGrpSpPr/>
          <p:nvPr/>
        </p:nvGrpSpPr>
        <p:grpSpPr>
          <a:xfrm>
            <a:off x="4572000" y="5105520"/>
            <a:ext cx="2666880" cy="685800"/>
            <a:chOff x="4572000" y="5105520"/>
            <a:chExt cx="2666880" cy="685800"/>
          </a:xfrm>
        </p:grpSpPr>
        <p:sp>
          <p:nvSpPr>
            <p:cNvPr id="228" name="Text Box 6"/>
            <p:cNvSpPr/>
            <p:nvPr/>
          </p:nvSpPr>
          <p:spPr>
            <a:xfrm>
              <a:off x="4800600" y="5181480"/>
              <a:ext cx="24382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et Width &amp; Height of List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29" name="Right Brace 19"/>
            <p:cNvSpPr/>
            <p:nvPr/>
          </p:nvSpPr>
          <p:spPr>
            <a:xfrm>
              <a:off x="4572000" y="510552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 h 685800"/>
                <a:gd name="textAreaBottom" fmla="*/ 6800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00"/>
                    <a:pt x="10800" y="600"/>
                  </a:cubicBezTo>
                  <a:lnTo>
                    <a:pt x="10800" y="10200"/>
                  </a:lnTo>
                  <a:cubicBezTo>
                    <a:pt x="10800" y="10500"/>
                    <a:pt x="16200" y="10800"/>
                    <a:pt x="21600" y="10800"/>
                  </a:cubicBezTo>
                  <a:cubicBezTo>
                    <a:pt x="16200" y="10800"/>
                    <a:pt x="10800" y="11100"/>
                    <a:pt x="10800" y="11400"/>
                  </a:cubicBezTo>
                  <a:lnTo>
                    <a:pt x="10800" y="21000"/>
                  </a:lnTo>
                  <a:cubicBezTo>
                    <a:pt x="10800" y="213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230" name="Rectangle 23"/>
          <p:cNvSpPr/>
          <p:nvPr/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380880" y="2209680"/>
            <a:ext cx="8153640" cy="3810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380880" y="380880"/>
            <a:ext cx="8077320" cy="1752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handle button event once User clicked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Perform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on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place selected values in Lis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2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is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ist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Selected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04920" y="228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8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581280" y="1828800"/>
            <a:ext cx="4343400" cy="457200"/>
            <a:chOff x="3581280" y="1828800"/>
            <a:chExt cx="4343400" cy="457200"/>
          </a:xfrm>
        </p:grpSpPr>
        <p:sp>
          <p:nvSpPr>
            <p:cNvPr id="236" name="Text Box 6"/>
            <p:cNvSpPr/>
            <p:nvPr/>
          </p:nvSpPr>
          <p:spPr>
            <a:xfrm>
              <a:off x="5029200" y="1828800"/>
              <a:ext cx="28954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Set Data into List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 flipH="1">
              <a:off x="3581280" y="2057400"/>
              <a:ext cx="1447920" cy="228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238" name="Rectangle 11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4A4-9DA7-4B1B-BF34-6A57EB6F507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9" name="Rectangle 1026"/>
          <p:cNvSpPr/>
          <p:nvPr/>
        </p:nvSpPr>
        <p:spPr>
          <a:xfrm>
            <a:off x="457200" y="30492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CombBox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533520" y="12952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JComboBox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 items from which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r can select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 </a:t>
            </a:r>
            <a:r>
              <a:rPr b="1" i="1" lang="en-US" sz="2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op-dow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t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can select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only one  item (or selection)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01" name="Picture 153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C97-50A0-4929-A5D9-06ADAD05332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Example(8) : output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241" name="Picture 4" descr="13_15"/>
          <p:cNvPicPr/>
          <p:nvPr/>
        </p:nvPicPr>
        <p:blipFill>
          <a:blip r:embed="rId1"/>
          <a:stretch/>
        </p:blipFill>
        <p:spPr>
          <a:xfrm>
            <a:off x="1295280" y="2133720"/>
            <a:ext cx="6324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-listener interfaces for mouse ev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Console"/>
              </a:rPr>
              <a:t>MouseListen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Lucida Console"/>
              </a:rPr>
              <a:t>MouseMotionListen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isten for  </a:t>
            </a:r>
            <a:r>
              <a:rPr b="1" i="1" lang="en-US" sz="2700" spc="-1" strike="noStrike">
                <a:solidFill>
                  <a:srgbClr val="ff0000"/>
                </a:solidFill>
                <a:latin typeface="Lucida Console"/>
              </a:rPr>
              <a:t>MouseEvent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26"/>
          <p:cNvSpPr/>
          <p:nvPr/>
        </p:nvSpPr>
        <p:spPr>
          <a:xfrm>
            <a:off x="457200" y="30492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Mouse  Event  Handling  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26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Mouse  Event  Handling  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04920" y="1219320"/>
          <a:ext cx="8397720" cy="4846680"/>
        </p:xfrm>
        <a:graphic>
          <a:graphicData uri="http://schemas.openxmlformats.org/drawingml/2006/table">
            <a:tbl>
              <a:tblPr/>
              <a:tblGrid>
                <a:gridCol w="8397720"/>
              </a:tblGrid>
              <a:tr h="59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ods of interface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Listener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5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ethods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: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9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Pressed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ar-SA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a mouse button is pressed while the mouse cursor is on a componen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9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mouseClicked (</a:t>
                      </a:r>
                      <a:r>
                        <a:rPr b="1" lang="ar-SA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a mouse button is pressed and released(one clicked or double clicked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9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mouseReleased (</a:t>
                      </a: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vent 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a mouse button i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leased after being press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This event is always preceded by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Pressed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26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Mouse  Event  Handling  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1219320"/>
          <a:ext cx="8397720" cy="2971800"/>
        </p:xfrm>
        <a:graphic>
          <a:graphicData uri="http://schemas.openxmlformats.org/drawingml/2006/table">
            <a:tbl>
              <a:tblPr/>
              <a:tblGrid>
                <a:gridCol w="8397720"/>
              </a:tblGrid>
              <a:tr h="593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ods of interface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Listener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5</a:t>
                      </a: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ethods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: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95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Entered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ar-SA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93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 the mouse cursor enters the bounds of compon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95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mouseExited (</a:t>
                      </a:r>
                      <a:r>
                        <a:rPr b="1" lang="ar-SA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94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 the mouse cursor leaves the bounds of compon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26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Mouse  Event  Handling  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1219320"/>
          <a:ext cx="8397720" cy="3063600"/>
        </p:xfrm>
        <a:graphic>
          <a:graphicData uri="http://schemas.openxmlformats.org/drawingml/2006/table">
            <a:tbl>
              <a:tblPr/>
              <a:tblGrid>
                <a:gridCol w="83977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s of interface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ouseMotionListener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</a:t>
                      </a: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ethods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: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9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seDragged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ar-SA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the mouse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cked  and mov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over compon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9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 </a:t>
                      </a: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oid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mouseMoved (</a:t>
                      </a:r>
                      <a:r>
                        <a:rPr b="1" lang="ar-SA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useEvent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event )</a:t>
                      </a:r>
                      <a:endParaRPr b="1" lang="en-US" sz="25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d when  the mous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just mov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ver component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407-52AF-4ADC-AAEF-84798F6F1FD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vantGarde"/>
              </a:rPr>
              <a:t>Example(9): Mouse Event Handling</a:t>
            </a:r>
            <a:endParaRPr b="1" lang="en-US" sz="2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all the mouse Ev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13_17a"/>
          <p:cNvPicPr/>
          <p:nvPr/>
        </p:nvPicPr>
        <p:blipFill>
          <a:blip r:embed="rId1"/>
          <a:stretch/>
        </p:blipFill>
        <p:spPr>
          <a:xfrm>
            <a:off x="762120" y="1409760"/>
            <a:ext cx="3047760" cy="1219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13_17b"/>
          <p:cNvPicPr/>
          <p:nvPr/>
        </p:nvPicPr>
        <p:blipFill>
          <a:blip r:embed="rId2"/>
          <a:stretch/>
        </p:blipFill>
        <p:spPr>
          <a:xfrm>
            <a:off x="4724280" y="1409760"/>
            <a:ext cx="3353040" cy="1219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3_17c"/>
          <p:cNvPicPr/>
          <p:nvPr/>
        </p:nvPicPr>
        <p:blipFill>
          <a:blip r:embed="rId3"/>
          <a:stretch/>
        </p:blipFill>
        <p:spPr>
          <a:xfrm>
            <a:off x="762120" y="2857680"/>
            <a:ext cx="3047760" cy="118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13_17d"/>
          <p:cNvPicPr/>
          <p:nvPr/>
        </p:nvPicPr>
        <p:blipFill>
          <a:blip r:embed="rId4"/>
          <a:stretch/>
        </p:blipFill>
        <p:spPr>
          <a:xfrm>
            <a:off x="4695840" y="2857680"/>
            <a:ext cx="3381480" cy="1143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13_17e"/>
          <p:cNvPicPr/>
          <p:nvPr/>
        </p:nvPicPr>
        <p:blipFill>
          <a:blip r:embed="rId5"/>
          <a:stretch/>
        </p:blipFill>
        <p:spPr>
          <a:xfrm>
            <a:off x="762120" y="4229280"/>
            <a:ext cx="3047760" cy="1333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13_17f"/>
          <p:cNvPicPr/>
          <p:nvPr/>
        </p:nvPicPr>
        <p:blipFill>
          <a:blip r:embed="rId6"/>
          <a:stretch/>
        </p:blipFill>
        <p:spPr>
          <a:xfrm>
            <a:off x="4724280" y="4229280"/>
            <a:ext cx="33530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30B3-00B2-4ADF-B593-E8EDCFDF34C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useTrack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implemen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ouseListen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MouseMo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Label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useTracker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Demonstrating Mouse Eve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JLabel(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tContentPane( )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SOU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6400440" y="2057040"/>
            <a:ext cx="2178360" cy="642240"/>
            <a:chOff x="6400440" y="2057040"/>
            <a:chExt cx="2178360" cy="642240"/>
          </a:xfrm>
        </p:grpSpPr>
        <p:sp>
          <p:nvSpPr>
            <p:cNvPr id="264" name="Text Box 6"/>
            <p:cNvSpPr/>
            <p:nvPr/>
          </p:nvSpPr>
          <p:spPr>
            <a:xfrm>
              <a:off x="6629040" y="2361960"/>
              <a:ext cx="19497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 flipH="1" flipV="1">
              <a:off x="6400440" y="2057040"/>
              <a:ext cx="45684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266" name="Group 14"/>
          <p:cNvGrpSpPr/>
          <p:nvPr/>
        </p:nvGrpSpPr>
        <p:grpSpPr>
          <a:xfrm>
            <a:off x="5257800" y="4843440"/>
            <a:ext cx="2971800" cy="719280"/>
            <a:chOff x="5257800" y="4843440"/>
            <a:chExt cx="2971800" cy="719280"/>
          </a:xfrm>
        </p:grpSpPr>
        <p:sp>
          <p:nvSpPr>
            <p:cNvPr id="267" name="Text Box 6"/>
            <p:cNvSpPr/>
            <p:nvPr/>
          </p:nvSpPr>
          <p:spPr>
            <a:xfrm>
              <a:off x="5257800" y="4843440"/>
              <a:ext cx="297180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  <a:cs typeface="Times New Roman"/>
                </a:rPr>
                <a:t>تحديد طريقة العرض ل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Label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 flipH="1">
              <a:off x="6171840" y="5181840"/>
              <a:ext cx="33516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2424-7858-4BBE-8790-B744F66E2F4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Mouse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       // listens for own mous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MouseMo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mouse-motion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MouseListener event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useClick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Text( "Clicked at [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Y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"]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73" name="Picture 5" descr="13_17b"/>
          <p:cNvPicPr/>
          <p:nvPr/>
        </p:nvPicPr>
        <p:blipFill>
          <a:blip r:embed="rId1"/>
          <a:stretch/>
        </p:blipFill>
        <p:spPr>
          <a:xfrm>
            <a:off x="4114800" y="4191120"/>
            <a:ext cx="3962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1779-E29C-413D-A829-7FC213DEA27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event when mouse pres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عند الضغط على الماوس فقط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usePres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Text( “Pressed at [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Y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"]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78" name="Picture 7" descr="13_17d"/>
          <p:cNvPicPr/>
          <p:nvPr/>
        </p:nvPicPr>
        <p:blipFill>
          <a:blip r:embed="rId1"/>
          <a:stretch/>
        </p:blipFill>
        <p:spPr>
          <a:xfrm>
            <a:off x="4191120" y="3390840"/>
            <a:ext cx="38862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0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25AD-E9FE-4B05-98F6-EA0EE26285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event when mouse Relesed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ينتج هذا الحدث عند الضغط على الماوس والتحريك وفك الضغط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mouseReleas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Text( “Relaesed at [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Y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"]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83" name="Picture 9" descr="13_17f"/>
          <p:cNvPicPr/>
          <p:nvPr/>
        </p:nvPicPr>
        <p:blipFill>
          <a:blip r:embed="rId1"/>
          <a:stretch/>
        </p:blipFill>
        <p:spPr>
          <a:xfrm>
            <a:off x="3657600" y="3886200"/>
            <a:ext cx="4419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2F5D-8085-4526-A451-A21979D0CC5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Construct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ComboBox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ject[ ]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tring of  values that will display in the ComboBo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MaximumRowCount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xvie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number of items that appear when the user click to open ComboBo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electedIndex(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(an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) the index of selected i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CombBox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CE1-840F-4CEB-A612-711077B745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event when mouse E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ينتج هذا الحدث عندما يكون الماوس داخل نطاق الـ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Frame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mouseEnter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Backgrou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Color.GREE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403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0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5786-5EB2-42A5-BC33-37A78950F92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event when mouse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ينتج هذا الحدث عندما يكون الماوس خارج نطاق الـ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Frame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mouseExi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Text( "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Mouse outside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Backgrou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olor.WHITE );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93" name="Picture 4" descr="13_17a"/>
          <p:cNvPicPr/>
          <p:nvPr/>
        </p:nvPicPr>
        <p:blipFill>
          <a:blip r:embed="rId1"/>
          <a:stretch/>
        </p:blipFill>
        <p:spPr>
          <a:xfrm>
            <a:off x="3962520" y="3886200"/>
            <a:ext cx="3809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22AC-07BA-41FE-8A85-EB77C2C331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event when mouse Dra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ينتج هذا الحدث عند الضغط على الماوس وتحريكه بدون فك الضغط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useDragg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Text( “Dragged at [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Y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"]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98" name="Picture 8" descr="13_17e"/>
          <p:cNvPicPr/>
          <p:nvPr/>
        </p:nvPicPr>
        <p:blipFill>
          <a:blip r:embed="rId1"/>
          <a:stretch/>
        </p:blipFill>
        <p:spPr>
          <a:xfrm>
            <a:off x="4038480" y="3886200"/>
            <a:ext cx="3810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727A-D459-446F-ABB3-DD8AE20BCF1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event when mouse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// </a:t>
            </a:r>
            <a:r>
              <a:rPr b="1" i="1" lang="ar-SA" sz="2000" spc="-1" strike="noStrike">
                <a:solidFill>
                  <a:srgbClr val="595959"/>
                </a:solidFill>
                <a:latin typeface="Times New Roman"/>
              </a:rPr>
              <a:t>ينتج هذا الحدث عند  تحريك الماوس فقط على المساحة المحدده بالـ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useMov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ouse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statusBa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Text( “Moved at [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" +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Y( 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"]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03" name="Picture 6" descr="13_17c"/>
          <p:cNvPicPr/>
          <p:nvPr/>
        </p:nvPicPr>
        <p:blipFill>
          <a:blip r:embed="rId1"/>
          <a:stretch/>
        </p:blipFill>
        <p:spPr>
          <a:xfrm>
            <a:off x="3962520" y="4038480"/>
            <a:ext cx="4038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0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useTrack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mouseTrack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304920" y="228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9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380880" y="609480"/>
            <a:ext cx="8382240" cy="4343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0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7B28-5F52-4B4A-A35C-9444A719D69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6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CombBox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99072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959"/>
                </a:solidFill>
                <a:latin typeface="Lucida Console"/>
              </a:rPr>
              <a:t>Event Typ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         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: 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ItemEvent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959"/>
                </a:solidFill>
                <a:latin typeface="Lucida Console"/>
              </a:rPr>
              <a:t>Implements Interfac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Lucida Console"/>
              </a:rPr>
              <a:t>ItemListener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dd Event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إضافة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mboBox.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addItemListen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andel Even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تنفيذ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itemStateChange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tem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// determine whether check box selected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025-9652-45EE-9770-6F92B7F48FC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(6): Using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ombo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e following frame when the user select any item in the list the specific picture will displa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13_13a"/>
          <p:cNvPicPr/>
          <p:nvPr/>
        </p:nvPicPr>
        <p:blipFill>
          <a:blip r:embed="rId1"/>
          <a:stretch/>
        </p:blipFill>
        <p:spPr>
          <a:xfrm>
            <a:off x="1523880" y="2895480"/>
            <a:ext cx="60962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A72F-B784-4CFE-BCB8-4E30EE062E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13" name="Picture 4" descr="13_13c"/>
          <p:cNvPicPr/>
          <p:nvPr/>
        </p:nvPicPr>
        <p:blipFill>
          <a:blip r:embed="rId1"/>
          <a:stretch/>
        </p:blipFill>
        <p:spPr>
          <a:xfrm>
            <a:off x="152280" y="4038480"/>
            <a:ext cx="4172040" cy="1644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3_13d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3_13a"/>
          <p:cNvPicPr/>
          <p:nvPr/>
        </p:nvPicPr>
        <p:blipFill>
          <a:blip r:embed="rId3"/>
          <a:stretch/>
        </p:blipFill>
        <p:spPr>
          <a:xfrm>
            <a:off x="152280" y="1708200"/>
            <a:ext cx="4172040" cy="164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3_13b"/>
          <p:cNvPicPr/>
          <p:nvPr/>
        </p:nvPicPr>
        <p:blipFill>
          <a:blip r:embed="rId4"/>
          <a:stretch/>
        </p:blipFill>
        <p:spPr>
          <a:xfrm>
            <a:off x="4572000" y="1671480"/>
            <a:ext cx="4267080" cy="1681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(6): outpu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2133720" y="1143000"/>
            <a:ext cx="38088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6629400" y="1190520"/>
            <a:ext cx="38088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20" name="Straight Arrow Connector 14"/>
          <p:cNvCxnSpPr>
            <a:stCxn id="118" idx="6"/>
          </p:cNvCxnSpPr>
          <p:nvPr/>
        </p:nvCxnSpPr>
        <p:spPr>
          <a:xfrm>
            <a:off x="2514240" y="1423800"/>
            <a:ext cx="22932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5"/>
          <p:cNvCxnSpPr>
            <a:stCxn id="119" idx="6"/>
          </p:cNvCxnSpPr>
          <p:nvPr/>
        </p:nvCxnSpPr>
        <p:spPr>
          <a:xfrm>
            <a:off x="7009920" y="1471680"/>
            <a:ext cx="227880" cy="511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Oval 21"/>
          <p:cNvSpPr/>
          <p:nvPr/>
        </p:nvSpPr>
        <p:spPr>
          <a:xfrm>
            <a:off x="6781680" y="3475080"/>
            <a:ext cx="38124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23" name="Straight Arrow Connector 22"/>
          <p:cNvCxnSpPr>
            <a:stCxn id="122" idx="6"/>
          </p:cNvCxnSpPr>
          <p:nvPr/>
        </p:nvCxnSpPr>
        <p:spPr>
          <a:xfrm>
            <a:off x="7162920" y="3755880"/>
            <a:ext cx="227520" cy="511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Oval 23"/>
          <p:cNvSpPr/>
          <p:nvPr/>
        </p:nvSpPr>
        <p:spPr>
          <a:xfrm>
            <a:off x="2133720" y="3505320"/>
            <a:ext cx="38088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25" name="Straight Arrow Connector 24"/>
          <p:cNvCxnSpPr/>
          <p:nvPr/>
        </p:nvCxnSpPr>
        <p:spPr>
          <a:xfrm>
            <a:off x="2514240" y="3938400"/>
            <a:ext cx="22932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88A-8AF9-4E78-948D-EB2B0804676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bBox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plements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Item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ComboBox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mboIm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JLabel     label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f7f7f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et the  array  of  ComboBox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ring 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{ "pic.gif", "use.gif", "bug.gif", "anim.gif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set  ImageIcon  array for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100" spc="-1" strike="noStrike">
                <a:solidFill>
                  <a:srgbClr val="c00000"/>
                </a:solidFill>
                <a:latin typeface="Times New Roman"/>
              </a:rPr>
              <a:t>icon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{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ImageIcon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] 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ageIcon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] 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ageIcon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] ) 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ageIcon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a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] )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6813720" y="2057400"/>
            <a:ext cx="1949400" cy="641880"/>
            <a:chOff x="6813720" y="2057400"/>
            <a:chExt cx="1949400" cy="641880"/>
          </a:xfrm>
        </p:grpSpPr>
        <p:sp>
          <p:nvSpPr>
            <p:cNvPr id="131" name="Text Box 6"/>
            <p:cNvSpPr/>
            <p:nvPr/>
          </p:nvSpPr>
          <p:spPr>
            <a:xfrm>
              <a:off x="6813720" y="236196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7314840" y="2057400"/>
              <a:ext cx="30492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BD3-5CE6-44A6-BEEA-0DDE6B9BF84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omboBox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5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Using a JComboBox to select an image to display.</a:t>
            </a:r>
            <a:r>
              <a:rPr b="1" lang="en-US" sz="15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6: set up JComboBox and register its event hand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comboIm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JComboBox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name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display three Items  when the user clicked on Combobox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2060"/>
                </a:solidFill>
                <a:latin typeface="Times New Roman"/>
              </a:rPr>
              <a:t>comboImg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setMaximumRowCoun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)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comboIm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dor</dc:creator>
  <dc:description/>
  <dc:language>en-US</dc:language>
  <cp:lastModifiedBy>ahmed azez</cp:lastModifiedBy>
  <dcterms:modified xsi:type="dcterms:W3CDTF">2018-08-03T19:30:23Z</dcterms:modified>
  <cp:revision>685</cp:revision>
  <dc:subject/>
  <dc:title>PowerPoint Presentation</dc:title>
</cp:coreProperties>
</file>