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645275" cy="9172575"/>
  <p:custShowLst>
    <p:custShow name="Custom Show 1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7393C-6809-4F73-94C3-D3AE72E8D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E6C8E-8EE7-43AD-B43D-DC645A72D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E2884-A0A5-4299-9531-70012433F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49807-87AB-41B3-94A4-11FFC0F046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58E4A-B6F4-4813-82DC-5C70EC9A4C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70877-811C-45E4-A0A9-DBF63331E4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F77B1-F59A-42FE-9284-3BD52DF69F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67A0D-57F8-4C79-B7F9-9AFBE13CAD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A0CE1-6EA9-4E56-890F-52CD276C4B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6343E-303B-4A0D-B658-938AEFD9BF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F005B-3609-4EF2-B444-C5358A53E3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0ACC4-693D-4961-AC2B-2B282ED10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DA995-7A48-4D42-B03C-B3C0E5FF26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39B8E-1ED1-4B30-9237-97E923FC16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23A7C-C7BF-4A55-AD4F-EE03F6B3B3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6FE91-DFB3-400E-91DD-9D13F9C45C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82119-4176-4CEB-AB9C-32652EAA50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50015-B4E9-47EF-ADD2-9887C7BF5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BA1B1-F478-488D-AD46-43E077D6D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8831-656F-41F6-8F31-64AA04A27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056E9-0C15-4599-B1BF-3F94A524B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9D8B7-C859-4E31-87A8-8EBE1497B3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0402-9C56-4205-A4B6-9C92A7331E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7EF74-4F98-47B3-9579-757D7879C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5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AutoShape 6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3BF6-42A2-4DA9-ABB4-DBC69F723EA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4" name="AutoShape 5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45" name="AutoShape 6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6BA9-4DCA-4A3A-955C-501E6046FE8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3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4888-D624-4A40-9997-A42D9616A59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07696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cture 4: Graphical User Interface (</a:t>
            </a:r>
            <a:r>
              <a:rPr b="1" lang="en-US" sz="3600" spc="-1" strike="noStrike">
                <a:solidFill>
                  <a:srgbClr val="0050d5"/>
                </a:solidFill>
                <a:latin typeface="Times New Roman"/>
              </a:rPr>
              <a:t>GU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Components: (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art 1 cont.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2273-91D1-49C8-8BF5-37AB72D72B3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java.awt.*;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1: import package java.awt for Graphics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javax.swing.*;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2: import javax.swing for display J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java.awt.event.*;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3: used to handle GUI Ev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  class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extFieldTes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xtends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JFra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mplements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ctionLi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TextField textField1, textField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JPasswordField passwordField;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extFieldTes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){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up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"Testing JTextField and JPasswordField"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etSiz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5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;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Visible(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step4: prepare the container to put the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Container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getContentPa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step5: Specify the layout  manager of container :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etLay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0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91966"/>
                </a:solidFill>
                <a:latin typeface="Times New Roman"/>
              </a:rPr>
              <a:t>FlowLay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)</a:t>
            </a:r>
            <a:r>
              <a:rPr b="0" lang="en-US" sz="2000" spc="-1" strike="noStrike">
                <a:solidFill>
                  <a:srgbClr val="1919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  </a:t>
            </a:r>
            <a:r>
              <a:rPr b="1" lang="en-US" sz="2000" spc="-1" strike="noStrike">
                <a:solidFill>
                  <a:srgbClr val="595959"/>
                </a:solidFill>
                <a:latin typeface="Times New Roman"/>
              </a:rPr>
              <a:t>//start from left to r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4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0490-31E2-424C-8B21-10156ACAE5F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1"/>
          <a:stretch/>
        </p:blipFill>
        <p:spPr>
          <a:xfrm>
            <a:off x="1752480" y="2492280"/>
            <a:ext cx="5400720" cy="2003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560" y="6858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 Step 6: Construct textfield with default siz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xtField1 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JTextField( 1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add( textField1 ); 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 add textField  into 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4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04920" y="685800"/>
            <a:ext cx="8381880" cy="1447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cxnSp>
        <p:nvCxnSpPr>
          <p:cNvPr id="127" name="Straight Arrow Connector 11"/>
          <p:cNvCxnSpPr/>
          <p:nvPr/>
        </p:nvCxnSpPr>
        <p:spPr>
          <a:xfrm flipH="1">
            <a:off x="5180760" y="1676520"/>
            <a:ext cx="686520" cy="1296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4476-E18E-4F06-84CA-499593305C3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1752480" y="3429000"/>
            <a:ext cx="5543640" cy="20048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09120" y="838080"/>
            <a:ext cx="84582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 Step 7: Construct textfield with default siz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xtField2 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JTextField("Uneditable text field", 2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extField2.setEditable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add( textField2 ); 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 add textField  into 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4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cxnSp>
        <p:nvCxnSpPr>
          <p:cNvPr id="132" name="Straight Arrow Connector 11"/>
          <p:cNvCxnSpPr/>
          <p:nvPr/>
        </p:nvCxnSpPr>
        <p:spPr>
          <a:xfrm flipH="1">
            <a:off x="4876200" y="2666520"/>
            <a:ext cx="686520" cy="1296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65F9-E969-485E-9BBF-091510294EC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714680" y="2743200"/>
            <a:ext cx="5600520" cy="2036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838080"/>
            <a:ext cx="845820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595959"/>
                </a:solidFill>
                <a:latin typeface="Times New Roman"/>
              </a:rPr>
              <a:t>// Step 8: Construct textfield with default siz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swordField 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JPasswordField( "Hidden text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add(passwordField ); 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 add passwordFiel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into 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4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cxnSp>
        <p:nvCxnSpPr>
          <p:cNvPr id="137" name="Straight Arrow Connector 11"/>
          <p:cNvCxnSpPr/>
          <p:nvPr/>
        </p:nvCxnSpPr>
        <p:spPr>
          <a:xfrm flipH="1">
            <a:off x="4876200" y="2286000"/>
            <a:ext cx="686520" cy="1296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E6A6-23A0-4E20-A35B-BD9A501EEFC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4582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595959"/>
                </a:solidFill>
                <a:latin typeface="Times New Roman"/>
              </a:rPr>
              <a:t>// Step 9: Register event handl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xtField1.addActionListener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xtField2.addActionListener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swordField.addActionListener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end of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voi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ctionPerform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ctionEv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tring = "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 user pressed Enter in JTextField textFiel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 event.getSource() == textField1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ing = "textField1: " + event.getActionComman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4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76C1-B157-4204-B7C3-4221E3EEC4B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 user pressed Enter in JTextField textField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els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( event.getSource() == textField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ring = "textField2: " + event.getActionCommand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 user pressed Enter in JTextField passwordFi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lse if ( event.getSource() == passwordField 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strin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= "passwordField: "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Strin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passwordField.getPassword(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OptionPane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wMessageDialo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l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string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 end method actionPerform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void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a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rgs[]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{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create an object to execute ou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TextFieldTes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app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TextFieldTes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et Close operation of Jframe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s.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etDefaultCloseOperat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JFrame.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XIT_ON_CLO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end of 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end class TextField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4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48F9-7DCE-40E5-89D3-9CA18EC2F6A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How Event Handling Work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open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 did event handler get registere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 component’s method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addActionLi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 does component know to call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actionPerform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 is dispatched 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يُرسل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to listeners of appropriate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event type has corresponding event-listene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0BF2-8C6B-4421-92BE-8CA00E8611F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How Event Handling Work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ough component’s method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addActionListe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extField1.addActionListener(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thi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ctionPerform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event type has corresponding event-listener inter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void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ctionPerforme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ActionEvent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class must implements ActionListe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public clas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TFiledTest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extend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JFrame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implement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ActionListe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6573-12C5-47A7-9C3D-1ECD0E12529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vent registration for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TextF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textField1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153" name="Group 3"/>
          <p:cNvGrpSpPr/>
          <p:nvPr/>
        </p:nvGrpSpPr>
        <p:grpSpPr>
          <a:xfrm>
            <a:off x="1143000" y="1752480"/>
            <a:ext cx="6171840" cy="3389040"/>
            <a:chOff x="1143000" y="1752480"/>
            <a:chExt cx="6171840" cy="3389040"/>
          </a:xfrm>
        </p:grpSpPr>
        <p:sp>
          <p:nvSpPr>
            <p:cNvPr id="154" name="Rectangle 4"/>
            <p:cNvSpPr/>
            <p:nvPr/>
          </p:nvSpPr>
          <p:spPr>
            <a:xfrm>
              <a:off x="1143000" y="1752480"/>
              <a:ext cx="6071040" cy="338904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grpSp>
          <p:nvGrpSpPr>
            <p:cNvPr id="155" name="Group 5"/>
            <p:cNvGrpSpPr/>
            <p:nvPr/>
          </p:nvGrpSpPr>
          <p:grpSpPr>
            <a:xfrm>
              <a:off x="1288080" y="2114640"/>
              <a:ext cx="201960" cy="246240"/>
              <a:chOff x="1288080" y="2114640"/>
              <a:chExt cx="201960" cy="246240"/>
            </a:xfrm>
          </p:grpSpPr>
          <p:sp>
            <p:nvSpPr>
              <p:cNvPr id="156" name="Freeform 6"/>
              <p:cNvSpPr/>
              <p:nvPr/>
            </p:nvSpPr>
            <p:spPr>
              <a:xfrm>
                <a:off x="1288080" y="2114640"/>
                <a:ext cx="201960" cy="246240"/>
              </a:xfrm>
              <a:custGeom>
                <a:avLst/>
                <a:gdLst>
                  <a:gd name="textAreaLeft" fmla="*/ 0 w 201960"/>
                  <a:gd name="textAreaRight" fmla="*/ 202320 w 20196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17" y="0"/>
                    </a:moveTo>
                    <a:lnTo>
                      <a:pt x="19917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17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sp>
            <p:nvSpPr>
              <p:cNvPr id="157" name="Oval 7"/>
              <p:cNvSpPr/>
              <p:nvPr/>
            </p:nvSpPr>
            <p:spPr>
              <a:xfrm>
                <a:off x="1354680" y="2196720"/>
                <a:ext cx="68040" cy="82800"/>
              </a:xfrm>
              <a:prstGeom prst="ellips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158" name="Group 8"/>
            <p:cNvGrpSpPr/>
            <p:nvPr/>
          </p:nvGrpSpPr>
          <p:grpSpPr>
            <a:xfrm>
              <a:off x="2198880" y="2882880"/>
              <a:ext cx="201960" cy="246960"/>
              <a:chOff x="2198880" y="2882880"/>
              <a:chExt cx="201960" cy="246960"/>
            </a:xfrm>
          </p:grpSpPr>
          <p:sp>
            <p:nvSpPr>
              <p:cNvPr id="159" name="Freeform 9"/>
              <p:cNvSpPr/>
              <p:nvPr/>
            </p:nvSpPr>
            <p:spPr>
              <a:xfrm>
                <a:off x="2198880" y="2882880"/>
                <a:ext cx="201960" cy="246960"/>
              </a:xfrm>
              <a:custGeom>
                <a:avLst/>
                <a:gdLst>
                  <a:gd name="textAreaLeft" fmla="*/ 0 w 201960"/>
                  <a:gd name="textAreaRight" fmla="*/ 202320 w 20196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17" y="0"/>
                    </a:moveTo>
                    <a:lnTo>
                      <a:pt x="19917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17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sp>
            <p:nvSpPr>
              <p:cNvPr id="160" name="Oval 10"/>
              <p:cNvSpPr/>
              <p:nvPr/>
            </p:nvSpPr>
            <p:spPr>
              <a:xfrm>
                <a:off x="2265120" y="2964960"/>
                <a:ext cx="68040" cy="83160"/>
              </a:xfrm>
              <a:prstGeom prst="ellips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sp>
          <p:nvSpPr>
            <p:cNvPr id="161" name="Freeform 11"/>
            <p:cNvSpPr/>
            <p:nvPr/>
          </p:nvSpPr>
          <p:spPr>
            <a:xfrm>
              <a:off x="2198880" y="4026600"/>
              <a:ext cx="201960" cy="24624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17" y="0"/>
                  </a:moveTo>
                  <a:lnTo>
                    <a:pt x="19917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17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62" name="Oval 12"/>
            <p:cNvSpPr/>
            <p:nvPr/>
          </p:nvSpPr>
          <p:spPr>
            <a:xfrm>
              <a:off x="2266200" y="4109040"/>
              <a:ext cx="67320" cy="82080"/>
            </a:xfrm>
            <a:prstGeom prst="ellipse">
              <a:avLst/>
            </a:prstGeom>
            <a:solidFill>
              <a:srgbClr val="4db3e6"/>
            </a:solidFill>
            <a:ln w="3240">
              <a:solidFill>
                <a:srgbClr val="4db3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rm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2401200" y="4026600"/>
              <a:ext cx="202680" cy="24624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17" y="0"/>
                  </a:moveTo>
                  <a:lnTo>
                    <a:pt x="19917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17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2603880" y="4026600"/>
              <a:ext cx="201960" cy="24624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17" y="0"/>
                  </a:moveTo>
                  <a:lnTo>
                    <a:pt x="19917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17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2805840" y="4026600"/>
              <a:ext cx="201960" cy="24624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17" y="0"/>
                  </a:moveTo>
                  <a:lnTo>
                    <a:pt x="19917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17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grpSp>
          <p:nvGrpSpPr>
            <p:cNvPr id="166" name="Group 16"/>
            <p:cNvGrpSpPr/>
            <p:nvPr/>
          </p:nvGrpSpPr>
          <p:grpSpPr>
            <a:xfrm>
              <a:off x="3965040" y="2114640"/>
              <a:ext cx="202680" cy="246240"/>
              <a:chOff x="3965040" y="2114640"/>
              <a:chExt cx="202680" cy="246240"/>
            </a:xfrm>
          </p:grpSpPr>
          <p:sp>
            <p:nvSpPr>
              <p:cNvPr id="167" name="Freeform 17"/>
              <p:cNvSpPr/>
              <p:nvPr/>
            </p:nvSpPr>
            <p:spPr>
              <a:xfrm>
                <a:off x="3965040" y="2114640"/>
                <a:ext cx="202680" cy="246240"/>
              </a:xfrm>
              <a:custGeom>
                <a:avLst/>
                <a:gdLst>
                  <a:gd name="textAreaLeft" fmla="*/ 0 w 202680"/>
                  <a:gd name="textAreaRight" fmla="*/ 203040 w 2026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17" y="0"/>
                    </a:moveTo>
                    <a:lnTo>
                      <a:pt x="19917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17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sp>
            <p:nvSpPr>
              <p:cNvPr id="168" name="Oval 18"/>
              <p:cNvSpPr/>
              <p:nvPr/>
            </p:nvSpPr>
            <p:spPr>
              <a:xfrm>
                <a:off x="4031640" y="2196720"/>
                <a:ext cx="68400" cy="82800"/>
              </a:xfrm>
              <a:prstGeom prst="ellips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sp>
          <p:nvSpPr>
            <p:cNvPr id="169" name="Rectangle 19"/>
            <p:cNvSpPr/>
            <p:nvPr/>
          </p:nvSpPr>
          <p:spPr>
            <a:xfrm>
              <a:off x="1288080" y="1909080"/>
              <a:ext cx="10688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textField1</a:t>
              </a:r>
              <a:endParaRPr b="1" lang="en-US" sz="12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70" name="Freeform 20"/>
            <p:cNvSpPr/>
            <p:nvPr/>
          </p:nvSpPr>
          <p:spPr>
            <a:xfrm>
              <a:off x="1288080" y="2114640"/>
              <a:ext cx="201960" cy="24624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17" y="0"/>
                  </a:moveTo>
                  <a:lnTo>
                    <a:pt x="19917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17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71" name="Oval 21"/>
            <p:cNvSpPr/>
            <p:nvPr/>
          </p:nvSpPr>
          <p:spPr>
            <a:xfrm>
              <a:off x="1355400" y="2197080"/>
              <a:ext cx="67320" cy="82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rm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72" name="Freeform 22"/>
            <p:cNvSpPr/>
            <p:nvPr/>
          </p:nvSpPr>
          <p:spPr>
            <a:xfrm>
              <a:off x="1391400" y="2237760"/>
              <a:ext cx="337320" cy="411120"/>
            </a:xfrm>
            <a:custGeom>
              <a:avLst/>
              <a:gdLst>
                <a:gd name="textAreaLeft" fmla="*/ 0 w 337320"/>
                <a:gd name="textAreaRight" fmla="*/ 337680 w 33732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50" y="1995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73" name="Freeform 23"/>
            <p:cNvSpPr/>
            <p:nvPr/>
          </p:nvSpPr>
          <p:spPr>
            <a:xfrm>
              <a:off x="2198880" y="2882880"/>
              <a:ext cx="201960" cy="24696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17" y="0"/>
                  </a:moveTo>
                  <a:lnTo>
                    <a:pt x="19917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17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74" name="Oval 24"/>
            <p:cNvSpPr/>
            <p:nvPr/>
          </p:nvSpPr>
          <p:spPr>
            <a:xfrm>
              <a:off x="2266200" y="2964960"/>
              <a:ext cx="67320" cy="849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rm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75" name="Freeform 25"/>
            <p:cNvSpPr/>
            <p:nvPr/>
          </p:nvSpPr>
          <p:spPr>
            <a:xfrm>
              <a:off x="2300040" y="3019320"/>
              <a:ext cx="360" cy="1007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76" name="Rectangle 26"/>
            <p:cNvSpPr/>
            <p:nvPr/>
          </p:nvSpPr>
          <p:spPr>
            <a:xfrm>
              <a:off x="1834200" y="2718360"/>
              <a:ext cx="107928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LucidaSansTypewriter"/>
                  <a:ea typeface="Times New Roman"/>
                </a:rPr>
                <a:t>listenerList</a:t>
              </a:r>
              <a:endParaRPr b="1" lang="en-US" sz="8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77" name="Freeform 27"/>
            <p:cNvSpPr/>
            <p:nvPr/>
          </p:nvSpPr>
          <p:spPr>
            <a:xfrm>
              <a:off x="2198880" y="4026600"/>
              <a:ext cx="201960" cy="24624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17" y="0"/>
                  </a:moveTo>
                  <a:lnTo>
                    <a:pt x="19917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17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78" name="Oval 28"/>
            <p:cNvSpPr/>
            <p:nvPr/>
          </p:nvSpPr>
          <p:spPr>
            <a:xfrm>
              <a:off x="2266200" y="4109040"/>
              <a:ext cx="67320" cy="82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rm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79" name="Freeform 29"/>
            <p:cNvSpPr/>
            <p:nvPr/>
          </p:nvSpPr>
          <p:spPr>
            <a:xfrm>
              <a:off x="2401200" y="4026600"/>
              <a:ext cx="202680" cy="24624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17" y="0"/>
                  </a:moveTo>
                  <a:lnTo>
                    <a:pt x="19917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17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80" name="Freeform 30"/>
            <p:cNvSpPr/>
            <p:nvPr/>
          </p:nvSpPr>
          <p:spPr>
            <a:xfrm>
              <a:off x="2603880" y="4026600"/>
              <a:ext cx="201960" cy="24624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17" y="0"/>
                  </a:moveTo>
                  <a:lnTo>
                    <a:pt x="19917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17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81" name="Freeform 31"/>
            <p:cNvSpPr/>
            <p:nvPr/>
          </p:nvSpPr>
          <p:spPr>
            <a:xfrm>
              <a:off x="2805840" y="4026600"/>
              <a:ext cx="201960" cy="24624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17" y="0"/>
                  </a:moveTo>
                  <a:lnTo>
                    <a:pt x="19917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17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82" name="Rectangle 32"/>
            <p:cNvSpPr/>
            <p:nvPr/>
          </p:nvSpPr>
          <p:spPr>
            <a:xfrm>
              <a:off x="3042000" y="4067640"/>
              <a:ext cx="50544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LucidaSansTypewriter"/>
                  <a:ea typeface="Times New Roman"/>
                </a:rPr>
                <a:t>...</a:t>
              </a:r>
              <a:endParaRPr b="1" lang="en-US" sz="8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83" name="Rectangle 33"/>
            <p:cNvSpPr/>
            <p:nvPr/>
          </p:nvSpPr>
          <p:spPr>
            <a:xfrm>
              <a:off x="3965040" y="1909080"/>
              <a:ext cx="71892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handler</a:t>
              </a:r>
              <a:endParaRPr b="1" lang="en-US" sz="12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84" name="Freeform 34"/>
            <p:cNvSpPr/>
            <p:nvPr/>
          </p:nvSpPr>
          <p:spPr>
            <a:xfrm>
              <a:off x="3965040" y="2114640"/>
              <a:ext cx="202680" cy="24624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17" y="0"/>
                  </a:moveTo>
                  <a:lnTo>
                    <a:pt x="19917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17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85" name="Oval 35"/>
            <p:cNvSpPr/>
            <p:nvPr/>
          </p:nvSpPr>
          <p:spPr>
            <a:xfrm>
              <a:off x="4032720" y="2197080"/>
              <a:ext cx="67680" cy="82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rm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86" name="Freeform 36"/>
            <p:cNvSpPr/>
            <p:nvPr/>
          </p:nvSpPr>
          <p:spPr>
            <a:xfrm>
              <a:off x="4066560" y="2237760"/>
              <a:ext cx="370800" cy="41112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55" y="1995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87" name="Freeform 37"/>
            <p:cNvSpPr/>
            <p:nvPr/>
          </p:nvSpPr>
          <p:spPr>
            <a:xfrm>
              <a:off x="2300040" y="3247560"/>
              <a:ext cx="2160720" cy="1107720"/>
            </a:xfrm>
            <a:custGeom>
              <a:avLst/>
              <a:gdLst>
                <a:gd name="textAreaLeft" fmla="*/ 0 w 2160720"/>
                <a:gd name="textAreaRight" fmla="*/ 2160720 w 2160720"/>
                <a:gd name="textAreaTop" fmla="*/ 0 h 1107720"/>
                <a:gd name="textAreaBottom" fmla="*/ 1108080 h 110772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92" y="0"/>
                  </a:moveTo>
                  <a:lnTo>
                    <a:pt x="14971" y="0"/>
                  </a:lnTo>
                  <a:lnTo>
                    <a:pt x="14971" y="19981"/>
                  </a:lnTo>
                  <a:lnTo>
                    <a:pt x="0" y="19981"/>
                  </a:lnTo>
                  <a:lnTo>
                    <a:pt x="0" y="1626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88" name="Rectangle 38"/>
            <p:cNvSpPr/>
            <p:nvPr/>
          </p:nvSpPr>
          <p:spPr>
            <a:xfrm>
              <a:off x="2761560" y="4561200"/>
              <a:ext cx="4553280" cy="5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is reference is created by the statement</a:t>
              </a:r>
              <a:endParaRPr b="1" lang="en-US" sz="1200" spc="-1" strike="noStrike">
                <a:solidFill>
                  <a:srgbClr val="000000"/>
                </a:solidFill>
                <a:latin typeface="Lucida Console"/>
              </a:endParaRPr>
            </a:p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LucidaSansTypewriter"/>
                  <a:ea typeface="Times New Roman"/>
                </a:rPr>
                <a:t>   </a:t>
              </a:r>
              <a:r>
                <a:rPr b="0" sz="12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textField1.addActionListener( handler );</a:t>
              </a:r>
              <a:endParaRPr b="1" lang="en-US" sz="12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89" name="Freeform 39"/>
            <p:cNvSpPr/>
            <p:nvPr/>
          </p:nvSpPr>
          <p:spPr>
            <a:xfrm>
              <a:off x="3952800" y="4231800"/>
              <a:ext cx="235800" cy="28764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20000" h="20000">
                  <a:moveTo>
                    <a:pt x="0" y="0"/>
                  </a:moveTo>
                  <a:lnTo>
                    <a:pt x="19929" y="1992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grpSp>
          <p:nvGrpSpPr>
            <p:cNvPr id="190" name="Group 40"/>
            <p:cNvGrpSpPr/>
            <p:nvPr/>
          </p:nvGrpSpPr>
          <p:grpSpPr>
            <a:xfrm>
              <a:off x="4456800" y="2643840"/>
              <a:ext cx="2487240" cy="1176840"/>
              <a:chOff x="4456800" y="2643840"/>
              <a:chExt cx="2487240" cy="1176840"/>
            </a:xfrm>
          </p:grpSpPr>
          <p:sp>
            <p:nvSpPr>
              <p:cNvPr id="191" name="Rectangle 41"/>
              <p:cNvSpPr/>
              <p:nvPr/>
            </p:nvSpPr>
            <p:spPr>
              <a:xfrm>
                <a:off x="4533480" y="2730240"/>
                <a:ext cx="2332440" cy="104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800" spc="-1" strike="noStrike">
                    <a:solidFill>
                      <a:srgbClr val="000000"/>
                    </a:solidFill>
                    <a:latin typeface="LucidaSansTypewriter"/>
                    <a:ea typeface="Times New Roman"/>
                  </a:rPr>
                  <a:t>public void actionPerformed(</a:t>
                </a:r>
                <a:br>
                  <a:rPr sz="800"/>
                </a:br>
                <a:r>
                  <a:rPr b="0" sz="800" spc="-1" strike="noStrike">
                    <a:solidFill>
                      <a:srgbClr val="000000"/>
                    </a:solidFill>
                    <a:latin typeface="LucidaSansTypewriter"/>
                    <a:ea typeface="Times New Roman"/>
                  </a:rPr>
                  <a:t>   ActionEvent event )</a:t>
                </a:r>
                <a:br>
                  <a:rPr sz="800"/>
                </a:br>
                <a:r>
                  <a:rPr b="0" sz="800" spc="-1" strike="noStrike">
                    <a:solidFill>
                      <a:srgbClr val="000000"/>
                    </a:solidFill>
                    <a:latin typeface="LucidaSansTypewriter"/>
                    <a:ea typeface="Times New Roman"/>
                  </a:rPr>
                  <a:t>{ </a:t>
                </a:r>
                <a:endParaRPr b="1" lang="en-US" sz="800" spc="-1" strike="noStrike">
                  <a:solidFill>
                    <a:srgbClr val="000000"/>
                  </a:solidFill>
                  <a:latin typeface="Lucida Console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800" spc="-1" strike="noStrike">
                    <a:solidFill>
                      <a:srgbClr val="000000"/>
                    </a:solidFill>
                    <a:latin typeface="LucidaSansTypewriter"/>
                    <a:ea typeface="Times New Roman"/>
                  </a:rPr>
                  <a:t>  </a:t>
                </a:r>
                <a:r>
                  <a:rPr b="0" sz="800" spc="-1" strike="noStrike">
                    <a:solidFill>
                      <a:srgbClr val="000000"/>
                    </a:solidFill>
                    <a:latin typeface="LucidaSansTypewriter"/>
                    <a:ea typeface="Times New Roman"/>
                  </a:rPr>
                  <a:t>// event handled here</a:t>
                </a:r>
                <a:endParaRPr b="1" lang="en-US" sz="800" spc="-1" strike="noStrike">
                  <a:solidFill>
                    <a:srgbClr val="000000"/>
                  </a:solidFill>
                  <a:latin typeface="Lucida Console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800" spc="-1" strike="noStrike">
                    <a:solidFill>
                      <a:srgbClr val="000000"/>
                    </a:solidFill>
                    <a:latin typeface="LucidaSansTypewriter"/>
                    <a:ea typeface="Times New Roman"/>
                  </a:rPr>
                  <a:t>}</a:t>
                </a:r>
                <a:endParaRPr b="1" lang="en-US" sz="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grpSp>
            <p:nvGrpSpPr>
              <p:cNvPr id="192" name="Group 42"/>
              <p:cNvGrpSpPr/>
              <p:nvPr/>
            </p:nvGrpSpPr>
            <p:grpSpPr>
              <a:xfrm>
                <a:off x="4456800" y="2643840"/>
                <a:ext cx="2487240" cy="1176840"/>
                <a:chOff x="4456800" y="2643840"/>
                <a:chExt cx="2487240" cy="1176840"/>
              </a:xfrm>
            </p:grpSpPr>
            <p:sp>
              <p:nvSpPr>
                <p:cNvPr id="193" name="Freeform 43"/>
                <p:cNvSpPr/>
                <p:nvPr/>
              </p:nvSpPr>
              <p:spPr>
                <a:xfrm>
                  <a:off x="4456800" y="2643840"/>
                  <a:ext cx="2487240" cy="1176840"/>
                </a:xfrm>
                <a:custGeom>
                  <a:avLst/>
                  <a:gdLst>
                    <a:gd name="textAreaLeft" fmla="*/ 0 w 2487240"/>
                    <a:gd name="textAreaRight" fmla="*/ 2487240 w 2487240"/>
                    <a:gd name="textAreaTop" fmla="*/ 0 h 1176840"/>
                    <a:gd name="textAreaBottom" fmla="*/ 1177200 h 117684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93" y="0"/>
                      </a:moveTo>
                      <a:lnTo>
                        <a:pt x="19993" y="19983"/>
                      </a:lnTo>
                      <a:lnTo>
                        <a:pt x="0" y="19983"/>
                      </a:lnTo>
                      <a:lnTo>
                        <a:pt x="0" y="0"/>
                      </a:lnTo>
                      <a:lnTo>
                        <a:pt x="19993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Lucida Console"/>
                  </a:endParaRPr>
                </a:p>
              </p:txBody>
            </p:sp>
            <p:sp>
              <p:nvSpPr>
                <p:cNvPr id="194" name="Freeform 44"/>
                <p:cNvSpPr/>
                <p:nvPr/>
              </p:nvSpPr>
              <p:spPr>
                <a:xfrm>
                  <a:off x="4456800" y="2643840"/>
                  <a:ext cx="2487240" cy="1176840"/>
                </a:xfrm>
                <a:custGeom>
                  <a:avLst/>
                  <a:gdLst>
                    <a:gd name="textAreaLeft" fmla="*/ 0 w 2487240"/>
                    <a:gd name="textAreaRight" fmla="*/ 2487240 w 2487240"/>
                    <a:gd name="textAreaTop" fmla="*/ 0 h 1176840"/>
                    <a:gd name="textAreaBottom" fmla="*/ 1177200 h 117684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93" y="0"/>
                      </a:moveTo>
                      <a:lnTo>
                        <a:pt x="19993" y="19983"/>
                      </a:lnTo>
                      <a:lnTo>
                        <a:pt x="0" y="19983"/>
                      </a:lnTo>
                      <a:lnTo>
                        <a:pt x="0" y="0"/>
                      </a:lnTo>
                      <a:lnTo>
                        <a:pt x="19993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Lucida Console"/>
                  </a:endParaRPr>
                </a:p>
              </p:txBody>
            </p:sp>
          </p:grpSp>
        </p:grpSp>
        <p:grpSp>
          <p:nvGrpSpPr>
            <p:cNvPr id="195" name="Group 45"/>
            <p:cNvGrpSpPr/>
            <p:nvPr/>
          </p:nvGrpSpPr>
          <p:grpSpPr>
            <a:xfrm>
              <a:off x="1729080" y="2643840"/>
              <a:ext cx="1852560" cy="1176840"/>
              <a:chOff x="1729080" y="2643840"/>
              <a:chExt cx="1852560" cy="1176840"/>
            </a:xfrm>
          </p:grpSpPr>
          <p:sp>
            <p:nvSpPr>
              <p:cNvPr id="196" name="Freeform 46"/>
              <p:cNvSpPr/>
              <p:nvPr/>
            </p:nvSpPr>
            <p:spPr>
              <a:xfrm>
                <a:off x="1729080" y="2643840"/>
                <a:ext cx="1852560" cy="1176840"/>
              </a:xfrm>
              <a:custGeom>
                <a:avLst/>
                <a:gdLst>
                  <a:gd name="textAreaLeft" fmla="*/ 0 w 1852560"/>
                  <a:gd name="textAreaRight" fmla="*/ 1852920 w 1852560"/>
                  <a:gd name="textAreaTop" fmla="*/ 0 h 1176840"/>
                  <a:gd name="textAreaBottom" fmla="*/ 1177200 h 11768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91" y="0"/>
                    </a:moveTo>
                    <a:lnTo>
                      <a:pt x="19991" y="19983"/>
                    </a:lnTo>
                    <a:lnTo>
                      <a:pt x="0" y="19983"/>
                    </a:lnTo>
                    <a:lnTo>
                      <a:pt x="0" y="0"/>
                    </a:lnTo>
                    <a:lnTo>
                      <a:pt x="1999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sp>
            <p:nvSpPr>
              <p:cNvPr id="197" name="Freeform 47"/>
              <p:cNvSpPr/>
              <p:nvPr/>
            </p:nvSpPr>
            <p:spPr>
              <a:xfrm>
                <a:off x="1729080" y="2643840"/>
                <a:ext cx="1852560" cy="1176840"/>
              </a:xfrm>
              <a:custGeom>
                <a:avLst/>
                <a:gdLst>
                  <a:gd name="textAreaLeft" fmla="*/ 0 w 1852560"/>
                  <a:gd name="textAreaRight" fmla="*/ 1852920 w 1852560"/>
                  <a:gd name="textAreaTop" fmla="*/ 0 h 1176840"/>
                  <a:gd name="textAreaBottom" fmla="*/ 1177200 h 11768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91" y="0"/>
                    </a:moveTo>
                    <a:lnTo>
                      <a:pt x="19991" y="19983"/>
                    </a:lnTo>
                    <a:lnTo>
                      <a:pt x="0" y="19983"/>
                    </a:lnTo>
                    <a:lnTo>
                      <a:pt x="0" y="0"/>
                    </a:lnTo>
                    <a:lnTo>
                      <a:pt x="1999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sp>
          <p:nvSpPr>
            <p:cNvPr id="198" name="Rectangle 48"/>
            <p:cNvSpPr/>
            <p:nvPr/>
          </p:nvSpPr>
          <p:spPr>
            <a:xfrm>
              <a:off x="2013480" y="3101400"/>
              <a:ext cx="128340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0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JTextField object</a:t>
              </a:r>
              <a:endParaRPr b="1" lang="en-US" sz="12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99" name="Rectangle 49"/>
            <p:cNvSpPr/>
            <p:nvPr/>
          </p:nvSpPr>
          <p:spPr>
            <a:xfrm>
              <a:off x="4814640" y="3101400"/>
              <a:ext cx="176868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0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TextFieldHandler object</a:t>
              </a:r>
              <a:endParaRPr b="1" lang="en-US" sz="12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0EE9-AEE2-413C-B44D-3335ECC4B0F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1144440" y="0"/>
            <a:ext cx="684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0B99-D2EB-478F-8938-2A96CFA32DE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533520" y="914400"/>
            <a:ext cx="79246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verview of Swing Components: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2" marL="14288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JTextField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2" marL="14288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JCheckBox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2" marL="14288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JRadioButton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2" marL="14288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JComboBox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2" marL="14288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Jlist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2" marL="14288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Jpanel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vent Handling  </a:t>
            </a:r>
            <a:r>
              <a:rPr b="1" lang="en-US" sz="2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ow Event Handling Works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ultiple-Selection Lists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tlin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7355-9C47-4506-8EB6-59BA376AD1B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066680" y="17640"/>
            <a:ext cx="693432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01F9-12FB-4480-A8C6-8216A87D305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How Event Handling Works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Using Inner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ough component’s method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addActionListe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TextFieldHandl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handler = new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TextFieldHandl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extField1.addActionListener(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handl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TextFieldHandler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the inner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ctionPerform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s method must be in the inner clas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class must implements ActionListe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B58C-DF7B-4121-878B-A0DA4529280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java.awt.*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1: import package java.awt for Graphic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javax.swing.*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2: import javax.swing for display J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mport 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java.awt.event.*;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3: used to handle GUI Ev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  class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extFieldTes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xtends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JFr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rivat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TextField textField1, textField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JPasswordField passwordField;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extFieldTes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)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sup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"Testing JTextField and JPasswordField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tSiz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;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Visible(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step4: prepare the container to put the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Container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etContentPa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step5: Specify the layout  manager of container :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Lay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91966"/>
                </a:solidFill>
                <a:latin typeface="Times New Roman"/>
              </a:rPr>
              <a:t>FlowLay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r>
              <a:rPr b="0" lang="en-US" sz="2400" spc="-1" strike="noStrike">
                <a:solidFill>
                  <a:srgbClr val="1919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  </a:t>
            </a:r>
            <a:r>
              <a:rPr b="1" lang="en-US" sz="2200" spc="-1" strike="noStrike">
                <a:solidFill>
                  <a:srgbClr val="595959"/>
                </a:solidFill>
                <a:latin typeface="Times New Roman"/>
              </a:rPr>
              <a:t>//start from left to r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4): Using Inner Class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211" name="Group 10"/>
          <p:cNvGrpSpPr/>
          <p:nvPr/>
        </p:nvGrpSpPr>
        <p:grpSpPr>
          <a:xfrm>
            <a:off x="5715000" y="2133360"/>
            <a:ext cx="3048120" cy="905760"/>
            <a:chOff x="5715000" y="2133360"/>
            <a:chExt cx="3048120" cy="905760"/>
          </a:xfrm>
        </p:grpSpPr>
        <p:sp>
          <p:nvSpPr>
            <p:cNvPr id="212" name="Text Box 6"/>
            <p:cNvSpPr/>
            <p:nvPr/>
          </p:nvSpPr>
          <p:spPr>
            <a:xfrm>
              <a:off x="6248520" y="2701800"/>
              <a:ext cx="2514600" cy="337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Lucida Console"/>
                  <a:ea typeface="Times New Roman"/>
                </a:rPr>
                <a:t>No implements here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213" name="Line 7"/>
            <p:cNvSpPr/>
            <p:nvPr/>
          </p:nvSpPr>
          <p:spPr>
            <a:xfrm flipH="1" flipV="1">
              <a:off x="5715000" y="2133360"/>
              <a:ext cx="53352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6F9D-B10C-4E52-AB5A-DC0FD4B3B6D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815364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 Step 6: Construct textfield with default siz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xtField1 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JTextField( 1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add( textField1 ); 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 add textField  into 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 Step 7: Construct textfield with default s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xtField2 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JTextField("Uneditable text field", 2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extField2.setEditable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add( textField2 ); 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 add textField  into 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595959"/>
                </a:solidFill>
                <a:latin typeface="Times New Roman"/>
              </a:rPr>
              <a:t>// Step 8: Construct textfield with default siz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swordField 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JPasswordField( "Hidden text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add(passwordField ); 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 add passwordFiel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into 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78A1-1C35-405E-9B39-06BE7A19E39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4582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595959"/>
                </a:solidFill>
                <a:latin typeface="Times New Roman"/>
              </a:rPr>
              <a:t>// Step 9: Register event handl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extFieldHandl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andler = new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extFieldHandl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xtField1.addActionListener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ndl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xtField2.addActionListener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ndl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swordField.addActionListener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ndl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end of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clas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extFieldHandler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lements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ctionListen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voi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ctionPerform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ctionEv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tring = "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 user pressed Enter in JTextField textFiel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 event.getSource() == textField1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ing = "textField1: " + event.getActionComman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4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219" name="Group 6"/>
          <p:cNvGrpSpPr/>
          <p:nvPr/>
        </p:nvGrpSpPr>
        <p:grpSpPr>
          <a:xfrm>
            <a:off x="4038120" y="1523520"/>
            <a:ext cx="4725000" cy="1633320"/>
            <a:chOff x="4038120" y="1523520"/>
            <a:chExt cx="4725000" cy="1633320"/>
          </a:xfrm>
        </p:grpSpPr>
        <p:sp>
          <p:nvSpPr>
            <p:cNvPr id="220" name="Text Box 4"/>
            <p:cNvSpPr/>
            <p:nvPr/>
          </p:nvSpPr>
          <p:spPr>
            <a:xfrm>
              <a:off x="5257800" y="2819520"/>
              <a:ext cx="350532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Object from inner class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221" name="Line 5"/>
            <p:cNvSpPr/>
            <p:nvPr/>
          </p:nvSpPr>
          <p:spPr>
            <a:xfrm flipH="1" flipV="1">
              <a:off x="4038120" y="1523520"/>
              <a:ext cx="1219320" cy="129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sp>
        <p:nvSpPr>
          <p:cNvPr id="222" name="Text Box 7"/>
          <p:cNvSpPr/>
          <p:nvPr/>
        </p:nvSpPr>
        <p:spPr>
          <a:xfrm>
            <a:off x="5334120" y="4343400"/>
            <a:ext cx="3429000" cy="580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Inner class implements ActionListener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3" name="Line 8"/>
          <p:cNvSpPr/>
          <p:nvPr/>
        </p:nvSpPr>
        <p:spPr>
          <a:xfrm flipH="1" flipV="1">
            <a:off x="6095520" y="3809880"/>
            <a:ext cx="1676520" cy="533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D42E-FC97-4E3A-8C7B-22ECC53DE8B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 user pressed Enter in JTextField textField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els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( event.getSource() == textField2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ring = "textField2: " + event.getActionCommand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 user pressed Enter in JTextField passwordFi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lse if ( event.getSource() == passwordField 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strin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= "passwordField: "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Strin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passwordField.getPassword(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OptionPane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wMessageDialo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l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string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 end method actionPerform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 end the inner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void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a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rgs[]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{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create an object to execute ou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isplayButt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app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isplayButt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et Close operation of Jframe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s.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etDefaultCloseOperat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JFrame.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XIT_ON_CLO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end of 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end class TextField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4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7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E589-7C9A-40E5-BED7-38B7180CF14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GUI Component : </a:t>
            </a:r>
            <a:r>
              <a:rPr b="1" lang="en-US" sz="2800" spc="-1" strike="noStrike">
                <a:solidFill>
                  <a:srgbClr val="ff0000"/>
                </a:solidFill>
                <a:latin typeface="Lucida Console"/>
              </a:rPr>
              <a:t>JCheckBox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Lucida Console"/>
              </a:rPr>
              <a:t>JRadioButt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but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/Off or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 provides three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JToggle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JCheck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JRadio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044E-8021-4747-99BB-F5604C9F6CB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wing button hierarchy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838080" y="1447920"/>
            <a:ext cx="7467840" cy="3427200"/>
            <a:chOff x="838080" y="1447920"/>
            <a:chExt cx="7467840" cy="3427200"/>
          </a:xfrm>
        </p:grpSpPr>
        <p:sp>
          <p:nvSpPr>
            <p:cNvPr id="234" name="Rectangle 4"/>
            <p:cNvSpPr/>
            <p:nvPr/>
          </p:nvSpPr>
          <p:spPr>
            <a:xfrm>
              <a:off x="838080" y="1447920"/>
              <a:ext cx="7467840" cy="34272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grpSp>
          <p:nvGrpSpPr>
            <p:cNvPr id="235" name="Group 5"/>
            <p:cNvGrpSpPr/>
            <p:nvPr/>
          </p:nvGrpSpPr>
          <p:grpSpPr>
            <a:xfrm>
              <a:off x="1074240" y="1708200"/>
              <a:ext cx="6996240" cy="2904840"/>
              <a:chOff x="1074240" y="1708200"/>
              <a:chExt cx="6996240" cy="2904840"/>
            </a:xfrm>
          </p:grpSpPr>
          <p:sp>
            <p:nvSpPr>
              <p:cNvPr id="236" name="Freeform 6"/>
              <p:cNvSpPr/>
              <p:nvPr/>
            </p:nvSpPr>
            <p:spPr>
              <a:xfrm>
                <a:off x="2697480" y="2177280"/>
                <a:ext cx="248400" cy="55836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558360"/>
                  <a:gd name="textAreaBottom" fmla="*/ 558720 h 55836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0" y="19939"/>
                    </a:lnTo>
                    <a:lnTo>
                      <a:pt x="19917" y="1993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grpSp>
            <p:nvGrpSpPr>
              <p:cNvPr id="237" name="Group 7"/>
              <p:cNvGrpSpPr/>
              <p:nvPr/>
            </p:nvGrpSpPr>
            <p:grpSpPr>
              <a:xfrm>
                <a:off x="1074240" y="1708200"/>
                <a:ext cx="1866960" cy="469080"/>
                <a:chOff x="1074240" y="1708200"/>
                <a:chExt cx="1866960" cy="469080"/>
              </a:xfrm>
            </p:grpSpPr>
            <p:sp>
              <p:nvSpPr>
                <p:cNvPr id="238" name="Rectangle 8"/>
                <p:cNvSpPr/>
                <p:nvPr/>
              </p:nvSpPr>
              <p:spPr>
                <a:xfrm>
                  <a:off x="1134360" y="1839960"/>
                  <a:ext cx="1732320" cy="27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LucidaSansTypewriter"/>
                      <a:ea typeface="Times New Roman"/>
                    </a:rPr>
                    <a:t>JComponent</a:t>
                  </a:r>
                  <a:endParaRPr b="1" lang="en-US" sz="800" spc="-1" strike="noStrike">
                    <a:solidFill>
                      <a:srgbClr val="000000"/>
                    </a:solidFill>
                    <a:latin typeface="Lucida Console"/>
                  </a:endParaRPr>
                </a:p>
              </p:txBody>
            </p:sp>
            <p:grpSp>
              <p:nvGrpSpPr>
                <p:cNvPr id="239" name="Group 9"/>
                <p:cNvGrpSpPr/>
                <p:nvPr/>
              </p:nvGrpSpPr>
              <p:grpSpPr>
                <a:xfrm>
                  <a:off x="1074240" y="1708200"/>
                  <a:ext cx="1866960" cy="469080"/>
                  <a:chOff x="1074240" y="1708200"/>
                  <a:chExt cx="1866960" cy="469080"/>
                </a:xfrm>
              </p:grpSpPr>
              <p:sp>
                <p:nvSpPr>
                  <p:cNvPr id="240" name="Freeform 10"/>
                  <p:cNvSpPr/>
                  <p:nvPr/>
                </p:nvSpPr>
                <p:spPr>
                  <a:xfrm>
                    <a:off x="1074240" y="1708200"/>
                    <a:ext cx="1866960" cy="469080"/>
                  </a:xfrm>
                  <a:custGeom>
                    <a:avLst/>
                    <a:gdLst>
                      <a:gd name="textAreaLeft" fmla="*/ 0 w 1866960"/>
                      <a:gd name="textAreaRight" fmla="*/ 1867320 w 1866960"/>
                      <a:gd name="textAreaTop" fmla="*/ 0 h 469080"/>
                      <a:gd name="textAreaBottom" fmla="*/ 469080 h 469080"/>
                    </a:gdLst>
                    <a:ahLst/>
                    <a:rect l="textAreaLeft" t="textAreaTop" r="textAreaRight" b="textAreaBottom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27"/>
                        </a:lnTo>
                        <a:lnTo>
                          <a:pt x="0" y="19927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  <p:sp>
                <p:nvSpPr>
                  <p:cNvPr id="241" name="Freeform 11"/>
                  <p:cNvSpPr/>
                  <p:nvPr/>
                </p:nvSpPr>
                <p:spPr>
                  <a:xfrm>
                    <a:off x="1074240" y="1708200"/>
                    <a:ext cx="1866960" cy="469080"/>
                  </a:xfrm>
                  <a:custGeom>
                    <a:avLst/>
                    <a:gdLst>
                      <a:gd name="textAreaLeft" fmla="*/ 0 w 1866960"/>
                      <a:gd name="textAreaRight" fmla="*/ 1867320 w 1866960"/>
                      <a:gd name="textAreaTop" fmla="*/ 0 h 469080"/>
                      <a:gd name="textAreaBottom" fmla="*/ 469080 h 469080"/>
                    </a:gdLst>
                    <a:ahLst/>
                    <a:rect l="textAreaLeft" t="textAreaTop" r="textAreaRight" b="textAreaBottom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27"/>
                        </a:lnTo>
                        <a:lnTo>
                          <a:pt x="0" y="19927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</p:grpSp>
          </p:grpSp>
          <p:grpSp>
            <p:nvGrpSpPr>
              <p:cNvPr id="242" name="Group 12"/>
              <p:cNvGrpSpPr/>
              <p:nvPr/>
            </p:nvGrpSpPr>
            <p:grpSpPr>
              <a:xfrm>
                <a:off x="2951280" y="2520000"/>
                <a:ext cx="1866960" cy="469080"/>
                <a:chOff x="2951280" y="2520000"/>
                <a:chExt cx="1866960" cy="469080"/>
              </a:xfrm>
            </p:grpSpPr>
            <p:sp>
              <p:nvSpPr>
                <p:cNvPr id="243" name="Rectangle 13"/>
                <p:cNvSpPr/>
                <p:nvPr/>
              </p:nvSpPr>
              <p:spPr>
                <a:xfrm>
                  <a:off x="3012480" y="2651760"/>
                  <a:ext cx="17319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LucidaSansTypewriter"/>
                      <a:ea typeface="Times New Roman"/>
                    </a:rPr>
                    <a:t>AbstractButton</a:t>
                  </a:r>
                  <a:endParaRPr b="1" lang="en-US" sz="800" spc="-1" strike="noStrike">
                    <a:solidFill>
                      <a:srgbClr val="000000"/>
                    </a:solidFill>
                    <a:latin typeface="Lucida Console"/>
                  </a:endParaRPr>
                </a:p>
              </p:txBody>
            </p:sp>
            <p:grpSp>
              <p:nvGrpSpPr>
                <p:cNvPr id="244" name="Group 14"/>
                <p:cNvGrpSpPr/>
                <p:nvPr/>
              </p:nvGrpSpPr>
              <p:grpSpPr>
                <a:xfrm>
                  <a:off x="2951280" y="2520000"/>
                  <a:ext cx="1866960" cy="469080"/>
                  <a:chOff x="2951280" y="2520000"/>
                  <a:chExt cx="1866960" cy="469080"/>
                </a:xfrm>
              </p:grpSpPr>
              <p:sp>
                <p:nvSpPr>
                  <p:cNvPr id="245" name="Freeform 15"/>
                  <p:cNvSpPr/>
                  <p:nvPr/>
                </p:nvSpPr>
                <p:spPr>
                  <a:xfrm>
                    <a:off x="2951280" y="2520000"/>
                    <a:ext cx="1866960" cy="469080"/>
                  </a:xfrm>
                  <a:custGeom>
                    <a:avLst/>
                    <a:gdLst>
                      <a:gd name="textAreaLeft" fmla="*/ 0 w 1866960"/>
                      <a:gd name="textAreaRight" fmla="*/ 1867320 w 1866960"/>
                      <a:gd name="textAreaTop" fmla="*/ 0 h 469080"/>
                      <a:gd name="textAreaBottom" fmla="*/ 469080 h 469080"/>
                    </a:gdLst>
                    <a:ahLst/>
                    <a:rect l="textAreaLeft" t="textAreaTop" r="textAreaRight" b="textAreaBottom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27"/>
                        </a:lnTo>
                        <a:lnTo>
                          <a:pt x="0" y="19927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  <p:sp>
                <p:nvSpPr>
                  <p:cNvPr id="246" name="Freeform 16"/>
                  <p:cNvSpPr/>
                  <p:nvPr/>
                </p:nvSpPr>
                <p:spPr>
                  <a:xfrm>
                    <a:off x="2951280" y="2520000"/>
                    <a:ext cx="1866960" cy="469080"/>
                  </a:xfrm>
                  <a:custGeom>
                    <a:avLst/>
                    <a:gdLst>
                      <a:gd name="textAreaLeft" fmla="*/ 0 w 1866960"/>
                      <a:gd name="textAreaRight" fmla="*/ 1867320 w 1866960"/>
                      <a:gd name="textAreaTop" fmla="*/ 0 h 469080"/>
                      <a:gd name="textAreaBottom" fmla="*/ 469080 h 469080"/>
                    </a:gdLst>
                    <a:ahLst/>
                    <a:rect l="textAreaLeft" t="textAreaTop" r="textAreaRight" b="textAreaBottom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27"/>
                        </a:lnTo>
                        <a:lnTo>
                          <a:pt x="0" y="19927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</p:grpSp>
          </p:grpSp>
          <p:grpSp>
            <p:nvGrpSpPr>
              <p:cNvPr id="247" name="Group 17"/>
              <p:cNvGrpSpPr/>
              <p:nvPr/>
            </p:nvGrpSpPr>
            <p:grpSpPr>
              <a:xfrm>
                <a:off x="4590000" y="2989440"/>
                <a:ext cx="2124360" cy="811440"/>
                <a:chOff x="4590000" y="2989440"/>
                <a:chExt cx="2124360" cy="811440"/>
              </a:xfrm>
            </p:grpSpPr>
            <p:sp>
              <p:nvSpPr>
                <p:cNvPr id="248" name="Freeform 18"/>
                <p:cNvSpPr/>
                <p:nvPr/>
              </p:nvSpPr>
              <p:spPr>
                <a:xfrm>
                  <a:off x="4590000" y="2989440"/>
                  <a:ext cx="248400" cy="558000"/>
                </a:xfrm>
                <a:custGeom>
                  <a:avLst/>
                  <a:gdLst>
                    <a:gd name="textAreaLeft" fmla="*/ 0 w 248400"/>
                    <a:gd name="textAreaRight" fmla="*/ 248760 w 248400"/>
                    <a:gd name="textAreaTop" fmla="*/ 0 h 558000"/>
                    <a:gd name="textAreaBottom" fmla="*/ 558000 h 5580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0" y="0"/>
                      </a:moveTo>
                      <a:lnTo>
                        <a:pt x="0" y="19939"/>
                      </a:lnTo>
                      <a:lnTo>
                        <a:pt x="19917" y="19939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Lucida Console"/>
                  </a:endParaRPr>
                </a:p>
              </p:txBody>
            </p:sp>
            <p:grpSp>
              <p:nvGrpSpPr>
                <p:cNvPr id="249" name="Group 19"/>
                <p:cNvGrpSpPr/>
                <p:nvPr/>
              </p:nvGrpSpPr>
              <p:grpSpPr>
                <a:xfrm>
                  <a:off x="4847760" y="3331800"/>
                  <a:ext cx="1866600" cy="469080"/>
                  <a:chOff x="4847760" y="3331800"/>
                  <a:chExt cx="1866600" cy="469080"/>
                </a:xfrm>
              </p:grpSpPr>
              <p:sp>
                <p:nvSpPr>
                  <p:cNvPr id="250" name="Rectangle 20"/>
                  <p:cNvSpPr/>
                  <p:nvPr/>
                </p:nvSpPr>
                <p:spPr>
                  <a:xfrm>
                    <a:off x="4907520" y="3463560"/>
                    <a:ext cx="1732320" cy="275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sz="800" spc="-1" strike="noStrike">
                        <a:solidFill>
                          <a:srgbClr val="000000"/>
                        </a:solidFill>
                        <a:latin typeface="LucidaSansTypewriter"/>
                        <a:ea typeface="Times New Roman"/>
                      </a:rPr>
                      <a:t>JToggleButton</a:t>
                    </a:r>
                    <a:endParaRPr b="1" lang="en-US" sz="8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  <p:grpSp>
                <p:nvGrpSpPr>
                  <p:cNvPr id="251" name="Group 21"/>
                  <p:cNvGrpSpPr/>
                  <p:nvPr/>
                </p:nvGrpSpPr>
                <p:grpSpPr>
                  <a:xfrm>
                    <a:off x="4847760" y="3331800"/>
                    <a:ext cx="1866600" cy="469080"/>
                    <a:chOff x="4847760" y="3331800"/>
                    <a:chExt cx="1866600" cy="469080"/>
                  </a:xfrm>
                </p:grpSpPr>
                <p:sp>
                  <p:nvSpPr>
                    <p:cNvPr id="252" name="Freeform 22"/>
                    <p:cNvSpPr/>
                    <p:nvPr/>
                  </p:nvSpPr>
                  <p:spPr>
                    <a:xfrm>
                      <a:off x="4847760" y="3331800"/>
                      <a:ext cx="1866600" cy="46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89" y="0"/>
                          </a:moveTo>
                          <a:lnTo>
                            <a:pt x="19989" y="19927"/>
                          </a:lnTo>
                          <a:lnTo>
                            <a:pt x="0" y="19927"/>
                          </a:lnTo>
                          <a:lnTo>
                            <a:pt x="0" y="0"/>
                          </a:lnTo>
                          <a:lnTo>
                            <a:pt x="19989" y="0"/>
                          </a:lnTo>
                          <a:close/>
                        </a:path>
                      </a:pathLst>
                    </a:custGeom>
                    <a:solidFill>
                      <a:srgbClr val="4db3e6"/>
                    </a:solidFill>
                    <a:ln w="3240">
                      <a:solidFill>
                        <a:srgbClr val="4db3e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p:txBody>
                </p:sp>
                <p:sp>
                  <p:nvSpPr>
                    <p:cNvPr id="253" name="Freeform 23"/>
                    <p:cNvSpPr/>
                    <p:nvPr/>
                  </p:nvSpPr>
                  <p:spPr>
                    <a:xfrm>
                      <a:off x="4847760" y="3331800"/>
                      <a:ext cx="1866600" cy="46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89" y="0"/>
                          </a:moveTo>
                          <a:lnTo>
                            <a:pt x="19989" y="19927"/>
                          </a:lnTo>
                          <a:lnTo>
                            <a:pt x="0" y="19927"/>
                          </a:lnTo>
                          <a:lnTo>
                            <a:pt x="0" y="0"/>
                          </a:lnTo>
                          <a:lnTo>
                            <a:pt x="19989" y="0"/>
                          </a:lnTo>
                          <a:close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p:txBody>
                </p:sp>
              </p:grpSp>
            </p:grpSp>
          </p:grpSp>
          <p:grpSp>
            <p:nvGrpSpPr>
              <p:cNvPr id="254" name="Group 24"/>
              <p:cNvGrpSpPr/>
              <p:nvPr/>
            </p:nvGrpSpPr>
            <p:grpSpPr>
              <a:xfrm>
                <a:off x="5946480" y="3801240"/>
                <a:ext cx="2124000" cy="811800"/>
                <a:chOff x="5946480" y="3801240"/>
                <a:chExt cx="2124000" cy="811800"/>
              </a:xfrm>
            </p:grpSpPr>
            <p:sp>
              <p:nvSpPr>
                <p:cNvPr id="255" name="Freeform 25"/>
                <p:cNvSpPr/>
                <p:nvPr/>
              </p:nvSpPr>
              <p:spPr>
                <a:xfrm>
                  <a:off x="5946480" y="3801240"/>
                  <a:ext cx="248760" cy="558360"/>
                </a:xfrm>
                <a:custGeom>
                  <a:avLst/>
                  <a:gdLst>
                    <a:gd name="textAreaLeft" fmla="*/ 0 w 248760"/>
                    <a:gd name="textAreaRight" fmla="*/ 249120 w 248760"/>
                    <a:gd name="textAreaTop" fmla="*/ 0 h 558360"/>
                    <a:gd name="textAreaBottom" fmla="*/ 558720 h 5583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0" y="0"/>
                      </a:moveTo>
                      <a:lnTo>
                        <a:pt x="0" y="19939"/>
                      </a:lnTo>
                      <a:lnTo>
                        <a:pt x="19917" y="19939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Lucida Console"/>
                  </a:endParaRPr>
                </a:p>
              </p:txBody>
            </p:sp>
            <p:grpSp>
              <p:nvGrpSpPr>
                <p:cNvPr id="256" name="Group 26"/>
                <p:cNvGrpSpPr/>
                <p:nvPr/>
              </p:nvGrpSpPr>
              <p:grpSpPr>
                <a:xfrm>
                  <a:off x="6203520" y="4143600"/>
                  <a:ext cx="1866960" cy="469440"/>
                  <a:chOff x="6203520" y="4143600"/>
                  <a:chExt cx="1866960" cy="469440"/>
                </a:xfrm>
              </p:grpSpPr>
              <p:sp>
                <p:nvSpPr>
                  <p:cNvPr id="257" name="Rectangle 27"/>
                  <p:cNvSpPr/>
                  <p:nvPr/>
                </p:nvSpPr>
                <p:spPr>
                  <a:xfrm>
                    <a:off x="6264720" y="4275360"/>
                    <a:ext cx="1731960" cy="275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sz="800" spc="-1" strike="noStrike">
                        <a:solidFill>
                          <a:srgbClr val="000000"/>
                        </a:solidFill>
                        <a:latin typeface="LucidaSansTypewriter"/>
                        <a:ea typeface="Times New Roman"/>
                      </a:rPr>
                      <a:t>JRadioButton</a:t>
                    </a:r>
                    <a:endParaRPr b="1" lang="en-US" sz="8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  <p:grpSp>
                <p:nvGrpSpPr>
                  <p:cNvPr id="258" name="Group 28"/>
                  <p:cNvGrpSpPr/>
                  <p:nvPr/>
                </p:nvGrpSpPr>
                <p:grpSpPr>
                  <a:xfrm>
                    <a:off x="6203520" y="4143600"/>
                    <a:ext cx="1866960" cy="469440"/>
                    <a:chOff x="6203520" y="4143600"/>
                    <a:chExt cx="1866960" cy="469440"/>
                  </a:xfrm>
                </p:grpSpPr>
                <p:sp>
                  <p:nvSpPr>
                    <p:cNvPr id="259" name="Freeform 29"/>
                    <p:cNvSpPr/>
                    <p:nvPr/>
                  </p:nvSpPr>
                  <p:spPr>
                    <a:xfrm>
                      <a:off x="6203520" y="4143600"/>
                      <a:ext cx="1866960" cy="469440"/>
                    </a:xfrm>
                    <a:custGeom>
                      <a:avLst/>
                      <a:gdLst>
                        <a:gd name="textAreaLeft" fmla="*/ 0 w 1866960"/>
                        <a:gd name="textAreaRight" fmla="*/ 1867320 w 1866960"/>
                        <a:gd name="textAreaTop" fmla="*/ 0 h 469440"/>
                        <a:gd name="textAreaBottom" fmla="*/ 469800 h 469440"/>
                      </a:gdLst>
                      <a:ahLst/>
                      <a:rect l="textAreaLeft" t="textAreaTop" r="textAreaRight" b="textAreaBottom"/>
                      <a:pathLst>
                        <a:path w="20000" h="20000">
                          <a:moveTo>
                            <a:pt x="19989" y="0"/>
                          </a:moveTo>
                          <a:lnTo>
                            <a:pt x="19989" y="19927"/>
                          </a:lnTo>
                          <a:lnTo>
                            <a:pt x="0" y="19927"/>
                          </a:lnTo>
                          <a:lnTo>
                            <a:pt x="0" y="0"/>
                          </a:lnTo>
                          <a:lnTo>
                            <a:pt x="19989" y="0"/>
                          </a:lnTo>
                          <a:close/>
                        </a:path>
                      </a:pathLst>
                    </a:custGeom>
                    <a:solidFill>
                      <a:srgbClr val="4db3e6"/>
                    </a:solidFill>
                    <a:ln w="3240">
                      <a:solidFill>
                        <a:srgbClr val="4db3e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p:txBody>
                </p:sp>
                <p:sp>
                  <p:nvSpPr>
                    <p:cNvPr id="260" name="Freeform 30"/>
                    <p:cNvSpPr/>
                    <p:nvPr/>
                  </p:nvSpPr>
                  <p:spPr>
                    <a:xfrm>
                      <a:off x="6203520" y="4143600"/>
                      <a:ext cx="1866960" cy="469440"/>
                    </a:xfrm>
                    <a:custGeom>
                      <a:avLst/>
                      <a:gdLst>
                        <a:gd name="textAreaLeft" fmla="*/ 0 w 1866960"/>
                        <a:gd name="textAreaRight" fmla="*/ 1867320 w 1866960"/>
                        <a:gd name="textAreaTop" fmla="*/ 0 h 469440"/>
                        <a:gd name="textAreaBottom" fmla="*/ 469800 h 469440"/>
                      </a:gdLst>
                      <a:ahLst/>
                      <a:rect l="textAreaLeft" t="textAreaTop" r="textAreaRight" b="textAreaBottom"/>
                      <a:pathLst>
                        <a:path w="20000" h="20000">
                          <a:moveTo>
                            <a:pt x="19989" y="0"/>
                          </a:moveTo>
                          <a:lnTo>
                            <a:pt x="19989" y="19927"/>
                          </a:lnTo>
                          <a:lnTo>
                            <a:pt x="0" y="19927"/>
                          </a:lnTo>
                          <a:lnTo>
                            <a:pt x="0" y="0"/>
                          </a:lnTo>
                          <a:lnTo>
                            <a:pt x="19989" y="0"/>
                          </a:lnTo>
                          <a:close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p:txBody>
                </p:sp>
              </p:grpSp>
            </p:grpSp>
          </p:grpSp>
          <p:grpSp>
            <p:nvGrpSpPr>
              <p:cNvPr id="261" name="Group 31"/>
              <p:cNvGrpSpPr/>
              <p:nvPr/>
            </p:nvGrpSpPr>
            <p:grpSpPr>
              <a:xfrm>
                <a:off x="3479040" y="3801240"/>
                <a:ext cx="2118600" cy="811800"/>
                <a:chOff x="3479040" y="3801240"/>
                <a:chExt cx="2118600" cy="811800"/>
              </a:xfrm>
            </p:grpSpPr>
            <p:sp>
              <p:nvSpPr>
                <p:cNvPr id="262" name="Freeform 32"/>
                <p:cNvSpPr/>
                <p:nvPr/>
              </p:nvSpPr>
              <p:spPr>
                <a:xfrm>
                  <a:off x="5349240" y="3801240"/>
                  <a:ext cx="248400" cy="558360"/>
                </a:xfrm>
                <a:custGeom>
                  <a:avLst/>
                  <a:gdLst>
                    <a:gd name="textAreaLeft" fmla="*/ 0 w 248400"/>
                    <a:gd name="textAreaRight" fmla="*/ 248760 w 248400"/>
                    <a:gd name="textAreaTop" fmla="*/ 0 h 558360"/>
                    <a:gd name="textAreaBottom" fmla="*/ 558720 h 5583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17" y="0"/>
                      </a:moveTo>
                      <a:lnTo>
                        <a:pt x="19917" y="19939"/>
                      </a:lnTo>
                      <a:lnTo>
                        <a:pt x="0" y="19939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Lucida Console"/>
                  </a:endParaRPr>
                </a:p>
              </p:txBody>
            </p:sp>
            <p:grpSp>
              <p:nvGrpSpPr>
                <p:cNvPr id="263" name="Group 33"/>
                <p:cNvGrpSpPr/>
                <p:nvPr/>
              </p:nvGrpSpPr>
              <p:grpSpPr>
                <a:xfrm>
                  <a:off x="3479040" y="4143600"/>
                  <a:ext cx="1866600" cy="469440"/>
                  <a:chOff x="3479040" y="4143600"/>
                  <a:chExt cx="1866600" cy="469440"/>
                </a:xfrm>
              </p:grpSpPr>
              <p:sp>
                <p:nvSpPr>
                  <p:cNvPr id="264" name="Rectangle 34"/>
                  <p:cNvSpPr/>
                  <p:nvPr/>
                </p:nvSpPr>
                <p:spPr>
                  <a:xfrm>
                    <a:off x="3539160" y="4275360"/>
                    <a:ext cx="1731960" cy="275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sz="800" spc="-1" strike="noStrike">
                        <a:solidFill>
                          <a:srgbClr val="000000"/>
                        </a:solidFill>
                        <a:latin typeface="LucidaSansTypewriter"/>
                        <a:ea typeface="Times New Roman"/>
                      </a:rPr>
                      <a:t>JCheckBox</a:t>
                    </a:r>
                    <a:endParaRPr b="1" lang="en-US" sz="8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  <p:grpSp>
                <p:nvGrpSpPr>
                  <p:cNvPr id="265" name="Group 35"/>
                  <p:cNvGrpSpPr/>
                  <p:nvPr/>
                </p:nvGrpSpPr>
                <p:grpSpPr>
                  <a:xfrm>
                    <a:off x="3479040" y="4143600"/>
                    <a:ext cx="1866600" cy="469440"/>
                    <a:chOff x="3479040" y="4143600"/>
                    <a:chExt cx="1866600" cy="469440"/>
                  </a:xfrm>
                </p:grpSpPr>
                <p:sp>
                  <p:nvSpPr>
                    <p:cNvPr id="266" name="Freeform 36"/>
                    <p:cNvSpPr/>
                    <p:nvPr/>
                  </p:nvSpPr>
                  <p:spPr>
                    <a:xfrm>
                      <a:off x="3479040" y="4143600"/>
                      <a:ext cx="1866600" cy="469440"/>
                    </a:xfrm>
                    <a:custGeom>
                      <a:avLst/>
                      <a:gdLst>
                        <a:gd name="textAreaLeft" fmla="*/ 0 w 1866600"/>
                        <a:gd name="textAreaRight" fmla="*/ 1866600 w 1866600"/>
                        <a:gd name="textAreaTop" fmla="*/ 0 h 469440"/>
                        <a:gd name="textAreaBottom" fmla="*/ 469800 h 469440"/>
                      </a:gdLst>
                      <a:ahLst/>
                      <a:rect l="textAreaLeft" t="textAreaTop" r="textAreaRight" b="textAreaBottom"/>
                      <a:pathLst>
                        <a:path w="20000" h="20000">
                          <a:moveTo>
                            <a:pt x="19989" y="0"/>
                          </a:moveTo>
                          <a:lnTo>
                            <a:pt x="19989" y="19927"/>
                          </a:lnTo>
                          <a:lnTo>
                            <a:pt x="0" y="19927"/>
                          </a:lnTo>
                          <a:lnTo>
                            <a:pt x="0" y="0"/>
                          </a:lnTo>
                          <a:lnTo>
                            <a:pt x="19989" y="0"/>
                          </a:lnTo>
                          <a:close/>
                        </a:path>
                      </a:pathLst>
                    </a:custGeom>
                    <a:solidFill>
                      <a:srgbClr val="4db3e6"/>
                    </a:solidFill>
                    <a:ln w="3240">
                      <a:solidFill>
                        <a:srgbClr val="4db3e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p:txBody>
                </p:sp>
                <p:sp>
                  <p:nvSpPr>
                    <p:cNvPr id="267" name="Freeform 37"/>
                    <p:cNvSpPr/>
                    <p:nvPr/>
                  </p:nvSpPr>
                  <p:spPr>
                    <a:xfrm>
                      <a:off x="3479040" y="4143600"/>
                      <a:ext cx="1866600" cy="469440"/>
                    </a:xfrm>
                    <a:custGeom>
                      <a:avLst/>
                      <a:gdLst>
                        <a:gd name="textAreaLeft" fmla="*/ 0 w 1866600"/>
                        <a:gd name="textAreaRight" fmla="*/ 1866600 w 1866600"/>
                        <a:gd name="textAreaTop" fmla="*/ 0 h 469440"/>
                        <a:gd name="textAreaBottom" fmla="*/ 469800 h 469440"/>
                      </a:gdLst>
                      <a:ahLst/>
                      <a:rect l="textAreaLeft" t="textAreaTop" r="textAreaRight" b="textAreaBottom"/>
                      <a:pathLst>
                        <a:path w="20000" h="20000">
                          <a:moveTo>
                            <a:pt x="19989" y="0"/>
                          </a:moveTo>
                          <a:lnTo>
                            <a:pt x="19989" y="19927"/>
                          </a:lnTo>
                          <a:lnTo>
                            <a:pt x="0" y="19927"/>
                          </a:lnTo>
                          <a:lnTo>
                            <a:pt x="0" y="0"/>
                          </a:lnTo>
                          <a:lnTo>
                            <a:pt x="19989" y="0"/>
                          </a:lnTo>
                          <a:close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p:txBody>
                </p:sp>
              </p:grpSp>
            </p:grpSp>
          </p:grpSp>
          <p:grpSp>
            <p:nvGrpSpPr>
              <p:cNvPr id="268" name="Group 38"/>
              <p:cNvGrpSpPr/>
              <p:nvPr/>
            </p:nvGrpSpPr>
            <p:grpSpPr>
              <a:xfrm>
                <a:off x="1074240" y="2989440"/>
                <a:ext cx="2118600" cy="811800"/>
                <a:chOff x="1074240" y="2989440"/>
                <a:chExt cx="2118600" cy="811800"/>
              </a:xfrm>
            </p:grpSpPr>
            <p:sp>
              <p:nvSpPr>
                <p:cNvPr id="269" name="Freeform 39"/>
                <p:cNvSpPr/>
                <p:nvPr/>
              </p:nvSpPr>
              <p:spPr>
                <a:xfrm>
                  <a:off x="2944440" y="2989440"/>
                  <a:ext cx="248400" cy="558360"/>
                </a:xfrm>
                <a:custGeom>
                  <a:avLst/>
                  <a:gdLst>
                    <a:gd name="textAreaLeft" fmla="*/ 0 w 248400"/>
                    <a:gd name="textAreaRight" fmla="*/ 248760 w 248400"/>
                    <a:gd name="textAreaTop" fmla="*/ 0 h 558360"/>
                    <a:gd name="textAreaBottom" fmla="*/ 558720 h 5583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17" y="0"/>
                      </a:moveTo>
                      <a:lnTo>
                        <a:pt x="19917" y="19939"/>
                      </a:lnTo>
                      <a:lnTo>
                        <a:pt x="0" y="19939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Lucida Console"/>
                  </a:endParaRPr>
                </a:p>
              </p:txBody>
            </p:sp>
            <p:grpSp>
              <p:nvGrpSpPr>
                <p:cNvPr id="270" name="Group 40"/>
                <p:cNvGrpSpPr/>
                <p:nvPr/>
              </p:nvGrpSpPr>
              <p:grpSpPr>
                <a:xfrm>
                  <a:off x="1074240" y="3332160"/>
                  <a:ext cx="1867320" cy="469080"/>
                  <a:chOff x="1074240" y="3332160"/>
                  <a:chExt cx="1867320" cy="469080"/>
                </a:xfrm>
              </p:grpSpPr>
              <p:sp>
                <p:nvSpPr>
                  <p:cNvPr id="271" name="Rectangle 41"/>
                  <p:cNvSpPr/>
                  <p:nvPr/>
                </p:nvSpPr>
                <p:spPr>
                  <a:xfrm>
                    <a:off x="1134360" y="3463920"/>
                    <a:ext cx="1732320" cy="275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sz="800" spc="-1" strike="noStrike">
                        <a:solidFill>
                          <a:srgbClr val="000000"/>
                        </a:solidFill>
                        <a:latin typeface="LucidaSansTypewriter"/>
                        <a:ea typeface="Times New Roman"/>
                      </a:rPr>
                      <a:t>JButton</a:t>
                    </a:r>
                    <a:endParaRPr b="1" lang="en-US" sz="8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  <p:grpSp>
                <p:nvGrpSpPr>
                  <p:cNvPr id="272" name="Group 42"/>
                  <p:cNvGrpSpPr/>
                  <p:nvPr/>
                </p:nvGrpSpPr>
                <p:grpSpPr>
                  <a:xfrm>
                    <a:off x="1074240" y="3332160"/>
                    <a:ext cx="1867320" cy="469080"/>
                    <a:chOff x="1074240" y="3332160"/>
                    <a:chExt cx="1867320" cy="469080"/>
                  </a:xfrm>
                </p:grpSpPr>
                <p:sp>
                  <p:nvSpPr>
                    <p:cNvPr id="273" name="Freeform 43"/>
                    <p:cNvSpPr/>
                    <p:nvPr/>
                  </p:nvSpPr>
                  <p:spPr>
                    <a:xfrm>
                      <a:off x="1074240" y="3332160"/>
                      <a:ext cx="1867320" cy="469080"/>
                    </a:xfrm>
                    <a:custGeom>
                      <a:avLst/>
                      <a:gdLst>
                        <a:gd name="textAreaLeft" fmla="*/ 0 w 1867320"/>
                        <a:gd name="textAreaRight" fmla="*/ 1867680 w 1867320"/>
                        <a:gd name="textAreaTop" fmla="*/ 0 h 469080"/>
                        <a:gd name="textAreaBottom" fmla="*/ 469080 h 469080"/>
                      </a:gdLst>
                      <a:ahLst/>
                      <a:rect l="textAreaLeft" t="textAreaTop" r="textAreaRight" b="textAreaBottom"/>
                      <a:pathLst>
                        <a:path w="20000" h="20000">
                          <a:moveTo>
                            <a:pt x="19989" y="0"/>
                          </a:moveTo>
                          <a:lnTo>
                            <a:pt x="19989" y="19927"/>
                          </a:lnTo>
                          <a:lnTo>
                            <a:pt x="0" y="19927"/>
                          </a:lnTo>
                          <a:lnTo>
                            <a:pt x="0" y="0"/>
                          </a:lnTo>
                          <a:lnTo>
                            <a:pt x="19989" y="0"/>
                          </a:lnTo>
                          <a:close/>
                        </a:path>
                      </a:pathLst>
                    </a:custGeom>
                    <a:solidFill>
                      <a:srgbClr val="4db3e6"/>
                    </a:solidFill>
                    <a:ln w="3240">
                      <a:solidFill>
                        <a:srgbClr val="4db3e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p:txBody>
                </p:sp>
                <p:sp>
                  <p:nvSpPr>
                    <p:cNvPr id="274" name="Freeform 44"/>
                    <p:cNvSpPr/>
                    <p:nvPr/>
                  </p:nvSpPr>
                  <p:spPr>
                    <a:xfrm>
                      <a:off x="1074240" y="3332160"/>
                      <a:ext cx="1867320" cy="469080"/>
                    </a:xfrm>
                    <a:custGeom>
                      <a:avLst/>
                      <a:gdLst>
                        <a:gd name="textAreaLeft" fmla="*/ 0 w 1867320"/>
                        <a:gd name="textAreaRight" fmla="*/ 1867680 w 1867320"/>
                        <a:gd name="textAreaTop" fmla="*/ 0 h 469080"/>
                        <a:gd name="textAreaBottom" fmla="*/ 469080 h 469080"/>
                      </a:gdLst>
                      <a:ahLst/>
                      <a:rect l="textAreaLeft" t="textAreaTop" r="textAreaRight" b="textAreaBottom"/>
                      <a:pathLst>
                        <a:path w="20000" h="20000">
                          <a:moveTo>
                            <a:pt x="19989" y="0"/>
                          </a:moveTo>
                          <a:lnTo>
                            <a:pt x="19989" y="19927"/>
                          </a:lnTo>
                          <a:lnTo>
                            <a:pt x="0" y="19927"/>
                          </a:lnTo>
                          <a:lnTo>
                            <a:pt x="0" y="0"/>
                          </a:lnTo>
                          <a:lnTo>
                            <a:pt x="19989" y="0"/>
                          </a:lnTo>
                          <a:close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75" name="Rectangle 45"/>
          <p:cNvSpPr/>
          <p:nvPr/>
        </p:nvSpPr>
        <p:spPr>
          <a:xfrm>
            <a:off x="1298520" y="17971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Component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6" name="Rectangle 46"/>
          <p:cNvSpPr/>
          <p:nvPr/>
        </p:nvSpPr>
        <p:spPr>
          <a:xfrm>
            <a:off x="2975760" y="263520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AbstractButton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7" name="Rectangle 47"/>
          <p:cNvSpPr/>
          <p:nvPr/>
        </p:nvSpPr>
        <p:spPr>
          <a:xfrm>
            <a:off x="1450440" y="34290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Button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8" name="Rectangle 48"/>
          <p:cNvSpPr/>
          <p:nvPr/>
        </p:nvSpPr>
        <p:spPr>
          <a:xfrm>
            <a:off x="4880520" y="347328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ToggleButton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9" name="Rectangle 49"/>
          <p:cNvSpPr/>
          <p:nvPr/>
        </p:nvSpPr>
        <p:spPr>
          <a:xfrm>
            <a:off x="3736800" y="42354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CheckBox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80" name="Rectangle 50"/>
          <p:cNvSpPr/>
          <p:nvPr/>
        </p:nvSpPr>
        <p:spPr>
          <a:xfrm>
            <a:off x="6252120" y="42354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RadioButton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61EC-D808-4856-A3DF-CEC08F0955F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GUI Component :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Lucida Console"/>
              </a:rPr>
              <a:t>JCheckBox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CheckBox(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tr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xt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CheckBox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tr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xt,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oole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elected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n Metho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Selected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if the checkbox is select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if the checkbox is unselect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D0EB-C596-41D3-B38F-C48B394DEEA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 5: Using </a:t>
            </a:r>
            <a:r>
              <a:rPr b="1" lang="en-US" sz="2800" spc="-1" strike="noStrike">
                <a:solidFill>
                  <a:srgbClr val="ff0000"/>
                </a:solidFill>
                <a:latin typeface="Lucida Console"/>
              </a:rPr>
              <a:t>JCheckBox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rite a program that display the following frame when the user check on the style item (Bold or Italic or both) the style will affected on the text which on the textfiel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4" descr="13_11a"/>
          <p:cNvPicPr/>
          <p:nvPr/>
        </p:nvPicPr>
        <p:blipFill>
          <a:blip r:embed="rId1"/>
          <a:stretch/>
        </p:blipFill>
        <p:spPr>
          <a:xfrm>
            <a:off x="2209680" y="3809880"/>
            <a:ext cx="4800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AC73-B369-4A34-8312-E7EBE357582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JText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ingle-line area in which user can enter tex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JPassword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xtends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JTextFiel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ides characters that user ente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026"/>
          <p:cNvSpPr/>
          <p:nvPr/>
        </p:nvSpPr>
        <p:spPr>
          <a:xfrm>
            <a:off x="457200" y="15228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</a:rPr>
              <a:t>GUI Component : JTextFields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EA30-EB4A-45F0-95F2-8482E56799B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289" name="Picture 2" descr="13_11a"/>
          <p:cNvPicPr/>
          <p:nvPr/>
        </p:nvPicPr>
        <p:blipFill>
          <a:blip r:embed="rId1"/>
          <a:stretch/>
        </p:blipFill>
        <p:spPr>
          <a:xfrm>
            <a:off x="2057400" y="457200"/>
            <a:ext cx="4800600" cy="13716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13_11b"/>
          <p:cNvPicPr/>
          <p:nvPr/>
        </p:nvPicPr>
        <p:blipFill>
          <a:blip r:embed="rId2"/>
          <a:stretch/>
        </p:blipFill>
        <p:spPr>
          <a:xfrm>
            <a:off x="2057400" y="2057400"/>
            <a:ext cx="4800600" cy="11811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13_11c"/>
          <p:cNvPicPr/>
          <p:nvPr/>
        </p:nvPicPr>
        <p:blipFill>
          <a:blip r:embed="rId3"/>
          <a:stretch/>
        </p:blipFill>
        <p:spPr>
          <a:xfrm>
            <a:off x="2057400" y="3581280"/>
            <a:ext cx="4800600" cy="11052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13_11d"/>
          <p:cNvPicPr/>
          <p:nvPr/>
        </p:nvPicPr>
        <p:blipFill>
          <a:blip r:embed="rId4"/>
          <a:stretch/>
        </p:blipFill>
        <p:spPr>
          <a:xfrm>
            <a:off x="2057400" y="4876920"/>
            <a:ext cx="480060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B35C-DAD4-473B-95F0-FC09D00B655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java.awt.*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1: import package java.awt for Graphic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javax.swing.*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2: import javax.swing for display J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mport 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java.awt.event.*;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3: used to handle GUI Ev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  class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eckBoxTes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xtends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JFr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rivat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TextField fiel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JCheckBo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ld, itali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eckBoxTes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)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sup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"JCheckBox Test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tSiz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7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;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Visible(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step4: prepare the container to put the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Container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etContentPa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step5: Specify the layout  manager of container :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Lay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91966"/>
                </a:solidFill>
                <a:latin typeface="Times New Roman"/>
              </a:rPr>
              <a:t>FlowLay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r>
              <a:rPr b="0" lang="en-US" sz="2400" spc="-1" strike="noStrike">
                <a:solidFill>
                  <a:srgbClr val="1919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  </a:t>
            </a:r>
            <a:r>
              <a:rPr b="1" lang="en-US" sz="2200" spc="-1" strike="noStrike">
                <a:solidFill>
                  <a:srgbClr val="595959"/>
                </a:solidFill>
                <a:latin typeface="Times New Roman"/>
              </a:rPr>
              <a:t>//start from left to r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5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96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2AD7-CDF6-4BC7-9D83-F8D76259DB3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5029200" cy="17575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6868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 Step 6: Construct textfield with default siz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eld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JTextField( "Watch the font style change", 20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eld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tFo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nt( "Serif", Font.PLAIN, 14 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field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6"/>
          <p:cNvSpPr/>
          <p:nvPr/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5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cxnSp>
        <p:nvCxnSpPr>
          <p:cNvPr id="301" name="Straight Arrow Connector 11"/>
          <p:cNvCxnSpPr>
            <a:stCxn id="299" idx="2"/>
          </p:cNvCxnSpPr>
          <p:nvPr/>
        </p:nvCxnSpPr>
        <p:spPr>
          <a:xfrm flipH="1">
            <a:off x="3580920" y="2590560"/>
            <a:ext cx="991440" cy="99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4F43-CC2C-485A-9BC1-C5402D3AE09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303" name="Picture 6" descr=""/>
          <p:cNvPicPr/>
          <p:nvPr/>
        </p:nvPicPr>
        <p:blipFill>
          <a:blip r:embed="rId1"/>
          <a:stretch/>
        </p:blipFill>
        <p:spPr>
          <a:xfrm>
            <a:off x="1905120" y="3124080"/>
            <a:ext cx="4572000" cy="15624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6868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ld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JCheckBox( "Bold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bold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6"/>
          <p:cNvSpPr/>
          <p:nvPr/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5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6" name="Line 7"/>
          <p:cNvSpPr/>
          <p:nvPr/>
        </p:nvSpPr>
        <p:spPr>
          <a:xfrm flipH="1">
            <a:off x="4038480" y="2209680"/>
            <a:ext cx="533520" cy="198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FE71-F9F7-4FAD-98D8-A2850C4C6D0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308" name="Picture 6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5333760" cy="18237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6868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alic = new JCheckBox( "Italic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iner.add( italic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6"/>
          <p:cNvSpPr/>
          <p:nvPr/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5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1" name="Line 5"/>
          <p:cNvSpPr/>
          <p:nvPr/>
        </p:nvSpPr>
        <p:spPr>
          <a:xfrm flipH="1">
            <a:off x="4038480" y="2209680"/>
            <a:ext cx="533520" cy="198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BB4A-CABF-4737-A1AA-4EFF57A4181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68680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// register listeners for JCheckBo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eckBoxHandl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andler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eckBoxHandl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ld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ItemListen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handler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alic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ItemListen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handler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// private inner class for ItemListener event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lass CheckBoxHandler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mpleme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temListene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valBold = Font.PLAI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valItalic = Font.PLAI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// respond to checkbox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temStateChanged(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emEv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ven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6"/>
          <p:cNvSpPr/>
          <p:nvPr/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5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D65F-CF1B-4F2B-AD03-AD95A6EEB67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68680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// process bold checkbox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 event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etSource(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= bold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Bold = bold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sSelected(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? Font.BOLD : ont.PLAI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// process italic checkbox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 event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etSource(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= ital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Italic = italic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sSelected(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? Font.ITALIC : Font.PLAI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// set text field f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eld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tFo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nt( "Serif", valBold + valItalic, 14 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// end method itemState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// end private inner class CheckBox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6"/>
          <p:cNvSpPr/>
          <p:nvPr/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5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6DC0-8446-4A04-B983-5FD9940FBDC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80520" y="837720"/>
            <a:ext cx="845820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voi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rgs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{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create an object to execute ou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eckBoxTes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ap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eckBoxTes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set Close operation of Jfr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s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DefaultCloseOpe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Frame.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IT_ON_CLO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end of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end class TextField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5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321" name="Picture 5" descr=""/>
          <p:cNvPicPr/>
          <p:nvPr/>
        </p:nvPicPr>
        <p:blipFill>
          <a:blip r:embed="rId1"/>
          <a:stretch/>
        </p:blipFill>
        <p:spPr>
          <a:xfrm>
            <a:off x="1905120" y="4114800"/>
            <a:ext cx="53337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4550-1432-4B78-A44A-612829B8E8E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GUI Component :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Lucida Console"/>
              </a:rPr>
              <a:t>JRadioButt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 buttons normally appear as a group in which only one radio button can be selected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ogical relationship between Radio buttons is maintained by a ButtonGroup object which itself is not a GUI 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D426-AE7E-4C7E-9A43-12EB5A0DBCC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GUI Component :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Lucida Console"/>
              </a:rPr>
              <a:t>JRadioButt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RadioButton(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tr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xt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RadioButton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tr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xt,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oole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elected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Main method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Selected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if the checkbox is select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if the checkbox is unselect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1260-2D68-4C1B-9BCA-45F3DCA233F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or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JTextField(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siz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JTextField(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Tex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JTextField(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Text ,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siz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n Methods: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etEditable(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oolean</a:t>
            </a: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status );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tru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able user to insert data into Text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fal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disable text field from user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unedit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26"/>
          <p:cNvSpPr/>
          <p:nvPr/>
        </p:nvSpPr>
        <p:spPr>
          <a:xfrm>
            <a:off x="457200" y="15228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</a:rPr>
              <a:t>GUI Component : JTextField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AF21-C952-4B23-B131-5A1E7710780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 6: Using </a:t>
            </a:r>
            <a:r>
              <a:rPr b="1" lang="en-US" sz="2800" spc="-1" strike="noStrike">
                <a:solidFill>
                  <a:srgbClr val="ff0000"/>
                </a:solidFill>
                <a:latin typeface="Lucida Console"/>
              </a:rPr>
              <a:t>JRadioButt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rite a program that display the following frame when the user check on the style item (Bold or Italic or both) the style will affected on the text which on the textfiel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5" descr="13_12a"/>
          <p:cNvPicPr/>
          <p:nvPr/>
        </p:nvPicPr>
        <p:blipFill>
          <a:blip r:embed="rId1"/>
          <a:stretch/>
        </p:blipFill>
        <p:spPr>
          <a:xfrm>
            <a:off x="1523880" y="3276720"/>
            <a:ext cx="586764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691C-AD26-42D4-A017-4BAAE72BB71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java.awt.*;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1: import package java.awt for Graphics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javax.swing.*;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2: import javax.swing for display J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java.awt.event.*;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3: used to handle GUI Ev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  class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adioButtonTest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xtends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J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JTextField fiel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ont plainFont, boldFont, italicFont, boldItalicFo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JRadioButton plainButton, boldButton, italicButt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ldItalicButt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But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Group radioGrou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adioButtonTest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){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up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dioButton Tes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etSiz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;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Visible(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step4: prepare the container to put the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Container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getContentPa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step5: Specify the layout  manager of container :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etLay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0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91966"/>
                </a:solidFill>
                <a:latin typeface="Times New Roman"/>
              </a:rPr>
              <a:t>FlowLay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)</a:t>
            </a:r>
            <a:r>
              <a:rPr b="0" lang="en-US" sz="2000" spc="-1" strike="noStrike">
                <a:solidFill>
                  <a:srgbClr val="1919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  </a:t>
            </a:r>
            <a:r>
              <a:rPr b="1" lang="en-US" sz="2000" spc="-1" strike="noStrike">
                <a:solidFill>
                  <a:srgbClr val="595959"/>
                </a:solidFill>
                <a:latin typeface="Times New Roman"/>
              </a:rPr>
              <a:t>//start from left to r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6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35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0917-6F06-46D9-9054-A7062661644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337" name="Picture 6" descr=""/>
          <p:cNvPicPr/>
          <p:nvPr/>
        </p:nvPicPr>
        <p:blipFill>
          <a:blip r:embed="rId1"/>
          <a:stretch/>
        </p:blipFill>
        <p:spPr>
          <a:xfrm>
            <a:off x="1447920" y="2971800"/>
            <a:ext cx="4876560" cy="15922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6868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 Step 6: Construct textfield with default siz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eld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JTextField( "Watch the font style change", 25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field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6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cxnSp>
        <p:nvCxnSpPr>
          <p:cNvPr id="340" name="Straight Arrow Connector 11"/>
          <p:cNvCxnSpPr>
            <a:stCxn id="338" idx="2"/>
          </p:cNvCxnSpPr>
          <p:nvPr/>
        </p:nvCxnSpPr>
        <p:spPr>
          <a:xfrm flipH="1">
            <a:off x="3580920" y="2590560"/>
            <a:ext cx="991440" cy="99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0232-9195-4A3D-B3E6-3EBC2A08D4B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342" name="Picture 6" descr=""/>
          <p:cNvPicPr/>
          <p:nvPr/>
        </p:nvPicPr>
        <p:blipFill>
          <a:blip r:embed="rId1"/>
          <a:stretch/>
        </p:blipFill>
        <p:spPr>
          <a:xfrm>
            <a:off x="1676520" y="4114800"/>
            <a:ext cx="5257800" cy="16938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6868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// create radio but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inButton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JRadioButton( "Plain"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plainButton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ldButton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JRadioButton( "Bold"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boldButton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6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45" name="Line 7"/>
          <p:cNvSpPr/>
          <p:nvPr/>
        </p:nvSpPr>
        <p:spPr>
          <a:xfrm>
            <a:off x="3886200" y="3352680"/>
            <a:ext cx="685800" cy="1828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346" name="Group 12"/>
          <p:cNvGrpSpPr/>
          <p:nvPr/>
        </p:nvGrpSpPr>
        <p:grpSpPr>
          <a:xfrm>
            <a:off x="914400" y="1905120"/>
            <a:ext cx="2286000" cy="3429000"/>
            <a:chOff x="914400" y="1905120"/>
            <a:chExt cx="2286000" cy="3429000"/>
          </a:xfrm>
        </p:grpSpPr>
        <p:sp>
          <p:nvSpPr>
            <p:cNvPr id="347" name="Line 9"/>
            <p:cNvSpPr/>
            <p:nvPr/>
          </p:nvSpPr>
          <p:spPr>
            <a:xfrm>
              <a:off x="914400" y="1905120"/>
              <a:ext cx="0" cy="342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348" name="Line 10"/>
            <p:cNvSpPr/>
            <p:nvPr/>
          </p:nvSpPr>
          <p:spPr>
            <a:xfrm>
              <a:off x="914400" y="5334120"/>
              <a:ext cx="228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4CCE-E4ED-4F1D-A522-3EBDB62EB46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6868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// create radio but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alicButton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JRadioButton( "Italic"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italicButton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ldItalicButton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JRadioButton( "Bold/Italic"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boldItalicButton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6"/>
          <p:cNvSpPr/>
          <p:nvPr/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6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352" name="Picture 9" descr=""/>
          <p:cNvPicPr/>
          <p:nvPr/>
        </p:nvPicPr>
        <p:blipFill>
          <a:blip r:embed="rId1"/>
          <a:stretch/>
        </p:blipFill>
        <p:spPr>
          <a:xfrm>
            <a:off x="1676520" y="3886200"/>
            <a:ext cx="556236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8FFC-234E-4E60-B22A-CBE63E8BBD1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686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// create logical relationship between JRadioBut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dioGroup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uttonGroup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dioGroup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plainButton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dioGroup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boldButton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dioGroup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italicButton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dioGroup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boldItalicButton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/That will not appear i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// create font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inFont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nt( "Serif", Font.PLAIN, 14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ldFont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nt( "Serif", Font.BOLD, 14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alicFont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nt( "Serif", Font.ITALIC, 14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ldItalicFont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nt( "Serif", Font.BOLD + Font.ITALIC, 14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6"/>
          <p:cNvSpPr/>
          <p:nvPr/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6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360E-2652-4FC8-8A48-2E6336E9F07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686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eld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tFo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plainFont );  //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t initial f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// register events for JRadioBut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inButton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ItemListen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adioButtonHandler( plainFont 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ldButton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ItemListen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adioButtonHandler(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ldFont 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alicButton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ItemListen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adioButtonHandler( italicFont 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ldItalicButton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ItemListen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adioButtonHandler( boldItalicFont 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6"/>
          <p:cNvSpPr/>
          <p:nvPr/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6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BE52-B09A-4C96-B07E-54A5F5DA158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686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// private inner class to handle radio butto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adioButtonHandler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mpleme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emListen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nt fo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adioButtonHandler( Font f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nt = 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// handle radio butto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temStateChanged( ItemEvent even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eld.setFont( font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// end private inner class RadioButton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6"/>
          <p:cNvSpPr/>
          <p:nvPr/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6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C9EB-5C75-46E5-8076-DC8B8E04D31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380520" y="837720"/>
            <a:ext cx="845820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voi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rgs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{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create an object to execute ou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adioButtonTe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ap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adioButtonTe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set Close operation of Jfr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s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DefaultCloseOpe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Frame.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IT_ON_CLO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end of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end class TextField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5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365" name="Picture 5" descr=""/>
          <p:cNvPicPr/>
          <p:nvPr/>
        </p:nvPicPr>
        <p:blipFill>
          <a:blip r:embed="rId1"/>
          <a:stretch/>
        </p:blipFill>
        <p:spPr>
          <a:xfrm>
            <a:off x="2076480" y="4262400"/>
            <a:ext cx="478152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7BEE-47A6-4383-A3DF-FC59DB1EDC4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GUI Component :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Lucida Console"/>
              </a:rPr>
              <a:t>JComboBox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JCombo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st of items from which user can sel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 called a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rop-down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CFFD-DF43-492D-941B-51DB75B3EEA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n Methods: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etText(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 //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eturn the text that entered by the us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etText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ing</a:t>
            </a: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// set the text to the TextFiel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26"/>
          <p:cNvSpPr/>
          <p:nvPr/>
        </p:nvSpPr>
        <p:spPr>
          <a:xfrm>
            <a:off x="457200" y="15228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</a:rPr>
              <a:t>GUI Component : JTextField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E1C2-16B8-4094-93B5-A4DBCEDB4D5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GUI Component :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Lucida Console"/>
              </a:rPr>
              <a:t>JComboBox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ComboBox(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tring[]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string of names which will display in the CompoBo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n Metho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tMaximumRowCount(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ax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ax is the number of items that appear when you click to open CompoBo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SelectedIndex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turn the index of selected i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0B08-BC57-4F49-B5E0-7BCAF820973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 6: Using </a:t>
            </a:r>
            <a:r>
              <a:rPr b="1" lang="en-US" sz="2800" spc="-1" strike="noStrike">
                <a:solidFill>
                  <a:srgbClr val="ff0000"/>
                </a:solidFill>
                <a:latin typeface="Lucida Console"/>
              </a:rPr>
              <a:t>JComboBox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rite a program that display the following frame when the user select any item in the list the specific picture will display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5" descr="13_13a"/>
          <p:cNvPicPr/>
          <p:nvPr/>
        </p:nvPicPr>
        <p:blipFill>
          <a:blip r:embed="rId1"/>
          <a:stretch/>
        </p:blipFill>
        <p:spPr>
          <a:xfrm>
            <a:off x="1523880" y="3505320"/>
            <a:ext cx="548640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B551-615A-4875-A270-898466AE317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4" descr="13_13c"/>
          <p:cNvPicPr/>
          <p:nvPr/>
        </p:nvPicPr>
        <p:blipFill>
          <a:blip r:embed="rId1"/>
          <a:stretch/>
        </p:blipFill>
        <p:spPr>
          <a:xfrm>
            <a:off x="152280" y="4038480"/>
            <a:ext cx="4172040" cy="16448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13_13d"/>
          <p:cNvPicPr/>
          <p:nvPr/>
        </p:nvPicPr>
        <p:blipFill>
          <a:blip r:embed="rId2"/>
          <a:stretch/>
        </p:blipFill>
        <p:spPr>
          <a:xfrm>
            <a:off x="4572000" y="3962520"/>
            <a:ext cx="4267080" cy="1682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13_13a"/>
          <p:cNvPicPr/>
          <p:nvPr/>
        </p:nvPicPr>
        <p:blipFill>
          <a:blip r:embed="rId3"/>
          <a:stretch/>
        </p:blipFill>
        <p:spPr>
          <a:xfrm>
            <a:off x="152280" y="1708200"/>
            <a:ext cx="4172040" cy="1644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13_13b"/>
          <p:cNvPicPr/>
          <p:nvPr/>
        </p:nvPicPr>
        <p:blipFill>
          <a:blip r:embed="rId4"/>
          <a:stretch/>
        </p:blipFill>
        <p:spPr>
          <a:xfrm>
            <a:off x="4572000" y="1671480"/>
            <a:ext cx="4267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5A36-8C2A-4678-95CC-3442D5FEC4D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FB20-87DB-47B8-BFBF-48BCA2B35E7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or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JPasswordField(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siz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JPasswordField(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Tex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JPasswordField(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Text ,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siz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n Methods: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etEditable(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oolean</a:t>
            </a: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status );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tru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able user to insert data into Password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fal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disable text field from user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unedit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26"/>
          <p:cNvSpPr/>
          <p:nvPr/>
        </p:nvSpPr>
        <p:spPr>
          <a:xfrm>
            <a:off x="457200" y="15228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</a:rPr>
              <a:t>GUI Component : JPasswordField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E81C-578D-4064-91E7-F82CFDE0D6D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160" y="99036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n Methods: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etPassword(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turn the text that entered by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etText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ing</a:t>
            </a: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/ set the text to the Password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26"/>
          <p:cNvSpPr/>
          <p:nvPr/>
        </p:nvSpPr>
        <p:spPr>
          <a:xfrm>
            <a:off x="457200" y="15228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GUI Component : JPasswordField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7876-7782-44B2-AD9B-38EB16DDEBB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vantGarde"/>
              </a:rPr>
              <a:t>Example(4): using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JTextField &amp; JPasswordField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rite a program that display the following Textfields when the user add some text the message will appea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2514600" y="1906560"/>
            <a:ext cx="3809880" cy="1751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"/>
          <p:cNvPicPr/>
          <p:nvPr/>
        </p:nvPicPr>
        <p:blipFill>
          <a:blip r:embed="rId2"/>
          <a:stretch/>
        </p:blipFill>
        <p:spPr>
          <a:xfrm>
            <a:off x="1295280" y="4114800"/>
            <a:ext cx="3810240" cy="1808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"/>
          <p:cNvPicPr/>
          <p:nvPr/>
        </p:nvPicPr>
        <p:blipFill>
          <a:blip r:embed="rId3"/>
          <a:stretch/>
        </p:blipFill>
        <p:spPr>
          <a:xfrm>
            <a:off x="4029120" y="4680000"/>
            <a:ext cx="359100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FBDD-F14C-48D4-BAEC-344ECFC44C7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13" name="Group 8"/>
          <p:cNvGrpSpPr/>
          <p:nvPr/>
        </p:nvGrpSpPr>
        <p:grpSpPr>
          <a:xfrm>
            <a:off x="1676520" y="533520"/>
            <a:ext cx="6276960" cy="5596920"/>
            <a:chOff x="1676520" y="533520"/>
            <a:chExt cx="6276960" cy="5596920"/>
          </a:xfrm>
        </p:grpSpPr>
        <p:pic>
          <p:nvPicPr>
            <p:cNvPr id="114" name="Picture 5" descr=""/>
            <p:cNvPicPr/>
            <p:nvPr/>
          </p:nvPicPr>
          <p:blipFill>
            <a:blip r:embed="rId1"/>
            <a:stretch/>
          </p:blipFill>
          <p:spPr>
            <a:xfrm>
              <a:off x="1676520" y="533520"/>
              <a:ext cx="3809880" cy="18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4" descr=""/>
            <p:cNvPicPr/>
            <p:nvPr/>
          </p:nvPicPr>
          <p:blipFill>
            <a:blip r:embed="rId2"/>
            <a:stretch/>
          </p:blipFill>
          <p:spPr>
            <a:xfrm>
              <a:off x="4191120" y="1344240"/>
              <a:ext cx="3762360" cy="16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6" descr=""/>
            <p:cNvPicPr/>
            <p:nvPr/>
          </p:nvPicPr>
          <p:blipFill>
            <a:blip r:embed="rId3"/>
            <a:stretch/>
          </p:blipFill>
          <p:spPr>
            <a:xfrm>
              <a:off x="1676520" y="3484440"/>
              <a:ext cx="3809880" cy="180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7" descr=""/>
            <p:cNvPicPr/>
            <p:nvPr/>
          </p:nvPicPr>
          <p:blipFill>
            <a:blip r:embed="rId4"/>
            <a:stretch/>
          </p:blipFill>
          <p:spPr>
            <a:xfrm>
              <a:off x="3962520" y="4474800"/>
              <a:ext cx="3733560" cy="1655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dor</dc:creator>
  <dc:description/>
  <dc:language>en-US</dc:language>
  <cp:lastModifiedBy>ahmed azez</cp:lastModifiedBy>
  <dcterms:modified xsi:type="dcterms:W3CDTF">2018-07-20T06:34:14Z</dcterms:modified>
  <cp:revision>379</cp:revision>
  <dc:subject/>
  <dc:title>PowerPoint Presentation</dc:title>
</cp:coreProperties>
</file>