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  <p:custShowLst>
    <p:custShow name="Custom Show 1" id="0">
      <p:sldLst>
        <p:sld r:id="rId6"/>
        <p:sld r:id="rId7"/>
        <p:sld r:id="rId8"/>
        <p:sld r:id="rId12"/>
        <p:sld r:id="rId13"/>
        <p:sld r:id="rId14"/>
        <p:sld r:id="rId15"/>
        <p:sld r:id="rId17"/>
        <p:sld r:id="rId33"/>
        <p:sld r:id="rId34"/>
        <p:sld r:id="rId36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move the slid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92FF-A26F-48E8-8BAC-21CA39D3355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3CED-805D-4B00-9DF8-7E4815CEF8F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4A44-DC88-4846-B392-49B2FBBA97B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3EA4-E411-4E6D-82FA-85EE77C2061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BB68-5E58-4D53-B62E-D3861614585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4EE2-9A4B-49DC-97BB-FDCCE757911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4A86-E748-4766-868F-ECFDEEEAACC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5A44A-F7F4-407E-B535-501032132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3192-D001-45D5-94CB-9EBA8FC03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057D-1B78-4697-A406-DF99F2002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61F2-F686-4DDA-B8C8-6686D2819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0570F-F7B5-49EB-9EE5-4294DCFF0E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225C6-5F59-4D38-A3FA-EC06DEE5AC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4DC25-2D9D-4071-836A-0E84649EA9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F99E3-22CD-4849-B7A7-08832B11F6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84FF1-6768-45E0-ACE9-EEE51576A1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08AEF-40D4-490D-889F-C2F8A68600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1E27C-DD67-4438-8B01-75A66311E5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E0A00-84FB-4BF7-9686-93D136FD45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476C9-7E70-4F61-979B-63DF5832E6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344EC-8C76-4022-A566-DB23C5EE30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15042-B616-44DD-8D4A-F3EB152564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2CE3E-CAA1-4666-97C8-5732A48DAD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77E72-CC31-45CE-BF10-0122EE2F9A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71CFE-FABD-4440-BA57-9350DD9E8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14405-D0F1-4FBF-B6A4-A97D02C2B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81722-4D56-45DA-ACEB-5A3B0ED47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F0D7-CAA9-47BA-9802-C442CA034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485A-E177-4A28-B7AA-EC98ECCAA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D0BB7-6660-48E4-AA40-CEE75B86D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EAC2-3681-451F-A5BB-45C72A103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AutoShape 5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AutoShape 6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65BD-DCAC-4C56-B459-BEFB6FB67A2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AutoShape 5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46" name="AutoShape 6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sp>
        <p:nvSpPr>
          <p:cNvPr id="47" name="Rectangle 7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801F-D5BD-4E0D-98D8-1D1D0CF26BD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07696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cture 3: Graphical User Interface (</a:t>
            </a:r>
            <a:r>
              <a:rPr b="1" lang="en-US" sz="3600" spc="-1" strike="noStrike">
                <a:solidFill>
                  <a:srgbClr val="0050d5"/>
                </a:solidFill>
                <a:latin typeface="Times New Roman"/>
              </a:rPr>
              <a:t>GU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Components: (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art 1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 </a:t>
            </a:r>
            <a:r>
              <a:rPr b="1" lang="en-US" sz="2800" spc="-1" strike="noStrike">
                <a:solidFill>
                  <a:srgbClr val="00286a"/>
                </a:solidFill>
                <a:latin typeface="Lucida Console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hod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onsole"/>
              </a:rPr>
              <a:t>pain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rawing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ompon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 </a:t>
            </a:r>
            <a:r>
              <a:rPr b="1" lang="en-US" sz="2800" spc="-1" strike="noStrike">
                <a:solidFill>
                  <a:srgbClr val="0050d5"/>
                </a:solidFill>
                <a:latin typeface="Lucida Console"/>
              </a:rPr>
              <a:t>Co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 of related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hod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onsole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dding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 </a:t>
            </a:r>
            <a:r>
              <a:rPr b="1" lang="en-US" sz="2800" spc="-1" strike="noStrike">
                <a:solidFill>
                  <a:srgbClr val="ff0000"/>
                </a:solidFill>
                <a:latin typeface="Lucida Console"/>
              </a:rPr>
              <a:t>J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izing look and fe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cut keys (mnemonics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rect access to compone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the key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-hand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pab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026"/>
          <p:cNvSpPr/>
          <p:nvPr/>
        </p:nvSpPr>
        <p:spPr>
          <a:xfrm>
            <a:off x="457200" y="15228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Overview of Swing Components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1219320" y="2057400"/>
            <a:ext cx="7238880" cy="2971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48" name="Group 7"/>
          <p:cNvGrpSpPr/>
          <p:nvPr/>
        </p:nvGrpSpPr>
        <p:grpSpPr>
          <a:xfrm>
            <a:off x="1638360" y="2254320"/>
            <a:ext cx="1562040" cy="417600"/>
            <a:chOff x="1638360" y="2254320"/>
            <a:chExt cx="1562040" cy="417600"/>
          </a:xfrm>
        </p:grpSpPr>
        <p:sp>
          <p:nvSpPr>
            <p:cNvPr id="149" name="Rectangle 8"/>
            <p:cNvSpPr/>
            <p:nvPr/>
          </p:nvSpPr>
          <p:spPr>
            <a:xfrm>
              <a:off x="1688400" y="2371680"/>
              <a:ext cx="144936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LucidaSansTypewriter"/>
                  <a:ea typeface="Times New Roman"/>
                </a:rPr>
                <a:t>Object</a:t>
              </a:r>
              <a:endParaRPr b="1" lang="en-US" sz="8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grpSp>
          <p:nvGrpSpPr>
            <p:cNvPr id="150" name="Group 9"/>
            <p:cNvGrpSpPr/>
            <p:nvPr/>
          </p:nvGrpSpPr>
          <p:grpSpPr>
            <a:xfrm>
              <a:off x="1638360" y="2254320"/>
              <a:ext cx="1562040" cy="417600"/>
              <a:chOff x="1638360" y="2254320"/>
              <a:chExt cx="1562040" cy="417600"/>
            </a:xfrm>
          </p:grpSpPr>
          <p:sp>
            <p:nvSpPr>
              <p:cNvPr id="151" name="Freeform 10"/>
              <p:cNvSpPr/>
              <p:nvPr/>
            </p:nvSpPr>
            <p:spPr>
              <a:xfrm>
                <a:off x="1638360" y="2254320"/>
                <a:ext cx="1562040" cy="417600"/>
              </a:xfrm>
              <a:custGeom>
                <a:avLst/>
                <a:gdLst>
                  <a:gd name="textAreaLeft" fmla="*/ 0 w 1562040"/>
                  <a:gd name="textAreaRight" fmla="*/ 1562400 w 1562040"/>
                  <a:gd name="textAreaTop" fmla="*/ 0 h 417600"/>
                  <a:gd name="textAreaBottom" fmla="*/ 417960 h 4176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9" y="0"/>
                    </a:moveTo>
                    <a:lnTo>
                      <a:pt x="19989" y="19927"/>
                    </a:lnTo>
                    <a:lnTo>
                      <a:pt x="0" y="19927"/>
                    </a:lnTo>
                    <a:lnTo>
                      <a:pt x="0" y="0"/>
                    </a:lnTo>
                    <a:lnTo>
                      <a:pt x="19989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sp>
            <p:nvSpPr>
              <p:cNvPr id="152" name="Freeform 11"/>
              <p:cNvSpPr/>
              <p:nvPr/>
            </p:nvSpPr>
            <p:spPr>
              <a:xfrm>
                <a:off x="1638360" y="2254320"/>
                <a:ext cx="1562040" cy="417600"/>
              </a:xfrm>
              <a:custGeom>
                <a:avLst/>
                <a:gdLst>
                  <a:gd name="textAreaLeft" fmla="*/ 0 w 1562040"/>
                  <a:gd name="textAreaRight" fmla="*/ 1562400 w 1562040"/>
                  <a:gd name="textAreaTop" fmla="*/ 0 h 417600"/>
                  <a:gd name="textAreaBottom" fmla="*/ 417960 h 4176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9" y="0"/>
                    </a:moveTo>
                    <a:lnTo>
                      <a:pt x="19989" y="19927"/>
                    </a:lnTo>
                    <a:lnTo>
                      <a:pt x="0" y="19927"/>
                    </a:lnTo>
                    <a:lnTo>
                      <a:pt x="0" y="0"/>
                    </a:lnTo>
                    <a:lnTo>
                      <a:pt x="1998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</p:grpSp>
      <p:grpSp>
        <p:nvGrpSpPr>
          <p:cNvPr id="153" name="Group 12"/>
          <p:cNvGrpSpPr/>
          <p:nvPr/>
        </p:nvGrpSpPr>
        <p:grpSpPr>
          <a:xfrm>
            <a:off x="2933640" y="2976480"/>
            <a:ext cx="1943280" cy="412920"/>
            <a:chOff x="2933640" y="2976480"/>
            <a:chExt cx="1943280" cy="412920"/>
          </a:xfrm>
        </p:grpSpPr>
        <p:sp>
          <p:nvSpPr>
            <p:cNvPr id="154" name="Rectangle 13"/>
            <p:cNvSpPr/>
            <p:nvPr/>
          </p:nvSpPr>
          <p:spPr>
            <a:xfrm>
              <a:off x="2995920" y="3092400"/>
              <a:ext cx="18032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LucidaSansTypewriter"/>
                  <a:ea typeface="Times New Roman"/>
                </a:rPr>
                <a:t>Component</a:t>
              </a:r>
              <a:endParaRPr b="1" lang="en-US" sz="8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grpSp>
          <p:nvGrpSpPr>
            <p:cNvPr id="155" name="Group 14"/>
            <p:cNvGrpSpPr/>
            <p:nvPr/>
          </p:nvGrpSpPr>
          <p:grpSpPr>
            <a:xfrm>
              <a:off x="2933640" y="2976480"/>
              <a:ext cx="1943280" cy="412920"/>
              <a:chOff x="2933640" y="2976480"/>
              <a:chExt cx="1943280" cy="412920"/>
            </a:xfrm>
          </p:grpSpPr>
          <p:sp>
            <p:nvSpPr>
              <p:cNvPr id="156" name="Freeform 15"/>
              <p:cNvSpPr/>
              <p:nvPr/>
            </p:nvSpPr>
            <p:spPr>
              <a:xfrm>
                <a:off x="2933640" y="2976480"/>
                <a:ext cx="1943280" cy="412920"/>
              </a:xfrm>
              <a:custGeom>
                <a:avLst/>
                <a:gdLst>
                  <a:gd name="textAreaLeft" fmla="*/ 0 w 1943280"/>
                  <a:gd name="textAreaRight" fmla="*/ 1943640 w 1943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9" y="0"/>
                    </a:moveTo>
                    <a:lnTo>
                      <a:pt x="19989" y="19927"/>
                    </a:lnTo>
                    <a:lnTo>
                      <a:pt x="0" y="19927"/>
                    </a:lnTo>
                    <a:lnTo>
                      <a:pt x="0" y="0"/>
                    </a:lnTo>
                    <a:lnTo>
                      <a:pt x="19989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sp>
            <p:nvSpPr>
              <p:cNvPr id="157" name="Freeform 16"/>
              <p:cNvSpPr/>
              <p:nvPr/>
            </p:nvSpPr>
            <p:spPr>
              <a:xfrm>
                <a:off x="2933640" y="2976480"/>
                <a:ext cx="1943280" cy="412920"/>
              </a:xfrm>
              <a:custGeom>
                <a:avLst/>
                <a:gdLst>
                  <a:gd name="textAreaLeft" fmla="*/ 0 w 1943280"/>
                  <a:gd name="textAreaRight" fmla="*/ 1943640 w 1943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9" y="0"/>
                    </a:moveTo>
                    <a:lnTo>
                      <a:pt x="19989" y="19927"/>
                    </a:lnTo>
                    <a:lnTo>
                      <a:pt x="0" y="19927"/>
                    </a:lnTo>
                    <a:lnTo>
                      <a:pt x="0" y="0"/>
                    </a:lnTo>
                    <a:lnTo>
                      <a:pt x="1998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</p:grpSp>
      <p:grpSp>
        <p:nvGrpSpPr>
          <p:cNvPr id="158" name="Group 17"/>
          <p:cNvGrpSpPr/>
          <p:nvPr/>
        </p:nvGrpSpPr>
        <p:grpSpPr>
          <a:xfrm>
            <a:off x="4191120" y="3697200"/>
            <a:ext cx="1904760" cy="412920"/>
            <a:chOff x="4191120" y="3697200"/>
            <a:chExt cx="1904760" cy="412920"/>
          </a:xfrm>
        </p:grpSpPr>
        <p:sp>
          <p:nvSpPr>
            <p:cNvPr id="159" name="Rectangle 18"/>
            <p:cNvSpPr/>
            <p:nvPr/>
          </p:nvSpPr>
          <p:spPr>
            <a:xfrm>
              <a:off x="4252320" y="3813120"/>
              <a:ext cx="17676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LucidaSansTypewriter"/>
                  <a:ea typeface="Times New Roman"/>
                </a:rPr>
                <a:t>Container</a:t>
              </a:r>
              <a:endParaRPr b="1" lang="en-US" sz="8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grpSp>
          <p:nvGrpSpPr>
            <p:cNvPr id="160" name="Group 19"/>
            <p:cNvGrpSpPr/>
            <p:nvPr/>
          </p:nvGrpSpPr>
          <p:grpSpPr>
            <a:xfrm>
              <a:off x="4191120" y="3697200"/>
              <a:ext cx="1904760" cy="412920"/>
              <a:chOff x="4191120" y="3697200"/>
              <a:chExt cx="1904760" cy="412920"/>
            </a:xfrm>
          </p:grpSpPr>
          <p:sp>
            <p:nvSpPr>
              <p:cNvPr id="161" name="Freeform 20"/>
              <p:cNvSpPr/>
              <p:nvPr/>
            </p:nvSpPr>
            <p:spPr>
              <a:xfrm>
                <a:off x="4191120" y="3697200"/>
                <a:ext cx="1904760" cy="41292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9" y="0"/>
                    </a:moveTo>
                    <a:lnTo>
                      <a:pt x="19989" y="19927"/>
                    </a:lnTo>
                    <a:lnTo>
                      <a:pt x="0" y="19927"/>
                    </a:lnTo>
                    <a:lnTo>
                      <a:pt x="0" y="0"/>
                    </a:lnTo>
                    <a:lnTo>
                      <a:pt x="19989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sp>
            <p:nvSpPr>
              <p:cNvPr id="162" name="Freeform 21"/>
              <p:cNvSpPr/>
              <p:nvPr/>
            </p:nvSpPr>
            <p:spPr>
              <a:xfrm>
                <a:off x="4191120" y="3697200"/>
                <a:ext cx="1904760" cy="41292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9" y="0"/>
                    </a:moveTo>
                    <a:lnTo>
                      <a:pt x="19989" y="19927"/>
                    </a:lnTo>
                    <a:lnTo>
                      <a:pt x="0" y="19927"/>
                    </a:lnTo>
                    <a:lnTo>
                      <a:pt x="0" y="0"/>
                    </a:lnTo>
                    <a:lnTo>
                      <a:pt x="1998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</p:grpSp>
      <p:grpSp>
        <p:nvGrpSpPr>
          <p:cNvPr id="163" name="Group 22"/>
          <p:cNvGrpSpPr/>
          <p:nvPr/>
        </p:nvGrpSpPr>
        <p:grpSpPr>
          <a:xfrm>
            <a:off x="5451480" y="4414680"/>
            <a:ext cx="1940040" cy="417600"/>
            <a:chOff x="5451480" y="4414680"/>
            <a:chExt cx="1940040" cy="417600"/>
          </a:xfrm>
        </p:grpSpPr>
        <p:sp>
          <p:nvSpPr>
            <p:cNvPr id="164" name="Rectangle 23"/>
            <p:cNvSpPr/>
            <p:nvPr/>
          </p:nvSpPr>
          <p:spPr>
            <a:xfrm>
              <a:off x="5513760" y="4532040"/>
              <a:ext cx="180036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LucidaSansTypewriter"/>
                  <a:ea typeface="Times New Roman"/>
                </a:rPr>
                <a:t>JComponent</a:t>
              </a:r>
              <a:endParaRPr b="1" lang="en-US" sz="8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grpSp>
          <p:nvGrpSpPr>
            <p:cNvPr id="165" name="Group 24"/>
            <p:cNvGrpSpPr/>
            <p:nvPr/>
          </p:nvGrpSpPr>
          <p:grpSpPr>
            <a:xfrm>
              <a:off x="5451480" y="4414680"/>
              <a:ext cx="1940040" cy="417600"/>
              <a:chOff x="5451480" y="4414680"/>
              <a:chExt cx="1940040" cy="417600"/>
            </a:xfrm>
          </p:grpSpPr>
          <p:sp>
            <p:nvSpPr>
              <p:cNvPr id="166" name="Freeform 25"/>
              <p:cNvSpPr/>
              <p:nvPr/>
            </p:nvSpPr>
            <p:spPr>
              <a:xfrm>
                <a:off x="5451480" y="4414680"/>
                <a:ext cx="1940040" cy="417600"/>
              </a:xfrm>
              <a:custGeom>
                <a:avLst/>
                <a:gdLst>
                  <a:gd name="textAreaLeft" fmla="*/ 0 w 1940040"/>
                  <a:gd name="textAreaRight" fmla="*/ 1940400 w 1940040"/>
                  <a:gd name="textAreaTop" fmla="*/ 0 h 417600"/>
                  <a:gd name="textAreaBottom" fmla="*/ 417960 h 4176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9" y="0"/>
                    </a:moveTo>
                    <a:lnTo>
                      <a:pt x="19989" y="19927"/>
                    </a:lnTo>
                    <a:lnTo>
                      <a:pt x="0" y="19927"/>
                    </a:lnTo>
                    <a:lnTo>
                      <a:pt x="0" y="0"/>
                    </a:lnTo>
                    <a:lnTo>
                      <a:pt x="19989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sp>
            <p:nvSpPr>
              <p:cNvPr id="167" name="Freeform 26"/>
              <p:cNvSpPr/>
              <p:nvPr/>
            </p:nvSpPr>
            <p:spPr>
              <a:xfrm>
                <a:off x="5451480" y="4414680"/>
                <a:ext cx="1940040" cy="417600"/>
              </a:xfrm>
              <a:custGeom>
                <a:avLst/>
                <a:gdLst>
                  <a:gd name="textAreaLeft" fmla="*/ 0 w 1940040"/>
                  <a:gd name="textAreaRight" fmla="*/ 1940400 w 1940040"/>
                  <a:gd name="textAreaTop" fmla="*/ 0 h 417600"/>
                  <a:gd name="textAreaBottom" fmla="*/ 417960 h 4176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9" y="0"/>
                    </a:moveTo>
                    <a:lnTo>
                      <a:pt x="19989" y="19927"/>
                    </a:lnTo>
                    <a:lnTo>
                      <a:pt x="0" y="19927"/>
                    </a:lnTo>
                    <a:lnTo>
                      <a:pt x="0" y="0"/>
                    </a:lnTo>
                    <a:lnTo>
                      <a:pt x="1998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</p:grpSp>
      <p:sp>
        <p:nvSpPr>
          <p:cNvPr id="168" name="Freeform 27"/>
          <p:cNvSpPr/>
          <p:nvPr/>
        </p:nvSpPr>
        <p:spPr>
          <a:xfrm>
            <a:off x="5018040" y="4110120"/>
            <a:ext cx="432000" cy="498240"/>
          </a:xfrm>
          <a:custGeom>
            <a:avLst/>
            <a:gdLst>
              <a:gd name="textAreaLeft" fmla="*/ 0 w 432000"/>
              <a:gd name="textAreaRight" fmla="*/ 432360 w 432000"/>
              <a:gd name="textAreaTop" fmla="*/ 0 h 498240"/>
              <a:gd name="textAreaBottom" fmla="*/ 498600 h 498240"/>
            </a:gdLst>
            <a:ahLst/>
            <a:rect l="textAreaLeft" t="textAreaTop" r="textAreaRight" b="textAreaBottom"/>
            <a:pathLst>
              <a:path w="20000" h="20000">
                <a:moveTo>
                  <a:pt x="0" y="0"/>
                </a:moveTo>
                <a:lnTo>
                  <a:pt x="0" y="19939"/>
                </a:lnTo>
                <a:lnTo>
                  <a:pt x="19960" y="19939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69" name="Freeform 28"/>
          <p:cNvSpPr/>
          <p:nvPr/>
        </p:nvSpPr>
        <p:spPr>
          <a:xfrm>
            <a:off x="2502000" y="2671920"/>
            <a:ext cx="431640" cy="493560"/>
          </a:xfrm>
          <a:custGeom>
            <a:avLst/>
            <a:gdLst>
              <a:gd name="textAreaLeft" fmla="*/ 0 w 431640"/>
              <a:gd name="textAreaRight" fmla="*/ 432000 w 43164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20000" h="20000">
                <a:moveTo>
                  <a:pt x="0" y="0"/>
                </a:moveTo>
                <a:lnTo>
                  <a:pt x="0" y="19939"/>
                </a:lnTo>
                <a:lnTo>
                  <a:pt x="19960" y="19939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0" name="Freeform 29"/>
          <p:cNvSpPr/>
          <p:nvPr/>
        </p:nvSpPr>
        <p:spPr>
          <a:xfrm>
            <a:off x="3757680" y="3389400"/>
            <a:ext cx="430200" cy="496800"/>
          </a:xfrm>
          <a:custGeom>
            <a:avLst/>
            <a:gdLst>
              <a:gd name="textAreaLeft" fmla="*/ 0 w 430200"/>
              <a:gd name="textAreaRight" fmla="*/ 430560 w 43020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0000" h="20000">
                <a:moveTo>
                  <a:pt x="0" y="0"/>
                </a:moveTo>
                <a:lnTo>
                  <a:pt x="0" y="19939"/>
                </a:lnTo>
                <a:lnTo>
                  <a:pt x="19960" y="19939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1" name="Rectangle 30"/>
          <p:cNvSpPr/>
          <p:nvPr/>
        </p:nvSpPr>
        <p:spPr>
          <a:xfrm>
            <a:off x="1835280" y="2286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Object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2" name="Rectangle 31"/>
          <p:cNvSpPr/>
          <p:nvPr/>
        </p:nvSpPr>
        <p:spPr>
          <a:xfrm>
            <a:off x="3102840" y="30160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Component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3" name="Rectangle 32"/>
          <p:cNvSpPr/>
          <p:nvPr/>
        </p:nvSpPr>
        <p:spPr>
          <a:xfrm>
            <a:off x="5572440" y="44640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Component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4352040" y="3714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Container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5" name="Rectangle 1026"/>
          <p:cNvSpPr/>
          <p:nvPr/>
        </p:nvSpPr>
        <p:spPr>
          <a:xfrm>
            <a:off x="380880" y="304920"/>
            <a:ext cx="8001000" cy="1218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Common superclasses of many of the Swing components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-  prepare the container to put the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Container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tContentPa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- Specify the layout  manager of container :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tLay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Layout typ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- Create GUI components such as (</a:t>
            </a:r>
            <a:r>
              <a:rPr b="1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JLabe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JTextField, </a:t>
            </a:r>
            <a:r>
              <a:rPr b="1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JButt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JComboBox, ….. etc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d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GUI Component into Contain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GUI compon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 </a:t>
            </a:r>
            <a:r>
              <a:rPr b="1" lang="en-US" sz="2800" spc="-1" strike="noStrike">
                <a:solidFill>
                  <a:srgbClr val="191966"/>
                </a:solidFill>
                <a:latin typeface="Times New Roman"/>
              </a:rPr>
              <a:t>Ad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events when user interacts with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xecu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26"/>
          <p:cNvSpPr/>
          <p:nvPr/>
        </p:nvSpPr>
        <p:spPr>
          <a:xfrm>
            <a:off x="304920" y="152280"/>
            <a:ext cx="8153280" cy="5335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How to display GUI Components?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ide text on GU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fined with class 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Jlabel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Lucida Console"/>
              </a:rPr>
              <a:t>subclass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of </a:t>
            </a:r>
            <a:r>
              <a:rPr b="1" lang="en-US" sz="2000" spc="-1" strike="noStrike">
                <a:solidFill>
                  <a:srgbClr val="262699"/>
                </a:solidFill>
                <a:latin typeface="Lucida Console"/>
              </a:rPr>
              <a:t>JComponent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display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ngle line of read-only tex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 and im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 Events from us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26"/>
          <p:cNvSpPr/>
          <p:nvPr/>
        </p:nvSpPr>
        <p:spPr>
          <a:xfrm>
            <a:off x="457200" y="15228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Label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or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JLabel( )                   </a:t>
            </a:r>
            <a:r>
              <a:rPr b="1" i="1" lang="en-US" sz="2600" spc="-1" strike="noStrike">
                <a:solidFill>
                  <a:srgbClr val="7f7f7f"/>
                </a:solidFill>
                <a:latin typeface="Times New Roman"/>
              </a:rPr>
              <a:t>// default construc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JLabel(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  text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JLabel( 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</a:rPr>
              <a:t>ImageIc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  image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hods: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262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2699"/>
                </a:solidFill>
                <a:latin typeface="Times New Roman"/>
              </a:rPr>
              <a:t>setTex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  text ) 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etIc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lang="en-US" sz="2600" spc="-1" strike="noStrike">
                <a:solidFill>
                  <a:srgbClr val="262699"/>
                </a:solidFill>
                <a:latin typeface="Times New Roman"/>
              </a:rPr>
              <a:t>Ic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  icon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herited  from class </a:t>
            </a:r>
            <a:r>
              <a:rPr b="1" lang="en-US" sz="2600" spc="-1" strike="noStrike">
                <a:solidFill>
                  <a:srgbClr val="0050d5"/>
                </a:solidFill>
                <a:latin typeface="Times New Roman"/>
              </a:rPr>
              <a:t>JCompone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etToolTipTex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</a:rPr>
              <a:t>Strin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  text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etFo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</a:rPr>
              <a:t>Font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ont)    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026"/>
          <p:cNvSpPr/>
          <p:nvPr/>
        </p:nvSpPr>
        <p:spPr>
          <a:xfrm>
            <a:off x="457200" y="15228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Label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vantGarde"/>
              </a:rPr>
              <a:t>Example(1): using </a:t>
            </a:r>
            <a:r>
              <a:rPr b="1" i="1" lang="en-US" sz="2800" spc="-1" strike="noStrike">
                <a:solidFill>
                  <a:srgbClr val="000000"/>
                </a:solidFill>
                <a:latin typeface="AvantGarde"/>
              </a:rPr>
              <a:t> JLabe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program that display the following GU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19"/>
          <p:cNvSpPr/>
          <p:nvPr/>
        </p:nvSpPr>
        <p:spPr>
          <a:xfrm>
            <a:off x="914400" y="1295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Label1(Text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85" name="TextBox 22"/>
          <p:cNvSpPr/>
          <p:nvPr/>
        </p:nvSpPr>
        <p:spPr>
          <a:xfrm>
            <a:off x="6172200" y="1295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Label2(Icon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86" name="TextBox 26"/>
          <p:cNvSpPr/>
          <p:nvPr/>
        </p:nvSpPr>
        <p:spPr>
          <a:xfrm>
            <a:off x="2743200" y="510552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Label3(Text with Icon)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6934320" cy="2819160"/>
          </a:xfrm>
          <a:prstGeom prst="rect">
            <a:avLst/>
          </a:prstGeom>
          <a:ln w="0">
            <a:noFill/>
          </a:ln>
        </p:spPr>
      </p:pic>
      <p:cxnSp>
        <p:nvCxnSpPr>
          <p:cNvPr id="188" name="Straight Arrow Connector 28"/>
          <p:cNvCxnSpPr/>
          <p:nvPr/>
        </p:nvCxnSpPr>
        <p:spPr>
          <a:xfrm flipH="1">
            <a:off x="4190400" y="3809520"/>
            <a:ext cx="76680" cy="1296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189" name="Straight Arrow Connector 29"/>
          <p:cNvCxnSpPr/>
          <p:nvPr/>
        </p:nvCxnSpPr>
        <p:spPr>
          <a:xfrm flipV="1">
            <a:off x="5791320" y="1599840"/>
            <a:ext cx="1219680" cy="99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190" name="Straight Arrow Connector 31"/>
          <p:cNvCxnSpPr>
            <a:endCxn id="184" idx="2"/>
          </p:cNvCxnSpPr>
          <p:nvPr/>
        </p:nvCxnSpPr>
        <p:spPr>
          <a:xfrm flipH="1" flipV="1">
            <a:off x="1751760" y="1633320"/>
            <a:ext cx="1220040" cy="1110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1: import package java.awt for Graphic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  class 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isplay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xtends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JFram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rivat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J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label1, label2, label3;    </a:t>
            </a: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define JLab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isplayLabel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up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“Testing JLabel " 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;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Visable(true 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step4: prepare the container to put the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Container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etContentPa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step5: Specify the layout  manager of container :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91966"/>
                </a:solidFill>
                <a:latin typeface="Times New Roman"/>
              </a:rPr>
              <a:t>Flow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r>
              <a:rPr b="0" lang="en-US" sz="2400" spc="-1" strike="noStrike">
                <a:solidFill>
                  <a:srgbClr val="1919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 </a:t>
            </a:r>
            <a:r>
              <a:rPr b="1" lang="en-US" sz="2200" spc="-1" strike="noStrike">
                <a:solidFill>
                  <a:srgbClr val="595959"/>
                </a:solidFill>
                <a:latin typeface="Times New Roman"/>
              </a:rPr>
              <a:t>//start from left to 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 Step6: Create  First  JLabel  (Tex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1 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JLabe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"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bel with Tex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1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tToolTipTex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"</a:t>
            </a:r>
            <a:r>
              <a:rPr b="1" lang="en-US" sz="2400" spc="-1" strike="noStrike">
                <a:solidFill>
                  <a:srgbClr val="191966"/>
                </a:solidFill>
                <a:latin typeface="Times New Roman"/>
              </a:rPr>
              <a:t>This is Label(1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label1 );  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 add label into 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04920" y="685800"/>
            <a:ext cx="8381880" cy="1447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874880" y="2514600"/>
            <a:ext cx="5668920" cy="2819520"/>
          </a:xfrm>
          <a:prstGeom prst="rect">
            <a:avLst/>
          </a:prstGeom>
          <a:ln w="0">
            <a:noFill/>
          </a:ln>
        </p:spPr>
      </p:pic>
      <p:cxnSp>
        <p:nvCxnSpPr>
          <p:cNvPr id="198" name="Straight Arrow Connector 9"/>
          <p:cNvCxnSpPr/>
          <p:nvPr/>
        </p:nvCxnSpPr>
        <p:spPr>
          <a:xfrm>
            <a:off x="1143000" y="2133360"/>
            <a:ext cx="2667240" cy="1067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9" name="Straight Arrow Connector 10"/>
          <p:cNvCxnSpPr/>
          <p:nvPr/>
        </p:nvCxnSpPr>
        <p:spPr>
          <a:xfrm>
            <a:off x="5867280" y="1676160"/>
            <a:ext cx="153360" cy="1905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 Step7: Create  Second  JLabel  ( ico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ImageIc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pic 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ImageIc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"pic.gif" ); 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create ic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2 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JLabe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pic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2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tToolTipTex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"</a:t>
            </a:r>
            <a:r>
              <a:rPr b="1" lang="en-US" sz="2400" spc="-1" strike="noStrike">
                <a:solidFill>
                  <a:srgbClr val="191966"/>
                </a:solidFill>
                <a:latin typeface="Times New Roman"/>
              </a:rPr>
              <a:t>This is Label(2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label2 ); 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 add label into 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1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04920" y="609480"/>
            <a:ext cx="8381880" cy="2057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5867640" cy="3124080"/>
          </a:xfrm>
          <a:prstGeom prst="rect">
            <a:avLst/>
          </a:prstGeom>
          <a:ln w="0">
            <a:noFill/>
          </a:ln>
        </p:spPr>
      </p:pic>
      <p:cxnSp>
        <p:nvCxnSpPr>
          <p:cNvPr id="204" name="Straight Arrow Connector 11"/>
          <p:cNvCxnSpPr/>
          <p:nvPr/>
        </p:nvCxnSpPr>
        <p:spPr>
          <a:xfrm>
            <a:off x="1371600" y="2514600"/>
            <a:ext cx="2667240" cy="1296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205" name="Group 33"/>
          <p:cNvGrpSpPr/>
          <p:nvPr/>
        </p:nvGrpSpPr>
        <p:grpSpPr>
          <a:xfrm>
            <a:off x="4419720" y="1675440"/>
            <a:ext cx="2666880" cy="2057400"/>
            <a:chOff x="4419720" y="1675440"/>
            <a:chExt cx="2666880" cy="2057400"/>
          </a:xfrm>
        </p:grpSpPr>
        <p:cxnSp>
          <p:nvCxnSpPr>
            <p:cNvPr id="206" name="Straight Arrow Connector 20"/>
            <p:cNvCxnSpPr/>
            <p:nvPr/>
          </p:nvCxnSpPr>
          <p:spPr>
            <a:xfrm flipH="1">
              <a:off x="4952160" y="1675440"/>
              <a:ext cx="2134440" cy="20577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207" name="Straight Connector 24"/>
            <p:cNvSpPr/>
            <p:nvPr/>
          </p:nvSpPr>
          <p:spPr>
            <a:xfrm>
              <a:off x="4419720" y="1676520"/>
              <a:ext cx="26668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cxnSp>
        <p:nvCxnSpPr>
          <p:cNvPr id="208" name="Straight Arrow Connector 26"/>
          <p:cNvCxnSpPr/>
          <p:nvPr/>
        </p:nvCxnSpPr>
        <p:spPr>
          <a:xfrm>
            <a:off x="4799520" y="2057400"/>
            <a:ext cx="762840" cy="2210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560" y="11412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 Step8: Create  Third  JLabel  ( Text with  ico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3 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JLabe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ImageIc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pic2 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ImageIc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“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user.gi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 ); 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create ic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3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Tex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"Label with icon and Text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3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Ic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pic2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3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tToolTipTex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"</a:t>
            </a:r>
            <a:r>
              <a:rPr b="1" lang="en-US" sz="2400" spc="-1" strike="noStrike">
                <a:solidFill>
                  <a:srgbClr val="191966"/>
                </a:solidFill>
                <a:latin typeface="Times New Roman"/>
              </a:rPr>
              <a:t>This is Label(3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label3 ); 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 add label into 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end of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5562360" cy="3124080"/>
          </a:xfrm>
          <a:prstGeom prst="rect">
            <a:avLst/>
          </a:prstGeom>
          <a:ln w="0">
            <a:noFill/>
          </a:ln>
        </p:spPr>
      </p:pic>
      <p:cxnSp>
        <p:nvCxnSpPr>
          <p:cNvPr id="211" name="Straight Arrow Connector 12"/>
          <p:cNvCxnSpPr/>
          <p:nvPr/>
        </p:nvCxnSpPr>
        <p:spPr>
          <a:xfrm>
            <a:off x="1371240" y="2819520"/>
            <a:ext cx="2134440" cy="838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212" name="Group 27"/>
          <p:cNvGrpSpPr/>
          <p:nvPr/>
        </p:nvGrpSpPr>
        <p:grpSpPr>
          <a:xfrm>
            <a:off x="3886200" y="1447920"/>
            <a:ext cx="3657960" cy="382680"/>
            <a:chOff x="3886200" y="1447920"/>
            <a:chExt cx="3657960" cy="382680"/>
          </a:xfrm>
        </p:grpSpPr>
        <p:cxnSp>
          <p:nvCxnSpPr>
            <p:cNvPr id="213" name="Straight Arrow Connector 21"/>
            <p:cNvCxnSpPr/>
            <p:nvPr/>
          </p:nvCxnSpPr>
          <p:spPr>
            <a:xfrm>
              <a:off x="6782040" y="1447920"/>
              <a:ext cx="762480" cy="3816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</p:cxnSp>
        <p:cxnSp>
          <p:nvCxnSpPr>
            <p:cNvPr id="214" name="Straight Arrow Connector 22"/>
            <p:cNvCxnSpPr/>
            <p:nvPr/>
          </p:nvCxnSpPr>
          <p:spPr>
            <a:xfrm>
              <a:off x="3886200" y="1828800"/>
              <a:ext cx="365832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</p:cxnSp>
      </p:grpSp>
      <p:sp>
        <p:nvSpPr>
          <p:cNvPr id="215" name="Straight Connector 29"/>
          <p:cNvSpPr/>
          <p:nvPr/>
        </p:nvSpPr>
        <p:spPr>
          <a:xfrm flipV="1">
            <a:off x="4952880" y="1828440"/>
            <a:ext cx="2590920" cy="2133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6" name="Rectangle 41"/>
          <p:cNvSpPr/>
          <p:nvPr/>
        </p:nvSpPr>
        <p:spPr>
          <a:xfrm>
            <a:off x="228600" y="76320"/>
            <a:ext cx="8610480" cy="3124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533520" y="914400"/>
            <a:ext cx="7924680" cy="54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view of Swing Components: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2" marL="14288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Jlabel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2" marL="14288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JButton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2" marL="14288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JTextField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2" marL="14288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JCheckBox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2" marL="14288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JRadioButton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2" marL="14288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JComboBox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2" marL="14288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Jlist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2" marL="1428840" indent="-51444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Jpanel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vent Handling  </a:t>
            </a:r>
            <a:r>
              <a:rPr b="1" lang="en-US" sz="2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ow Event Handling Works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lin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playLabe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p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playLabe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set Close operation of Jframe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s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457200" y="228600"/>
            <a:ext cx="8381880" cy="6172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6019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ponent user clicks to trigger a specific ac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veral different typ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mand butt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heck box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oggle butt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adio butt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javax.swing.AbstractButt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ubclas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mand buttons are created with class </a:t>
            </a:r>
            <a:r>
              <a:rPr b="1" lang="en-US" sz="2500" spc="-1" strike="noStrike">
                <a:solidFill>
                  <a:srgbClr val="ff0000"/>
                </a:solidFill>
                <a:latin typeface="Lucida Console"/>
              </a:rPr>
              <a:t>JButt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ActionEvent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user clicks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26"/>
          <p:cNvSpPr/>
          <p:nvPr/>
        </p:nvSpPr>
        <p:spPr>
          <a:xfrm>
            <a:off x="457200" y="15228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Button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wing button hierarchy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838080" y="1447920"/>
            <a:ext cx="7467840" cy="3427200"/>
            <a:chOff x="838080" y="1447920"/>
            <a:chExt cx="7467840" cy="3427200"/>
          </a:xfrm>
        </p:grpSpPr>
        <p:sp>
          <p:nvSpPr>
            <p:cNvPr id="224" name="Rectangle 4"/>
            <p:cNvSpPr/>
            <p:nvPr/>
          </p:nvSpPr>
          <p:spPr>
            <a:xfrm>
              <a:off x="838080" y="1447920"/>
              <a:ext cx="7467840" cy="3427200"/>
            </a:xfrm>
            <a:prstGeom prst="rect">
              <a:avLst/>
            </a:prstGeom>
            <a:solidFill>
              <a:srgbClr val="ffe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grpSp>
          <p:nvGrpSpPr>
            <p:cNvPr id="225" name="Group 5"/>
            <p:cNvGrpSpPr/>
            <p:nvPr/>
          </p:nvGrpSpPr>
          <p:grpSpPr>
            <a:xfrm>
              <a:off x="1074240" y="1708200"/>
              <a:ext cx="6996240" cy="2904840"/>
              <a:chOff x="1074240" y="1708200"/>
              <a:chExt cx="6996240" cy="2904840"/>
            </a:xfrm>
          </p:grpSpPr>
          <p:sp>
            <p:nvSpPr>
              <p:cNvPr id="226" name="Freeform 6"/>
              <p:cNvSpPr/>
              <p:nvPr/>
            </p:nvSpPr>
            <p:spPr>
              <a:xfrm>
                <a:off x="2697480" y="2177280"/>
                <a:ext cx="248400" cy="55836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558360"/>
                  <a:gd name="textAreaBottom" fmla="*/ 558720 h 5583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0" y="19939"/>
                    </a:lnTo>
                    <a:lnTo>
                      <a:pt x="19917" y="1993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grpSp>
            <p:nvGrpSpPr>
              <p:cNvPr id="227" name="Group 7"/>
              <p:cNvGrpSpPr/>
              <p:nvPr/>
            </p:nvGrpSpPr>
            <p:grpSpPr>
              <a:xfrm>
                <a:off x="1074240" y="1708200"/>
                <a:ext cx="1866960" cy="469080"/>
                <a:chOff x="1074240" y="1708200"/>
                <a:chExt cx="1866960" cy="469080"/>
              </a:xfrm>
            </p:grpSpPr>
            <p:sp>
              <p:nvSpPr>
                <p:cNvPr id="228" name="Rectangle 8"/>
                <p:cNvSpPr/>
                <p:nvPr/>
              </p:nvSpPr>
              <p:spPr>
                <a:xfrm>
                  <a:off x="1134360" y="1839960"/>
                  <a:ext cx="1732320" cy="27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  <a:ea typeface="Times New Roman"/>
                    </a:rPr>
                    <a:t>JComponent</a:t>
                  </a:r>
                  <a:endParaRPr b="1" lang="en-US" sz="8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  <p:grpSp>
              <p:nvGrpSpPr>
                <p:cNvPr id="229" name="Group 9"/>
                <p:cNvGrpSpPr/>
                <p:nvPr/>
              </p:nvGrpSpPr>
              <p:grpSpPr>
                <a:xfrm>
                  <a:off x="1074240" y="1708200"/>
                  <a:ext cx="1866960" cy="469080"/>
                  <a:chOff x="1074240" y="1708200"/>
                  <a:chExt cx="1866960" cy="469080"/>
                </a:xfrm>
              </p:grpSpPr>
              <p:sp>
                <p:nvSpPr>
                  <p:cNvPr id="230" name="Freeform 10"/>
                  <p:cNvSpPr/>
                  <p:nvPr/>
                </p:nvSpPr>
                <p:spPr>
                  <a:xfrm>
                    <a:off x="1074240" y="1708200"/>
                    <a:ext cx="1866960" cy="469080"/>
                  </a:xfrm>
                  <a:custGeom>
                    <a:avLst/>
                    <a:gdLst>
                      <a:gd name="textAreaLeft" fmla="*/ 0 w 1866960"/>
                      <a:gd name="textAreaRight" fmla="*/ 1867320 w 1866960"/>
                      <a:gd name="textAreaTop" fmla="*/ 0 h 469080"/>
                      <a:gd name="textAreaBottom" fmla="*/ 469080 h 46908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27"/>
                        </a:lnTo>
                        <a:lnTo>
                          <a:pt x="0" y="19927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  <p:sp>
                <p:nvSpPr>
                  <p:cNvPr id="231" name="Freeform 11"/>
                  <p:cNvSpPr/>
                  <p:nvPr/>
                </p:nvSpPr>
                <p:spPr>
                  <a:xfrm>
                    <a:off x="1074240" y="1708200"/>
                    <a:ext cx="1866960" cy="469080"/>
                  </a:xfrm>
                  <a:custGeom>
                    <a:avLst/>
                    <a:gdLst>
                      <a:gd name="textAreaLeft" fmla="*/ 0 w 1866960"/>
                      <a:gd name="textAreaRight" fmla="*/ 1867320 w 1866960"/>
                      <a:gd name="textAreaTop" fmla="*/ 0 h 469080"/>
                      <a:gd name="textAreaBottom" fmla="*/ 469080 h 46908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27"/>
                        </a:lnTo>
                        <a:lnTo>
                          <a:pt x="0" y="19927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</p:grpSp>
          </p:grpSp>
          <p:grpSp>
            <p:nvGrpSpPr>
              <p:cNvPr id="232" name="Group 12"/>
              <p:cNvGrpSpPr/>
              <p:nvPr/>
            </p:nvGrpSpPr>
            <p:grpSpPr>
              <a:xfrm>
                <a:off x="2951280" y="2520000"/>
                <a:ext cx="1866960" cy="469080"/>
                <a:chOff x="2951280" y="2520000"/>
                <a:chExt cx="1866960" cy="469080"/>
              </a:xfrm>
            </p:grpSpPr>
            <p:sp>
              <p:nvSpPr>
                <p:cNvPr id="233" name="Rectangle 13"/>
                <p:cNvSpPr/>
                <p:nvPr/>
              </p:nvSpPr>
              <p:spPr>
                <a:xfrm>
                  <a:off x="3012480" y="2651760"/>
                  <a:ext cx="17319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  <a:ea typeface="Times New Roman"/>
                    </a:rPr>
                    <a:t>AbstractButton</a:t>
                  </a:r>
                  <a:endParaRPr b="1" lang="en-US" sz="8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  <p:grpSp>
              <p:nvGrpSpPr>
                <p:cNvPr id="234" name="Group 14"/>
                <p:cNvGrpSpPr/>
                <p:nvPr/>
              </p:nvGrpSpPr>
              <p:grpSpPr>
                <a:xfrm>
                  <a:off x="2951280" y="2520000"/>
                  <a:ext cx="1866960" cy="469080"/>
                  <a:chOff x="2951280" y="2520000"/>
                  <a:chExt cx="1866960" cy="469080"/>
                </a:xfrm>
              </p:grpSpPr>
              <p:sp>
                <p:nvSpPr>
                  <p:cNvPr id="235" name="Freeform 15"/>
                  <p:cNvSpPr/>
                  <p:nvPr/>
                </p:nvSpPr>
                <p:spPr>
                  <a:xfrm>
                    <a:off x="2951280" y="2520000"/>
                    <a:ext cx="1866960" cy="469080"/>
                  </a:xfrm>
                  <a:custGeom>
                    <a:avLst/>
                    <a:gdLst>
                      <a:gd name="textAreaLeft" fmla="*/ 0 w 1866960"/>
                      <a:gd name="textAreaRight" fmla="*/ 1867320 w 1866960"/>
                      <a:gd name="textAreaTop" fmla="*/ 0 h 469080"/>
                      <a:gd name="textAreaBottom" fmla="*/ 469080 h 46908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27"/>
                        </a:lnTo>
                        <a:lnTo>
                          <a:pt x="0" y="19927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  <p:sp>
                <p:nvSpPr>
                  <p:cNvPr id="236" name="Freeform 16"/>
                  <p:cNvSpPr/>
                  <p:nvPr/>
                </p:nvSpPr>
                <p:spPr>
                  <a:xfrm>
                    <a:off x="2951280" y="2520000"/>
                    <a:ext cx="1866960" cy="469080"/>
                  </a:xfrm>
                  <a:custGeom>
                    <a:avLst/>
                    <a:gdLst>
                      <a:gd name="textAreaLeft" fmla="*/ 0 w 1866960"/>
                      <a:gd name="textAreaRight" fmla="*/ 1867320 w 1866960"/>
                      <a:gd name="textAreaTop" fmla="*/ 0 h 469080"/>
                      <a:gd name="textAreaBottom" fmla="*/ 469080 h 46908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27"/>
                        </a:lnTo>
                        <a:lnTo>
                          <a:pt x="0" y="19927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</p:grpSp>
          </p:grpSp>
          <p:grpSp>
            <p:nvGrpSpPr>
              <p:cNvPr id="237" name="Group 17"/>
              <p:cNvGrpSpPr/>
              <p:nvPr/>
            </p:nvGrpSpPr>
            <p:grpSpPr>
              <a:xfrm>
                <a:off x="4590000" y="2989440"/>
                <a:ext cx="2124360" cy="811440"/>
                <a:chOff x="4590000" y="2989440"/>
                <a:chExt cx="2124360" cy="811440"/>
              </a:xfrm>
            </p:grpSpPr>
            <p:sp>
              <p:nvSpPr>
                <p:cNvPr id="238" name="Freeform 18"/>
                <p:cNvSpPr/>
                <p:nvPr/>
              </p:nvSpPr>
              <p:spPr>
                <a:xfrm>
                  <a:off x="4590000" y="2989440"/>
                  <a:ext cx="248400" cy="558000"/>
                </a:xfrm>
                <a:custGeom>
                  <a:avLst/>
                  <a:gdLst>
                    <a:gd name="textAreaLeft" fmla="*/ 0 w 248400"/>
                    <a:gd name="textAreaRight" fmla="*/ 248760 w 248400"/>
                    <a:gd name="textAreaTop" fmla="*/ 0 h 558000"/>
                    <a:gd name="textAreaBottom" fmla="*/ 558000 h 5580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0" y="0"/>
                      </a:moveTo>
                      <a:lnTo>
                        <a:pt x="0" y="19939"/>
                      </a:lnTo>
                      <a:lnTo>
                        <a:pt x="19917" y="19939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  <p:grpSp>
              <p:nvGrpSpPr>
                <p:cNvPr id="239" name="Group 19"/>
                <p:cNvGrpSpPr/>
                <p:nvPr/>
              </p:nvGrpSpPr>
              <p:grpSpPr>
                <a:xfrm>
                  <a:off x="4847760" y="3331800"/>
                  <a:ext cx="1866600" cy="469080"/>
                  <a:chOff x="4847760" y="3331800"/>
                  <a:chExt cx="1866600" cy="469080"/>
                </a:xfrm>
              </p:grpSpPr>
              <p:sp>
                <p:nvSpPr>
                  <p:cNvPr id="240" name="Rectangle 20"/>
                  <p:cNvSpPr/>
                  <p:nvPr/>
                </p:nvSpPr>
                <p:spPr>
                  <a:xfrm>
                    <a:off x="4907520" y="3463560"/>
                    <a:ext cx="1732320" cy="27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sz="800" spc="-1" strike="noStrike">
                        <a:solidFill>
                          <a:srgbClr val="000000"/>
                        </a:solidFill>
                        <a:latin typeface="LucidaSansTypewriter"/>
                        <a:ea typeface="Times New Roman"/>
                      </a:rPr>
                      <a:t>JToggleButton</a:t>
                    </a:r>
                    <a:endParaRPr b="1" lang="en-US" sz="8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  <p:grpSp>
                <p:nvGrpSpPr>
                  <p:cNvPr id="241" name="Group 21"/>
                  <p:cNvGrpSpPr/>
                  <p:nvPr/>
                </p:nvGrpSpPr>
                <p:grpSpPr>
                  <a:xfrm>
                    <a:off x="4847760" y="3331800"/>
                    <a:ext cx="1866600" cy="469080"/>
                    <a:chOff x="4847760" y="3331800"/>
                    <a:chExt cx="1866600" cy="469080"/>
                  </a:xfrm>
                </p:grpSpPr>
                <p:sp>
                  <p:nvSpPr>
                    <p:cNvPr id="242" name="Freeform 22"/>
                    <p:cNvSpPr/>
                    <p:nvPr/>
                  </p:nvSpPr>
                  <p:spPr>
                    <a:xfrm>
                      <a:off x="4847760" y="3331800"/>
                      <a:ext cx="1866600" cy="46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9" y="0"/>
                          </a:moveTo>
                          <a:lnTo>
                            <a:pt x="19989" y="19927"/>
                          </a:lnTo>
                          <a:lnTo>
                            <a:pt x="0" y="19927"/>
                          </a:lnTo>
                          <a:lnTo>
                            <a:pt x="0" y="0"/>
                          </a:lnTo>
                          <a:lnTo>
                            <a:pt x="19989" y="0"/>
                          </a:lnTo>
                          <a:close/>
                        </a:path>
                      </a:pathLst>
                    </a:custGeom>
                    <a:solidFill>
                      <a:srgbClr val="4db3e6"/>
                    </a:solidFill>
                    <a:ln w="3240">
                      <a:solidFill>
                        <a:srgbClr val="4db3e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p:txBody>
                </p:sp>
                <p:sp>
                  <p:nvSpPr>
                    <p:cNvPr id="243" name="Freeform 23"/>
                    <p:cNvSpPr/>
                    <p:nvPr/>
                  </p:nvSpPr>
                  <p:spPr>
                    <a:xfrm>
                      <a:off x="4847760" y="3331800"/>
                      <a:ext cx="1866600" cy="46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9" y="0"/>
                          </a:moveTo>
                          <a:lnTo>
                            <a:pt x="19989" y="19927"/>
                          </a:lnTo>
                          <a:lnTo>
                            <a:pt x="0" y="19927"/>
                          </a:lnTo>
                          <a:lnTo>
                            <a:pt x="0" y="0"/>
                          </a:lnTo>
                          <a:lnTo>
                            <a:pt x="19989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p:txBody>
                </p:sp>
              </p:grpSp>
            </p:grpSp>
          </p:grpSp>
          <p:grpSp>
            <p:nvGrpSpPr>
              <p:cNvPr id="244" name="Group 24"/>
              <p:cNvGrpSpPr/>
              <p:nvPr/>
            </p:nvGrpSpPr>
            <p:grpSpPr>
              <a:xfrm>
                <a:off x="5946480" y="3801240"/>
                <a:ext cx="2124000" cy="811800"/>
                <a:chOff x="5946480" y="3801240"/>
                <a:chExt cx="2124000" cy="811800"/>
              </a:xfrm>
            </p:grpSpPr>
            <p:sp>
              <p:nvSpPr>
                <p:cNvPr id="245" name="Freeform 25"/>
                <p:cNvSpPr/>
                <p:nvPr/>
              </p:nvSpPr>
              <p:spPr>
                <a:xfrm>
                  <a:off x="5946480" y="3801240"/>
                  <a:ext cx="248760" cy="558360"/>
                </a:xfrm>
                <a:custGeom>
                  <a:avLst/>
                  <a:gdLst>
                    <a:gd name="textAreaLeft" fmla="*/ 0 w 248760"/>
                    <a:gd name="textAreaRight" fmla="*/ 249120 w 248760"/>
                    <a:gd name="textAreaTop" fmla="*/ 0 h 558360"/>
                    <a:gd name="textAreaBottom" fmla="*/ 558720 h 5583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0" y="0"/>
                      </a:moveTo>
                      <a:lnTo>
                        <a:pt x="0" y="19939"/>
                      </a:lnTo>
                      <a:lnTo>
                        <a:pt x="19917" y="19939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  <p:grpSp>
              <p:nvGrpSpPr>
                <p:cNvPr id="246" name="Group 26"/>
                <p:cNvGrpSpPr/>
                <p:nvPr/>
              </p:nvGrpSpPr>
              <p:grpSpPr>
                <a:xfrm>
                  <a:off x="6203520" y="4143600"/>
                  <a:ext cx="1866960" cy="469440"/>
                  <a:chOff x="6203520" y="4143600"/>
                  <a:chExt cx="1866960" cy="469440"/>
                </a:xfrm>
              </p:grpSpPr>
              <p:sp>
                <p:nvSpPr>
                  <p:cNvPr id="247" name="Rectangle 27"/>
                  <p:cNvSpPr/>
                  <p:nvPr/>
                </p:nvSpPr>
                <p:spPr>
                  <a:xfrm>
                    <a:off x="6264720" y="4275360"/>
                    <a:ext cx="1731960" cy="27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sz="800" spc="-1" strike="noStrike">
                        <a:solidFill>
                          <a:srgbClr val="000000"/>
                        </a:solidFill>
                        <a:latin typeface="LucidaSansTypewriter"/>
                        <a:ea typeface="Times New Roman"/>
                      </a:rPr>
                      <a:t>JRadioButton</a:t>
                    </a:r>
                    <a:endParaRPr b="1" lang="en-US" sz="8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  <p:grpSp>
                <p:nvGrpSpPr>
                  <p:cNvPr id="248" name="Group 28"/>
                  <p:cNvGrpSpPr/>
                  <p:nvPr/>
                </p:nvGrpSpPr>
                <p:grpSpPr>
                  <a:xfrm>
                    <a:off x="6203520" y="4143600"/>
                    <a:ext cx="1866960" cy="469440"/>
                    <a:chOff x="6203520" y="4143600"/>
                    <a:chExt cx="1866960" cy="469440"/>
                  </a:xfrm>
                </p:grpSpPr>
                <p:sp>
                  <p:nvSpPr>
                    <p:cNvPr id="249" name="Freeform 29"/>
                    <p:cNvSpPr/>
                    <p:nvPr/>
                  </p:nvSpPr>
                  <p:spPr>
                    <a:xfrm>
                      <a:off x="6203520" y="4143600"/>
                      <a:ext cx="1866960" cy="469440"/>
                    </a:xfrm>
                    <a:custGeom>
                      <a:avLst/>
                      <a:gdLst>
                        <a:gd name="textAreaLeft" fmla="*/ 0 w 1866960"/>
                        <a:gd name="textAreaRight" fmla="*/ 1867320 w 1866960"/>
                        <a:gd name="textAreaTop" fmla="*/ 0 h 469440"/>
                        <a:gd name="textAreaBottom" fmla="*/ 469800 h 469440"/>
                      </a:gdLst>
                      <a:ahLst/>
                      <a:rect l="textAreaLeft" t="textAreaTop" r="textAreaRight" b="textAreaBottom"/>
                      <a:pathLst>
                        <a:path w="20000" h="20000">
                          <a:moveTo>
                            <a:pt x="19989" y="0"/>
                          </a:moveTo>
                          <a:lnTo>
                            <a:pt x="19989" y="19927"/>
                          </a:lnTo>
                          <a:lnTo>
                            <a:pt x="0" y="19927"/>
                          </a:lnTo>
                          <a:lnTo>
                            <a:pt x="0" y="0"/>
                          </a:lnTo>
                          <a:lnTo>
                            <a:pt x="19989" y="0"/>
                          </a:lnTo>
                          <a:close/>
                        </a:path>
                      </a:pathLst>
                    </a:custGeom>
                    <a:solidFill>
                      <a:srgbClr val="4db3e6"/>
                    </a:solidFill>
                    <a:ln w="3240">
                      <a:solidFill>
                        <a:srgbClr val="4db3e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p:txBody>
                </p:sp>
                <p:sp>
                  <p:nvSpPr>
                    <p:cNvPr id="250" name="Freeform 30"/>
                    <p:cNvSpPr/>
                    <p:nvPr/>
                  </p:nvSpPr>
                  <p:spPr>
                    <a:xfrm>
                      <a:off x="6203520" y="4143600"/>
                      <a:ext cx="1866960" cy="469440"/>
                    </a:xfrm>
                    <a:custGeom>
                      <a:avLst/>
                      <a:gdLst>
                        <a:gd name="textAreaLeft" fmla="*/ 0 w 1866960"/>
                        <a:gd name="textAreaRight" fmla="*/ 1867320 w 1866960"/>
                        <a:gd name="textAreaTop" fmla="*/ 0 h 469440"/>
                        <a:gd name="textAreaBottom" fmla="*/ 469800 h 469440"/>
                      </a:gdLst>
                      <a:ahLst/>
                      <a:rect l="textAreaLeft" t="textAreaTop" r="textAreaRight" b="textAreaBottom"/>
                      <a:pathLst>
                        <a:path w="20000" h="20000">
                          <a:moveTo>
                            <a:pt x="19989" y="0"/>
                          </a:moveTo>
                          <a:lnTo>
                            <a:pt x="19989" y="19927"/>
                          </a:lnTo>
                          <a:lnTo>
                            <a:pt x="0" y="19927"/>
                          </a:lnTo>
                          <a:lnTo>
                            <a:pt x="0" y="0"/>
                          </a:lnTo>
                          <a:lnTo>
                            <a:pt x="19989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p:txBody>
                </p:sp>
              </p:grpSp>
            </p:grpSp>
          </p:grpSp>
          <p:grpSp>
            <p:nvGrpSpPr>
              <p:cNvPr id="251" name="Group 31"/>
              <p:cNvGrpSpPr/>
              <p:nvPr/>
            </p:nvGrpSpPr>
            <p:grpSpPr>
              <a:xfrm>
                <a:off x="3479040" y="3801240"/>
                <a:ext cx="2118600" cy="811800"/>
                <a:chOff x="3479040" y="3801240"/>
                <a:chExt cx="2118600" cy="811800"/>
              </a:xfrm>
            </p:grpSpPr>
            <p:sp>
              <p:nvSpPr>
                <p:cNvPr id="252" name="Freeform 32"/>
                <p:cNvSpPr/>
                <p:nvPr/>
              </p:nvSpPr>
              <p:spPr>
                <a:xfrm>
                  <a:off x="5349240" y="3801240"/>
                  <a:ext cx="248400" cy="558360"/>
                </a:xfrm>
                <a:custGeom>
                  <a:avLst/>
                  <a:gdLst>
                    <a:gd name="textAreaLeft" fmla="*/ 0 w 248400"/>
                    <a:gd name="textAreaRight" fmla="*/ 248760 w 248400"/>
                    <a:gd name="textAreaTop" fmla="*/ 0 h 558360"/>
                    <a:gd name="textAreaBottom" fmla="*/ 558720 h 5583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17" y="0"/>
                      </a:moveTo>
                      <a:lnTo>
                        <a:pt x="19917" y="19939"/>
                      </a:lnTo>
                      <a:lnTo>
                        <a:pt x="0" y="19939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  <p:grpSp>
              <p:nvGrpSpPr>
                <p:cNvPr id="253" name="Group 33"/>
                <p:cNvGrpSpPr/>
                <p:nvPr/>
              </p:nvGrpSpPr>
              <p:grpSpPr>
                <a:xfrm>
                  <a:off x="3479040" y="4143600"/>
                  <a:ext cx="1866600" cy="469440"/>
                  <a:chOff x="3479040" y="4143600"/>
                  <a:chExt cx="1866600" cy="469440"/>
                </a:xfrm>
              </p:grpSpPr>
              <p:sp>
                <p:nvSpPr>
                  <p:cNvPr id="254" name="Rectangle 34"/>
                  <p:cNvSpPr/>
                  <p:nvPr/>
                </p:nvSpPr>
                <p:spPr>
                  <a:xfrm>
                    <a:off x="3539160" y="4275360"/>
                    <a:ext cx="1731960" cy="27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sz="800" spc="-1" strike="noStrike">
                        <a:solidFill>
                          <a:srgbClr val="000000"/>
                        </a:solidFill>
                        <a:latin typeface="LucidaSansTypewriter"/>
                        <a:ea typeface="Times New Roman"/>
                      </a:rPr>
                      <a:t>JCheckBox</a:t>
                    </a:r>
                    <a:endParaRPr b="1" lang="en-US" sz="8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  <p:grpSp>
                <p:nvGrpSpPr>
                  <p:cNvPr id="255" name="Group 35"/>
                  <p:cNvGrpSpPr/>
                  <p:nvPr/>
                </p:nvGrpSpPr>
                <p:grpSpPr>
                  <a:xfrm>
                    <a:off x="3479040" y="4143600"/>
                    <a:ext cx="1866600" cy="469440"/>
                    <a:chOff x="3479040" y="4143600"/>
                    <a:chExt cx="1866600" cy="469440"/>
                  </a:xfrm>
                </p:grpSpPr>
                <p:sp>
                  <p:nvSpPr>
                    <p:cNvPr id="256" name="Freeform 36"/>
                    <p:cNvSpPr/>
                    <p:nvPr/>
                  </p:nvSpPr>
                  <p:spPr>
                    <a:xfrm>
                      <a:off x="3479040" y="4143600"/>
                      <a:ext cx="1866600" cy="469440"/>
                    </a:xfrm>
                    <a:custGeom>
                      <a:avLst/>
                      <a:gdLst>
                        <a:gd name="textAreaLeft" fmla="*/ 0 w 1866600"/>
                        <a:gd name="textAreaRight" fmla="*/ 1866600 w 1866600"/>
                        <a:gd name="textAreaTop" fmla="*/ 0 h 469440"/>
                        <a:gd name="textAreaBottom" fmla="*/ 469800 h 469440"/>
                      </a:gdLst>
                      <a:ahLst/>
                      <a:rect l="textAreaLeft" t="textAreaTop" r="textAreaRight" b="textAreaBottom"/>
                      <a:pathLst>
                        <a:path w="20000" h="20000">
                          <a:moveTo>
                            <a:pt x="19989" y="0"/>
                          </a:moveTo>
                          <a:lnTo>
                            <a:pt x="19989" y="19927"/>
                          </a:lnTo>
                          <a:lnTo>
                            <a:pt x="0" y="19927"/>
                          </a:lnTo>
                          <a:lnTo>
                            <a:pt x="0" y="0"/>
                          </a:lnTo>
                          <a:lnTo>
                            <a:pt x="19989" y="0"/>
                          </a:lnTo>
                          <a:close/>
                        </a:path>
                      </a:pathLst>
                    </a:custGeom>
                    <a:solidFill>
                      <a:srgbClr val="4db3e6"/>
                    </a:solidFill>
                    <a:ln w="3240">
                      <a:solidFill>
                        <a:srgbClr val="4db3e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p:txBody>
                </p:sp>
                <p:sp>
                  <p:nvSpPr>
                    <p:cNvPr id="257" name="Freeform 37"/>
                    <p:cNvSpPr/>
                    <p:nvPr/>
                  </p:nvSpPr>
                  <p:spPr>
                    <a:xfrm>
                      <a:off x="3479040" y="4143600"/>
                      <a:ext cx="1866600" cy="469440"/>
                    </a:xfrm>
                    <a:custGeom>
                      <a:avLst/>
                      <a:gdLst>
                        <a:gd name="textAreaLeft" fmla="*/ 0 w 1866600"/>
                        <a:gd name="textAreaRight" fmla="*/ 1866600 w 1866600"/>
                        <a:gd name="textAreaTop" fmla="*/ 0 h 469440"/>
                        <a:gd name="textAreaBottom" fmla="*/ 469800 h 469440"/>
                      </a:gdLst>
                      <a:ahLst/>
                      <a:rect l="textAreaLeft" t="textAreaTop" r="textAreaRight" b="textAreaBottom"/>
                      <a:pathLst>
                        <a:path w="20000" h="20000">
                          <a:moveTo>
                            <a:pt x="19989" y="0"/>
                          </a:moveTo>
                          <a:lnTo>
                            <a:pt x="19989" y="19927"/>
                          </a:lnTo>
                          <a:lnTo>
                            <a:pt x="0" y="19927"/>
                          </a:lnTo>
                          <a:lnTo>
                            <a:pt x="0" y="0"/>
                          </a:lnTo>
                          <a:lnTo>
                            <a:pt x="19989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p:txBody>
                </p:sp>
              </p:grpSp>
            </p:grpSp>
          </p:grpSp>
          <p:grpSp>
            <p:nvGrpSpPr>
              <p:cNvPr id="258" name="Group 38"/>
              <p:cNvGrpSpPr/>
              <p:nvPr/>
            </p:nvGrpSpPr>
            <p:grpSpPr>
              <a:xfrm>
                <a:off x="1074240" y="2989440"/>
                <a:ext cx="2118600" cy="811800"/>
                <a:chOff x="1074240" y="2989440"/>
                <a:chExt cx="2118600" cy="811800"/>
              </a:xfrm>
            </p:grpSpPr>
            <p:sp>
              <p:nvSpPr>
                <p:cNvPr id="259" name="Freeform 39"/>
                <p:cNvSpPr/>
                <p:nvPr/>
              </p:nvSpPr>
              <p:spPr>
                <a:xfrm>
                  <a:off x="2944440" y="2989440"/>
                  <a:ext cx="248400" cy="558360"/>
                </a:xfrm>
                <a:custGeom>
                  <a:avLst/>
                  <a:gdLst>
                    <a:gd name="textAreaLeft" fmla="*/ 0 w 248400"/>
                    <a:gd name="textAreaRight" fmla="*/ 248760 w 248400"/>
                    <a:gd name="textAreaTop" fmla="*/ 0 h 558360"/>
                    <a:gd name="textAreaBottom" fmla="*/ 558720 h 5583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17" y="0"/>
                      </a:moveTo>
                      <a:lnTo>
                        <a:pt x="19917" y="19939"/>
                      </a:lnTo>
                      <a:lnTo>
                        <a:pt x="0" y="19939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  <p:grpSp>
              <p:nvGrpSpPr>
                <p:cNvPr id="260" name="Group 40"/>
                <p:cNvGrpSpPr/>
                <p:nvPr/>
              </p:nvGrpSpPr>
              <p:grpSpPr>
                <a:xfrm>
                  <a:off x="1074240" y="3332160"/>
                  <a:ext cx="1867320" cy="469080"/>
                  <a:chOff x="1074240" y="3332160"/>
                  <a:chExt cx="1867320" cy="469080"/>
                </a:xfrm>
              </p:grpSpPr>
              <p:sp>
                <p:nvSpPr>
                  <p:cNvPr id="261" name="Rectangle 41"/>
                  <p:cNvSpPr/>
                  <p:nvPr/>
                </p:nvSpPr>
                <p:spPr>
                  <a:xfrm>
                    <a:off x="1134360" y="3463920"/>
                    <a:ext cx="1732320" cy="27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rm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sz="800" spc="-1" strike="noStrike">
                        <a:solidFill>
                          <a:srgbClr val="000000"/>
                        </a:solidFill>
                        <a:latin typeface="LucidaSansTypewriter"/>
                        <a:ea typeface="Times New Roman"/>
                      </a:rPr>
                      <a:t>JButton</a:t>
                    </a:r>
                    <a:endParaRPr b="1" lang="en-US" sz="8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  <p:grpSp>
                <p:nvGrpSpPr>
                  <p:cNvPr id="262" name="Group 42"/>
                  <p:cNvGrpSpPr/>
                  <p:nvPr/>
                </p:nvGrpSpPr>
                <p:grpSpPr>
                  <a:xfrm>
                    <a:off x="1074240" y="3332160"/>
                    <a:ext cx="1867320" cy="469080"/>
                    <a:chOff x="1074240" y="3332160"/>
                    <a:chExt cx="1867320" cy="469080"/>
                  </a:xfrm>
                </p:grpSpPr>
                <p:sp>
                  <p:nvSpPr>
                    <p:cNvPr id="263" name="Freeform 43"/>
                    <p:cNvSpPr/>
                    <p:nvPr/>
                  </p:nvSpPr>
                  <p:spPr>
                    <a:xfrm>
                      <a:off x="1074240" y="3332160"/>
                      <a:ext cx="1867320" cy="469080"/>
                    </a:xfrm>
                    <a:custGeom>
                      <a:avLst/>
                      <a:gdLst>
                        <a:gd name="textAreaLeft" fmla="*/ 0 w 1867320"/>
                        <a:gd name="textAreaRight" fmla="*/ 1867680 w 1867320"/>
                        <a:gd name="textAreaTop" fmla="*/ 0 h 469080"/>
                        <a:gd name="textAreaBottom" fmla="*/ 469080 h 469080"/>
                      </a:gdLst>
                      <a:ahLst/>
                      <a:rect l="textAreaLeft" t="textAreaTop" r="textAreaRight" b="textAreaBottom"/>
                      <a:pathLst>
                        <a:path w="20000" h="20000">
                          <a:moveTo>
                            <a:pt x="19989" y="0"/>
                          </a:moveTo>
                          <a:lnTo>
                            <a:pt x="19989" y="19927"/>
                          </a:lnTo>
                          <a:lnTo>
                            <a:pt x="0" y="19927"/>
                          </a:lnTo>
                          <a:lnTo>
                            <a:pt x="0" y="0"/>
                          </a:lnTo>
                          <a:lnTo>
                            <a:pt x="19989" y="0"/>
                          </a:lnTo>
                          <a:close/>
                        </a:path>
                      </a:pathLst>
                    </a:custGeom>
                    <a:solidFill>
                      <a:srgbClr val="4db3e6"/>
                    </a:solidFill>
                    <a:ln w="3240">
                      <a:solidFill>
                        <a:srgbClr val="4db3e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p:txBody>
                </p:sp>
                <p:sp>
                  <p:nvSpPr>
                    <p:cNvPr id="264" name="Freeform 44"/>
                    <p:cNvSpPr/>
                    <p:nvPr/>
                  </p:nvSpPr>
                  <p:spPr>
                    <a:xfrm>
                      <a:off x="1074240" y="3332160"/>
                      <a:ext cx="1867320" cy="469080"/>
                    </a:xfrm>
                    <a:custGeom>
                      <a:avLst/>
                      <a:gdLst>
                        <a:gd name="textAreaLeft" fmla="*/ 0 w 1867320"/>
                        <a:gd name="textAreaRight" fmla="*/ 1867680 w 1867320"/>
                        <a:gd name="textAreaTop" fmla="*/ 0 h 469080"/>
                        <a:gd name="textAreaBottom" fmla="*/ 469080 h 469080"/>
                      </a:gdLst>
                      <a:ahLst/>
                      <a:rect l="textAreaLeft" t="textAreaTop" r="textAreaRight" b="textAreaBottom"/>
                      <a:pathLst>
                        <a:path w="20000" h="20000">
                          <a:moveTo>
                            <a:pt x="19989" y="0"/>
                          </a:moveTo>
                          <a:lnTo>
                            <a:pt x="19989" y="19927"/>
                          </a:lnTo>
                          <a:lnTo>
                            <a:pt x="0" y="19927"/>
                          </a:lnTo>
                          <a:lnTo>
                            <a:pt x="0" y="0"/>
                          </a:lnTo>
                          <a:lnTo>
                            <a:pt x="19989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65" name="Rectangle 45"/>
          <p:cNvSpPr/>
          <p:nvPr/>
        </p:nvSpPr>
        <p:spPr>
          <a:xfrm>
            <a:off x="1298520" y="17971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Component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6" name="Rectangle 46"/>
          <p:cNvSpPr/>
          <p:nvPr/>
        </p:nvSpPr>
        <p:spPr>
          <a:xfrm>
            <a:off x="2975760" y="263520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AbstractButton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7" name="Rectangle 47"/>
          <p:cNvSpPr/>
          <p:nvPr/>
        </p:nvSpPr>
        <p:spPr>
          <a:xfrm>
            <a:off x="1450440" y="34290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Button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8" name="Rectangle 48"/>
          <p:cNvSpPr/>
          <p:nvPr/>
        </p:nvSpPr>
        <p:spPr>
          <a:xfrm>
            <a:off x="4880520" y="347328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ToggleButton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9" name="Rectangle 49"/>
          <p:cNvSpPr/>
          <p:nvPr/>
        </p:nvSpPr>
        <p:spPr>
          <a:xfrm>
            <a:off x="3736800" y="42354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CheckBox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0" name="Rectangle 50"/>
          <p:cNvSpPr/>
          <p:nvPr/>
        </p:nvSpPr>
        <p:spPr>
          <a:xfrm>
            <a:off x="6252120" y="42354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RadioButton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026"/>
          <p:cNvSpPr/>
          <p:nvPr/>
        </p:nvSpPr>
        <p:spPr>
          <a:xfrm>
            <a:off x="457200" y="15228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Button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457200" y="990720"/>
            <a:ext cx="8077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ors: 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Button(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ing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)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Button(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in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xt ,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mageIcon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c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Methods:  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Lucida Console"/>
                <a:ea typeface="Times New Roman"/>
              </a:rPr>
              <a:t>//change the current displayed image when the mouse over on Button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etRolloverIcon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2060"/>
                </a:solidFill>
                <a:latin typeface="Lucida Console"/>
                <a:ea typeface="Times New Roman"/>
              </a:rPr>
              <a:t>ImageIcon </a:t>
            </a:r>
            <a:r>
              <a:rPr b="1" lang="en-US" sz="2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con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1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vantGarde"/>
              </a:rPr>
              <a:t>Example(2): using </a:t>
            </a:r>
            <a:r>
              <a:rPr b="1" i="1" lang="en-US" sz="2800" spc="-1" strike="noStrike">
                <a:solidFill>
                  <a:srgbClr val="000000"/>
                </a:solidFill>
                <a:latin typeface="AvantGarde"/>
              </a:rPr>
              <a:t> JButt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6094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program that display the following Butt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9"/>
          <p:cNvSpPr/>
          <p:nvPr/>
        </p:nvSpPr>
        <p:spPr>
          <a:xfrm>
            <a:off x="1066680" y="47242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Button with icon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6" name="TextBox 22"/>
          <p:cNvSpPr/>
          <p:nvPr/>
        </p:nvSpPr>
        <p:spPr>
          <a:xfrm>
            <a:off x="6095880" y="1295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Button1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257800" cy="2819520"/>
          </a:xfrm>
          <a:prstGeom prst="rect">
            <a:avLst/>
          </a:prstGeom>
          <a:ln w="0">
            <a:noFill/>
          </a:ln>
        </p:spPr>
      </p:pic>
      <p:cxnSp>
        <p:nvCxnSpPr>
          <p:cNvPr id="278" name="Straight Arrow Connector 11"/>
          <p:cNvCxnSpPr/>
          <p:nvPr/>
        </p:nvCxnSpPr>
        <p:spPr>
          <a:xfrm flipV="1">
            <a:off x="5791320" y="1599840"/>
            <a:ext cx="1219680" cy="99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279" name="Straight Arrow Connector 14"/>
          <p:cNvCxnSpPr/>
          <p:nvPr/>
        </p:nvCxnSpPr>
        <p:spPr>
          <a:xfrm flipH="1">
            <a:off x="1523520" y="3657600"/>
            <a:ext cx="1372320" cy="99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1: import package java.awt for Graphic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mport 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java.awt.event.*;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3: used to handle GUI Ev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  class 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isplayButt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xtends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JFram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rivat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JButt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b1, b2;    </a:t>
            </a: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define JButt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isplayButto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up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“Testing Button " 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;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Visible(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step4: prepare the container to put the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Container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etContentPa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step5: Specify the layout  manager of container :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91966"/>
                </a:solidFill>
                <a:latin typeface="Times New Roman"/>
              </a:rPr>
              <a:t>Flow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r>
              <a:rPr b="0" lang="en-US" sz="2400" spc="-1" strike="noStrike">
                <a:solidFill>
                  <a:srgbClr val="1919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 </a:t>
            </a:r>
            <a:r>
              <a:rPr b="1" lang="en-US" sz="2200" spc="-1" strike="noStrike">
                <a:solidFill>
                  <a:srgbClr val="595959"/>
                </a:solidFill>
                <a:latin typeface="Times New Roman"/>
              </a:rPr>
              <a:t>//start from left to 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2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 Step6: Create  First Butt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1 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JButt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in Butt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1.setFont(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nt("Serif", Font.BOLD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);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setF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b1 );  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 add Button into 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2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304920" y="685800"/>
            <a:ext cx="8381880" cy="1447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5029200" cy="2705040"/>
          </a:xfrm>
          <a:prstGeom prst="rect">
            <a:avLst/>
          </a:prstGeom>
          <a:ln w="0">
            <a:noFill/>
          </a:ln>
        </p:spPr>
      </p:pic>
      <p:cxnSp>
        <p:nvCxnSpPr>
          <p:cNvPr id="287" name="Straight Arrow Connector 11"/>
          <p:cNvCxnSpPr/>
          <p:nvPr/>
        </p:nvCxnSpPr>
        <p:spPr>
          <a:xfrm flipH="1">
            <a:off x="5180760" y="1676520"/>
            <a:ext cx="686520" cy="1296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8" name="Straight Arrow Connector 12"/>
          <p:cNvCxnSpPr/>
          <p:nvPr/>
        </p:nvCxnSpPr>
        <p:spPr>
          <a:xfrm>
            <a:off x="1142640" y="2133360"/>
            <a:ext cx="2134440" cy="99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 Step7: Create  Second Button with ic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91966"/>
                </a:solidFill>
                <a:latin typeface="Times New Roman"/>
              </a:rPr>
              <a:t>ImageIc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c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 ImageIc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"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ic.gi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ImageIc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pic2 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ImageIc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"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ers.gi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2 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JButt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age Butt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 , pic1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2.setFont(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nt("Serif", Font.BOLD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);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setF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change the image when the mouse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2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tRolloverIc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pic2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b2 );  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 add Button into 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2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1523880" y="3809880"/>
            <a:ext cx="5410440" cy="243864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10"/>
          <p:cNvSpPr/>
          <p:nvPr/>
        </p:nvSpPr>
        <p:spPr>
          <a:xfrm>
            <a:off x="228600" y="685800"/>
            <a:ext cx="8610480" cy="3048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1523880" y="3809880"/>
            <a:ext cx="5410440" cy="2362320"/>
          </a:xfrm>
          <a:prstGeom prst="rect">
            <a:avLst/>
          </a:prstGeom>
          <a:ln w="0">
            <a:noFill/>
          </a:ln>
        </p:spPr>
      </p:pic>
      <p:cxnSp>
        <p:nvCxnSpPr>
          <p:cNvPr id="294" name="Straight Arrow Connector 13"/>
          <p:cNvCxnSpPr/>
          <p:nvPr/>
        </p:nvCxnSpPr>
        <p:spPr>
          <a:xfrm>
            <a:off x="990360" y="3581280"/>
            <a:ext cx="1600920" cy="1067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5" name="Straight Arrow Connector 14"/>
          <p:cNvCxnSpPr/>
          <p:nvPr/>
        </p:nvCxnSpPr>
        <p:spPr>
          <a:xfrm flipH="1">
            <a:off x="5714640" y="2437920"/>
            <a:ext cx="1448640" cy="2057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playButt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p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playButt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set Close operation of Jframe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s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457200" y="228600"/>
            <a:ext cx="8381880" cy="6172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676520" y="3124080"/>
            <a:ext cx="5257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UIs ar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vent driv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vent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hen user interacts with GU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moving mou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pressing butt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yping in text fiel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ff"/>
                </a:solidFill>
                <a:latin typeface="Lucida Console"/>
              </a:rPr>
              <a:t>java.awt.ev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26"/>
          <p:cNvSpPr/>
          <p:nvPr/>
        </p:nvSpPr>
        <p:spPr>
          <a:xfrm>
            <a:off x="457200" y="15228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vantGarde"/>
              </a:rPr>
              <a:t>Event Handling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533520" y="1219320"/>
            <a:ext cx="7772400" cy="38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AvantGard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ultiple-Selection Lists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AvantGard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ouse Event Handling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AvantGard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ayout Managers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1" marL="971640" indent="-5144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FlowLayout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1" marL="971640" indent="-5144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BorderLayout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1" marL="971640" indent="-5144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GridLayout</a:t>
            </a:r>
            <a:br>
              <a:rPr sz="2600"/>
            </a:br>
            <a:r>
              <a:rPr b="1" lang="en-US" sz="2600" spc="-1" strike="noStrike">
                <a:solidFill>
                  <a:srgbClr val="ff0000"/>
                </a:solidFill>
                <a:latin typeface="AvantGarde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lin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nt-handling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ree par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vent sour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component with which user inte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vent obje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es information about event that occur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vent listen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s event object when notified, then resp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26"/>
          <p:cNvSpPr/>
          <p:nvPr/>
        </p:nvSpPr>
        <p:spPr>
          <a:xfrm>
            <a:off x="457200" y="15228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vantGarde"/>
              </a:rPr>
              <a:t>Event Handling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grammer must perform two task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Regis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event listener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vent sour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Implement event-handling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thod (event handle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026"/>
          <p:cNvSpPr/>
          <p:nvPr/>
        </p:nvSpPr>
        <p:spPr>
          <a:xfrm>
            <a:off x="457200" y="15228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vantGarde"/>
              </a:rPr>
              <a:t>Event Handling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vent-listener interfaces of package </a:t>
            </a:r>
            <a:r>
              <a:rPr b="1" lang="en-US" sz="28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java.awt.ev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306" name="Group 95"/>
          <p:cNvGrpSpPr/>
          <p:nvPr/>
        </p:nvGrpSpPr>
        <p:grpSpPr>
          <a:xfrm>
            <a:off x="1447920" y="1143000"/>
            <a:ext cx="6398280" cy="5046120"/>
            <a:chOff x="1447920" y="1143000"/>
            <a:chExt cx="6398280" cy="5046120"/>
          </a:xfrm>
        </p:grpSpPr>
        <p:grpSp>
          <p:nvGrpSpPr>
            <p:cNvPr id="307" name="Group 82"/>
            <p:cNvGrpSpPr/>
            <p:nvPr/>
          </p:nvGrpSpPr>
          <p:grpSpPr>
            <a:xfrm>
              <a:off x="1447920" y="1143000"/>
              <a:ext cx="6398280" cy="5046120"/>
              <a:chOff x="1447920" y="1143000"/>
              <a:chExt cx="6398280" cy="5046120"/>
            </a:xfrm>
          </p:grpSpPr>
          <p:sp>
            <p:nvSpPr>
              <p:cNvPr id="308" name="Rectangle 5"/>
              <p:cNvSpPr/>
              <p:nvPr/>
            </p:nvSpPr>
            <p:spPr>
              <a:xfrm>
                <a:off x="1447920" y="1143000"/>
                <a:ext cx="6398280" cy="5046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sp>
            <p:nvSpPr>
              <p:cNvPr id="309" name="Freeform 6"/>
              <p:cNvSpPr/>
              <p:nvPr/>
            </p:nvSpPr>
            <p:spPr>
              <a:xfrm>
                <a:off x="4598280" y="1827360"/>
                <a:ext cx="372600" cy="1440"/>
              </a:xfrm>
              <a:custGeom>
                <a:avLst/>
                <a:gdLst>
                  <a:gd name="textAreaLeft" fmla="*/ 0 w 372600"/>
                  <a:gd name="textAreaRight" fmla="*/ 372960 w 3726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52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sp>
            <p:nvSpPr>
              <p:cNvPr id="310" name="Freeform 7"/>
              <p:cNvSpPr/>
              <p:nvPr/>
            </p:nvSpPr>
            <p:spPr>
              <a:xfrm>
                <a:off x="4598280" y="2275560"/>
                <a:ext cx="37260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2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sp>
            <p:nvSpPr>
              <p:cNvPr id="311" name="Freeform 8"/>
              <p:cNvSpPr/>
              <p:nvPr/>
            </p:nvSpPr>
            <p:spPr>
              <a:xfrm>
                <a:off x="4598280" y="2721960"/>
                <a:ext cx="37260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2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sp>
            <p:nvSpPr>
              <p:cNvPr id="312" name="Freeform 9"/>
              <p:cNvSpPr/>
              <p:nvPr/>
            </p:nvSpPr>
            <p:spPr>
              <a:xfrm>
                <a:off x="4598280" y="3168360"/>
                <a:ext cx="37260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2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sp>
            <p:nvSpPr>
              <p:cNvPr id="313" name="Freeform 10"/>
              <p:cNvSpPr/>
              <p:nvPr/>
            </p:nvSpPr>
            <p:spPr>
              <a:xfrm>
                <a:off x="4598280" y="3614400"/>
                <a:ext cx="37260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2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sp>
            <p:nvSpPr>
              <p:cNvPr id="314" name="Freeform 11"/>
              <p:cNvSpPr/>
              <p:nvPr/>
            </p:nvSpPr>
            <p:spPr>
              <a:xfrm>
                <a:off x="4598280" y="4060800"/>
                <a:ext cx="372600" cy="1440"/>
              </a:xfrm>
              <a:custGeom>
                <a:avLst/>
                <a:gdLst>
                  <a:gd name="textAreaLeft" fmla="*/ 0 w 372600"/>
                  <a:gd name="textAreaRight" fmla="*/ 372960 w 3726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52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sp>
            <p:nvSpPr>
              <p:cNvPr id="315" name="Freeform 12"/>
              <p:cNvSpPr/>
              <p:nvPr/>
            </p:nvSpPr>
            <p:spPr>
              <a:xfrm>
                <a:off x="4598280" y="4506840"/>
                <a:ext cx="372600" cy="2160"/>
              </a:xfrm>
              <a:custGeom>
                <a:avLst/>
                <a:gdLst>
                  <a:gd name="textAreaLeft" fmla="*/ 0 w 372600"/>
                  <a:gd name="textAreaRight" fmla="*/ 372960 w 372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52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sp>
            <p:nvSpPr>
              <p:cNvPr id="316" name="Freeform 13"/>
              <p:cNvSpPr/>
              <p:nvPr/>
            </p:nvSpPr>
            <p:spPr>
              <a:xfrm>
                <a:off x="4598280" y="4953240"/>
                <a:ext cx="37260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2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sp>
            <p:nvSpPr>
              <p:cNvPr id="317" name="Freeform 14"/>
              <p:cNvSpPr/>
              <p:nvPr/>
            </p:nvSpPr>
            <p:spPr>
              <a:xfrm>
                <a:off x="4598280" y="5399640"/>
                <a:ext cx="372600" cy="2160"/>
              </a:xfrm>
              <a:custGeom>
                <a:avLst/>
                <a:gdLst>
                  <a:gd name="textAreaLeft" fmla="*/ 0 w 372600"/>
                  <a:gd name="textAreaRight" fmla="*/ 372960 w 3726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52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sp>
            <p:nvSpPr>
              <p:cNvPr id="318" name="Freeform 16"/>
              <p:cNvSpPr/>
              <p:nvPr/>
            </p:nvSpPr>
            <p:spPr>
              <a:xfrm>
                <a:off x="4142520" y="3614400"/>
                <a:ext cx="44604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0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sp>
            <p:nvSpPr>
              <p:cNvPr id="319" name="Freeform 17"/>
              <p:cNvSpPr/>
              <p:nvPr/>
            </p:nvSpPr>
            <p:spPr>
              <a:xfrm>
                <a:off x="4600080" y="1380960"/>
                <a:ext cx="360" cy="446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97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grpSp>
            <p:nvGrpSpPr>
              <p:cNvPr id="320" name="Group 18"/>
              <p:cNvGrpSpPr/>
              <p:nvPr/>
            </p:nvGrpSpPr>
            <p:grpSpPr>
              <a:xfrm>
                <a:off x="2547000" y="3423960"/>
                <a:ext cx="1599480" cy="381240"/>
                <a:chOff x="2547000" y="3423960"/>
                <a:chExt cx="1599480" cy="381240"/>
              </a:xfrm>
            </p:grpSpPr>
            <p:sp>
              <p:nvSpPr>
                <p:cNvPr id="321" name="Rectangle 19"/>
                <p:cNvSpPr/>
                <p:nvPr/>
              </p:nvSpPr>
              <p:spPr>
                <a:xfrm>
                  <a:off x="2598120" y="3479400"/>
                  <a:ext cx="14839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 </a:t>
                  </a: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interface </a:t>
                  </a:r>
                  <a:endParaRPr b="1" lang="en-US" sz="800" spc="-1" strike="noStrike">
                    <a:solidFill>
                      <a:srgbClr val="000000"/>
                    </a:solidFill>
                    <a:latin typeface="Lucida Console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  <a:ea typeface="Times New Roman"/>
                    </a:rPr>
                    <a:t>EventListener</a:t>
                  </a:r>
                  <a:endParaRPr b="1" lang="en-US" sz="8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  <p:grpSp>
              <p:nvGrpSpPr>
                <p:cNvPr id="322" name="Group 20"/>
                <p:cNvGrpSpPr/>
                <p:nvPr/>
              </p:nvGrpSpPr>
              <p:grpSpPr>
                <a:xfrm>
                  <a:off x="2547000" y="3423960"/>
                  <a:ext cx="1599480" cy="381240"/>
                  <a:chOff x="2547000" y="3423960"/>
                  <a:chExt cx="1599480" cy="381240"/>
                </a:xfrm>
              </p:grpSpPr>
              <p:sp>
                <p:nvSpPr>
                  <p:cNvPr id="323" name="Freeform 21"/>
                  <p:cNvSpPr/>
                  <p:nvPr/>
                </p:nvSpPr>
                <p:spPr>
                  <a:xfrm>
                    <a:off x="2547000" y="3423960"/>
                    <a:ext cx="1599480" cy="381240"/>
                  </a:xfrm>
                  <a:custGeom>
                    <a:avLst/>
                    <a:gdLst>
                      <a:gd name="textAreaLeft" fmla="*/ 0 w 1599480"/>
                      <a:gd name="textAreaRight" fmla="*/ 1599840 w 1599480"/>
                      <a:gd name="textAreaTop" fmla="*/ 0 h 381240"/>
                      <a:gd name="textAreaBottom" fmla="*/ 381600 h 38124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  <p:sp>
                <p:nvSpPr>
                  <p:cNvPr id="324" name="Freeform 22"/>
                  <p:cNvSpPr/>
                  <p:nvPr/>
                </p:nvSpPr>
                <p:spPr>
                  <a:xfrm>
                    <a:off x="2547000" y="3423960"/>
                    <a:ext cx="1599480" cy="381240"/>
                  </a:xfrm>
                  <a:custGeom>
                    <a:avLst/>
                    <a:gdLst>
                      <a:gd name="textAreaLeft" fmla="*/ 0 w 1599480"/>
                      <a:gd name="textAreaRight" fmla="*/ 1599840 w 1599480"/>
                      <a:gd name="textAreaTop" fmla="*/ 0 h 381240"/>
                      <a:gd name="textAreaBottom" fmla="*/ 381600 h 38124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89" y="0"/>
                        </a:moveTo>
                        <a:lnTo>
                          <a:pt x="19989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89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</p:grpSp>
          </p:grpSp>
          <p:grpSp>
            <p:nvGrpSpPr>
              <p:cNvPr id="325" name="Group 23"/>
              <p:cNvGrpSpPr/>
              <p:nvPr/>
            </p:nvGrpSpPr>
            <p:grpSpPr>
              <a:xfrm>
                <a:off x="4969080" y="1191960"/>
                <a:ext cx="1777320" cy="381240"/>
                <a:chOff x="4969080" y="1191960"/>
                <a:chExt cx="1777320" cy="381240"/>
              </a:xfrm>
            </p:grpSpPr>
            <p:sp>
              <p:nvSpPr>
                <p:cNvPr id="326" name="Rectangle 24"/>
                <p:cNvSpPr/>
                <p:nvPr/>
              </p:nvSpPr>
              <p:spPr>
                <a:xfrm>
                  <a:off x="5026680" y="1247040"/>
                  <a:ext cx="164880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 </a:t>
                  </a: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interface </a:t>
                  </a:r>
                  <a:endParaRPr b="1" lang="en-US" sz="800" spc="-1" strike="noStrike">
                    <a:solidFill>
                      <a:srgbClr val="000000"/>
                    </a:solidFill>
                    <a:latin typeface="Lucida Console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  <a:ea typeface="Times New Roman"/>
                    </a:rPr>
                    <a:t>ActionListener</a:t>
                  </a:r>
                  <a:endParaRPr b="1" lang="en-US" sz="8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  <p:grpSp>
              <p:nvGrpSpPr>
                <p:cNvPr id="327" name="Group 25"/>
                <p:cNvGrpSpPr/>
                <p:nvPr/>
              </p:nvGrpSpPr>
              <p:grpSpPr>
                <a:xfrm>
                  <a:off x="4969080" y="1191960"/>
                  <a:ext cx="1777320" cy="381240"/>
                  <a:chOff x="4969080" y="1191960"/>
                  <a:chExt cx="1777320" cy="381240"/>
                </a:xfrm>
              </p:grpSpPr>
              <p:sp>
                <p:nvSpPr>
                  <p:cNvPr id="328" name="Freeform 26"/>
                  <p:cNvSpPr/>
                  <p:nvPr/>
                </p:nvSpPr>
                <p:spPr>
                  <a:xfrm>
                    <a:off x="4969080" y="1191960"/>
                    <a:ext cx="1777320" cy="381240"/>
                  </a:xfrm>
                  <a:custGeom>
                    <a:avLst/>
                    <a:gdLst>
                      <a:gd name="textAreaLeft" fmla="*/ 0 w 1777320"/>
                      <a:gd name="textAreaRight" fmla="*/ 1777680 w 1777320"/>
                      <a:gd name="textAreaTop" fmla="*/ 0 h 381240"/>
                      <a:gd name="textAreaBottom" fmla="*/ 381600 h 38124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  <p:sp>
                <p:nvSpPr>
                  <p:cNvPr id="329" name="Freeform 27"/>
                  <p:cNvSpPr/>
                  <p:nvPr/>
                </p:nvSpPr>
                <p:spPr>
                  <a:xfrm>
                    <a:off x="4969080" y="1191960"/>
                    <a:ext cx="1777320" cy="381240"/>
                  </a:xfrm>
                  <a:custGeom>
                    <a:avLst/>
                    <a:gdLst>
                      <a:gd name="textAreaLeft" fmla="*/ 0 w 1777320"/>
                      <a:gd name="textAreaRight" fmla="*/ 1777680 w 1777320"/>
                      <a:gd name="textAreaTop" fmla="*/ 0 h 381240"/>
                      <a:gd name="textAreaBottom" fmla="*/ 381600 h 38124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</p:grpSp>
          </p:grpSp>
          <p:grpSp>
            <p:nvGrpSpPr>
              <p:cNvPr id="330" name="Group 28"/>
              <p:cNvGrpSpPr/>
              <p:nvPr/>
            </p:nvGrpSpPr>
            <p:grpSpPr>
              <a:xfrm>
                <a:off x="4969080" y="1638360"/>
                <a:ext cx="1777320" cy="381240"/>
                <a:chOff x="4969080" y="1638360"/>
                <a:chExt cx="1777320" cy="381240"/>
              </a:xfrm>
            </p:grpSpPr>
            <p:sp>
              <p:nvSpPr>
                <p:cNvPr id="331" name="Rectangle 29"/>
                <p:cNvSpPr/>
                <p:nvPr/>
              </p:nvSpPr>
              <p:spPr>
                <a:xfrm>
                  <a:off x="5026680" y="1693440"/>
                  <a:ext cx="1648800" cy="30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 </a:t>
                  </a: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interface </a:t>
                  </a:r>
                  <a:endParaRPr b="1" lang="en-US" sz="800" spc="-1" strike="noStrike">
                    <a:solidFill>
                      <a:srgbClr val="000000"/>
                    </a:solidFill>
                    <a:latin typeface="Lucida Console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  <a:ea typeface="Times New Roman"/>
                    </a:rPr>
                    <a:t>AdjustmentListener</a:t>
                  </a:r>
                  <a:endParaRPr b="1" lang="en-US" sz="8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  <p:grpSp>
              <p:nvGrpSpPr>
                <p:cNvPr id="332" name="Group 30"/>
                <p:cNvGrpSpPr/>
                <p:nvPr/>
              </p:nvGrpSpPr>
              <p:grpSpPr>
                <a:xfrm>
                  <a:off x="4969080" y="1638360"/>
                  <a:ext cx="1777320" cy="381240"/>
                  <a:chOff x="4969080" y="1638360"/>
                  <a:chExt cx="1777320" cy="381240"/>
                </a:xfrm>
              </p:grpSpPr>
              <p:sp>
                <p:nvSpPr>
                  <p:cNvPr id="333" name="Freeform 31"/>
                  <p:cNvSpPr/>
                  <p:nvPr/>
                </p:nvSpPr>
                <p:spPr>
                  <a:xfrm>
                    <a:off x="4969080" y="1638360"/>
                    <a:ext cx="1777320" cy="381240"/>
                  </a:xfrm>
                  <a:custGeom>
                    <a:avLst/>
                    <a:gdLst>
                      <a:gd name="textAreaLeft" fmla="*/ 0 w 1777320"/>
                      <a:gd name="textAreaRight" fmla="*/ 1777680 w 1777320"/>
                      <a:gd name="textAreaTop" fmla="*/ 0 h 381240"/>
                      <a:gd name="textAreaBottom" fmla="*/ 381600 h 38124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  <p:sp>
                <p:nvSpPr>
                  <p:cNvPr id="334" name="Freeform 32"/>
                  <p:cNvSpPr/>
                  <p:nvPr/>
                </p:nvSpPr>
                <p:spPr>
                  <a:xfrm>
                    <a:off x="4969080" y="1638360"/>
                    <a:ext cx="1777320" cy="381240"/>
                  </a:xfrm>
                  <a:custGeom>
                    <a:avLst/>
                    <a:gdLst>
                      <a:gd name="textAreaLeft" fmla="*/ 0 w 1777320"/>
                      <a:gd name="textAreaRight" fmla="*/ 1777680 w 1777320"/>
                      <a:gd name="textAreaTop" fmla="*/ 0 h 381240"/>
                      <a:gd name="textAreaBottom" fmla="*/ 381600 h 38124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</p:grpSp>
          </p:grpSp>
          <p:grpSp>
            <p:nvGrpSpPr>
              <p:cNvPr id="335" name="Group 33"/>
              <p:cNvGrpSpPr/>
              <p:nvPr/>
            </p:nvGrpSpPr>
            <p:grpSpPr>
              <a:xfrm>
                <a:off x="4969080" y="2084760"/>
                <a:ext cx="1777320" cy="381240"/>
                <a:chOff x="4969080" y="2084760"/>
                <a:chExt cx="1777320" cy="381240"/>
              </a:xfrm>
            </p:grpSpPr>
            <p:sp>
              <p:nvSpPr>
                <p:cNvPr id="336" name="Rectangle 34"/>
                <p:cNvSpPr/>
                <p:nvPr/>
              </p:nvSpPr>
              <p:spPr>
                <a:xfrm>
                  <a:off x="5026680" y="2140200"/>
                  <a:ext cx="164880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 </a:t>
                  </a: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interface </a:t>
                  </a:r>
                  <a:endParaRPr b="1" lang="en-US" sz="800" spc="-1" strike="noStrike">
                    <a:solidFill>
                      <a:srgbClr val="000000"/>
                    </a:solidFill>
                    <a:latin typeface="Lucida Console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  <a:ea typeface="Times New Roman"/>
                    </a:rPr>
                    <a:t>ComponentListener</a:t>
                  </a:r>
                  <a:endParaRPr b="1" lang="en-US" sz="8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  <p:grpSp>
              <p:nvGrpSpPr>
                <p:cNvPr id="337" name="Group 35"/>
                <p:cNvGrpSpPr/>
                <p:nvPr/>
              </p:nvGrpSpPr>
              <p:grpSpPr>
                <a:xfrm>
                  <a:off x="4969080" y="2084760"/>
                  <a:ext cx="1777320" cy="381240"/>
                  <a:chOff x="4969080" y="2084760"/>
                  <a:chExt cx="1777320" cy="381240"/>
                </a:xfrm>
              </p:grpSpPr>
              <p:sp>
                <p:nvSpPr>
                  <p:cNvPr id="338" name="Freeform 36"/>
                  <p:cNvSpPr/>
                  <p:nvPr/>
                </p:nvSpPr>
                <p:spPr>
                  <a:xfrm>
                    <a:off x="4969080" y="2084760"/>
                    <a:ext cx="1777320" cy="381240"/>
                  </a:xfrm>
                  <a:custGeom>
                    <a:avLst/>
                    <a:gdLst>
                      <a:gd name="textAreaLeft" fmla="*/ 0 w 1777320"/>
                      <a:gd name="textAreaRight" fmla="*/ 1777680 w 1777320"/>
                      <a:gd name="textAreaTop" fmla="*/ 0 h 381240"/>
                      <a:gd name="textAreaBottom" fmla="*/ 381600 h 38124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  <p:sp>
                <p:nvSpPr>
                  <p:cNvPr id="339" name="Freeform 37"/>
                  <p:cNvSpPr/>
                  <p:nvPr/>
                </p:nvSpPr>
                <p:spPr>
                  <a:xfrm>
                    <a:off x="4969080" y="2084760"/>
                    <a:ext cx="1777320" cy="381240"/>
                  </a:xfrm>
                  <a:custGeom>
                    <a:avLst/>
                    <a:gdLst>
                      <a:gd name="textAreaLeft" fmla="*/ 0 w 1777320"/>
                      <a:gd name="textAreaRight" fmla="*/ 1777680 w 1777320"/>
                      <a:gd name="textAreaTop" fmla="*/ 0 h 381240"/>
                      <a:gd name="textAreaBottom" fmla="*/ 381600 h 38124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</p:grpSp>
          </p:grpSp>
          <p:grpSp>
            <p:nvGrpSpPr>
              <p:cNvPr id="340" name="Group 38"/>
              <p:cNvGrpSpPr/>
              <p:nvPr/>
            </p:nvGrpSpPr>
            <p:grpSpPr>
              <a:xfrm>
                <a:off x="4969080" y="2531160"/>
                <a:ext cx="1777320" cy="383040"/>
                <a:chOff x="4969080" y="2531160"/>
                <a:chExt cx="1777320" cy="383040"/>
              </a:xfrm>
            </p:grpSpPr>
            <p:sp>
              <p:nvSpPr>
                <p:cNvPr id="341" name="Rectangle 39"/>
                <p:cNvSpPr/>
                <p:nvPr/>
              </p:nvSpPr>
              <p:spPr>
                <a:xfrm>
                  <a:off x="5026680" y="2586960"/>
                  <a:ext cx="1648800" cy="30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 </a:t>
                  </a: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interface </a:t>
                  </a:r>
                  <a:endParaRPr b="1" lang="en-US" sz="800" spc="-1" strike="noStrike">
                    <a:solidFill>
                      <a:srgbClr val="000000"/>
                    </a:solidFill>
                    <a:latin typeface="Lucida Console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  <a:ea typeface="Times New Roman"/>
                    </a:rPr>
                    <a:t>ContainerListener</a:t>
                  </a:r>
                  <a:endParaRPr b="1" lang="en-US" sz="8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  <p:grpSp>
              <p:nvGrpSpPr>
                <p:cNvPr id="342" name="Group 40"/>
                <p:cNvGrpSpPr/>
                <p:nvPr/>
              </p:nvGrpSpPr>
              <p:grpSpPr>
                <a:xfrm>
                  <a:off x="4969080" y="2531160"/>
                  <a:ext cx="1777320" cy="383040"/>
                  <a:chOff x="4969080" y="2531160"/>
                  <a:chExt cx="1777320" cy="383040"/>
                </a:xfrm>
              </p:grpSpPr>
              <p:sp>
                <p:nvSpPr>
                  <p:cNvPr id="343" name="Freeform 41"/>
                  <p:cNvSpPr/>
                  <p:nvPr/>
                </p:nvSpPr>
                <p:spPr>
                  <a:xfrm>
                    <a:off x="4969080" y="2531160"/>
                    <a:ext cx="1777320" cy="383040"/>
                  </a:xfrm>
                  <a:custGeom>
                    <a:avLst/>
                    <a:gdLst>
                      <a:gd name="textAreaLeft" fmla="*/ 0 w 1777320"/>
                      <a:gd name="textAreaRight" fmla="*/ 1777680 w 1777320"/>
                      <a:gd name="textAreaTop" fmla="*/ 0 h 383040"/>
                      <a:gd name="textAreaBottom" fmla="*/ 383400 h 38304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  <p:sp>
                <p:nvSpPr>
                  <p:cNvPr id="344" name="Freeform 42"/>
                  <p:cNvSpPr/>
                  <p:nvPr/>
                </p:nvSpPr>
                <p:spPr>
                  <a:xfrm>
                    <a:off x="4969080" y="2531160"/>
                    <a:ext cx="1777320" cy="383040"/>
                  </a:xfrm>
                  <a:custGeom>
                    <a:avLst/>
                    <a:gdLst>
                      <a:gd name="textAreaLeft" fmla="*/ 0 w 1777320"/>
                      <a:gd name="textAreaRight" fmla="*/ 1777680 w 1777320"/>
                      <a:gd name="textAreaTop" fmla="*/ 0 h 383040"/>
                      <a:gd name="textAreaBottom" fmla="*/ 383400 h 38304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</p:grpSp>
          </p:grpSp>
          <p:grpSp>
            <p:nvGrpSpPr>
              <p:cNvPr id="345" name="Group 43"/>
              <p:cNvGrpSpPr/>
              <p:nvPr/>
            </p:nvGrpSpPr>
            <p:grpSpPr>
              <a:xfrm>
                <a:off x="4969080" y="2979360"/>
                <a:ext cx="1777320" cy="381240"/>
                <a:chOff x="4969080" y="2979360"/>
                <a:chExt cx="1777320" cy="381240"/>
              </a:xfrm>
            </p:grpSpPr>
            <p:sp>
              <p:nvSpPr>
                <p:cNvPr id="346" name="Rectangle 44"/>
                <p:cNvSpPr/>
                <p:nvPr/>
              </p:nvSpPr>
              <p:spPr>
                <a:xfrm>
                  <a:off x="5026680" y="3034440"/>
                  <a:ext cx="164880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 </a:t>
                  </a: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interface </a:t>
                  </a:r>
                  <a:endParaRPr b="1" lang="en-US" sz="800" spc="-1" strike="noStrike">
                    <a:solidFill>
                      <a:srgbClr val="000000"/>
                    </a:solidFill>
                    <a:latin typeface="Lucida Console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  <a:ea typeface="Times New Roman"/>
                    </a:rPr>
                    <a:t>FocusListener</a:t>
                  </a:r>
                  <a:endParaRPr b="1" lang="en-US" sz="8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  <p:grpSp>
              <p:nvGrpSpPr>
                <p:cNvPr id="347" name="Group 45"/>
                <p:cNvGrpSpPr/>
                <p:nvPr/>
              </p:nvGrpSpPr>
              <p:grpSpPr>
                <a:xfrm>
                  <a:off x="4969080" y="2979360"/>
                  <a:ext cx="1777320" cy="381240"/>
                  <a:chOff x="4969080" y="2979360"/>
                  <a:chExt cx="1777320" cy="381240"/>
                </a:xfrm>
              </p:grpSpPr>
              <p:sp>
                <p:nvSpPr>
                  <p:cNvPr id="348" name="Freeform 46"/>
                  <p:cNvSpPr/>
                  <p:nvPr/>
                </p:nvSpPr>
                <p:spPr>
                  <a:xfrm>
                    <a:off x="4969080" y="2979360"/>
                    <a:ext cx="1777320" cy="381240"/>
                  </a:xfrm>
                  <a:custGeom>
                    <a:avLst/>
                    <a:gdLst>
                      <a:gd name="textAreaLeft" fmla="*/ 0 w 1777320"/>
                      <a:gd name="textAreaRight" fmla="*/ 1777680 w 1777320"/>
                      <a:gd name="textAreaTop" fmla="*/ 0 h 381240"/>
                      <a:gd name="textAreaBottom" fmla="*/ 381600 h 38124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  <p:sp>
                <p:nvSpPr>
                  <p:cNvPr id="349" name="Freeform 47"/>
                  <p:cNvSpPr/>
                  <p:nvPr/>
                </p:nvSpPr>
                <p:spPr>
                  <a:xfrm>
                    <a:off x="4969080" y="2979360"/>
                    <a:ext cx="1777320" cy="381240"/>
                  </a:xfrm>
                  <a:custGeom>
                    <a:avLst/>
                    <a:gdLst>
                      <a:gd name="textAreaLeft" fmla="*/ 0 w 1777320"/>
                      <a:gd name="textAreaRight" fmla="*/ 1777680 w 1777320"/>
                      <a:gd name="textAreaTop" fmla="*/ 0 h 381240"/>
                      <a:gd name="textAreaBottom" fmla="*/ 381600 h 38124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</p:grpSp>
          </p:grpSp>
          <p:sp>
            <p:nvSpPr>
              <p:cNvPr id="350" name="Rectangle 49"/>
              <p:cNvSpPr/>
              <p:nvPr/>
            </p:nvSpPr>
            <p:spPr>
              <a:xfrm>
                <a:off x="5027040" y="3480840"/>
                <a:ext cx="1648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AvantGarde"/>
                    <a:ea typeface="Times New Roman"/>
                  </a:rPr>
                  <a:t> </a:t>
                </a:r>
                <a:r>
                  <a:rPr b="0" sz="800" spc="-1" strike="noStrike">
                    <a:solidFill>
                      <a:srgbClr val="000000"/>
                    </a:solidFill>
                    <a:latin typeface="AvantGarde"/>
                    <a:ea typeface="Times New Roman"/>
                  </a:rPr>
                  <a:t>interface </a:t>
                </a:r>
                <a:endParaRPr b="1" lang="en-US" sz="800" spc="-1" strike="noStrike">
                  <a:solidFill>
                    <a:srgbClr val="000000"/>
                  </a:solidFill>
                  <a:latin typeface="Lucida Console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  <a:ea typeface="Times New Roman"/>
                  </a:rPr>
                  <a:t>ItemListener</a:t>
                </a:r>
                <a:endParaRPr b="1" lang="en-US" sz="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grpSp>
            <p:nvGrpSpPr>
              <p:cNvPr id="351" name="Group 50"/>
              <p:cNvGrpSpPr/>
              <p:nvPr/>
            </p:nvGrpSpPr>
            <p:grpSpPr>
              <a:xfrm>
                <a:off x="4969080" y="3425400"/>
                <a:ext cx="1777320" cy="381240"/>
                <a:chOff x="4969080" y="3425400"/>
                <a:chExt cx="1777320" cy="381240"/>
              </a:xfrm>
            </p:grpSpPr>
            <p:sp>
              <p:nvSpPr>
                <p:cNvPr id="352" name="Freeform 51"/>
                <p:cNvSpPr/>
                <p:nvPr/>
              </p:nvSpPr>
              <p:spPr>
                <a:xfrm>
                  <a:off x="4969080" y="3425400"/>
                  <a:ext cx="1777320" cy="381240"/>
                </a:xfrm>
                <a:custGeom>
                  <a:avLst/>
                  <a:gdLst>
                    <a:gd name="textAreaLeft" fmla="*/ 0 w 1777320"/>
                    <a:gd name="textAreaRight" fmla="*/ 1777680 w 1777320"/>
                    <a:gd name="textAreaTop" fmla="*/ 0 h 381240"/>
                    <a:gd name="textAreaBottom" fmla="*/ 381600 h 38124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90" y="0"/>
                      </a:moveTo>
                      <a:lnTo>
                        <a:pt x="19990" y="19960"/>
                      </a:lnTo>
                      <a:lnTo>
                        <a:pt x="0" y="19960"/>
                      </a:lnTo>
                      <a:lnTo>
                        <a:pt x="0" y="0"/>
                      </a:lnTo>
                      <a:lnTo>
                        <a:pt x="19990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  <p:sp>
              <p:nvSpPr>
                <p:cNvPr id="353" name="Freeform 52"/>
                <p:cNvSpPr/>
                <p:nvPr/>
              </p:nvSpPr>
              <p:spPr>
                <a:xfrm>
                  <a:off x="4969080" y="3425400"/>
                  <a:ext cx="1777320" cy="381240"/>
                </a:xfrm>
                <a:custGeom>
                  <a:avLst/>
                  <a:gdLst>
                    <a:gd name="textAreaLeft" fmla="*/ 0 w 1777320"/>
                    <a:gd name="textAreaRight" fmla="*/ 1777680 w 1777320"/>
                    <a:gd name="textAreaTop" fmla="*/ 0 h 381240"/>
                    <a:gd name="textAreaBottom" fmla="*/ 381600 h 38124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90" y="0"/>
                      </a:moveTo>
                      <a:lnTo>
                        <a:pt x="19990" y="19960"/>
                      </a:lnTo>
                      <a:lnTo>
                        <a:pt x="0" y="19960"/>
                      </a:lnTo>
                      <a:lnTo>
                        <a:pt x="0" y="0"/>
                      </a:lnTo>
                      <a:lnTo>
                        <a:pt x="1999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</p:grpSp>
          <p:sp>
            <p:nvSpPr>
              <p:cNvPr id="354" name="Rectangle 54"/>
              <p:cNvSpPr/>
              <p:nvPr/>
            </p:nvSpPr>
            <p:spPr>
              <a:xfrm>
                <a:off x="5027040" y="3927240"/>
                <a:ext cx="16484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AvantGarde"/>
                    <a:ea typeface="Times New Roman"/>
                  </a:rPr>
                  <a:t> </a:t>
                </a:r>
                <a:r>
                  <a:rPr b="0" sz="800" spc="-1" strike="noStrike">
                    <a:solidFill>
                      <a:srgbClr val="000000"/>
                    </a:solidFill>
                    <a:latin typeface="AvantGarde"/>
                    <a:ea typeface="Times New Roman"/>
                  </a:rPr>
                  <a:t>interface </a:t>
                </a:r>
                <a:endParaRPr b="1" lang="en-US" sz="800" spc="-1" strike="noStrike">
                  <a:solidFill>
                    <a:srgbClr val="000000"/>
                  </a:solidFill>
                  <a:latin typeface="Lucida Console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800" spc="-1" strike="noStrike">
                    <a:solidFill>
                      <a:srgbClr val="000000"/>
                    </a:solidFill>
                    <a:latin typeface="LucidaSansTypewriter"/>
                    <a:ea typeface="Times New Roman"/>
                  </a:rPr>
                  <a:t>KeyListener</a:t>
                </a:r>
                <a:endParaRPr b="1" lang="en-US" sz="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sp>
            <p:nvSpPr>
              <p:cNvPr id="355" name="Freeform 56"/>
              <p:cNvSpPr/>
              <p:nvPr/>
            </p:nvSpPr>
            <p:spPr>
              <a:xfrm>
                <a:off x="4969080" y="3871800"/>
                <a:ext cx="1777320" cy="381240"/>
              </a:xfrm>
              <a:custGeom>
                <a:avLst/>
                <a:gdLst>
                  <a:gd name="textAreaLeft" fmla="*/ 0 w 1777320"/>
                  <a:gd name="textAreaRight" fmla="*/ 1777680 w 177732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90" y="0"/>
                    </a:moveTo>
                    <a:lnTo>
                      <a:pt x="19990" y="19960"/>
                    </a:lnTo>
                    <a:lnTo>
                      <a:pt x="0" y="19960"/>
                    </a:lnTo>
                    <a:lnTo>
                      <a:pt x="0" y="0"/>
                    </a:lnTo>
                    <a:lnTo>
                      <a:pt x="19990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sp>
            <p:nvSpPr>
              <p:cNvPr id="356" name="Freeform 57"/>
              <p:cNvSpPr/>
              <p:nvPr/>
            </p:nvSpPr>
            <p:spPr>
              <a:xfrm>
                <a:off x="4969080" y="3871800"/>
                <a:ext cx="1777320" cy="381240"/>
              </a:xfrm>
              <a:custGeom>
                <a:avLst/>
                <a:gdLst>
                  <a:gd name="textAreaLeft" fmla="*/ 0 w 1777320"/>
                  <a:gd name="textAreaRight" fmla="*/ 1777680 w 177732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90" y="0"/>
                    </a:moveTo>
                    <a:lnTo>
                      <a:pt x="19990" y="19960"/>
                    </a:lnTo>
                    <a:lnTo>
                      <a:pt x="0" y="19960"/>
                    </a:lnTo>
                    <a:lnTo>
                      <a:pt x="0" y="0"/>
                    </a:lnTo>
                    <a:lnTo>
                      <a:pt x="1999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grpSp>
            <p:nvGrpSpPr>
              <p:cNvPr id="357" name="Group 58"/>
              <p:cNvGrpSpPr/>
              <p:nvPr/>
            </p:nvGrpSpPr>
            <p:grpSpPr>
              <a:xfrm>
                <a:off x="4969080" y="4318200"/>
                <a:ext cx="1777320" cy="381240"/>
                <a:chOff x="4969080" y="4318200"/>
                <a:chExt cx="1777320" cy="381240"/>
              </a:xfrm>
            </p:grpSpPr>
            <p:sp>
              <p:nvSpPr>
                <p:cNvPr id="358" name="Rectangle 59"/>
                <p:cNvSpPr/>
                <p:nvPr/>
              </p:nvSpPr>
              <p:spPr>
                <a:xfrm>
                  <a:off x="5026680" y="4373640"/>
                  <a:ext cx="164880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 </a:t>
                  </a: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interface </a:t>
                  </a:r>
                  <a:endParaRPr b="1" lang="en-US" sz="800" spc="-1" strike="noStrike">
                    <a:solidFill>
                      <a:srgbClr val="000000"/>
                    </a:solidFill>
                    <a:latin typeface="Lucida Console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  <a:ea typeface="Times New Roman"/>
                    </a:rPr>
                    <a:t>MouseListener</a:t>
                  </a:r>
                  <a:endParaRPr b="1" lang="en-US" sz="8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  <p:grpSp>
              <p:nvGrpSpPr>
                <p:cNvPr id="359" name="Group 60"/>
                <p:cNvGrpSpPr/>
                <p:nvPr/>
              </p:nvGrpSpPr>
              <p:grpSpPr>
                <a:xfrm>
                  <a:off x="4969080" y="4318200"/>
                  <a:ext cx="1777320" cy="381240"/>
                  <a:chOff x="4969080" y="4318200"/>
                  <a:chExt cx="1777320" cy="381240"/>
                </a:xfrm>
              </p:grpSpPr>
              <p:sp>
                <p:nvSpPr>
                  <p:cNvPr id="360" name="Freeform 61"/>
                  <p:cNvSpPr/>
                  <p:nvPr/>
                </p:nvSpPr>
                <p:spPr>
                  <a:xfrm>
                    <a:off x="4969080" y="4318200"/>
                    <a:ext cx="1777320" cy="381240"/>
                  </a:xfrm>
                  <a:custGeom>
                    <a:avLst/>
                    <a:gdLst>
                      <a:gd name="textAreaLeft" fmla="*/ 0 w 1777320"/>
                      <a:gd name="textAreaRight" fmla="*/ 1777680 w 1777320"/>
                      <a:gd name="textAreaTop" fmla="*/ 0 h 381240"/>
                      <a:gd name="textAreaBottom" fmla="*/ 381600 h 38124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  <p:sp>
                <p:nvSpPr>
                  <p:cNvPr id="361" name="Freeform 62"/>
                  <p:cNvSpPr/>
                  <p:nvPr/>
                </p:nvSpPr>
                <p:spPr>
                  <a:xfrm>
                    <a:off x="4969080" y="4318200"/>
                    <a:ext cx="1777320" cy="381240"/>
                  </a:xfrm>
                  <a:custGeom>
                    <a:avLst/>
                    <a:gdLst>
                      <a:gd name="textAreaLeft" fmla="*/ 0 w 1777320"/>
                      <a:gd name="textAreaRight" fmla="*/ 1777680 w 1777320"/>
                      <a:gd name="textAreaTop" fmla="*/ 0 h 381240"/>
                      <a:gd name="textAreaBottom" fmla="*/ 381600 h 38124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</p:grpSp>
          </p:grpSp>
          <p:grpSp>
            <p:nvGrpSpPr>
              <p:cNvPr id="362" name="Group 63"/>
              <p:cNvGrpSpPr/>
              <p:nvPr/>
            </p:nvGrpSpPr>
            <p:grpSpPr>
              <a:xfrm>
                <a:off x="4969080" y="4764600"/>
                <a:ext cx="1777320" cy="381240"/>
                <a:chOff x="4969080" y="4764600"/>
                <a:chExt cx="1777320" cy="381240"/>
              </a:xfrm>
            </p:grpSpPr>
            <p:sp>
              <p:nvSpPr>
                <p:cNvPr id="363" name="Rectangle 64"/>
                <p:cNvSpPr/>
                <p:nvPr/>
              </p:nvSpPr>
              <p:spPr>
                <a:xfrm>
                  <a:off x="5026680" y="4820040"/>
                  <a:ext cx="164880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 </a:t>
                  </a: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interface </a:t>
                  </a:r>
                  <a:endParaRPr b="1" lang="en-US" sz="800" spc="-1" strike="noStrike">
                    <a:solidFill>
                      <a:srgbClr val="000000"/>
                    </a:solidFill>
                    <a:latin typeface="Lucida Console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  <a:ea typeface="Times New Roman"/>
                    </a:rPr>
                    <a:t>MouseMotionListener</a:t>
                  </a:r>
                  <a:endParaRPr b="1" lang="en-US" sz="8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  <p:grpSp>
              <p:nvGrpSpPr>
                <p:cNvPr id="364" name="Group 65"/>
                <p:cNvGrpSpPr/>
                <p:nvPr/>
              </p:nvGrpSpPr>
              <p:grpSpPr>
                <a:xfrm>
                  <a:off x="4969080" y="4764600"/>
                  <a:ext cx="1777320" cy="381240"/>
                  <a:chOff x="4969080" y="4764600"/>
                  <a:chExt cx="1777320" cy="381240"/>
                </a:xfrm>
              </p:grpSpPr>
              <p:sp>
                <p:nvSpPr>
                  <p:cNvPr id="365" name="Freeform 66"/>
                  <p:cNvSpPr/>
                  <p:nvPr/>
                </p:nvSpPr>
                <p:spPr>
                  <a:xfrm>
                    <a:off x="4969080" y="4764600"/>
                    <a:ext cx="1777320" cy="381240"/>
                  </a:xfrm>
                  <a:custGeom>
                    <a:avLst/>
                    <a:gdLst>
                      <a:gd name="textAreaLeft" fmla="*/ 0 w 1777320"/>
                      <a:gd name="textAreaRight" fmla="*/ 1777680 w 1777320"/>
                      <a:gd name="textAreaTop" fmla="*/ 0 h 381240"/>
                      <a:gd name="textAreaBottom" fmla="*/ 381600 h 38124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  <p:sp>
                <p:nvSpPr>
                  <p:cNvPr id="366" name="Freeform 67"/>
                  <p:cNvSpPr/>
                  <p:nvPr/>
                </p:nvSpPr>
                <p:spPr>
                  <a:xfrm>
                    <a:off x="4969080" y="4764600"/>
                    <a:ext cx="1777320" cy="381240"/>
                  </a:xfrm>
                  <a:custGeom>
                    <a:avLst/>
                    <a:gdLst>
                      <a:gd name="textAreaLeft" fmla="*/ 0 w 1777320"/>
                      <a:gd name="textAreaRight" fmla="*/ 1777680 w 1777320"/>
                      <a:gd name="textAreaTop" fmla="*/ 0 h 381240"/>
                      <a:gd name="textAreaBottom" fmla="*/ 381600 h 38124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</p:grpSp>
          </p:grpSp>
          <p:grpSp>
            <p:nvGrpSpPr>
              <p:cNvPr id="367" name="Group 68"/>
              <p:cNvGrpSpPr/>
              <p:nvPr/>
            </p:nvGrpSpPr>
            <p:grpSpPr>
              <a:xfrm>
                <a:off x="4969080" y="5211000"/>
                <a:ext cx="1777320" cy="381240"/>
                <a:chOff x="4969080" y="5211000"/>
                <a:chExt cx="1777320" cy="381240"/>
              </a:xfrm>
            </p:grpSpPr>
            <p:sp>
              <p:nvSpPr>
                <p:cNvPr id="368" name="Rectangle 69"/>
                <p:cNvSpPr/>
                <p:nvPr/>
              </p:nvSpPr>
              <p:spPr>
                <a:xfrm>
                  <a:off x="5026680" y="5265720"/>
                  <a:ext cx="164880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 </a:t>
                  </a: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interface </a:t>
                  </a:r>
                  <a:endParaRPr b="1" lang="en-US" sz="800" spc="-1" strike="noStrike">
                    <a:solidFill>
                      <a:srgbClr val="000000"/>
                    </a:solidFill>
                    <a:latin typeface="Lucida Console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  <a:ea typeface="Times New Roman"/>
                    </a:rPr>
                    <a:t>TextListener</a:t>
                  </a:r>
                  <a:endParaRPr b="1" lang="en-US" sz="8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  <p:grpSp>
              <p:nvGrpSpPr>
                <p:cNvPr id="369" name="Group 70"/>
                <p:cNvGrpSpPr/>
                <p:nvPr/>
              </p:nvGrpSpPr>
              <p:grpSpPr>
                <a:xfrm>
                  <a:off x="4969080" y="5211000"/>
                  <a:ext cx="1777320" cy="381240"/>
                  <a:chOff x="4969080" y="5211000"/>
                  <a:chExt cx="1777320" cy="381240"/>
                </a:xfrm>
              </p:grpSpPr>
              <p:sp>
                <p:nvSpPr>
                  <p:cNvPr id="370" name="Freeform 71"/>
                  <p:cNvSpPr/>
                  <p:nvPr/>
                </p:nvSpPr>
                <p:spPr>
                  <a:xfrm>
                    <a:off x="4969080" y="5211000"/>
                    <a:ext cx="1777320" cy="381240"/>
                  </a:xfrm>
                  <a:custGeom>
                    <a:avLst/>
                    <a:gdLst>
                      <a:gd name="textAreaLeft" fmla="*/ 0 w 1777320"/>
                      <a:gd name="textAreaRight" fmla="*/ 1777680 w 1777320"/>
                      <a:gd name="textAreaTop" fmla="*/ 0 h 381240"/>
                      <a:gd name="textAreaBottom" fmla="*/ 381600 h 38124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  <p:sp>
                <p:nvSpPr>
                  <p:cNvPr id="371" name="Freeform 72"/>
                  <p:cNvSpPr/>
                  <p:nvPr/>
                </p:nvSpPr>
                <p:spPr>
                  <a:xfrm>
                    <a:off x="4969080" y="5211000"/>
                    <a:ext cx="1777320" cy="381240"/>
                  </a:xfrm>
                  <a:custGeom>
                    <a:avLst/>
                    <a:gdLst>
                      <a:gd name="textAreaLeft" fmla="*/ 0 w 1777320"/>
                      <a:gd name="textAreaRight" fmla="*/ 1777680 w 1777320"/>
                      <a:gd name="textAreaTop" fmla="*/ 0 h 381240"/>
                      <a:gd name="textAreaBottom" fmla="*/ 381600 h 38124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</p:grpSp>
          </p:grpSp>
          <p:grpSp>
            <p:nvGrpSpPr>
              <p:cNvPr id="372" name="Group 73"/>
              <p:cNvGrpSpPr/>
              <p:nvPr/>
            </p:nvGrpSpPr>
            <p:grpSpPr>
              <a:xfrm>
                <a:off x="4969080" y="5656680"/>
                <a:ext cx="1777320" cy="381240"/>
                <a:chOff x="4969080" y="5656680"/>
                <a:chExt cx="1777320" cy="381240"/>
              </a:xfrm>
            </p:grpSpPr>
            <p:sp>
              <p:nvSpPr>
                <p:cNvPr id="373" name="Rectangle 74"/>
                <p:cNvSpPr/>
                <p:nvPr/>
              </p:nvSpPr>
              <p:spPr>
                <a:xfrm>
                  <a:off x="5026680" y="5711400"/>
                  <a:ext cx="164880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 </a:t>
                  </a:r>
                  <a:r>
                    <a:rPr b="0" sz="8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interface </a:t>
                  </a:r>
                  <a:endParaRPr b="1" lang="en-US" sz="800" spc="-1" strike="noStrike">
                    <a:solidFill>
                      <a:srgbClr val="000000"/>
                    </a:solidFill>
                    <a:latin typeface="Lucida Console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800" spc="-1" strike="noStrike">
                      <a:solidFill>
                        <a:srgbClr val="000000"/>
                      </a:solidFill>
                      <a:latin typeface="LucidaSansTypewriter"/>
                      <a:ea typeface="Times New Roman"/>
                    </a:rPr>
                    <a:t>WindowListener</a:t>
                  </a:r>
                  <a:endParaRPr b="1" lang="en-US" sz="8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  <p:grpSp>
              <p:nvGrpSpPr>
                <p:cNvPr id="374" name="Group 75"/>
                <p:cNvGrpSpPr/>
                <p:nvPr/>
              </p:nvGrpSpPr>
              <p:grpSpPr>
                <a:xfrm>
                  <a:off x="4969080" y="5656680"/>
                  <a:ext cx="1777320" cy="381240"/>
                  <a:chOff x="4969080" y="5656680"/>
                  <a:chExt cx="1777320" cy="381240"/>
                </a:xfrm>
              </p:grpSpPr>
              <p:sp>
                <p:nvSpPr>
                  <p:cNvPr id="375" name="Freeform 76"/>
                  <p:cNvSpPr/>
                  <p:nvPr/>
                </p:nvSpPr>
                <p:spPr>
                  <a:xfrm>
                    <a:off x="4969080" y="5656680"/>
                    <a:ext cx="1777320" cy="381240"/>
                  </a:xfrm>
                  <a:custGeom>
                    <a:avLst/>
                    <a:gdLst>
                      <a:gd name="textAreaLeft" fmla="*/ 0 w 1777320"/>
                      <a:gd name="textAreaRight" fmla="*/ 1777680 w 1777320"/>
                      <a:gd name="textAreaTop" fmla="*/ 0 h 381240"/>
                      <a:gd name="textAreaBottom" fmla="*/ 381600 h 38124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solidFill>
                    <a:srgbClr val="4db3e6"/>
                  </a:solidFill>
                  <a:ln w="3240">
                    <a:solidFill>
                      <a:srgbClr val="4db3e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  <p:sp>
                <p:nvSpPr>
                  <p:cNvPr id="376" name="Freeform 77"/>
                  <p:cNvSpPr/>
                  <p:nvPr/>
                </p:nvSpPr>
                <p:spPr>
                  <a:xfrm>
                    <a:off x="4969080" y="5656680"/>
                    <a:ext cx="1777320" cy="381240"/>
                  </a:xfrm>
                  <a:custGeom>
                    <a:avLst/>
                    <a:gdLst>
                      <a:gd name="textAreaLeft" fmla="*/ 0 w 1777320"/>
                      <a:gd name="textAreaRight" fmla="*/ 1777680 w 1777320"/>
                      <a:gd name="textAreaTop" fmla="*/ 0 h 381240"/>
                      <a:gd name="textAreaBottom" fmla="*/ 381600 h 381240"/>
                    </a:gdLst>
                    <a:ahLst/>
                    <a:rect l="textAreaLeft" t="textAreaTop" r="textAreaRight" b="textAreaBottom"/>
                    <a:pathLst>
                      <a:path w="20000" h="20000">
                        <a:moveTo>
                          <a:pt x="19990" y="0"/>
                        </a:moveTo>
                        <a:lnTo>
                          <a:pt x="19990" y="19960"/>
                        </a:lnTo>
                        <a:lnTo>
                          <a:pt x="0" y="19960"/>
                        </a:lnTo>
                        <a:lnTo>
                          <a:pt x="0" y="0"/>
                        </a:lnTo>
                        <a:lnTo>
                          <a:pt x="1999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600" spc="-1" strike="noStrike">
                      <a:solidFill>
                        <a:srgbClr val="000000"/>
                      </a:solidFill>
                      <a:latin typeface="Lucida Console"/>
                    </a:endParaRPr>
                  </a:p>
                </p:txBody>
              </p:sp>
            </p:grpSp>
          </p:grpSp>
          <p:grpSp>
            <p:nvGrpSpPr>
              <p:cNvPr id="377" name="Group 78"/>
              <p:cNvGrpSpPr/>
              <p:nvPr/>
            </p:nvGrpSpPr>
            <p:grpSpPr>
              <a:xfrm>
                <a:off x="4598280" y="1380960"/>
                <a:ext cx="372600" cy="4466160"/>
                <a:chOff x="4598280" y="1380960"/>
                <a:chExt cx="372600" cy="4466160"/>
              </a:xfrm>
            </p:grpSpPr>
            <p:sp>
              <p:nvSpPr>
                <p:cNvPr id="378" name="Freeform 79"/>
                <p:cNvSpPr/>
                <p:nvPr/>
              </p:nvSpPr>
              <p:spPr>
                <a:xfrm>
                  <a:off x="4598280" y="1380960"/>
                  <a:ext cx="372600" cy="360"/>
                </a:xfrm>
                <a:custGeom>
                  <a:avLst/>
                  <a:gdLst>
                    <a:gd name="textAreaLeft" fmla="*/ 0 w 372600"/>
                    <a:gd name="textAreaRight" fmla="*/ 372960 w 37260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52" y="0"/>
                      </a:move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  <p:sp>
              <p:nvSpPr>
                <p:cNvPr id="379" name="Freeform 80"/>
                <p:cNvSpPr/>
                <p:nvPr/>
              </p:nvSpPr>
              <p:spPr>
                <a:xfrm>
                  <a:off x="4598280" y="5846400"/>
                  <a:ext cx="372600" cy="720"/>
                </a:xfrm>
                <a:custGeom>
                  <a:avLst/>
                  <a:gdLst>
                    <a:gd name="textAreaLeft" fmla="*/ 0 w 372600"/>
                    <a:gd name="textAreaRight" fmla="*/ 372960 w 372600"/>
                    <a:gd name="textAreaTop" fmla="*/ 0 h 720"/>
                    <a:gd name="textAreaBottom" fmla="*/ 720 h 72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52" y="0"/>
                      </a:move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Lucida Console"/>
                  </a:endParaRPr>
                </a:p>
              </p:txBody>
            </p:sp>
          </p:grpSp>
        </p:grpSp>
        <p:sp>
          <p:nvSpPr>
            <p:cNvPr id="380" name="Rectangle 83"/>
            <p:cNvSpPr/>
            <p:nvPr/>
          </p:nvSpPr>
          <p:spPr>
            <a:xfrm>
              <a:off x="2620800" y="3393360"/>
              <a:ext cx="1386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«interface»</a:t>
              </a:r>
              <a:br>
                <a:rPr sz="1000"/>
              </a:b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EventListener</a:t>
              </a:r>
              <a:endParaRPr b="1" lang="en-US" sz="10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381" name="Rectangle 84"/>
            <p:cNvSpPr/>
            <p:nvPr/>
          </p:nvSpPr>
          <p:spPr>
            <a:xfrm>
              <a:off x="5073480" y="1195920"/>
              <a:ext cx="1493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«interface»</a:t>
              </a:r>
              <a:br>
                <a:rPr sz="1000"/>
              </a:b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ActionListener</a:t>
              </a:r>
              <a:endParaRPr b="1" lang="en-US" sz="10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382" name="Rectangle 85"/>
            <p:cNvSpPr/>
            <p:nvPr/>
          </p:nvSpPr>
          <p:spPr>
            <a:xfrm>
              <a:off x="4860360" y="1653480"/>
              <a:ext cx="1919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«interface»</a:t>
              </a:r>
              <a:br>
                <a:rPr sz="1000"/>
              </a:b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AdjustmentListener</a:t>
              </a:r>
              <a:endParaRPr b="1" lang="en-US" sz="10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383" name="Rectangle 86"/>
            <p:cNvSpPr/>
            <p:nvPr/>
          </p:nvSpPr>
          <p:spPr>
            <a:xfrm>
              <a:off x="4860360" y="2058120"/>
              <a:ext cx="1919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«interface»</a:t>
              </a:r>
              <a:br>
                <a:rPr sz="1000"/>
              </a:b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ComponentListener</a:t>
              </a:r>
              <a:endParaRPr b="1" lang="en-US" sz="10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384" name="Rectangle 87"/>
            <p:cNvSpPr/>
            <p:nvPr/>
          </p:nvSpPr>
          <p:spPr>
            <a:xfrm>
              <a:off x="4860360" y="2516040"/>
              <a:ext cx="1919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«interface»</a:t>
              </a:r>
              <a:br>
                <a:rPr sz="1000"/>
              </a:b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ContainerListener</a:t>
              </a:r>
              <a:endParaRPr b="1" lang="en-US" sz="10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385" name="Rectangle 88"/>
            <p:cNvSpPr/>
            <p:nvPr/>
          </p:nvSpPr>
          <p:spPr>
            <a:xfrm>
              <a:off x="5180400" y="2973600"/>
              <a:ext cx="1386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«interface»</a:t>
              </a:r>
              <a:br>
                <a:rPr sz="1000"/>
              </a:b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FocusListener</a:t>
              </a:r>
              <a:endParaRPr b="1" lang="en-US" sz="10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386" name="Rectangle 89"/>
            <p:cNvSpPr/>
            <p:nvPr/>
          </p:nvSpPr>
          <p:spPr>
            <a:xfrm>
              <a:off x="5073480" y="3393360"/>
              <a:ext cx="1493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«interface»</a:t>
              </a:r>
              <a:br>
                <a:rPr sz="1000"/>
              </a:b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ItemListener</a:t>
              </a:r>
              <a:endParaRPr b="1" lang="en-US" sz="10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387" name="Rectangle 90"/>
            <p:cNvSpPr/>
            <p:nvPr/>
          </p:nvSpPr>
          <p:spPr>
            <a:xfrm>
              <a:off x="5180400" y="3850920"/>
              <a:ext cx="1279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«interface»</a:t>
              </a:r>
              <a:br>
                <a:rPr sz="1000"/>
              </a:b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KeyListener</a:t>
              </a:r>
              <a:endParaRPr b="1" lang="en-US" sz="10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388" name="Rectangle 91"/>
            <p:cNvSpPr/>
            <p:nvPr/>
          </p:nvSpPr>
          <p:spPr>
            <a:xfrm>
              <a:off x="5180400" y="4308840"/>
              <a:ext cx="1386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«interface»</a:t>
              </a:r>
              <a:br>
                <a:rPr sz="1000"/>
              </a:b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MouseListener</a:t>
              </a:r>
              <a:endParaRPr b="1" lang="en-US" sz="10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389" name="Rectangle 92"/>
            <p:cNvSpPr/>
            <p:nvPr/>
          </p:nvSpPr>
          <p:spPr>
            <a:xfrm>
              <a:off x="4967280" y="4766400"/>
              <a:ext cx="1919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«interface»</a:t>
              </a:r>
              <a:br>
                <a:rPr sz="1000"/>
              </a:b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MouseMotionListener</a:t>
              </a:r>
              <a:endParaRPr b="1" lang="en-US" sz="10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390" name="Rectangle 93"/>
            <p:cNvSpPr/>
            <p:nvPr/>
          </p:nvSpPr>
          <p:spPr>
            <a:xfrm>
              <a:off x="5180400" y="5224320"/>
              <a:ext cx="1386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«interface»</a:t>
              </a:r>
              <a:br>
                <a:rPr sz="1000"/>
              </a:b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TextListener</a:t>
              </a:r>
              <a:endParaRPr b="1" lang="en-US" sz="10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391" name="Rectangle 94"/>
            <p:cNvSpPr/>
            <p:nvPr/>
          </p:nvSpPr>
          <p:spPr>
            <a:xfrm>
              <a:off x="5180400" y="5628600"/>
              <a:ext cx="1386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«interface»</a:t>
              </a:r>
              <a:br>
                <a:rPr sz="1000"/>
              </a:br>
              <a:r>
                <a:rPr b="0" sz="10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TextListener</a:t>
              </a:r>
              <a:endParaRPr b="1" lang="en-US" sz="10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vantGarde"/>
              </a:rPr>
              <a:t>Example(3): using </a:t>
            </a:r>
            <a:r>
              <a:rPr b="1" i="1" lang="en-US" sz="2800" spc="-1" strike="noStrike">
                <a:solidFill>
                  <a:srgbClr val="000000"/>
                </a:solidFill>
                <a:latin typeface="AvantGarde"/>
              </a:rPr>
              <a:t> JButt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ang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xample(2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display message when the  user clicking on the following Butt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6" descr="13_10c"/>
          <p:cNvPicPr/>
          <p:nvPr/>
        </p:nvPicPr>
        <p:blipFill>
          <a:blip r:embed="rId1"/>
          <a:stretch/>
        </p:blipFill>
        <p:spPr>
          <a:xfrm>
            <a:off x="4952880" y="2133720"/>
            <a:ext cx="3505320" cy="1447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3352680" cy="1676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"/>
          <p:cNvPicPr/>
          <p:nvPr/>
        </p:nvPicPr>
        <p:blipFill>
          <a:blip r:embed="rId3"/>
          <a:stretch/>
        </p:blipFill>
        <p:spPr>
          <a:xfrm>
            <a:off x="3124080" y="2438280"/>
            <a:ext cx="262080" cy="3193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4"/>
          <a:stretch/>
        </p:blipFill>
        <p:spPr>
          <a:xfrm>
            <a:off x="762120" y="3886200"/>
            <a:ext cx="3352680" cy="167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"/>
          <p:cNvPicPr/>
          <p:nvPr/>
        </p:nvPicPr>
        <p:blipFill>
          <a:blip r:embed="rId5"/>
          <a:stretch/>
        </p:blipFill>
        <p:spPr>
          <a:xfrm>
            <a:off x="3124080" y="5105520"/>
            <a:ext cx="262080" cy="3189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"/>
          <p:cNvPicPr/>
          <p:nvPr/>
        </p:nvPicPr>
        <p:blipFill>
          <a:blip r:embed="rId6"/>
          <a:stretch/>
        </p:blipFill>
        <p:spPr>
          <a:xfrm>
            <a:off x="4952880" y="3886200"/>
            <a:ext cx="35053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1: import package java.awt for Graphic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mport 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java.awt.event.*;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3: used to handle GUI Ev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  class 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isplayButt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xtends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JFram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rivat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JButt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b1, b2;    </a:t>
            </a: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define JButt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isplayButto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up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“Testing Button " 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;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Visible(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step4: prepare the container to put the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Container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etContentPa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step5: Specify the layout  manager of container :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91966"/>
                </a:solidFill>
                <a:latin typeface="Times New Roman"/>
              </a:rPr>
              <a:t>Flow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r>
              <a:rPr b="0" lang="en-US" sz="2400" spc="-1" strike="noStrike">
                <a:solidFill>
                  <a:srgbClr val="1919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 </a:t>
            </a:r>
            <a:r>
              <a:rPr b="1" lang="en-US" sz="2200" spc="-1" strike="noStrike">
                <a:solidFill>
                  <a:srgbClr val="595959"/>
                </a:solidFill>
                <a:latin typeface="Times New Roman"/>
              </a:rPr>
              <a:t>//start from left to 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3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02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 Step6: Create  First Butt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1 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JButt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in Butt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1.setFont(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nt("Serif", Font.BOLD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);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setF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b1 );  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 add Button into 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3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304920" y="685800"/>
            <a:ext cx="8381880" cy="1447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5029200" cy="2705040"/>
          </a:xfrm>
          <a:prstGeom prst="rect">
            <a:avLst/>
          </a:prstGeom>
          <a:ln w="0">
            <a:noFill/>
          </a:ln>
        </p:spPr>
      </p:pic>
      <p:cxnSp>
        <p:nvCxnSpPr>
          <p:cNvPr id="407" name="Straight Arrow Connector 11"/>
          <p:cNvCxnSpPr/>
          <p:nvPr/>
        </p:nvCxnSpPr>
        <p:spPr>
          <a:xfrm flipH="1">
            <a:off x="5180760" y="1676520"/>
            <a:ext cx="686520" cy="1296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8" name="Straight Arrow Connector 12"/>
          <p:cNvCxnSpPr/>
          <p:nvPr/>
        </p:nvCxnSpPr>
        <p:spPr>
          <a:xfrm>
            <a:off x="1142640" y="2133360"/>
            <a:ext cx="2134440" cy="99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 Step7: Create  Second Button with ic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91966"/>
                </a:solidFill>
                <a:latin typeface="Times New Roman"/>
              </a:rPr>
              <a:t>ImageIc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c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 ImageIc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"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ic.gi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ImageIc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pic2 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ImageIc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"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ers.gi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2 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JButt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age Butt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 , pic1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2.setFont(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nt("Serif", Font.BOLD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);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setF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change the image when the mouse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2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tRolloverIc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pic2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b2 );  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 add Button into 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3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1523880" y="3809880"/>
            <a:ext cx="5410440" cy="243864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0"/>
          <p:cNvSpPr/>
          <p:nvPr/>
        </p:nvSpPr>
        <p:spPr>
          <a:xfrm>
            <a:off x="228600" y="685800"/>
            <a:ext cx="8610480" cy="3048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413" name="Picture 3" descr=""/>
          <p:cNvPicPr/>
          <p:nvPr/>
        </p:nvPicPr>
        <p:blipFill>
          <a:blip r:embed="rId2"/>
          <a:stretch/>
        </p:blipFill>
        <p:spPr>
          <a:xfrm>
            <a:off x="1523880" y="3809880"/>
            <a:ext cx="5410440" cy="2362320"/>
          </a:xfrm>
          <a:prstGeom prst="rect">
            <a:avLst/>
          </a:prstGeom>
          <a:ln w="0">
            <a:noFill/>
          </a:ln>
        </p:spPr>
      </p:pic>
      <p:cxnSp>
        <p:nvCxnSpPr>
          <p:cNvPr id="414" name="Straight Arrow Connector 13"/>
          <p:cNvCxnSpPr/>
          <p:nvPr/>
        </p:nvCxnSpPr>
        <p:spPr>
          <a:xfrm>
            <a:off x="990360" y="3581280"/>
            <a:ext cx="1600920" cy="1067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5" name="Straight Arrow Connector 14"/>
          <p:cNvCxnSpPr/>
          <p:nvPr/>
        </p:nvCxnSpPr>
        <p:spPr>
          <a:xfrm flipH="1">
            <a:off x="5714640" y="2437920"/>
            <a:ext cx="1448640" cy="2057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 Step8:  Add Action Listener to Butt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1.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addActionListen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</a:rPr>
              <a:t>thi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)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 add event to butto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2.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addActionListen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</a:rPr>
              <a:t>thi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);  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 add event to butt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 </a:t>
            </a:r>
            <a:r>
              <a:rPr b="1" i="1" lang="en-US" sz="2600" spc="-1" strike="noStrike">
                <a:solidFill>
                  <a:srgbClr val="002060"/>
                </a:solidFill>
                <a:latin typeface="Times New Roman"/>
              </a:rPr>
              <a:t>this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&gt;&gt; that mean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ctionPerforme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 ) in the cuerrent cla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(دالة تنفيذ الحدث موجودة بالـ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 الحالى )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</a:t>
            </a:r>
            <a:r>
              <a:rPr b="1" lang="en-US" sz="2400" spc="-1" strike="noStrike">
                <a:solidFill>
                  <a:srgbClr val="59595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end of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// redefine actionPerforme(</a:t>
            </a:r>
            <a:r>
              <a:rPr b="1" lang="ar-SA" sz="2000" spc="-1" strike="noStrike">
                <a:solidFill>
                  <a:srgbClr val="595959"/>
                </a:solidFill>
                <a:latin typeface="Times New Roman"/>
              </a:rPr>
              <a:t>دالة تنفيذ الحدث</a:t>
            </a:r>
            <a:r>
              <a:rPr b="1" lang="ar-SA" sz="2000" spc="-1" strike="noStrike">
                <a:solidFill>
                  <a:srgbClr val="59595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595959"/>
                </a:solidFill>
                <a:latin typeface="Times New Roman"/>
              </a:rPr>
              <a:t>) to handle button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voi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tionPerform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ctionEv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( (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etSour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==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||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e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etSour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==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JOptionPa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owMessage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"You pressed: "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 e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etAction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//end of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end of actionPerform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3):  Add Event to Buttons 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18" name="Rectangle 11"/>
          <p:cNvSpPr/>
          <p:nvPr/>
        </p:nvSpPr>
        <p:spPr>
          <a:xfrm>
            <a:off x="304920" y="685800"/>
            <a:ext cx="8458200" cy="5715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3059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playButt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p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playButt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set Close operation of Jframe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s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xample(3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457200" y="762120"/>
            <a:ext cx="8381880" cy="4572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16"/>
          <p:cNvSpPr/>
          <p:nvPr/>
        </p:nvSpPr>
        <p:spPr>
          <a:xfrm>
            <a:off x="380880" y="228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vantGarde"/>
                <a:cs typeface="Times New Roman"/>
              </a:rPr>
              <a:t>ملخص بالدوال الأساسية لإضافة الحدث بالـ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Button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3" name="Rectangle 1026"/>
          <p:cNvSpPr/>
          <p:nvPr/>
        </p:nvSpPr>
        <p:spPr>
          <a:xfrm>
            <a:off x="457200" y="152280"/>
            <a:ext cx="838188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533520" y="874800"/>
            <a:ext cx="815328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دالة إضافة الحدث : 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button.</a:t>
            </a:r>
            <a:r>
              <a:rPr b="1" lang="en-US" sz="2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addActionListener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2060"/>
                </a:solidFill>
                <a:latin typeface="Lucida Console"/>
                <a:ea typeface="Times New Roman"/>
              </a:rPr>
              <a:t>this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 </a:t>
            </a:r>
            <a:endParaRPr b="1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533520" y="1981080"/>
            <a:ext cx="815328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دالة تنفيذ الحدث : 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actionPerformed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ActionEvent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Lucida Console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1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304920" y="34290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Lucida Console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.</a:t>
            </a:r>
            <a:r>
              <a:rPr b="1" lang="en-US" sz="22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getSource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 )</a:t>
            </a:r>
            <a:r>
              <a:rPr b="1" lang="ar-SA" sz="2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return the name of object component.</a:t>
            </a:r>
            <a:endParaRPr b="1" lang="en-US" sz="2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304920" y="4268880"/>
            <a:ext cx="86868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e.</a:t>
            </a:r>
            <a:r>
              <a:rPr b="1" lang="en-US" sz="22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getActionCommand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 ) return the specified Text</a:t>
            </a:r>
            <a:endParaRPr b="1" lang="en-US" sz="2200" spc="-1" strike="noStrike">
              <a:solidFill>
                <a:srgbClr val="000000"/>
              </a:solidFill>
              <a:latin typeface="Lucida Console"/>
            </a:endParaRPr>
          </a:p>
          <a:p>
            <a:pPr marL="441360" indent="-4413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as string) of component</a:t>
            </a:r>
            <a:endParaRPr b="1" lang="en-US" sz="2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endParaRPr b="1" lang="en-US" sz="32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cal User Interface (</a:t>
            </a:r>
            <a:r>
              <a:rPr b="1" lang="en-US" sz="3000" spc="-1" strike="noStrike">
                <a:solidFill>
                  <a:srgbClr val="0050d5"/>
                </a:solidFill>
                <a:latin typeface="Times New Roman"/>
              </a:rPr>
              <a:t>GU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ives program distinctive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مميز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“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oo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” and “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e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ides users with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asic level of familiar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ilt from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UI compon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r interacts with GUI component via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ou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keyboar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vantGarde"/>
              </a:rPr>
              <a:t>Some basic Java </a:t>
            </a:r>
            <a:r>
              <a:rPr b="1" lang="en-US" sz="3200" spc="-1" strike="noStrike">
                <a:solidFill>
                  <a:srgbClr val="000000"/>
                </a:solidFill>
                <a:latin typeface="AvantGarde"/>
              </a:rPr>
              <a:t>GUI components</a:t>
            </a:r>
            <a:endParaRPr b="1" lang="en-US" sz="32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1397160"/>
          <a:ext cx="8686800" cy="4327200"/>
        </p:xfrm>
        <a:graphic>
          <a:graphicData uri="http://schemas.openxmlformats.org/drawingml/2006/table">
            <a:tbl>
              <a:tblPr/>
              <a:tblGrid>
                <a:gridCol w="2193840"/>
                <a:gridCol w="4405320"/>
                <a:gridCol w="208764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onen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ptio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ampl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923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Label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 area where </a:t>
                      </a:r>
                      <a:r>
                        <a:rPr b="0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uneditable Text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cons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n be displayed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114264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TextFiel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line area in which the </a:t>
                      </a:r>
                      <a:r>
                        <a:rPr b="0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user inputs data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om the keyboard. This area can also </a:t>
                      </a:r>
                      <a:r>
                        <a:rPr b="0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display information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114264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PasswordFiel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-line area in which the </a:t>
                      </a:r>
                      <a:r>
                        <a:rPr b="0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user inputs data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om the keyboard  but as “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dden tex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” data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7923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Butt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 area that triggers an event when clicked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</a:tbl>
          </a:graphicData>
        </a:graphic>
      </p:graphicFrame>
      <p:sp>
        <p:nvSpPr>
          <p:cNvPr id="103" name="Rectangle 157"/>
          <p:cNvSpPr/>
          <p:nvPr/>
        </p:nvSpPr>
        <p:spPr>
          <a:xfrm>
            <a:off x="6934320" y="20574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Enter Name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6934320" y="3048120"/>
            <a:ext cx="18288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AbcSUST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5" name="Rectangle 29"/>
          <p:cNvSpPr/>
          <p:nvPr/>
        </p:nvSpPr>
        <p:spPr>
          <a:xfrm>
            <a:off x="6934320" y="4114800"/>
            <a:ext cx="1828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********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6" name="Rectangle 51"/>
          <p:cNvSpPr/>
          <p:nvPr/>
        </p:nvSpPr>
        <p:spPr>
          <a:xfrm>
            <a:off x="7238880" y="5105520"/>
            <a:ext cx="1067040" cy="4572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vantGarde"/>
              </a:rPr>
              <a:t>Some basic Java </a:t>
            </a:r>
            <a:r>
              <a:rPr b="1" lang="en-US" sz="3200" spc="-1" strike="noStrike">
                <a:solidFill>
                  <a:srgbClr val="000000"/>
                </a:solidFill>
                <a:latin typeface="AvantGarde"/>
              </a:rPr>
              <a:t>GUI components</a:t>
            </a:r>
            <a:endParaRPr b="1" lang="en-US" sz="32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" y="1397160"/>
          <a:ext cx="8686800" cy="4236840"/>
        </p:xfrm>
        <a:graphic>
          <a:graphicData uri="http://schemas.openxmlformats.org/drawingml/2006/table">
            <a:tbl>
              <a:tblPr/>
              <a:tblGrid>
                <a:gridCol w="1874880"/>
                <a:gridCol w="4008240"/>
                <a:gridCol w="280368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onen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ptio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ampl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114300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CheckBo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I component that is either </a:t>
                      </a:r>
                      <a:r>
                        <a:rPr b="0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elected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r </a:t>
                      </a:r>
                      <a:r>
                        <a:rPr b="0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not selected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and allow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multiple selections</a:t>
                      </a:r>
                      <a:r>
                        <a:rPr b="0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)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114300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RadioButt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I component that is either </a:t>
                      </a:r>
                      <a:r>
                        <a:rPr b="0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elected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r </a:t>
                      </a:r>
                      <a:r>
                        <a:rPr b="0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not selected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( allow only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ne selection</a:t>
                      </a:r>
                      <a:r>
                        <a:rPr b="0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)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149364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ComboBo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drop down list of items from which the user can make a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election by clicking only one item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the list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</a:tbl>
          </a:graphicData>
        </a:graphic>
      </p:graphicFrame>
      <p:grpSp>
        <p:nvGrpSpPr>
          <p:cNvPr id="109" name="Group 97"/>
          <p:cNvGrpSpPr/>
          <p:nvPr/>
        </p:nvGrpSpPr>
        <p:grpSpPr>
          <a:xfrm>
            <a:off x="6400800" y="2133720"/>
            <a:ext cx="2437920" cy="228600"/>
            <a:chOff x="6400800" y="2133720"/>
            <a:chExt cx="2437920" cy="228600"/>
          </a:xfrm>
        </p:grpSpPr>
        <p:sp>
          <p:nvSpPr>
            <p:cNvPr id="110" name="Rectangle 86"/>
            <p:cNvSpPr/>
            <p:nvPr/>
          </p:nvSpPr>
          <p:spPr>
            <a:xfrm>
              <a:off x="6400800" y="2133720"/>
              <a:ext cx="22824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11" name="Rectangle 87"/>
            <p:cNvSpPr/>
            <p:nvPr/>
          </p:nvSpPr>
          <p:spPr>
            <a:xfrm>
              <a:off x="7772040" y="2133720"/>
              <a:ext cx="22824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12" name="Rectangle 89"/>
            <p:cNvSpPr/>
            <p:nvPr/>
          </p:nvSpPr>
          <p:spPr>
            <a:xfrm>
              <a:off x="6781680" y="2133720"/>
              <a:ext cx="76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option1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13" name="Rectangle 90"/>
            <p:cNvSpPr/>
            <p:nvPr/>
          </p:nvSpPr>
          <p:spPr>
            <a:xfrm>
              <a:off x="8076960" y="2133720"/>
              <a:ext cx="76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option2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grpSp>
        <p:nvGrpSpPr>
          <p:cNvPr id="114" name="Group 20"/>
          <p:cNvGrpSpPr/>
          <p:nvPr/>
        </p:nvGrpSpPr>
        <p:grpSpPr>
          <a:xfrm>
            <a:off x="6324480" y="3352680"/>
            <a:ext cx="2286000" cy="228600"/>
            <a:chOff x="6324480" y="3352680"/>
            <a:chExt cx="2286000" cy="228600"/>
          </a:xfrm>
        </p:grpSpPr>
        <p:sp>
          <p:nvSpPr>
            <p:cNvPr id="115" name="Oval 93"/>
            <p:cNvSpPr/>
            <p:nvPr/>
          </p:nvSpPr>
          <p:spPr>
            <a:xfrm>
              <a:off x="6324480" y="3428640"/>
              <a:ext cx="22860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riam Fixed"/>
                  <a:ea typeface="Miriam Fixed"/>
                </a:rPr>
                <a:t>•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16" name="Rectangle 94"/>
            <p:cNvSpPr/>
            <p:nvPr/>
          </p:nvSpPr>
          <p:spPr>
            <a:xfrm>
              <a:off x="6629040" y="3352680"/>
              <a:ext cx="76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option1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17" name="Oval 98"/>
            <p:cNvSpPr/>
            <p:nvPr/>
          </p:nvSpPr>
          <p:spPr>
            <a:xfrm>
              <a:off x="7619760" y="342864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18" name="Rectangle 99"/>
            <p:cNvSpPr/>
            <p:nvPr/>
          </p:nvSpPr>
          <p:spPr>
            <a:xfrm>
              <a:off x="7848360" y="335268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  <a:ea typeface="Times New Roman"/>
                </a:rPr>
                <a:t>option2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pic>
        <p:nvPicPr>
          <p:cNvPr id="119" name="Picture 153" descr=""/>
          <p:cNvPicPr/>
          <p:nvPr/>
        </p:nvPicPr>
        <p:blipFill>
          <a:blip r:embed="rId1"/>
          <a:stretch/>
        </p:blipFill>
        <p:spPr>
          <a:xfrm>
            <a:off x="6705720" y="426708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vantGarde"/>
              </a:rPr>
              <a:t>Some basic Java </a:t>
            </a:r>
            <a:r>
              <a:rPr b="1" lang="en-US" sz="3200" spc="-1" strike="noStrike">
                <a:solidFill>
                  <a:srgbClr val="000000"/>
                </a:solidFill>
                <a:latin typeface="AvantGarde"/>
              </a:rPr>
              <a:t>GUI components</a:t>
            </a:r>
            <a:endParaRPr b="1" lang="en-US" sz="32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28600" y="1397160"/>
          <a:ext cx="8686800" cy="3636720"/>
        </p:xfrm>
        <a:graphic>
          <a:graphicData uri="http://schemas.openxmlformats.org/drawingml/2006/table">
            <a:tbl>
              <a:tblPr/>
              <a:tblGrid>
                <a:gridCol w="1744560"/>
                <a:gridCol w="5322960"/>
                <a:gridCol w="161928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onen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ptio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ampl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172692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Lis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 area where a list of items is displayed from which the user can make a selection by clicking once on any element in the list.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Multiple elements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be selected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145260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Panel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container in which components can be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laced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nd </a:t>
                      </a: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rganized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</a:tbl>
          </a:graphicData>
        </a:graphic>
      </p:graphicFrame>
      <p:grpSp>
        <p:nvGrpSpPr>
          <p:cNvPr id="122" name="Group 24"/>
          <p:cNvGrpSpPr/>
          <p:nvPr/>
        </p:nvGrpSpPr>
        <p:grpSpPr>
          <a:xfrm>
            <a:off x="7391520" y="1968480"/>
            <a:ext cx="1295280" cy="1382760"/>
            <a:chOff x="7391520" y="1968480"/>
            <a:chExt cx="1295280" cy="1382760"/>
          </a:xfrm>
        </p:grpSpPr>
        <p:pic>
          <p:nvPicPr>
            <p:cNvPr id="123" name="Picture 153" descr=""/>
            <p:cNvPicPr/>
            <p:nvPr/>
          </p:nvPicPr>
          <p:blipFill>
            <a:blip r:embed="rId1"/>
            <a:stretch/>
          </p:blipFill>
          <p:spPr>
            <a:xfrm>
              <a:off x="7391520" y="1968480"/>
              <a:ext cx="1295280" cy="13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22"/>
            <p:cNvSpPr/>
            <p:nvPr/>
          </p:nvSpPr>
          <p:spPr>
            <a:xfrm>
              <a:off x="7455960" y="3013920"/>
              <a:ext cx="1230840" cy="3373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Option3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25" name="Rectangle 23"/>
            <p:cNvSpPr/>
            <p:nvPr/>
          </p:nvSpPr>
          <p:spPr>
            <a:xfrm>
              <a:off x="7455960" y="2099160"/>
              <a:ext cx="1166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ption3</a:t>
              </a:r>
              <a:endParaRPr b="1" lang="en-US" sz="18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sp>
        <p:nvSpPr>
          <p:cNvPr id="126" name="Rectangle 27"/>
          <p:cNvSpPr/>
          <p:nvPr/>
        </p:nvSpPr>
        <p:spPr>
          <a:xfrm>
            <a:off x="7391520" y="3733920"/>
            <a:ext cx="1371600" cy="12189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Netscape window with GUI compon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128" name="Group 34"/>
          <p:cNvGrpSpPr/>
          <p:nvPr/>
        </p:nvGrpSpPr>
        <p:grpSpPr>
          <a:xfrm>
            <a:off x="228600" y="685800"/>
            <a:ext cx="8915040" cy="5104800"/>
            <a:chOff x="228600" y="685800"/>
            <a:chExt cx="8915040" cy="5104800"/>
          </a:xfrm>
        </p:grpSpPr>
        <p:pic>
          <p:nvPicPr>
            <p:cNvPr id="129" name="Picture 4" descr="02_071"/>
            <p:cNvPicPr/>
            <p:nvPr/>
          </p:nvPicPr>
          <p:blipFill>
            <a:blip r:embed="rId1"/>
            <a:stretch/>
          </p:blipFill>
          <p:spPr>
            <a:xfrm>
              <a:off x="685440" y="1143720"/>
              <a:ext cx="7266600" cy="464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16"/>
            <p:cNvSpPr/>
            <p:nvPr/>
          </p:nvSpPr>
          <p:spPr>
            <a:xfrm>
              <a:off x="4349160" y="685800"/>
              <a:ext cx="95868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nu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ar</a:t>
              </a:r>
              <a:endParaRPr b="1" lang="en-US" sz="15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31" name="Freeform 15"/>
            <p:cNvSpPr/>
            <p:nvPr/>
          </p:nvSpPr>
          <p:spPr>
            <a:xfrm>
              <a:off x="4408200" y="950400"/>
              <a:ext cx="447840" cy="62496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624960"/>
                <a:gd name="textAreaBottom" fmla="*/ 625320 h 624960"/>
              </a:gdLst>
              <a:ahLst/>
              <a:rect l="textAreaLeft" t="textAreaTop" r="textAreaRight" b="textAreaBottom"/>
              <a:pathLst>
                <a:path w="20000" h="20000">
                  <a:moveTo>
                    <a:pt x="0" y="19966"/>
                  </a:moveTo>
                  <a:lnTo>
                    <a:pt x="1996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32" name="Rectangle 14"/>
            <p:cNvSpPr/>
            <p:nvPr/>
          </p:nvSpPr>
          <p:spPr>
            <a:xfrm>
              <a:off x="228600" y="762480"/>
              <a:ext cx="76248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tton</a:t>
              </a:r>
              <a:endParaRPr b="1" lang="en-US" sz="15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33" name="Freeform 13"/>
            <p:cNvSpPr/>
            <p:nvPr/>
          </p:nvSpPr>
          <p:spPr>
            <a:xfrm>
              <a:off x="638640" y="990000"/>
              <a:ext cx="352440" cy="99000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990000"/>
                <a:gd name="textAreaBottom" fmla="*/ 990360 h 99000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52" y="19971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34" name="Rectangle 12"/>
            <p:cNvSpPr/>
            <p:nvPr/>
          </p:nvSpPr>
          <p:spPr>
            <a:xfrm>
              <a:off x="6239160" y="913320"/>
              <a:ext cx="122760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bo box</a:t>
              </a:r>
              <a:endParaRPr b="1" lang="en-US" sz="1500" spc="-1" strike="noStrike">
                <a:solidFill>
                  <a:srgbClr val="000000"/>
                </a:solidFill>
                <a:latin typeface="Lucida Console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35" name="Freeform 11"/>
            <p:cNvSpPr/>
            <p:nvPr/>
          </p:nvSpPr>
          <p:spPr>
            <a:xfrm>
              <a:off x="5474520" y="1162440"/>
              <a:ext cx="1167480" cy="817560"/>
            </a:xfrm>
            <a:custGeom>
              <a:avLst/>
              <a:gdLst>
                <a:gd name="textAreaLeft" fmla="*/ 0 w 1167480"/>
                <a:gd name="textAreaRight" fmla="*/ 1167840 w 116748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0000" h="20000">
                  <a:moveTo>
                    <a:pt x="0" y="19976"/>
                  </a:moveTo>
                  <a:lnTo>
                    <a:pt x="1998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36" name="Rectangle 18"/>
            <p:cNvSpPr/>
            <p:nvPr/>
          </p:nvSpPr>
          <p:spPr>
            <a:xfrm>
              <a:off x="1687680" y="749160"/>
              <a:ext cx="903240" cy="24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nus</a:t>
              </a:r>
              <a:endParaRPr b="1" lang="en-US" sz="15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1388880" y="1024200"/>
              <a:ext cx="590400" cy="57204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20000" h="20000">
                  <a:moveTo>
                    <a:pt x="0" y="19963"/>
                  </a:moveTo>
                  <a:lnTo>
                    <a:pt x="1997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1979640" y="1024200"/>
              <a:ext cx="360" cy="542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61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1979640" y="1024200"/>
              <a:ext cx="433800" cy="564120"/>
            </a:xfrm>
            <a:custGeom>
              <a:avLst/>
              <a:gdLst>
                <a:gd name="textAreaLeft" fmla="*/ 0 w 433800"/>
                <a:gd name="textAreaRight" fmla="*/ 434160 w 43380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68" y="1996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40" name="Rectangle 8"/>
            <p:cNvSpPr/>
            <p:nvPr/>
          </p:nvSpPr>
          <p:spPr>
            <a:xfrm>
              <a:off x="8076960" y="4246920"/>
              <a:ext cx="10666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croll bars</a:t>
              </a:r>
              <a:endParaRPr b="1" lang="en-US" sz="15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41" name="Freeform 7"/>
            <p:cNvSpPr/>
            <p:nvPr/>
          </p:nvSpPr>
          <p:spPr>
            <a:xfrm>
              <a:off x="7309080" y="4474800"/>
              <a:ext cx="990360" cy="93492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934920"/>
                <a:gd name="textAreaBottom" fmla="*/ 934920 h 934920"/>
              </a:gdLst>
              <a:ahLst/>
              <a:rect l="textAreaLeft" t="textAreaTop" r="textAreaRight" b="textAreaBottom"/>
              <a:pathLst>
                <a:path w="20000" h="20000">
                  <a:moveTo>
                    <a:pt x="0" y="19977"/>
                  </a:moveTo>
                  <a:lnTo>
                    <a:pt x="1998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7944840" y="4474800"/>
              <a:ext cx="354240" cy="3708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20000" h="20000">
                  <a:moveTo>
                    <a:pt x="0" y="19412"/>
                  </a:moveTo>
                  <a:lnTo>
                    <a:pt x="1996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wing GUI componen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ckage  </a:t>
            </a:r>
            <a:r>
              <a:rPr b="1" lang="en-US" sz="2600" spc="-1" strike="noStrike">
                <a:solidFill>
                  <a:srgbClr val="0050d5"/>
                </a:solidFill>
                <a:latin typeface="Lucida Console"/>
              </a:rPr>
              <a:t>javax.sw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onents originate(</a:t>
            </a:r>
            <a:r>
              <a:rPr b="1" lang="ar-SA" sz="2200" spc="-1" strike="noStrike">
                <a:solidFill>
                  <a:srgbClr val="ff0000"/>
                </a:solidFill>
                <a:latin typeface="Times New Roman"/>
              </a:rPr>
              <a:t>تم إنشائه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from AW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package </a:t>
            </a:r>
            <a:r>
              <a:rPr b="1" lang="en-US" sz="2600" spc="-1" strike="noStrike">
                <a:solidFill>
                  <a:srgbClr val="ff0000"/>
                </a:solidFill>
                <a:latin typeface="Lucida Console"/>
              </a:rPr>
              <a:t>java.aw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ain </a:t>
            </a:r>
            <a:r>
              <a:rPr b="1" i="1" lang="en-US" sz="2600" spc="-1" strike="noStrike">
                <a:solidFill>
                  <a:srgbClr val="2d2db9"/>
                </a:solidFill>
                <a:latin typeface="Times New Roman"/>
              </a:rPr>
              <a:t>loo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600" spc="-1" strike="noStrike">
                <a:solidFill>
                  <a:srgbClr val="2d2db9"/>
                </a:solidFill>
                <a:latin typeface="Times New Roman"/>
              </a:rPr>
              <a:t>fe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ppearance and how users interact with progr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ightweigh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mpon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ritten completely in Ja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026"/>
          <p:cNvSpPr/>
          <p:nvPr/>
        </p:nvSpPr>
        <p:spPr>
          <a:xfrm>
            <a:off x="457200" y="15228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Overview of Swing Components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hmed azez</cp:lastModifiedBy>
  <dcterms:modified xsi:type="dcterms:W3CDTF">2018-07-14T03:58:05Z</dcterms:modified>
  <cp:revision>326</cp:revision>
  <dc:subject/>
  <dc:title>PowerPoint Presentation</dc:title>
</cp:coreProperties>
</file>