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45275" cy="9172575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456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3765240" y="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1440" y="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8880" y="686880"/>
            <a:ext cx="4587840" cy="344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3765240" y="8713800"/>
            <a:ext cx="2879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854-D9C9-4F42-BFDC-9FA03C72EF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431-AA40-47F3-924A-8C766B83F9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F77-87F6-4E83-8571-A19D50A545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28880" y="687240"/>
            <a:ext cx="4587840" cy="3441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64920" y="4357440"/>
            <a:ext cx="531468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1440" y="871380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F83E-36F1-44F8-8586-700F2C5029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E64E-0CCC-4202-BEDE-E34C14A56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6C33-5259-4026-A437-6D649164D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C26D-8DCF-4B8A-BA63-86B5847F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C892-20E3-4124-BB2C-3CBDC916D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9AC2-5DC8-4181-899B-A02A3BFAEE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66885-304A-403F-B3F4-CA48F8C9A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16FF-6037-41BF-A2A1-BCA52527D3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A447-BD84-4E4A-8896-5D569D7560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C62F-C397-4489-A2E4-4DBE8A466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0A61-606E-4B04-8498-AB419F34D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9A38-627A-4596-A65E-7F55604E5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4A61-01E5-49B2-9BA6-C8C53E714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7982-A153-4197-BDA1-0381550AF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44DE-89B1-43BA-A4C8-374F8EB454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9004-9BB5-469A-9349-2319FD687E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9298-4B03-4D0A-BC42-49BB26AB5D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D69B-D0C5-4998-A5D8-089E1FAA0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894D-9C5D-4034-93B6-215585A5B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FE30-7784-4174-8115-BC72A4944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B4E6-45D7-4811-9E6C-EDDA185A4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BAD0-A5A3-45DB-9A62-EDB9011C7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FB3C-E145-4222-8BC5-308BB72C8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06F6-B768-4432-9535-2ABC37569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F043-B3DF-417D-A08A-A8EBC2794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5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AutoShape 6">
            <a:hlinkClick r:id="" action="ppaction://hlinkshowjump?jump=previousslide"/>
          </p:cNvPr>
          <p:cNvSpPr/>
          <p:nvPr/>
        </p:nvSpPr>
        <p:spPr>
          <a:xfrm rot="10800000">
            <a:off x="3641400" y="6476760"/>
            <a:ext cx="183960" cy="33660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36600"/>
              <a:gd name="textAreaBottom" fmla="*/ 324720 h 336600"/>
            </a:gdLst>
            <a:ahLst/>
            <a:rect l="textAreaLeft" t="textAreaTop" r="textAreaRight" b="textAreaBottom"/>
            <a:pathLst>
              <a:path w="21600" h="39488">
                <a:moveTo>
                  <a:pt x="0" y="0"/>
                </a:moveTo>
                <a:lnTo>
                  <a:pt x="21600" y="0"/>
                </a:lnTo>
                <a:lnTo>
                  <a:pt x="21600" y="39488"/>
                </a:lnTo>
                <a:lnTo>
                  <a:pt x="0" y="39488"/>
                </a:lnTo>
                <a:close/>
              </a:path>
              <a:path fill="lightenLess" w="21600" h="394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488">
                <a:moveTo>
                  <a:pt x="21600" y="0"/>
                </a:moveTo>
                <a:lnTo>
                  <a:pt x="21600" y="39488"/>
                </a:lnTo>
                <a:lnTo>
                  <a:pt x="20200" y="38088"/>
                </a:lnTo>
                <a:lnTo>
                  <a:pt x="20200" y="1400"/>
                </a:lnTo>
                <a:close/>
              </a:path>
              <a:path fill="darkenLess" w="21600" h="39488">
                <a:moveTo>
                  <a:pt x="21600" y="39488"/>
                </a:moveTo>
                <a:lnTo>
                  <a:pt x="0" y="39488"/>
                </a:lnTo>
                <a:lnTo>
                  <a:pt x="1400" y="38088"/>
                </a:lnTo>
                <a:lnTo>
                  <a:pt x="20200" y="38088"/>
                </a:lnTo>
                <a:close/>
              </a:path>
              <a:path fill="lighten" w="21600" h="39488">
                <a:moveTo>
                  <a:pt x="0" y="394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8088"/>
                </a:lnTo>
                <a:close/>
              </a:path>
              <a:path fill="darken" w="21600" h="39488">
                <a:moveTo>
                  <a:pt x="3794" y="12737"/>
                </a:moveTo>
                <a:lnTo>
                  <a:pt x="17806" y="19744"/>
                </a:lnTo>
                <a:lnTo>
                  <a:pt x="3794" y="267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4770-5B80-4938-8130-7B4160AC46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1" lang="en-US" sz="12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A08-C5F0-4F3E-B9D6-F8927C0B93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06C-2680-4282-BC3D-D3906BC1D5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cture 7: 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83B5-226B-4A2D-A377-48D01E7A89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nelDemo</a:t>
            </a:r>
            <a:r>
              <a:rPr b="1" i="1" lang="en-US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nelDem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5E7-1038-4FB0-9913-F2CE3D3A749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4): output</a:t>
            </a:r>
            <a:endParaRPr b="1" lang="en-US" sz="34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1143000" y="4191120"/>
            <a:ext cx="6400800" cy="83808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90720" y="2057400"/>
            <a:ext cx="6476760" cy="137160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02" name="Group 23"/>
          <p:cNvGrpSpPr/>
          <p:nvPr/>
        </p:nvGrpSpPr>
        <p:grpSpPr>
          <a:xfrm>
            <a:off x="990720" y="1447920"/>
            <a:ext cx="2361960" cy="533520"/>
            <a:chOff x="990720" y="1447920"/>
            <a:chExt cx="2361960" cy="533520"/>
          </a:xfrm>
        </p:grpSpPr>
        <p:sp>
          <p:nvSpPr>
            <p:cNvPr id="203" name="Rectangle 9"/>
            <p:cNvSpPr/>
            <p:nvPr/>
          </p:nvSpPr>
          <p:spPr>
            <a:xfrm>
              <a:off x="990720" y="1447920"/>
              <a:ext cx="12189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04" name="Straight Arrow Connector 13"/>
            <p:cNvCxnSpPr/>
            <p:nvPr/>
          </p:nvCxnSpPr>
          <p:spPr>
            <a:xfrm>
              <a:off x="2209320" y="1676520"/>
              <a:ext cx="1143720" cy="3052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Group 24"/>
          <p:cNvGrpSpPr/>
          <p:nvPr/>
        </p:nvGrpSpPr>
        <p:grpSpPr>
          <a:xfrm>
            <a:off x="5943240" y="3581280"/>
            <a:ext cx="2057760" cy="533880"/>
            <a:chOff x="5943240" y="3581280"/>
            <a:chExt cx="2057760" cy="533880"/>
          </a:xfrm>
        </p:grpSpPr>
        <p:sp>
          <p:nvSpPr>
            <p:cNvPr id="206" name="Rectangle 10"/>
            <p:cNvSpPr/>
            <p:nvPr/>
          </p:nvSpPr>
          <p:spPr>
            <a:xfrm>
              <a:off x="6781680" y="3581280"/>
              <a:ext cx="121932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07" name="Straight Arrow Connector 15"/>
            <p:cNvCxnSpPr>
              <a:stCxn id="206" idx="1"/>
            </p:cNvCxnSpPr>
            <p:nvPr/>
          </p:nvCxnSpPr>
          <p:spPr>
            <a:xfrm flipH="1">
              <a:off x="5943240" y="3750480"/>
              <a:ext cx="838800" cy="3650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vanced GUI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xt ar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l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n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vantGarde"/>
              </a:rPr>
              <a:t>Advanced GUI components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JText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a for manipulat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ultiple lin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26"/>
          <p:cNvSpPr/>
          <p:nvPr/>
        </p:nvSpPr>
        <p:spPr>
          <a:xfrm>
            <a:off x="457200" y="304920"/>
            <a:ext cx="777240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extArea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3162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DB2F-3DEC-45BB-A7EB-930716B8F7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Construc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TextArea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500" spc="-1" strike="noStrike">
                <a:solidFill>
                  <a:srgbClr val="3d0096"/>
                </a:solidFill>
                <a:latin typeface="Times New Roman"/>
              </a:rPr>
              <a:t>rows</a:t>
            </a:r>
            <a:r>
              <a:rPr b="0" lang="en-US" sz="2500" spc="-1" strike="noStrike">
                <a:solidFill>
                  <a:srgbClr val="3d0096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500" spc="-1" strike="noStrike">
                <a:solidFill>
                  <a:srgbClr val="993300"/>
                </a:solidFill>
                <a:latin typeface="Times New Roman"/>
              </a:rPr>
              <a:t>colum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TextAre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 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TextArea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  text,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500" spc="-1" strike="noStrike">
                <a:solidFill>
                  <a:srgbClr val="3d0096"/>
                </a:solidFill>
                <a:latin typeface="Times New Roman"/>
              </a:rPr>
              <a:t>rows</a:t>
            </a:r>
            <a:r>
              <a:rPr b="0" lang="en-US" sz="2500" spc="-1" strike="noStrike">
                <a:solidFill>
                  <a:srgbClr val="3d0096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500" spc="-1" strike="noStrike">
                <a:solidFill>
                  <a:srgbClr val="993300"/>
                </a:solidFill>
                <a:latin typeface="Times New Roman"/>
              </a:rPr>
              <a:t>column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tText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set text into Tex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etSelectedText( ) :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he selected text from TextArea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pend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text)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d text into textare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tEditable(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boolean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atus )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s the default value of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not allow to write into text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TextArea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E35-F693-4BA0-8D2D-05A97D3C5C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5): using J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TextArea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rite a GUI program that display the follow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25"/>
          <p:cNvGrpSpPr/>
          <p:nvPr/>
        </p:nvGrpSpPr>
        <p:grpSpPr>
          <a:xfrm>
            <a:off x="1066680" y="1371600"/>
            <a:ext cx="1524240" cy="991080"/>
            <a:chOff x="1066680" y="1371600"/>
            <a:chExt cx="1524240" cy="991080"/>
          </a:xfrm>
        </p:grpSpPr>
        <p:sp>
          <p:nvSpPr>
            <p:cNvPr id="221" name="Rectangle 9"/>
            <p:cNvSpPr/>
            <p:nvPr/>
          </p:nvSpPr>
          <p:spPr>
            <a:xfrm>
              <a:off x="1066680" y="1371600"/>
              <a:ext cx="15242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extArea 1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22" name="Straight Arrow Connector 13"/>
            <p:cNvCxnSpPr>
              <a:stCxn id="221" idx="2"/>
            </p:cNvCxnSpPr>
            <p:nvPr/>
          </p:nvCxnSpPr>
          <p:spPr>
            <a:xfrm>
              <a:off x="1827720" y="1710000"/>
              <a:ext cx="229320" cy="6530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Group 19"/>
          <p:cNvGrpSpPr/>
          <p:nvPr/>
        </p:nvGrpSpPr>
        <p:grpSpPr>
          <a:xfrm>
            <a:off x="5638680" y="1371600"/>
            <a:ext cx="1524240" cy="1143000"/>
            <a:chOff x="5638680" y="1371600"/>
            <a:chExt cx="1524240" cy="1143000"/>
          </a:xfrm>
        </p:grpSpPr>
        <p:sp>
          <p:nvSpPr>
            <p:cNvPr id="224" name="Rectangle 9"/>
            <p:cNvSpPr/>
            <p:nvPr/>
          </p:nvSpPr>
          <p:spPr>
            <a:xfrm>
              <a:off x="5638680" y="1371600"/>
              <a:ext cx="15242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extArea 2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25" name="Straight Arrow Connector 13"/>
            <p:cNvCxnSpPr>
              <a:stCxn id="224" idx="2"/>
            </p:cNvCxnSpPr>
            <p:nvPr/>
          </p:nvCxnSpPr>
          <p:spPr>
            <a:xfrm>
              <a:off x="6399720" y="1709640"/>
              <a:ext cx="229320" cy="8053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6" name="Group 23"/>
          <p:cNvGrpSpPr/>
          <p:nvPr/>
        </p:nvGrpSpPr>
        <p:grpSpPr>
          <a:xfrm>
            <a:off x="3962520" y="4954320"/>
            <a:ext cx="1218960" cy="793440"/>
            <a:chOff x="3962520" y="4954320"/>
            <a:chExt cx="1218960" cy="793440"/>
          </a:xfrm>
        </p:grpSpPr>
        <p:sp>
          <p:nvSpPr>
            <p:cNvPr id="227" name="Rectangle 9"/>
            <p:cNvSpPr/>
            <p:nvPr/>
          </p:nvSpPr>
          <p:spPr>
            <a:xfrm>
              <a:off x="3962520" y="5410440"/>
              <a:ext cx="12189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utton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28" name="Straight Arrow Connector 13"/>
            <p:cNvCxnSpPr/>
            <p:nvPr/>
          </p:nvCxnSpPr>
          <p:spPr>
            <a:xfrm flipV="1">
              <a:off x="4571280" y="4954320"/>
              <a:ext cx="2160" cy="4572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E4C-0154-4745-9606-DB9A3A7109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5): output</a:t>
            </a:r>
            <a:endParaRPr b="1" lang="en-US" sz="34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31" name="Group 23"/>
          <p:cNvGrpSpPr/>
          <p:nvPr/>
        </p:nvGrpSpPr>
        <p:grpSpPr>
          <a:xfrm>
            <a:off x="3733920" y="4114440"/>
            <a:ext cx="1523880" cy="731520"/>
            <a:chOff x="3733920" y="4114440"/>
            <a:chExt cx="1523880" cy="731520"/>
          </a:xfrm>
        </p:grpSpPr>
        <p:sp>
          <p:nvSpPr>
            <p:cNvPr id="232" name="Rectangle 9"/>
            <p:cNvSpPr/>
            <p:nvPr/>
          </p:nvSpPr>
          <p:spPr>
            <a:xfrm>
              <a:off x="3733920" y="4508640"/>
              <a:ext cx="15238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utton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33" name="Straight Arrow Connector 13"/>
            <p:cNvCxnSpPr/>
            <p:nvPr/>
          </p:nvCxnSpPr>
          <p:spPr>
            <a:xfrm flipV="1">
              <a:off x="4493880" y="4114440"/>
              <a:ext cx="2520" cy="3952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28195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9"/>
          <p:cNvGrpSpPr/>
          <p:nvPr/>
        </p:nvGrpSpPr>
        <p:grpSpPr>
          <a:xfrm>
            <a:off x="1066680" y="1066680"/>
            <a:ext cx="1524240" cy="685800"/>
            <a:chOff x="1066680" y="1066680"/>
            <a:chExt cx="1524240" cy="685800"/>
          </a:xfrm>
        </p:grpSpPr>
        <p:sp>
          <p:nvSpPr>
            <p:cNvPr id="236" name="Rectangle 9"/>
            <p:cNvSpPr/>
            <p:nvPr/>
          </p:nvSpPr>
          <p:spPr>
            <a:xfrm>
              <a:off x="1066680" y="1066680"/>
              <a:ext cx="15242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extArea 1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37" name="Straight Arrow Connector 13"/>
            <p:cNvCxnSpPr/>
            <p:nvPr/>
          </p:nvCxnSpPr>
          <p:spPr>
            <a:xfrm>
              <a:off x="1827720" y="1447200"/>
              <a:ext cx="229320" cy="3056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Group 27"/>
          <p:cNvGrpSpPr/>
          <p:nvPr/>
        </p:nvGrpSpPr>
        <p:grpSpPr>
          <a:xfrm>
            <a:off x="5410080" y="1066680"/>
            <a:ext cx="1524240" cy="609840"/>
            <a:chOff x="5410080" y="1066680"/>
            <a:chExt cx="1524240" cy="609840"/>
          </a:xfrm>
        </p:grpSpPr>
        <p:cxnSp>
          <p:nvCxnSpPr>
            <p:cNvPr id="239" name="Straight Arrow Connector 13"/>
            <p:cNvCxnSpPr/>
            <p:nvPr/>
          </p:nvCxnSpPr>
          <p:spPr>
            <a:xfrm>
              <a:off x="6171120" y="1371240"/>
              <a:ext cx="229320" cy="3056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0" name="Rectangle 9"/>
            <p:cNvSpPr/>
            <p:nvPr/>
          </p:nvSpPr>
          <p:spPr>
            <a:xfrm>
              <a:off x="5410080" y="1066680"/>
              <a:ext cx="15242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extArea 2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5562720" y="1828800"/>
            <a:ext cx="2057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DA8-2813-4F5D-BD25-BFBE701C07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UI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TAreaDemo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xtends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ctionListener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TextArea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1 ,  t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JButton  copy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404040"/>
                </a:solidFill>
                <a:latin typeface="Times New Roman"/>
              </a:rPr>
              <a:t>// define a copy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TAreaDem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TextArea Dem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txt = "Welcome to GUI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\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+"You can copy text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\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rom on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textArea to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\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+"another textarea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\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+" Try to do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That ..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\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5): JTextArea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304920" y="45720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6813720" y="1828800"/>
            <a:ext cx="1949400" cy="641880"/>
            <a:chOff x="6813720" y="1828800"/>
            <a:chExt cx="1949400" cy="641880"/>
          </a:xfrm>
        </p:grpSpPr>
        <p:sp>
          <p:nvSpPr>
            <p:cNvPr id="247" name="Text Box 6"/>
            <p:cNvSpPr/>
            <p:nvPr/>
          </p:nvSpPr>
          <p:spPr>
            <a:xfrm>
              <a:off x="6813720" y="21333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48" name="Line 7"/>
            <p:cNvSpPr/>
            <p:nvPr/>
          </p:nvSpPr>
          <p:spPr>
            <a:xfrm flipV="1">
              <a:off x="7314840" y="1828800"/>
              <a:ext cx="30492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343-8B7D-4697-B6F9-259344FBFC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et up textAre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1 =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new 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JTextAre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txt ,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JScrollPan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t1 )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WEST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set up copy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py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JButto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"Copy &gt;&gt;&gt;"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copy 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ENTE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Add Action When Button 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py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addActionListene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set up textAre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2 =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new 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JTextAre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2.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setEditabl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   //don't write on textArea2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JScrollPan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t2 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EAST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5): JTextArea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304920" y="45720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818800" y="533520"/>
            <a:ext cx="4877280" cy="337320"/>
            <a:chOff x="2818800" y="533520"/>
            <a:chExt cx="4877280" cy="337320"/>
          </a:xfrm>
        </p:grpSpPr>
        <p:sp>
          <p:nvSpPr>
            <p:cNvPr id="254" name="Rectangle 5"/>
            <p:cNvSpPr/>
            <p:nvPr/>
          </p:nvSpPr>
          <p:spPr>
            <a:xfrm>
              <a:off x="3429000" y="533520"/>
              <a:ext cx="42670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t up Textarea1 with initial txt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55" name="Straight Arrow Connector 10"/>
            <p:cNvCxnSpPr/>
            <p:nvPr/>
          </p:nvCxnSpPr>
          <p:spPr>
            <a:xfrm flipH="1" flipV="1">
              <a:off x="2818800" y="761400"/>
              <a:ext cx="6102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56" name="Group 14"/>
          <p:cNvGrpSpPr/>
          <p:nvPr/>
        </p:nvGrpSpPr>
        <p:grpSpPr>
          <a:xfrm>
            <a:off x="2742480" y="1905120"/>
            <a:ext cx="2210400" cy="337320"/>
            <a:chOff x="2742480" y="1905120"/>
            <a:chExt cx="2210400" cy="337320"/>
          </a:xfrm>
        </p:grpSpPr>
        <p:sp>
          <p:nvSpPr>
            <p:cNvPr id="257" name="Rectangle 5"/>
            <p:cNvSpPr/>
            <p:nvPr/>
          </p:nvSpPr>
          <p:spPr>
            <a:xfrm>
              <a:off x="3352680" y="1905120"/>
              <a:ext cx="16002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py Button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58" name="Straight Arrow Connector 10"/>
            <p:cNvCxnSpPr/>
            <p:nvPr/>
          </p:nvCxnSpPr>
          <p:spPr>
            <a:xfrm flipH="1" flipV="1">
              <a:off x="2742480" y="2099160"/>
              <a:ext cx="6102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59" name="Group 18"/>
          <p:cNvGrpSpPr/>
          <p:nvPr/>
        </p:nvGrpSpPr>
        <p:grpSpPr>
          <a:xfrm>
            <a:off x="2742480" y="4614840"/>
            <a:ext cx="2820240" cy="337320"/>
            <a:chOff x="2742480" y="4614840"/>
            <a:chExt cx="2820240" cy="337320"/>
          </a:xfrm>
        </p:grpSpPr>
        <p:sp>
          <p:nvSpPr>
            <p:cNvPr id="260" name="Rectangle 5"/>
            <p:cNvSpPr/>
            <p:nvPr/>
          </p:nvSpPr>
          <p:spPr>
            <a:xfrm>
              <a:off x="3352680" y="4614840"/>
              <a:ext cx="22100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t up Textarea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261" name="Straight Arrow Connector 10"/>
            <p:cNvCxnSpPr/>
            <p:nvPr/>
          </p:nvCxnSpPr>
          <p:spPr>
            <a:xfrm flipH="1" flipV="1">
              <a:off x="2742480" y="4798800"/>
              <a:ext cx="61020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handle button event once User clicked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Perform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Ev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setText ( txt) : overwrite the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getSelectedText( 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595959"/>
                </a:solidFill>
                <a:latin typeface="Times New Roman"/>
              </a:rPr>
              <a:t>//append(txt ): allow to append Text without over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2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getSelectedText( )+"\n" 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9"/>
          <p:cNvGrpSpPr/>
          <p:nvPr/>
        </p:nvGrpSpPr>
        <p:grpSpPr>
          <a:xfrm>
            <a:off x="3885840" y="1523880"/>
            <a:ext cx="4343760" cy="381240"/>
            <a:chOff x="3885840" y="1523880"/>
            <a:chExt cx="4343760" cy="381240"/>
          </a:xfrm>
        </p:grpSpPr>
        <p:sp>
          <p:nvSpPr>
            <p:cNvPr id="264" name="Text Box 6"/>
            <p:cNvSpPr/>
            <p:nvPr/>
          </p:nvSpPr>
          <p:spPr>
            <a:xfrm>
              <a:off x="4572000" y="1523880"/>
              <a:ext cx="36576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t selected Text into t2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 flipH="1">
              <a:off x="3885840" y="1676160"/>
              <a:ext cx="685800" cy="228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266" name="Rectangle 11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5): JTextArea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990720" y="3048120"/>
            <a:ext cx="7086600" cy="914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3809880" y="4038120"/>
            <a:ext cx="4496040" cy="1037880"/>
            <a:chOff x="3809880" y="4038120"/>
            <a:chExt cx="4496040" cy="1037880"/>
          </a:xfrm>
        </p:grpSpPr>
        <p:sp>
          <p:nvSpPr>
            <p:cNvPr id="270" name="Text Box 6"/>
            <p:cNvSpPr/>
            <p:nvPr/>
          </p:nvSpPr>
          <p:spPr>
            <a:xfrm>
              <a:off x="3809880" y="4495320"/>
              <a:ext cx="449604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we used append( txt) it allow to add txt into t2 without overwrite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 flipH="1" flipV="1">
              <a:off x="4266720" y="4038120"/>
              <a:ext cx="609480" cy="456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9DC-BE5D-48CE-AC4B-4DEBEC398FF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33520" y="115560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JPanel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JTextArea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vantGarde"/>
              </a:rPr>
              <a:t>JSlider</a:t>
            </a:r>
            <a:endParaRPr b="1" lang="en-US" sz="2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utlin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5F65-D85D-49FB-ABCE-E82D999C3C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TAreaDemo</a:t>
            </a:r>
            <a:r>
              <a:rPr b="1" i="1" lang="en-US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TAreaDem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5): JTextArea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onsole"/>
              </a:rPr>
              <a:t>JSl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able users to select from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ng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500" spc="-1" strike="noStrike">
                <a:solidFill>
                  <a:srgbClr val="3d0096"/>
                </a:solidFill>
                <a:latin typeface="Times New Roman"/>
              </a:rPr>
              <a:t>integer valu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horizontal and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ex.JSli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mponent with </a:t>
            </a:r>
            <a:r>
              <a:rPr b="1" lang="en-US" sz="2400" spc="-1" strike="noStrike">
                <a:solidFill>
                  <a:srgbClr val="3d0096"/>
                </a:solidFill>
                <a:latin typeface="Arial"/>
                <a:ea typeface="Arial"/>
              </a:rPr>
              <a:t>horizo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26"/>
          <p:cNvSpPr/>
          <p:nvPr/>
        </p:nvSpPr>
        <p:spPr>
          <a:xfrm>
            <a:off x="457200" y="304920"/>
            <a:ext cx="7772400" cy="533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Slid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1143000" y="3886200"/>
            <a:ext cx="7116120" cy="660240"/>
            <a:chOff x="1143000" y="3886200"/>
            <a:chExt cx="7116120" cy="660240"/>
          </a:xfrm>
        </p:grpSpPr>
        <p:pic>
          <p:nvPicPr>
            <p:cNvPr id="279" name="Picture 4" descr="14_06"/>
            <p:cNvPicPr/>
            <p:nvPr/>
          </p:nvPicPr>
          <p:blipFill>
            <a:blip r:embed="rId1"/>
            <a:stretch/>
          </p:blipFill>
          <p:spPr>
            <a:xfrm>
              <a:off x="1938600" y="3886200"/>
              <a:ext cx="518940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Group 12"/>
            <p:cNvGrpSpPr/>
            <p:nvPr/>
          </p:nvGrpSpPr>
          <p:grpSpPr>
            <a:xfrm>
              <a:off x="1143000" y="4191120"/>
              <a:ext cx="1081800" cy="233280"/>
              <a:chOff x="1143000" y="4191120"/>
              <a:chExt cx="1081800" cy="233280"/>
            </a:xfrm>
          </p:grpSpPr>
          <p:sp>
            <p:nvSpPr>
              <p:cNvPr id="281" name="Rectangle 8"/>
              <p:cNvSpPr/>
              <p:nvPr/>
            </p:nvSpPr>
            <p:spPr>
              <a:xfrm>
                <a:off x="1143000" y="4222800"/>
                <a:ext cx="6361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Arial"/>
                  </a:rPr>
                  <a:t>thumb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282" name="Freeform 10"/>
              <p:cNvSpPr/>
              <p:nvPr/>
            </p:nvSpPr>
            <p:spPr>
              <a:xfrm>
                <a:off x="1747800" y="4191120"/>
                <a:ext cx="477000" cy="10152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72" y="0"/>
                    </a:moveTo>
                    <a:lnTo>
                      <a:pt x="0" y="198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3" name="Group 13"/>
            <p:cNvGrpSpPr/>
            <p:nvPr/>
          </p:nvGrpSpPr>
          <p:grpSpPr>
            <a:xfrm>
              <a:off x="6795000" y="4343400"/>
              <a:ext cx="1464120" cy="203040"/>
              <a:chOff x="6795000" y="4343400"/>
              <a:chExt cx="1464120" cy="203040"/>
            </a:xfrm>
          </p:grpSpPr>
          <p:sp>
            <p:nvSpPr>
              <p:cNvPr id="284" name="Rectangle 9"/>
              <p:cNvSpPr/>
              <p:nvPr/>
            </p:nvSpPr>
            <p:spPr>
              <a:xfrm>
                <a:off x="7310880" y="4343400"/>
                <a:ext cx="94824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Arial"/>
                  </a:rPr>
                  <a:t>tick mark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285" name="Freeform 11"/>
              <p:cNvSpPr/>
              <p:nvPr/>
            </p:nvSpPr>
            <p:spPr>
              <a:xfrm>
                <a:off x="6795000" y="4419360"/>
                <a:ext cx="477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98E-08FC-40A4-99CB-FFCF7A4DC3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Constructo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Slider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 )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rizontal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lider with the rang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Slid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eintation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ial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JSlider (JSlider.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VERTICAL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0 , 100 ,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Slid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762120" y="2235240"/>
            <a:ext cx="7314480" cy="660240"/>
            <a:chOff x="762120" y="2235240"/>
            <a:chExt cx="7314480" cy="660240"/>
          </a:xfrm>
        </p:grpSpPr>
        <p:pic>
          <p:nvPicPr>
            <p:cNvPr id="290" name="Picture 4" descr="14_06"/>
            <p:cNvPicPr/>
            <p:nvPr/>
          </p:nvPicPr>
          <p:blipFill>
            <a:blip r:embed="rId1"/>
            <a:stretch/>
          </p:blipFill>
          <p:spPr>
            <a:xfrm>
              <a:off x="1580040" y="2235240"/>
              <a:ext cx="533412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Group 12"/>
            <p:cNvGrpSpPr/>
            <p:nvPr/>
          </p:nvGrpSpPr>
          <p:grpSpPr>
            <a:xfrm>
              <a:off x="762120" y="2540160"/>
              <a:ext cx="1112400" cy="233280"/>
              <a:chOff x="762120" y="2540160"/>
              <a:chExt cx="1112400" cy="233280"/>
            </a:xfrm>
          </p:grpSpPr>
          <p:sp>
            <p:nvSpPr>
              <p:cNvPr id="292" name="Rectangle 8"/>
              <p:cNvSpPr/>
              <p:nvPr/>
            </p:nvSpPr>
            <p:spPr>
              <a:xfrm>
                <a:off x="762120" y="2571840"/>
                <a:ext cx="6537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Arial"/>
                  </a:rPr>
                  <a:t>thumb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293" name="Freeform 10"/>
              <p:cNvSpPr/>
              <p:nvPr/>
            </p:nvSpPr>
            <p:spPr>
              <a:xfrm>
                <a:off x="1383840" y="2540160"/>
                <a:ext cx="490680" cy="101520"/>
              </a:xfrm>
              <a:custGeom>
                <a:avLst/>
                <a:gdLst>
                  <a:gd name="textAreaLeft" fmla="*/ 0 w 490680"/>
                  <a:gd name="textAreaRight" fmla="*/ 491040 w 490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72" y="0"/>
                    </a:moveTo>
                    <a:lnTo>
                      <a:pt x="0" y="198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94" name="Group 13"/>
            <p:cNvGrpSpPr/>
            <p:nvPr/>
          </p:nvGrpSpPr>
          <p:grpSpPr>
            <a:xfrm>
              <a:off x="6571800" y="2692440"/>
              <a:ext cx="1504800" cy="203040"/>
              <a:chOff x="6571800" y="2692440"/>
              <a:chExt cx="1504800" cy="203040"/>
            </a:xfrm>
          </p:grpSpPr>
          <p:sp>
            <p:nvSpPr>
              <p:cNvPr id="295" name="Rectangle 9"/>
              <p:cNvSpPr/>
              <p:nvPr/>
            </p:nvSpPr>
            <p:spPr>
              <a:xfrm>
                <a:off x="7102080" y="2692440"/>
                <a:ext cx="97452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7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600" spc="-1" strike="noStrike">
                    <a:solidFill>
                      <a:srgbClr val="000000"/>
                    </a:solidFill>
                    <a:latin typeface="Arial"/>
                  </a:rPr>
                  <a:t>tick mark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6571800" y="2768400"/>
                <a:ext cx="49068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7848720" y="3352680"/>
            <a:ext cx="761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41E-B740-4940-A232-FF75E2FEEC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Value( ):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the selected value from  s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MajorTickSpacing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the major(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كب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space for s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MinorTickSpacing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the minor(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ق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space for s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Slid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19320" cy="4648320"/>
          </a:xfrm>
          <a:prstGeom prst="rect">
            <a:avLst/>
          </a:prstGeom>
          <a:ln w="0">
            <a:noFill/>
          </a:ln>
        </p:spPr>
      </p:pic>
      <p:sp>
        <p:nvSpPr>
          <p:cNvPr id="302" name="Right Brace 9"/>
          <p:cNvSpPr/>
          <p:nvPr/>
        </p:nvSpPr>
        <p:spPr>
          <a:xfrm>
            <a:off x="7620120" y="495288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143000"/>
              <a:gd name="textAreaBottom" fmla="*/ 11372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886200" y="4767120"/>
            <a:ext cx="2438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ajor Tick space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886200" y="5867280"/>
            <a:ext cx="2438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inor Tick space</a:t>
            </a:r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305" name="Straight Arrow Connector 13"/>
          <p:cNvCxnSpPr/>
          <p:nvPr/>
        </p:nvCxnSpPr>
        <p:spPr>
          <a:xfrm flipH="1" flipV="1">
            <a:off x="6323760" y="4952160"/>
            <a:ext cx="6865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6" name="Straight Arrow Connector 15"/>
          <p:cNvCxnSpPr/>
          <p:nvPr/>
        </p:nvCxnSpPr>
        <p:spPr>
          <a:xfrm flipH="1" flipV="1">
            <a:off x="6323760" y="6017400"/>
            <a:ext cx="6865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" name="Rectangle 16"/>
          <p:cNvSpPr/>
          <p:nvPr/>
        </p:nvSpPr>
        <p:spPr>
          <a:xfrm>
            <a:off x="7924680" y="5343480"/>
            <a:ext cx="8384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ick space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D49-57AD-4657-8A0D-755F2F8B0AB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main Metho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PaintTicks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u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display 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isable ti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PaintLabels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u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display paint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isable paint lab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Slid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21932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6"/>
          <p:cNvSpPr/>
          <p:nvPr/>
        </p:nvSpPr>
        <p:spPr>
          <a:xfrm>
            <a:off x="8077320" y="3179880"/>
            <a:ext cx="914400" cy="63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in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s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Left Brace 18"/>
          <p:cNvSpPr/>
          <p:nvPr/>
        </p:nvSpPr>
        <p:spPr>
          <a:xfrm>
            <a:off x="6400800" y="44956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067040"/>
              <a:gd name="textAreaBottom" fmla="*/ 10551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4876920" y="4876920"/>
            <a:ext cx="1447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int Ticks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5" name="Left Brace 21"/>
          <p:cNvSpPr/>
          <p:nvPr/>
        </p:nvSpPr>
        <p:spPr>
          <a:xfrm>
            <a:off x="6400800" y="17524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067040"/>
              <a:gd name="textAreaBottom" fmla="*/ 10551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4952880" y="2133720"/>
            <a:ext cx="13716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int Ticks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cxnSp>
        <p:nvCxnSpPr>
          <p:cNvPr id="317" name="Straight Arrow Connector 24"/>
          <p:cNvCxnSpPr/>
          <p:nvPr/>
        </p:nvCxnSpPr>
        <p:spPr>
          <a:xfrm flipH="1" flipV="1">
            <a:off x="7543440" y="1371240"/>
            <a:ext cx="4579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8" name="Straight Arrow Connector 26"/>
          <p:cNvCxnSpPr/>
          <p:nvPr/>
        </p:nvCxnSpPr>
        <p:spPr>
          <a:xfrm flipH="1" flipV="1">
            <a:off x="7543440" y="2437560"/>
            <a:ext cx="4579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9" name="Straight Arrow Connector 27"/>
          <p:cNvCxnSpPr/>
          <p:nvPr/>
        </p:nvCxnSpPr>
        <p:spPr>
          <a:xfrm flipH="1" flipV="1">
            <a:off x="7543440" y="3502800"/>
            <a:ext cx="4579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0" name="Straight Arrow Connector 28"/>
          <p:cNvCxnSpPr/>
          <p:nvPr/>
        </p:nvCxnSpPr>
        <p:spPr>
          <a:xfrm flipH="1" flipV="1">
            <a:off x="7543440" y="4570200"/>
            <a:ext cx="4579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1" name="Straight Arrow Connector 29"/>
          <p:cNvCxnSpPr/>
          <p:nvPr/>
        </p:nvCxnSpPr>
        <p:spPr>
          <a:xfrm flipH="1" flipV="1">
            <a:off x="7543440" y="5560200"/>
            <a:ext cx="4579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Straight Connector 31"/>
          <p:cNvSpPr/>
          <p:nvPr/>
        </p:nvSpPr>
        <p:spPr>
          <a:xfrm flipH="1">
            <a:off x="8001000" y="1373040"/>
            <a:ext cx="1440" cy="418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E62-8935-458D-82B9-36D0D3969F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Console"/>
              </a:rPr>
              <a:t>Event Type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ChangeEvent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95959"/>
                </a:solidFill>
                <a:latin typeface="Lucida Console"/>
              </a:rPr>
              <a:t>Implements Interface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Lucida Console"/>
              </a:rPr>
              <a:t>ChangeListener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Add Event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إضافة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ider.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addChangeListener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handl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Handel Even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دالة تنفيذ الحدث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stateChanged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hange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even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// display the selected value from slider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5" name="Rectangle 1026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Console"/>
              </a:rPr>
              <a:t>GUI Component : JSlider</a:t>
            </a:r>
            <a:endParaRPr b="1" lang="en-US" sz="32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8CA-4C77-4B86-8C66-1A7B86A4CEC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6): using J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Slider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rite a GUI program that display the follow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03848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32"/>
          <p:cNvGrpSpPr/>
          <p:nvPr/>
        </p:nvGrpSpPr>
        <p:grpSpPr>
          <a:xfrm>
            <a:off x="1523880" y="3048120"/>
            <a:ext cx="2362320" cy="990360"/>
            <a:chOff x="1523880" y="3048120"/>
            <a:chExt cx="2362320" cy="990360"/>
          </a:xfrm>
        </p:grpSpPr>
        <p:sp>
          <p:nvSpPr>
            <p:cNvPr id="331" name="Rectangle 9"/>
            <p:cNvSpPr/>
            <p:nvPr/>
          </p:nvSpPr>
          <p:spPr>
            <a:xfrm>
              <a:off x="1523880" y="3048120"/>
              <a:ext cx="236232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orizontal slider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32" name="Straight Arrow Connector 13"/>
            <p:cNvCxnSpPr>
              <a:stCxn id="331" idx="2"/>
            </p:cNvCxnSpPr>
            <p:nvPr/>
          </p:nvCxnSpPr>
          <p:spPr>
            <a:xfrm>
              <a:off x="2705040" y="3386160"/>
              <a:ext cx="343440" cy="6526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3" name="Group 33"/>
          <p:cNvGrpSpPr/>
          <p:nvPr/>
        </p:nvGrpSpPr>
        <p:grpSpPr>
          <a:xfrm>
            <a:off x="4038480" y="1490760"/>
            <a:ext cx="2057400" cy="1252440"/>
            <a:chOff x="4038480" y="1490760"/>
            <a:chExt cx="2057400" cy="1252440"/>
          </a:xfrm>
        </p:grpSpPr>
        <p:sp>
          <p:nvSpPr>
            <p:cNvPr id="334" name="Rectangle 9"/>
            <p:cNvSpPr/>
            <p:nvPr/>
          </p:nvSpPr>
          <p:spPr>
            <a:xfrm>
              <a:off x="4038480" y="1490760"/>
              <a:ext cx="2057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Vertical slider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335" name="Straight Arrow Connector 13"/>
            <p:cNvCxnSpPr/>
            <p:nvPr/>
          </p:nvCxnSpPr>
          <p:spPr>
            <a:xfrm>
              <a:off x="5029200" y="1828800"/>
              <a:ext cx="838800" cy="9147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8837-E227-4874-8D20-D02A9607A4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UI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sliderDemo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xtends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Frame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ngeListene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Slider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ld1 ,  sld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sliderDem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 .... Show JSlider ..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ack( )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//display JSlider on JFram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6): JSlider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04920" y="45720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40" name="Group 8"/>
          <p:cNvGrpSpPr/>
          <p:nvPr/>
        </p:nvGrpSpPr>
        <p:grpSpPr>
          <a:xfrm>
            <a:off x="6813720" y="1828800"/>
            <a:ext cx="1949400" cy="641880"/>
            <a:chOff x="6813720" y="1828800"/>
            <a:chExt cx="1949400" cy="641880"/>
          </a:xfrm>
        </p:grpSpPr>
        <p:sp>
          <p:nvSpPr>
            <p:cNvPr id="341" name="Text Box 6"/>
            <p:cNvSpPr/>
            <p:nvPr/>
          </p:nvSpPr>
          <p:spPr>
            <a:xfrm>
              <a:off x="6813720" y="2133360"/>
              <a:ext cx="19494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Use implements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 flipV="1">
              <a:off x="7314840" y="1828800"/>
              <a:ext cx="304920" cy="380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343" name="Rectangle 8"/>
          <p:cNvSpPr/>
          <p:nvPr/>
        </p:nvSpPr>
        <p:spPr>
          <a:xfrm>
            <a:off x="685800" y="4648320"/>
            <a:ext cx="5029200" cy="3808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4CA5-5A6F-4D20-910C-761D911DE56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Default Slider: creates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rizontal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slider with the range 0 to 1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1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JSlider(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1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addChangeListene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sld1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CENTER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creates a Vertical slider with the range 0 to 100 with  initial value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 = new JSlider(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JSlider.VERTICAL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, 0 , 100,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 5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.setMajorTickSpacing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25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.setMinorTickSpacing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.setPaintTicks(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.setPaintLabels(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ld2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addChangeListene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thi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sld2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EAST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6): JSlider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304920" y="60948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962520" cy="4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1067040" cy="3353040"/>
          </a:xfrm>
          <a:prstGeom prst="rect">
            <a:avLst/>
          </a:prstGeom>
          <a:ln w="0">
            <a:noFill/>
          </a:ln>
        </p:spPr>
      </p:pic>
      <p:sp>
        <p:nvSpPr>
          <p:cNvPr id="350" name="Left Brace 17"/>
          <p:cNvSpPr/>
          <p:nvPr/>
        </p:nvSpPr>
        <p:spPr>
          <a:xfrm>
            <a:off x="6248520" y="3809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067040"/>
              <a:gd name="textAreaBottom" fmla="*/ 10551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1" name="Rectangle 18"/>
          <p:cNvSpPr/>
          <p:nvPr/>
        </p:nvSpPr>
        <p:spPr>
          <a:xfrm>
            <a:off x="4800600" y="4191120"/>
            <a:ext cx="13716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int Ticks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8001000" y="4398840"/>
            <a:ext cx="762120" cy="63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int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abel</a:t>
            </a:r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53" name="Group 26"/>
          <p:cNvGrpSpPr/>
          <p:nvPr/>
        </p:nvGrpSpPr>
        <p:grpSpPr>
          <a:xfrm>
            <a:off x="7465680" y="3276000"/>
            <a:ext cx="459000" cy="3048480"/>
            <a:chOff x="7465680" y="3276000"/>
            <a:chExt cx="459000" cy="3048480"/>
          </a:xfrm>
        </p:grpSpPr>
        <p:cxnSp>
          <p:nvCxnSpPr>
            <p:cNvPr id="354" name="Straight Arrow Connector 20"/>
            <p:cNvCxnSpPr/>
            <p:nvPr/>
          </p:nvCxnSpPr>
          <p:spPr>
            <a:xfrm flipH="1" flipV="1">
              <a:off x="7465680" y="3276000"/>
              <a:ext cx="457920" cy="1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55" name="Straight Arrow Connector 21"/>
            <p:cNvCxnSpPr/>
            <p:nvPr/>
          </p:nvCxnSpPr>
          <p:spPr>
            <a:xfrm flipH="1" flipV="1">
              <a:off x="7465680" y="4051800"/>
              <a:ext cx="457920" cy="1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56" name="Straight Arrow Connector 22"/>
            <p:cNvCxnSpPr/>
            <p:nvPr/>
          </p:nvCxnSpPr>
          <p:spPr>
            <a:xfrm flipH="1" flipV="1">
              <a:off x="7465680" y="4826520"/>
              <a:ext cx="457920" cy="1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57" name="Straight Arrow Connector 23"/>
            <p:cNvCxnSpPr/>
            <p:nvPr/>
          </p:nvCxnSpPr>
          <p:spPr>
            <a:xfrm flipH="1" flipV="1">
              <a:off x="7465680" y="5602320"/>
              <a:ext cx="457920" cy="1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58" name="Straight Arrow Connector 24"/>
            <p:cNvCxnSpPr/>
            <p:nvPr/>
          </p:nvCxnSpPr>
          <p:spPr>
            <a:xfrm flipH="1" flipV="1">
              <a:off x="7465680" y="6322680"/>
              <a:ext cx="457920" cy="1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59" name="Straight Connector 25"/>
            <p:cNvSpPr/>
            <p:nvPr/>
          </p:nvSpPr>
          <p:spPr>
            <a:xfrm flipH="1">
              <a:off x="7923240" y="3277080"/>
              <a:ext cx="1440" cy="304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handle  the selected value from  JS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teChang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angeEv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get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ld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sld1.</a:t>
            </a:r>
            <a:r>
              <a:rPr b="1" lang="en-US" sz="2300" spc="-1" strike="noStrike">
                <a:solidFill>
                  <a:srgbClr val="002060"/>
                </a:solidFill>
                <a:latin typeface="Times New Roman"/>
              </a:rPr>
              <a:t>getValu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)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lse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 event.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get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l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System.out.printl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sld2.</a:t>
            </a:r>
            <a:r>
              <a:rPr b="1" lang="en-US" sz="2300" spc="-1" strike="noStrike">
                <a:solidFill>
                  <a:srgbClr val="002060"/>
                </a:solidFill>
                <a:latin typeface="Times New Roman"/>
              </a:rPr>
              <a:t>getValu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)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Times New Roman"/>
              </a:rPr>
              <a:t>// end o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3885840" y="1523880"/>
            <a:ext cx="4343760" cy="381240"/>
            <a:chOff x="3885840" y="1523880"/>
            <a:chExt cx="4343760" cy="381240"/>
          </a:xfrm>
        </p:grpSpPr>
        <p:sp>
          <p:nvSpPr>
            <p:cNvPr id="362" name="Text Box 6"/>
            <p:cNvSpPr/>
            <p:nvPr/>
          </p:nvSpPr>
          <p:spPr>
            <a:xfrm>
              <a:off x="4572000" y="1523880"/>
              <a:ext cx="36576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et selected value from sld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 flipH="1">
              <a:off x="3885840" y="1676160"/>
              <a:ext cx="685800" cy="228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364" name="Rectangle 11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6): JSlider 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66" name="Group 15"/>
          <p:cNvGrpSpPr/>
          <p:nvPr/>
        </p:nvGrpSpPr>
        <p:grpSpPr>
          <a:xfrm>
            <a:off x="3885840" y="3124080"/>
            <a:ext cx="4343760" cy="381240"/>
            <a:chOff x="3885840" y="3124080"/>
            <a:chExt cx="4343760" cy="381240"/>
          </a:xfrm>
        </p:grpSpPr>
        <p:sp>
          <p:nvSpPr>
            <p:cNvPr id="367" name="Text Box 6"/>
            <p:cNvSpPr/>
            <p:nvPr/>
          </p:nvSpPr>
          <p:spPr>
            <a:xfrm>
              <a:off x="4572000" y="3124080"/>
              <a:ext cx="365760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et selected value from sld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H="1">
              <a:off x="3885840" y="3276720"/>
              <a:ext cx="685800" cy="228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elps organize compon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JPane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500" spc="-1" strike="noStrike">
                <a:solidFill>
                  <a:srgbClr val="ff0000"/>
                </a:solidFill>
                <a:latin typeface="Lucida Console"/>
              </a:rPr>
              <a:t>JCompon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y have components (and other panels) added to th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7409-1C23-483A-AB11-36A75EFC05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oi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gs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{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create an object to execute ou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sliderDemo</a:t>
            </a:r>
            <a:r>
              <a:rPr b="1" i="1" lang="en-US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p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d0096"/>
                </a:solidFill>
                <a:latin typeface="Times New Roman"/>
              </a:rPr>
              <a:t>sliderDem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 set Close operation of J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s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DefaultCloseOpe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Frame.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T_ON_CL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//end of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vantGarde"/>
              </a:rPr>
              <a:t>Example(16): JSlider</a:t>
            </a:r>
            <a:endParaRPr b="1" lang="en-US" sz="24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1BD7-83F3-4834-A464-1F47CCD700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Class Work:</a:t>
            </a:r>
            <a:endParaRPr b="1" lang="en-US" sz="3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 المطلوب تعديل البرنامج السابق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slider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</a:rPr>
              <a:t>بحيث يكون التنفيذ كالآتى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45720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عندما يتم تحديد قيمة من أى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ider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 يتم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Times New Roman"/>
              </a:rPr>
              <a:t>تغيير حجم الخط للنص 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“ بالقيمة التى تم اختيارها.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63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7086600" y="76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AEFC-C78A-498E-93B3-F71D83B5C2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Class Work: output</a:t>
            </a:r>
            <a:endParaRPr b="1" lang="en-US" sz="3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62120" y="762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0000"/>
                </a:solidFill>
                <a:latin typeface="Times New Roman"/>
              </a:rPr>
              <a:t>مثلا 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: اذا تم اختيار القيمة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 من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ider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 يتم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Times New Roman"/>
              </a:rPr>
              <a:t>تغيير حجم الخط للنص 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“ كما يلى : </a:t>
            </a:r>
            <a:endParaRPr b="1" lang="en-US" sz="25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381" name="Group 23"/>
          <p:cNvGrpSpPr/>
          <p:nvPr/>
        </p:nvGrpSpPr>
        <p:grpSpPr>
          <a:xfrm>
            <a:off x="6095160" y="4307040"/>
            <a:ext cx="2515320" cy="1080360"/>
            <a:chOff x="6095160" y="4307040"/>
            <a:chExt cx="2515320" cy="1080360"/>
          </a:xfrm>
        </p:grpSpPr>
        <p:cxnSp>
          <p:nvCxnSpPr>
            <p:cNvPr id="382" name="Straight Arrow Connector 19"/>
            <p:cNvCxnSpPr/>
            <p:nvPr/>
          </p:nvCxnSpPr>
          <p:spPr>
            <a:xfrm flipH="1">
              <a:off x="6095160" y="4644360"/>
              <a:ext cx="610200" cy="7434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Rectangle 20"/>
            <p:cNvSpPr/>
            <p:nvPr/>
          </p:nvSpPr>
          <p:spPr>
            <a:xfrm>
              <a:off x="6400440" y="4307040"/>
              <a:ext cx="221004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hange font Size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384" name="Picture 9" descr=""/>
          <p:cNvPicPr/>
          <p:nvPr/>
        </p:nvPicPr>
        <p:blipFill>
          <a:blip r:embed="rId1"/>
          <a:stretch/>
        </p:blipFill>
        <p:spPr>
          <a:xfrm>
            <a:off x="380880" y="1768320"/>
            <a:ext cx="571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926-EF97-435C-8D04-2BB7A4E79B0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vantGarde"/>
              </a:rPr>
              <a:t>Example(14): using </a:t>
            </a:r>
            <a:r>
              <a:rPr b="1" lang="en-US" sz="30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3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rite a GUI program that display 7 buttons(us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wo panel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as foll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1371600" y="4876920"/>
            <a:ext cx="6400800" cy="83808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219320" y="2743200"/>
            <a:ext cx="6476760" cy="137160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1219320" y="2133720"/>
            <a:ext cx="2361960" cy="533520"/>
            <a:chOff x="1219320" y="2133720"/>
            <a:chExt cx="2361960" cy="533520"/>
          </a:xfrm>
        </p:grpSpPr>
        <p:sp>
          <p:nvSpPr>
            <p:cNvPr id="107" name="Rectangle 9"/>
            <p:cNvSpPr/>
            <p:nvPr/>
          </p:nvSpPr>
          <p:spPr>
            <a:xfrm>
              <a:off x="1219320" y="2133720"/>
              <a:ext cx="12189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08" name="Straight Arrow Connector 13"/>
            <p:cNvCxnSpPr/>
            <p:nvPr/>
          </p:nvCxnSpPr>
          <p:spPr>
            <a:xfrm>
              <a:off x="2437920" y="2362320"/>
              <a:ext cx="1143720" cy="3052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9" name="Group 24"/>
          <p:cNvGrpSpPr/>
          <p:nvPr/>
        </p:nvGrpSpPr>
        <p:grpSpPr>
          <a:xfrm>
            <a:off x="6171840" y="4267080"/>
            <a:ext cx="2057760" cy="533880"/>
            <a:chOff x="6171840" y="4267080"/>
            <a:chExt cx="2057760" cy="533880"/>
          </a:xfrm>
        </p:grpSpPr>
        <p:sp>
          <p:nvSpPr>
            <p:cNvPr id="110" name="Rectangle 10"/>
            <p:cNvSpPr/>
            <p:nvPr/>
          </p:nvSpPr>
          <p:spPr>
            <a:xfrm>
              <a:off x="7010280" y="4267080"/>
              <a:ext cx="121932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11" name="Straight Arrow Connector 15"/>
            <p:cNvCxnSpPr>
              <a:stCxn id="110" idx="1"/>
            </p:cNvCxnSpPr>
            <p:nvPr/>
          </p:nvCxnSpPr>
          <p:spPr>
            <a:xfrm flipH="1">
              <a:off x="6171840" y="4436280"/>
              <a:ext cx="838800" cy="3650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38D9-5D7C-40BD-96D5-3469A0D1ACB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.awt.*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1: import package java.awt for GUI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javax.swing.*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2: import javax.swing for display 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java.awt.event.*;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// step3: used to handle GUI Ev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anelDemo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xtends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JFr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3d0096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pan1 , pan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buttons[ 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            </a:t>
            </a:r>
            <a:r>
              <a:rPr b="1" i="1" lang="en-US" sz="2000" spc="-1" strike="noStrike">
                <a:solidFill>
                  <a:srgbClr val="404040"/>
                </a:solidFill>
                <a:latin typeface="Times New Roman"/>
              </a:rPr>
              <a:t>// define array of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i="1" lang="en-US" sz="2200" spc="-1" strike="noStrike">
                <a:solidFill>
                  <a:srgbClr val="3d0096"/>
                </a:solidFill>
                <a:latin typeface="Times New Roman"/>
              </a:rPr>
              <a:t>PanelDem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 ) {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Dem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" );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);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get content p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buttons arra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tons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 7 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16" name="Group 15"/>
          <p:cNvGrpSpPr/>
          <p:nvPr/>
        </p:nvGrpSpPr>
        <p:grpSpPr>
          <a:xfrm>
            <a:off x="4342680" y="2176560"/>
            <a:ext cx="3734640" cy="337320"/>
            <a:chOff x="4342680" y="2176560"/>
            <a:chExt cx="3734640" cy="337320"/>
          </a:xfrm>
        </p:grpSpPr>
        <p:sp>
          <p:nvSpPr>
            <p:cNvPr id="117" name="Rectangle 5"/>
            <p:cNvSpPr/>
            <p:nvPr/>
          </p:nvSpPr>
          <p:spPr>
            <a:xfrm>
              <a:off x="5486400" y="2176560"/>
              <a:ext cx="259092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wo panels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18" name="Straight Arrow Connector 10"/>
            <p:cNvCxnSpPr/>
            <p:nvPr/>
          </p:nvCxnSpPr>
          <p:spPr>
            <a:xfrm flipH="1">
              <a:off x="4342680" y="2361240"/>
              <a:ext cx="114372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9" name="Group 20"/>
          <p:cNvGrpSpPr/>
          <p:nvPr/>
        </p:nvGrpSpPr>
        <p:grpSpPr>
          <a:xfrm>
            <a:off x="4419360" y="5715000"/>
            <a:ext cx="4191120" cy="381240"/>
            <a:chOff x="4419360" y="5715000"/>
            <a:chExt cx="4191120" cy="381240"/>
          </a:xfrm>
        </p:grpSpPr>
        <p:sp>
          <p:nvSpPr>
            <p:cNvPr id="120" name="Rectangle 16"/>
            <p:cNvSpPr/>
            <p:nvPr/>
          </p:nvSpPr>
          <p:spPr>
            <a:xfrm>
              <a:off x="5334120" y="5715000"/>
              <a:ext cx="327636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reate array of 7 buttons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21" name="Straight Arrow Connector 18"/>
            <p:cNvCxnSpPr>
              <a:stCxn id="120" idx="1"/>
            </p:cNvCxnSpPr>
            <p:nvPr/>
          </p:nvCxnSpPr>
          <p:spPr>
            <a:xfrm flipH="1">
              <a:off x="4419360" y="5884200"/>
              <a:ext cx="915120" cy="21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627-112A-4E81-B4AC-FE150470165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14): using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تجهيز محتويات </a:t>
            </a:r>
            <a:r>
              <a:rPr b="1" lang="en-US" sz="2500" spc="-1" strike="noStrike">
                <a:solidFill>
                  <a:srgbClr val="3d0096"/>
                </a:solidFill>
                <a:latin typeface="Times New Roman"/>
              </a:rPr>
              <a:t>pan1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 وإضافتها الى الـ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609480" y="3581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1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set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Grid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1, 3 )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2210040"/>
          </a:xfrm>
          <a:prstGeom prst="rect">
            <a:avLst/>
          </a:prstGeom>
          <a:ln w="0">
            <a:noFill/>
          </a:ln>
        </p:spPr>
      </p:pic>
      <p:cxnSp>
        <p:nvCxnSpPr>
          <p:cNvPr id="127" name="Straight Arrow Connector 12"/>
          <p:cNvCxnSpPr/>
          <p:nvPr/>
        </p:nvCxnSpPr>
        <p:spPr>
          <a:xfrm flipH="1">
            <a:off x="5409360" y="1065600"/>
            <a:ext cx="76284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17"/>
          <p:cNvSpPr/>
          <p:nvPr/>
        </p:nvSpPr>
        <p:spPr>
          <a:xfrm>
            <a:off x="705600" y="41148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1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0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705600" y="44766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1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1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705600" y="48769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1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2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609480" y="55627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ntainer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pan1 ,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CENTER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32" name="Group 44"/>
          <p:cNvGrpSpPr/>
          <p:nvPr/>
        </p:nvGrpSpPr>
        <p:grpSpPr>
          <a:xfrm>
            <a:off x="838080" y="4114800"/>
            <a:ext cx="6858000" cy="1295280"/>
            <a:chOff x="838080" y="4114800"/>
            <a:chExt cx="6858000" cy="1295280"/>
          </a:xfrm>
        </p:grpSpPr>
        <p:sp>
          <p:nvSpPr>
            <p:cNvPr id="133" name="Rectangle 22"/>
            <p:cNvSpPr/>
            <p:nvPr/>
          </p:nvSpPr>
          <p:spPr>
            <a:xfrm>
              <a:off x="838080" y="4114800"/>
              <a:ext cx="358128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34" name="Group 40"/>
            <p:cNvGrpSpPr/>
            <p:nvPr/>
          </p:nvGrpSpPr>
          <p:grpSpPr>
            <a:xfrm>
              <a:off x="4419000" y="4267080"/>
              <a:ext cx="3277080" cy="580680"/>
              <a:chOff x="4419000" y="4267080"/>
              <a:chExt cx="3277080" cy="580680"/>
            </a:xfrm>
          </p:grpSpPr>
          <p:sp>
            <p:nvSpPr>
              <p:cNvPr id="135" name="Rectangle 24"/>
              <p:cNvSpPr/>
              <p:nvPr/>
            </p:nvSpPr>
            <p:spPr>
              <a:xfrm>
                <a:off x="4876560" y="4267080"/>
                <a:ext cx="2819520" cy="580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Lucida Console"/>
                  </a:rPr>
                  <a:t>إضافة الـ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Buttons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Lucida Console"/>
                  </a:rPr>
                  <a:t> الى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panel1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cxnSp>
            <p:nvCxnSpPr>
              <p:cNvPr id="136" name="Straight Arrow Connector 30"/>
              <p:cNvCxnSpPr>
                <a:stCxn id="135" idx="1"/>
              </p:cNvCxnSpPr>
              <p:nvPr/>
            </p:nvCxnSpPr>
            <p:spPr>
              <a:xfrm flipH="1">
                <a:off x="4419000" y="4436280"/>
                <a:ext cx="457920" cy="172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37" name="Group 45"/>
          <p:cNvGrpSpPr/>
          <p:nvPr/>
        </p:nvGrpSpPr>
        <p:grpSpPr>
          <a:xfrm>
            <a:off x="5637960" y="4952880"/>
            <a:ext cx="3277440" cy="1067400"/>
            <a:chOff x="5637960" y="4952880"/>
            <a:chExt cx="3277440" cy="1067400"/>
          </a:xfrm>
        </p:grpSpPr>
        <p:sp>
          <p:nvSpPr>
            <p:cNvPr id="138" name="Rectangle 37"/>
            <p:cNvSpPr/>
            <p:nvPr/>
          </p:nvSpPr>
          <p:spPr>
            <a:xfrm>
              <a:off x="6781680" y="4952880"/>
              <a:ext cx="2133720" cy="1067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أضافة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1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بمحتوياتها فى منتصف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tainer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39" name="Straight Arrow Connector 38"/>
            <p:cNvCxnSpPr>
              <a:stCxn id="138" idx="1"/>
            </p:cNvCxnSpPr>
            <p:nvPr/>
          </p:nvCxnSpPr>
          <p:spPr>
            <a:xfrm flipH="1">
              <a:off x="5637960" y="5244120"/>
              <a:ext cx="114372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Group 58"/>
          <p:cNvGrpSpPr/>
          <p:nvPr/>
        </p:nvGrpSpPr>
        <p:grpSpPr>
          <a:xfrm>
            <a:off x="5105160" y="3276720"/>
            <a:ext cx="4038840" cy="580680"/>
            <a:chOff x="5105160" y="3276720"/>
            <a:chExt cx="4038840" cy="580680"/>
          </a:xfrm>
        </p:grpSpPr>
        <p:sp>
          <p:nvSpPr>
            <p:cNvPr id="141" name="Rectangle 47"/>
            <p:cNvSpPr/>
            <p:nvPr/>
          </p:nvSpPr>
          <p:spPr>
            <a:xfrm>
              <a:off x="6248520" y="3276720"/>
              <a:ext cx="28954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تحديد طريقة العرض داخ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42" name="Straight Arrow Connector 48"/>
            <p:cNvCxnSpPr>
              <a:endCxn id="141" idx="1"/>
            </p:cNvCxnSpPr>
            <p:nvPr/>
          </p:nvCxnSpPr>
          <p:spPr>
            <a:xfrm flipV="1">
              <a:off x="5105160" y="3445560"/>
              <a:ext cx="1143720" cy="2124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143" name="Rectangle 57"/>
          <p:cNvSpPr/>
          <p:nvPr/>
        </p:nvSpPr>
        <p:spPr>
          <a:xfrm>
            <a:off x="838080" y="1752480"/>
            <a:ext cx="7239240" cy="137160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F64-ACC8-49C4-99FA-D230F97C58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 panel 1  and  set its  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1 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;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1 ,  3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d  add buttons on  panel1 (Button0 + Button1 + Butto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int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++ 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utton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]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JButton( "Button "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pan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utton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]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pan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ENTE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3200400" y="5106600"/>
            <a:ext cx="4038480" cy="1003320"/>
            <a:chOff x="3200400" y="5106600"/>
            <a:chExt cx="4038480" cy="1003320"/>
          </a:xfrm>
        </p:grpSpPr>
        <p:sp>
          <p:nvSpPr>
            <p:cNvPr id="149" name="Rectangle 6"/>
            <p:cNvSpPr/>
            <p:nvPr/>
          </p:nvSpPr>
          <p:spPr>
            <a:xfrm>
              <a:off x="3200400" y="5529240"/>
              <a:ext cx="40384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أضافة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1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بمحتوياتها فى منتصف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tainer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50" name="Straight Arrow Connector 8"/>
            <p:cNvCxnSpPr/>
            <p:nvPr/>
          </p:nvCxnSpPr>
          <p:spPr>
            <a:xfrm flipH="1">
              <a:off x="4647600" y="5106600"/>
              <a:ext cx="2160" cy="45756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51" name="Group 13"/>
          <p:cNvGrpSpPr/>
          <p:nvPr/>
        </p:nvGrpSpPr>
        <p:grpSpPr>
          <a:xfrm>
            <a:off x="5028840" y="3505320"/>
            <a:ext cx="3581640" cy="580680"/>
            <a:chOff x="5028840" y="3505320"/>
            <a:chExt cx="3581640" cy="580680"/>
          </a:xfrm>
        </p:grpSpPr>
        <p:sp>
          <p:nvSpPr>
            <p:cNvPr id="152" name="Rectangle 5"/>
            <p:cNvSpPr/>
            <p:nvPr/>
          </p:nvSpPr>
          <p:spPr>
            <a:xfrm>
              <a:off x="5562360" y="3505320"/>
              <a:ext cx="304812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إضافة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uttons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الى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53" name="Straight Arrow Connector 9"/>
            <p:cNvCxnSpPr/>
            <p:nvPr/>
          </p:nvCxnSpPr>
          <p:spPr>
            <a:xfrm flipV="1">
              <a:off x="5028840" y="3580920"/>
              <a:ext cx="533880" cy="2289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54" name="Group 16"/>
          <p:cNvGrpSpPr/>
          <p:nvPr/>
        </p:nvGrpSpPr>
        <p:grpSpPr>
          <a:xfrm>
            <a:off x="5333760" y="947880"/>
            <a:ext cx="3581640" cy="580680"/>
            <a:chOff x="5333760" y="947880"/>
            <a:chExt cx="3581640" cy="580680"/>
          </a:xfrm>
        </p:grpSpPr>
        <p:sp>
          <p:nvSpPr>
            <p:cNvPr id="155" name="Rectangle 14"/>
            <p:cNvSpPr/>
            <p:nvPr/>
          </p:nvSpPr>
          <p:spPr>
            <a:xfrm>
              <a:off x="5867280" y="947880"/>
              <a:ext cx="304812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تحديد طريقة العرض داخ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1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56" name="Straight Arrow Connector 15"/>
            <p:cNvCxnSpPr/>
            <p:nvPr/>
          </p:nvCxnSpPr>
          <p:spPr>
            <a:xfrm flipV="1">
              <a:off x="5333760" y="1142280"/>
              <a:ext cx="533880" cy="22932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A21-B651-4F33-B3C7-FF884C01A4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(14): using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</a:rPr>
              <a:t>Panel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تجهيز محتويات </a:t>
            </a:r>
            <a:r>
              <a:rPr b="1" lang="en-US" sz="2500" spc="-1" strike="noStrike">
                <a:solidFill>
                  <a:srgbClr val="3d0096"/>
                </a:solidFill>
                <a:latin typeface="Times New Roman"/>
              </a:rPr>
              <a:t>pan2</a:t>
            </a:r>
            <a:r>
              <a:rPr b="1" lang="ar-SA" sz="2500" spc="-1" strike="noStrike">
                <a:solidFill>
                  <a:srgbClr val="000000"/>
                </a:solidFill>
                <a:latin typeface="Times New Roman"/>
              </a:rPr>
              <a:t> وإضافتها الى الـ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09480" y="3352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2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set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new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Grid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2, 2 )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705600" y="388620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2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3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705600" y="426708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2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4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705600" y="46292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2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5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09480" y="55627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container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pan2 ,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orderLayou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Lucida Console"/>
              </a:rPr>
              <a:t>SOUTH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838080" y="3886200"/>
            <a:ext cx="6858000" cy="1523880"/>
            <a:chOff x="838080" y="3886200"/>
            <a:chExt cx="6858000" cy="1523880"/>
          </a:xfrm>
        </p:grpSpPr>
        <p:sp>
          <p:nvSpPr>
            <p:cNvPr id="166" name="Rectangle 22"/>
            <p:cNvSpPr/>
            <p:nvPr/>
          </p:nvSpPr>
          <p:spPr>
            <a:xfrm>
              <a:off x="838080" y="3886200"/>
              <a:ext cx="35812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grpSp>
          <p:nvGrpSpPr>
            <p:cNvPr id="167" name="Group 40"/>
            <p:cNvGrpSpPr/>
            <p:nvPr/>
          </p:nvGrpSpPr>
          <p:grpSpPr>
            <a:xfrm>
              <a:off x="4419000" y="4065480"/>
              <a:ext cx="3277080" cy="580680"/>
              <a:chOff x="4419000" y="4065480"/>
              <a:chExt cx="3277080" cy="580680"/>
            </a:xfrm>
          </p:grpSpPr>
          <p:sp>
            <p:nvSpPr>
              <p:cNvPr id="168" name="Rectangle 24"/>
              <p:cNvSpPr/>
              <p:nvPr/>
            </p:nvSpPr>
            <p:spPr>
              <a:xfrm>
                <a:off x="4876560" y="4065480"/>
                <a:ext cx="2819520" cy="580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000000"/>
                    </a:solidFill>
                    <a:latin typeface="Lucida Console"/>
                  </a:rPr>
                  <a:t>إضافة الـ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Buttons</a:t>
                </a:r>
                <a:r>
                  <a:rPr b="1" lang="ar-SA" sz="1600" spc="-1" strike="noStrike">
                    <a:solidFill>
                      <a:srgbClr val="000000"/>
                    </a:solidFill>
                    <a:latin typeface="Lucida Console"/>
                  </a:rPr>
                  <a:t> الى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panel2</a:t>
                </a:r>
                <a:endParaRPr b="1" lang="en-US" sz="16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  <p:cxnSp>
            <p:nvCxnSpPr>
              <p:cNvPr id="169" name="Straight Arrow Connector 30"/>
              <p:cNvCxnSpPr>
                <a:stCxn id="168" idx="1"/>
              </p:cNvCxnSpPr>
              <p:nvPr/>
            </p:nvCxnSpPr>
            <p:spPr>
              <a:xfrm flipH="1">
                <a:off x="4419000" y="4263480"/>
                <a:ext cx="457920" cy="205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70" name="Group 45"/>
          <p:cNvGrpSpPr/>
          <p:nvPr/>
        </p:nvGrpSpPr>
        <p:grpSpPr>
          <a:xfrm>
            <a:off x="5637960" y="4952880"/>
            <a:ext cx="3277440" cy="1067400"/>
            <a:chOff x="5637960" y="4952880"/>
            <a:chExt cx="3277440" cy="1067400"/>
          </a:xfrm>
        </p:grpSpPr>
        <p:sp>
          <p:nvSpPr>
            <p:cNvPr id="171" name="Rectangle 37"/>
            <p:cNvSpPr/>
            <p:nvPr/>
          </p:nvSpPr>
          <p:spPr>
            <a:xfrm>
              <a:off x="6781680" y="4952880"/>
              <a:ext cx="2133720" cy="1067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أضافة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2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بمحتوياتها فى أسف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tainer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72" name="Straight Arrow Connector 38"/>
            <p:cNvCxnSpPr>
              <a:stCxn id="171" idx="1"/>
            </p:cNvCxnSpPr>
            <p:nvPr/>
          </p:nvCxnSpPr>
          <p:spPr>
            <a:xfrm flipH="1">
              <a:off x="5637960" y="5244120"/>
              <a:ext cx="1143720" cy="39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Group 58"/>
          <p:cNvGrpSpPr/>
          <p:nvPr/>
        </p:nvGrpSpPr>
        <p:grpSpPr>
          <a:xfrm>
            <a:off x="5105160" y="3048120"/>
            <a:ext cx="4038840" cy="580680"/>
            <a:chOff x="5105160" y="3048120"/>
            <a:chExt cx="4038840" cy="580680"/>
          </a:xfrm>
        </p:grpSpPr>
        <p:sp>
          <p:nvSpPr>
            <p:cNvPr id="174" name="Rectangle 47"/>
            <p:cNvSpPr/>
            <p:nvPr/>
          </p:nvSpPr>
          <p:spPr>
            <a:xfrm>
              <a:off x="6248520" y="3048120"/>
              <a:ext cx="28954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تحديد طريقة العرض داخ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75" name="Straight Arrow Connector 48"/>
            <p:cNvCxnSpPr>
              <a:endCxn id="174" idx="1"/>
            </p:cNvCxnSpPr>
            <p:nvPr/>
          </p:nvCxnSpPr>
          <p:spPr>
            <a:xfrm flipV="1">
              <a:off x="5105160" y="3216960"/>
              <a:ext cx="1143720" cy="2124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</p:cxnSp>
      </p:grp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26"/>
          <p:cNvCxnSpPr/>
          <p:nvPr/>
        </p:nvCxnSpPr>
        <p:spPr>
          <a:xfrm flipH="1">
            <a:off x="5409360" y="1066320"/>
            <a:ext cx="76284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Rectangle 28"/>
          <p:cNvSpPr/>
          <p:nvPr/>
        </p:nvSpPr>
        <p:spPr>
          <a:xfrm>
            <a:off x="1447920" y="1905120"/>
            <a:ext cx="6095880" cy="99036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705600" y="501012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0096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an2.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1" lang="en-US" sz="2000" spc="-1" strike="noStrike">
                <a:solidFill>
                  <a:srgbClr val="993300"/>
                </a:solidFill>
                <a:latin typeface="Lucida Console"/>
              </a:rPr>
              <a:t>buttons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6] );</a:t>
            </a:r>
            <a:endParaRPr b="1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2A1-16F5-4DD8-B593-1FEC41E323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set up  panel 2  and  set its  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2 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JPan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);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n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Grid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2, 2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// create and  add buttons (button3+Button4+button5+Button6) on pan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int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7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++ 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utton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] =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JButton( "Button "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pan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utton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coun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]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300" spc="-1" strike="noStrike">
                <a:solidFill>
                  <a:srgbClr val="3d0096"/>
                </a:solidFill>
                <a:latin typeface="Times New Roman"/>
              </a:rPr>
              <a:t>pan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BorderLayou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SOUTH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304920" y="1522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vantGarde"/>
              </a:rPr>
              <a:t>Example(14): </a:t>
            </a:r>
            <a:endParaRPr b="1" lang="en-US" sz="26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304920" y="533520"/>
            <a:ext cx="8610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184" name="Group 14"/>
          <p:cNvGrpSpPr/>
          <p:nvPr/>
        </p:nvGrpSpPr>
        <p:grpSpPr>
          <a:xfrm>
            <a:off x="3200400" y="5333760"/>
            <a:ext cx="4038480" cy="1037880"/>
            <a:chOff x="3200400" y="5333760"/>
            <a:chExt cx="4038480" cy="1037880"/>
          </a:xfrm>
        </p:grpSpPr>
        <p:sp>
          <p:nvSpPr>
            <p:cNvPr id="185" name="Rectangle 6"/>
            <p:cNvSpPr/>
            <p:nvPr/>
          </p:nvSpPr>
          <p:spPr>
            <a:xfrm>
              <a:off x="3200400" y="5790960"/>
              <a:ext cx="40384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أضافة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2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بمحتوياتها فى أسف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tainer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86" name="Straight Arrow Connector 8"/>
            <p:cNvCxnSpPr/>
            <p:nvPr/>
          </p:nvCxnSpPr>
          <p:spPr>
            <a:xfrm flipH="1">
              <a:off x="4874760" y="5333760"/>
              <a:ext cx="2160" cy="45756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87" name="Group 17"/>
          <p:cNvGrpSpPr/>
          <p:nvPr/>
        </p:nvGrpSpPr>
        <p:grpSpPr>
          <a:xfrm>
            <a:off x="5105160" y="3886200"/>
            <a:ext cx="3581640" cy="580680"/>
            <a:chOff x="5105160" y="3886200"/>
            <a:chExt cx="3581640" cy="580680"/>
          </a:xfrm>
        </p:grpSpPr>
        <p:sp>
          <p:nvSpPr>
            <p:cNvPr id="188" name="Rectangle 5"/>
            <p:cNvSpPr/>
            <p:nvPr/>
          </p:nvSpPr>
          <p:spPr>
            <a:xfrm>
              <a:off x="5638680" y="3886200"/>
              <a:ext cx="304812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إضافة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uttons</a:t>
              </a: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 الى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89" name="Straight Arrow Connector 9"/>
            <p:cNvCxnSpPr/>
            <p:nvPr/>
          </p:nvCxnSpPr>
          <p:spPr>
            <a:xfrm flipV="1">
              <a:off x="5105160" y="3961800"/>
              <a:ext cx="533880" cy="22896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190" name="Group 16"/>
          <p:cNvGrpSpPr/>
          <p:nvPr/>
        </p:nvGrpSpPr>
        <p:grpSpPr>
          <a:xfrm>
            <a:off x="5181120" y="1100160"/>
            <a:ext cx="3582000" cy="580680"/>
            <a:chOff x="5181120" y="1100160"/>
            <a:chExt cx="3582000" cy="580680"/>
          </a:xfrm>
        </p:grpSpPr>
        <p:sp>
          <p:nvSpPr>
            <p:cNvPr id="191" name="Rectangle 14"/>
            <p:cNvSpPr/>
            <p:nvPr/>
          </p:nvSpPr>
          <p:spPr>
            <a:xfrm>
              <a:off x="5714640" y="1100160"/>
              <a:ext cx="3048480" cy="580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Lucida Console"/>
                </a:rPr>
                <a:t>تحديد طريقة العرض داخل الـ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nel2</a:t>
              </a:r>
              <a:endParaRPr b="1" lang="en-US" sz="1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  <p:cxnSp>
          <p:nvCxnSpPr>
            <p:cNvPr id="192" name="Straight Arrow Connector 15"/>
            <p:cNvCxnSpPr/>
            <p:nvPr/>
          </p:nvCxnSpPr>
          <p:spPr>
            <a:xfrm flipV="1">
              <a:off x="5181120" y="1294560"/>
              <a:ext cx="533880" cy="229320"/>
            </a:xfrm>
            <a:prstGeom prst="straightConnector1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dor</dc:creator>
  <dc:description/>
  <dc:language>en-US</dc:language>
  <cp:lastModifiedBy>Waleed</cp:lastModifiedBy>
  <dcterms:modified xsi:type="dcterms:W3CDTF">2012-04-16T18:45:50Z</dcterms:modified>
  <cp:revision>1019</cp:revision>
  <dc:subject/>
  <dc:title>PowerPoint Presentation</dc:title>
</cp:coreProperties>
</file>