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645275" cy="9172575"/>
  <p:custShowLst>
    <p:custShow name="Custom Show 1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45600" cy="917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3765240" y="0"/>
            <a:ext cx="2879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1440" y="0"/>
            <a:ext cx="2880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28880" y="686880"/>
            <a:ext cx="4587840" cy="344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64920" y="4357440"/>
            <a:ext cx="531468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3765240" y="8713800"/>
            <a:ext cx="2879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1440" y="8713800"/>
            <a:ext cx="2880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B7C3-7949-481E-9E43-34FB49D76F2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028880" y="687240"/>
            <a:ext cx="4587840" cy="34419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64920" y="4357440"/>
            <a:ext cx="531468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1440" y="8713800"/>
            <a:ext cx="288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253C-E73C-4647-A908-E87371763DF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62BED-A7C4-4FA5-9E54-9D6A7A21F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741C-A33D-472E-8DE6-2DFA67DF3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A9E2-9DE3-4F29-9A02-A2B8892E2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6E23-D330-44A9-AA53-562D4618D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C2A14-33F6-4AFC-B44A-D2DE1507EC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2889-8236-4C28-AB1B-1AF5D1D3AC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10DFA-2710-499D-A193-9C0047D001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07D9E-E639-4986-B337-856C62788A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AEF89-954A-493B-9D2A-86A1570783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64D56-9876-4B27-A948-D0CD65038A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DE1AC-3E39-4681-955E-8DDF177B1A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F259-0591-4236-A25C-C54BC36F7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FC0D0-4418-40B9-8B12-3FD467DD1D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5B0AF-9A0F-44B4-9EB2-0EBED6D064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D43BF-504C-4EA6-ACE7-19E6668FAA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2E7CD-104C-44CF-9F55-982F491AD7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D5D7E-7CDA-4988-A0F6-BF43B93702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F709-2796-487D-BD01-45D560E4D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3F32-5C5C-4CB8-83F6-3570D4C5E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9FD89-7510-4C28-9342-AABF36F25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92EA-D8CC-487E-AE6B-8E802218A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AD45-C517-4AA8-9A4F-178B49DA1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7385-9FA6-43EF-812B-10842168A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DB89-5819-4A46-B46C-85268F498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5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AutoShape 6">
            <a:hlinkClick r:id="" action="ppaction://hlinkshowjump?jump=previousslide"/>
          </p:cNvPr>
          <p:cNvSpPr/>
          <p:nvPr/>
        </p:nvSpPr>
        <p:spPr>
          <a:xfrm rot="10800000">
            <a:off x="3641400" y="6476760"/>
            <a:ext cx="183960" cy="336600"/>
          </a:xfrm>
          <a:custGeom>
            <a:avLst/>
            <a:gdLst>
              <a:gd name="textAreaLeft" fmla="*/ 11880 w 183960"/>
              <a:gd name="textAreaRight" fmla="*/ 172080 w 183960"/>
              <a:gd name="textAreaTop" fmla="*/ 11880 h 336600"/>
              <a:gd name="textAreaBottom" fmla="*/ 324720 h 336600"/>
            </a:gdLst>
            <a:ahLst/>
            <a:rect l="textAreaLeft" t="textAreaTop" r="textAreaRight" b="textAreaBottom"/>
            <a:pathLst>
              <a:path w="21600" h="39488">
                <a:moveTo>
                  <a:pt x="0" y="0"/>
                </a:moveTo>
                <a:lnTo>
                  <a:pt x="21600" y="0"/>
                </a:lnTo>
                <a:lnTo>
                  <a:pt x="21600" y="39488"/>
                </a:lnTo>
                <a:lnTo>
                  <a:pt x="0" y="39488"/>
                </a:lnTo>
                <a:close/>
              </a:path>
              <a:path fill="lightenLess" w="21600" h="394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9488">
                <a:moveTo>
                  <a:pt x="21600" y="0"/>
                </a:moveTo>
                <a:lnTo>
                  <a:pt x="21600" y="39488"/>
                </a:lnTo>
                <a:lnTo>
                  <a:pt x="20200" y="38088"/>
                </a:lnTo>
                <a:lnTo>
                  <a:pt x="20200" y="1400"/>
                </a:lnTo>
                <a:close/>
              </a:path>
              <a:path fill="darkenLess" w="21600" h="39488">
                <a:moveTo>
                  <a:pt x="21600" y="39488"/>
                </a:moveTo>
                <a:lnTo>
                  <a:pt x="0" y="39488"/>
                </a:lnTo>
                <a:lnTo>
                  <a:pt x="1400" y="38088"/>
                </a:lnTo>
                <a:lnTo>
                  <a:pt x="20200" y="38088"/>
                </a:lnTo>
                <a:close/>
              </a:path>
              <a:path fill="lighten" w="21600" h="39488">
                <a:moveTo>
                  <a:pt x="0" y="39488"/>
                </a:moveTo>
                <a:lnTo>
                  <a:pt x="0" y="0"/>
                </a:lnTo>
                <a:lnTo>
                  <a:pt x="1400" y="1400"/>
                </a:lnTo>
                <a:lnTo>
                  <a:pt x="1400" y="38088"/>
                </a:lnTo>
                <a:close/>
              </a:path>
              <a:path fill="darken" w="21600" h="39488">
                <a:moveTo>
                  <a:pt x="3794" y="12737"/>
                </a:moveTo>
                <a:lnTo>
                  <a:pt x="17806" y="19744"/>
                </a:lnTo>
                <a:lnTo>
                  <a:pt x="3794" y="267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9A82-82BE-4143-8FCE-C019BA18F47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4" name="AutoShape 5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45" name="AutoShape 6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1371-E12C-4792-8E04-58ACAB376CF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B121-F1DE-49E3-922A-C91A4DAC421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07696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cture 8: Graphical User Interface (</a:t>
            </a:r>
            <a:r>
              <a:rPr b="1" lang="en-US" sz="3600" spc="-1" strike="noStrike">
                <a:solidFill>
                  <a:srgbClr val="0050d5"/>
                </a:solidFill>
                <a:latin typeface="Times New Roman"/>
              </a:rPr>
              <a:t>GU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Components: (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art 2 cont.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FBFC-A70F-400C-A08C-4F1889199E3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762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1: import package java.awt for GUI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java.awt.event.*;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3: used to handle GUI Ev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JMenuExample 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mplements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ctionListe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Labe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abel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Men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enu1, menu2,colorMen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MenuI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ewItem,openItem,exitItem,styleIt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RadioButtonMenuI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adiomenu[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ttonGrou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grou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lors[] ={"red","blue","yellow","black"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n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lorsVal[] ={Color.RED, Color.BLUE, Color.YELLOW, Color.BLACK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</a:rPr>
              <a:t>Example(15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22960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i="1" lang="en-US" sz="2000" spc="-1" strike="noStrike">
                <a:solidFill>
                  <a:srgbClr val="3d0096"/>
                </a:solidFill>
                <a:latin typeface="Times New Roman"/>
              </a:rPr>
              <a:t>JMenu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 ) {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"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Using Jmen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" )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0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;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etVisib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;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get content p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Contain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ontainer =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getContentPa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bel1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JLabe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"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Sample Tex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bel1.setFont(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Fo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"Serif", Font.PLAIN,40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label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JMenuBa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ar 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JMenuBa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);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create menu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etJMenuBa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bar );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et menubar for the J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15328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nu1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JMen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"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Fi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);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[3] Create the First Me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nu1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tMnemon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'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 );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once press Alt+f from Key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/ add items into Menu1 : New | Open|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Item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JMenuI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"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nu1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ewIte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Item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JMenuI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"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nu1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openIte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/add Seperator Between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nu1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JSepara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xitItem =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993300"/>
                </a:solidFill>
                <a:latin typeface="Times New Roman"/>
              </a:rPr>
              <a:t>JMenuItem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 "</a:t>
            </a:r>
            <a:r>
              <a:rPr b="1" lang="en-US" sz="2500" spc="-1" strike="noStrike">
                <a:solidFill>
                  <a:srgbClr val="003300"/>
                </a:solidFill>
                <a:latin typeface="Times New Roman"/>
              </a:rPr>
              <a:t>Exi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enu1.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exitItem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6356520" y="2133720"/>
            <a:ext cx="1831680" cy="2971800"/>
          </a:xfrm>
          <a:prstGeom prst="rect">
            <a:avLst/>
          </a:prstGeom>
          <a:ln w="0">
            <a:noFill/>
          </a:ln>
        </p:spPr>
      </p:pic>
      <p:sp>
        <p:nvSpPr>
          <p:cNvPr id="164" name="Line 8"/>
          <p:cNvSpPr/>
          <p:nvPr/>
        </p:nvSpPr>
        <p:spPr>
          <a:xfrm flipV="1">
            <a:off x="4800600" y="4495320"/>
            <a:ext cx="18288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22960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itItem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ddActionListen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r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menu1)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/ add menu1 to menu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/////////////////  Finish menu1 //////////////////////////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/Create the Second Me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u2 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JMen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"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Fo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u2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etMnemon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'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' )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/once press Alt+ o from Key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/add items into Menu2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orMenu =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JMen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"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Col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u2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lorMenu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yleItem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JMenuIte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"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Sty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u2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tyleIte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r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menu2)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/ add menu2 to menu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5715000" y="3429000"/>
            <a:ext cx="1735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15328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group 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uttonGrou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diomenu 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JRadioButtonMenuIte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4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int i=0; i &lt;colors.length;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diomenu[i] 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 JRadioButtonMenuIte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lors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orMenu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radiomenu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group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radiomenu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diomenu[i]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ddActionListen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diomenu[0]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etSelect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// end constr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5334120" y="2743200"/>
            <a:ext cx="28191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public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void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actionPerformed( </a:t>
            </a:r>
            <a:r>
              <a:rPr b="1" lang="en-US" sz="2500" spc="-1" strike="noStrike">
                <a:solidFill>
                  <a:srgbClr val="993300"/>
                </a:solidFill>
                <a:latin typeface="Times New Roman"/>
              </a:rPr>
              <a:t>ActionEven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e 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(e.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getSourc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)== exitIte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System.exi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 0 )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l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(int i=0;i&lt;colors.length;i++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(radiomenu[i].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isSelected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)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abel1.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setForeground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colorsVal[i]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/end of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0CBF-BB02-40A2-88AA-AEA107C48D1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Menu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Menu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end of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class of J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provides options that are specific to the component for which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up trigger 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s gene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most systems, the popup trigger event occurs when the user presses and releases the right mouse but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vantGarde"/>
              </a:rPr>
              <a:t>JPopupMenu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FC17-CA51-437F-9512-7BA8CE8A987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Lucida Console"/>
              </a:rPr>
              <a:t>Constructo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JPopupMenu(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Lucida Console"/>
              </a:rPr>
              <a:t>main Method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dd 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JMenuItem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enuItem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how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Componen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comp,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x,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y 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lays the popup menu at the position x,y in the coordinate space of the component invoke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dd 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JSeparator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parato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o add separator betwwen item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dd 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tx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26"/>
          <p:cNvSpPr/>
          <p:nvPr/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PopupMenu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F5B7-F828-435A-A42F-6F24CD33070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vantGarde"/>
              </a:rPr>
              <a:t>Example(16): using </a:t>
            </a:r>
            <a:r>
              <a:rPr b="1" lang="en-US" sz="3200" spc="-1" strike="noStrike">
                <a:solidFill>
                  <a:srgbClr val="ff0000"/>
                </a:solidFill>
                <a:latin typeface="AvantGarde"/>
              </a:rPr>
              <a:t>JPopupMenu</a:t>
            </a:r>
            <a:endParaRPr b="1" lang="en-US" sz="32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rite a GUI program that display the following menu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en the user click the right-click the folwing menu must app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24844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FC2F-058E-4932-B1E9-A0862A2F1CE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33520" y="1155600"/>
            <a:ext cx="7924680" cy="25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Using Menus with Frames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JPopupMenu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JTabbedPane 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utlin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4648320" cy="2057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4647960" cy="2133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"/>
          <p:cNvPicPr/>
          <p:nvPr/>
        </p:nvPicPr>
        <p:blipFill>
          <a:blip r:embed="rId3"/>
          <a:stretch/>
        </p:blipFill>
        <p:spPr>
          <a:xfrm>
            <a:off x="762120" y="4724280"/>
            <a:ext cx="4647960" cy="20574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505840" y="3260880"/>
            <a:ext cx="3076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عند عمل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ight-click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6182280" y="1143000"/>
            <a:ext cx="23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عند اختيار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5824800" y="5622840"/>
            <a:ext cx="269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عند اختيار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A45A-AD54-4E5F-88C9-D3B4129189D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762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1: import package java.awt for GUI</a:t>
            </a:r>
            <a:r>
              <a:rPr b="1" i="1" lang="en-US" sz="2200" spc="-1" strike="noStrike">
                <a:solidFill>
                  <a:srgbClr val="333333"/>
                </a:solidFill>
                <a:latin typeface="Times New Roman"/>
              </a:rPr>
              <a:t> compon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mport 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java.awt.event.*;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tep3: used to handle GUI Events</a:t>
            </a:r>
            <a:r>
              <a:rPr b="1" i="1" lang="en-US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opupFrame 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JRadioButtonMenuIte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[] items; 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holds items for col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fina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Colo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[] colorValues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 Color.BLUE, Color.YELLOW, Color.RED };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colors to b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JPopupMen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popupMenu;     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allows user to select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opupFram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p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"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Using JPopupMen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] colors = { "Blue", "Yellow", "Red" };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array of col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</a:rPr>
              <a:t>Example(16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pupMenu 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JPopupMen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);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create pop-up me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ems 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JRadioButtonMenuIte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colors.length ];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color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uttonGrou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olorGroup 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ButtonGrou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emHandler handler=new ItemHandler 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construct menu item, add to pop-up menu, enable event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 int count = 0; count &lt; items.length; count++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ems[ count ] 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JRadioButtonMenuIte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colors[ count ]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pupMenu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items[ count ] );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add item to pop-up me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orGroup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items[ count ] );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add item to button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ems[ count ]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addActionListener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ndler);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add hand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en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etBackgrou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Color.WHITE );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et background to wh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ddMouseListen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handl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temHandler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xtend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MouseAdapt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mpleme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ction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ctionPerformed(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ActionEve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// determine which menu item was sel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 int i = 0; i &lt; items.length; i++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 event.getSource() == items[ i ]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tContentPane()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etBackgrou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colorValues[ i ]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// end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// end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// end method actionPerfor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9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9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9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900" fill="hold"/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900" fill="hold"/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09480" y="228240"/>
            <a:ext cx="777240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ousePressed(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MouseEve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ckForTriggerEvent( event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/ handle mouse release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ublic voi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ouseReleased(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MouseEve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ckForTriggerEvent( event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/ determine whether event should trigger pop-up me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vate voi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heckForTriggerEvent(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</a:rPr>
              <a:t>MouseEve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( event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sPopupTrigg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)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pupMenu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sho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ent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getCompone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), event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get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), event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ge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// end private inner class ItemHand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380F-9148-4F2E-8D40-BF8887CEC99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) {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PopupFrame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PopupFrame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3333"/>
                </a:solidFill>
                <a:latin typeface="Times New Roman"/>
              </a:rPr>
              <a:t>// set Close operation of Jfram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5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33"/>
                </a:solidFill>
                <a:latin typeface="Times New Roman"/>
              </a:rPr>
              <a:t>//end of clas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UI components into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layer visible at a ti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each layer via a tab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JTabbedPa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vantGarde"/>
              </a:rPr>
              <a:t>JTabbedPane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447920" y="4156200"/>
            <a:ext cx="5638680" cy="2016000"/>
          </a:xfrm>
          <a:prstGeom prst="rect">
            <a:avLst/>
          </a:prstGeom>
          <a:ln w="0">
            <a:noFill/>
          </a:ln>
        </p:spPr>
      </p:pic>
      <p:sp>
        <p:nvSpPr>
          <p:cNvPr id="203" name="Line 5"/>
          <p:cNvSpPr/>
          <p:nvPr/>
        </p:nvSpPr>
        <p:spPr>
          <a:xfrm>
            <a:off x="2133720" y="3581280"/>
            <a:ext cx="152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2133720" y="3622680"/>
            <a:ext cx="9903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2133720" y="3581280"/>
            <a:ext cx="19047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2133720" y="3546360"/>
            <a:ext cx="26668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7" name="Line 9"/>
          <p:cNvSpPr/>
          <p:nvPr/>
        </p:nvSpPr>
        <p:spPr>
          <a:xfrm>
            <a:off x="2133720" y="354636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1228320" y="3327480"/>
            <a:ext cx="85140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Tabs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5418-0886-4965-9130-F4C8DAD2EEB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Lucida Console"/>
              </a:rPr>
              <a:t>Constructo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JTabbedPane(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Lucida Console"/>
              </a:rPr>
              <a:t>main Method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ddTab 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it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Compon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ddTab 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it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Ic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c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Compon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ddTab 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it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Ic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c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Compon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mponent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tip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26"/>
          <p:cNvSpPr/>
          <p:nvPr/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TabbedPane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6DDD-A6EE-459A-B9AC-337640A240D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vantGarde"/>
              </a:rPr>
              <a:t>Example(17): using </a:t>
            </a:r>
            <a:r>
              <a:rPr b="1" lang="en-US" sz="3200" spc="-1" strike="noStrike">
                <a:solidFill>
                  <a:srgbClr val="ff0000"/>
                </a:solidFill>
                <a:latin typeface="AvantGarde"/>
              </a:rPr>
              <a:t>JTabbedPane</a:t>
            </a:r>
            <a:endParaRPr b="1" lang="en-US" sz="32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rite a GUI program that display the following Fram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2190600" y="2514600"/>
            <a:ext cx="4057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3657600" cy="2832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2"/>
          <a:stretch/>
        </p:blipFill>
        <p:spPr>
          <a:xfrm>
            <a:off x="2514600" y="3581280"/>
            <a:ext cx="3648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vantGarde"/>
              </a:rPr>
              <a:t>Using Menus with Frames</a:t>
            </a:r>
            <a:endParaRPr b="1" lang="en-US" sz="32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M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nus are integral part of GU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lasses used to declare menus a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JMenu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JMe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JMenu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JCheckBoxMenu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JRadioButtonMenu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nus can be attached only to objects of the classes that provide method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MenuB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J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J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967F-9A83-4D40-901D-CFD244BA626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762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1: import package java.awt for GUI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mport  </a:t>
            </a:r>
            <a:r>
              <a:rPr b="1" lang="en-US" sz="2200" spc="-1" strike="noStrike">
                <a:solidFill>
                  <a:srgbClr val="002060"/>
                </a:solidFill>
                <a:latin typeface="Times New Roman"/>
              </a:rPr>
              <a:t>java.awt.event.*;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3: used to handle GUI Events</a:t>
            </a:r>
            <a:r>
              <a:rPr b="1" i="1" lang="en-US" sz="2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JTabbedPaneFrame 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JTabbedPaneFram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p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"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JTabbedPane Dem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TabbedPane tabbedPane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JTabbedPane();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// create JTabbedPa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// set up pane11 and add it to JTabbedPa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label1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"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panel on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Pan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panel1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Pan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// create first pa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</a:rPr>
              <a:t>Example(17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1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15364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anel1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label1 );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// add label to pa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abbedPane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Tab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"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Tab On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ul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panel1, "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First Pan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 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926640" y="2133720"/>
            <a:ext cx="18266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itle of tab</a:t>
            </a:r>
            <a:endParaRPr b="1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438720" y="2133720"/>
            <a:ext cx="11408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 Icon</a:t>
            </a:r>
            <a:endParaRPr b="1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5118120" y="2138400"/>
            <a:ext cx="1963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he Component</a:t>
            </a:r>
            <a:endParaRPr b="1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5562720" y="2971800"/>
            <a:ext cx="2819160" cy="105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When the user move the mouse to tab1</a:t>
            </a:r>
            <a:endParaRPr b="1" lang="en-US" sz="1800" spc="-1" strike="noStrike">
              <a:solidFill>
                <a:srgbClr val="000000"/>
              </a:solidFill>
              <a:latin typeface="Lucida Console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Hint)</a:t>
            </a:r>
            <a:endParaRPr b="1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7" name="Line 8"/>
          <p:cNvSpPr/>
          <p:nvPr/>
        </p:nvSpPr>
        <p:spPr>
          <a:xfrm flipV="1">
            <a:off x="2286000" y="1523880"/>
            <a:ext cx="137160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8" name="Line 9"/>
          <p:cNvSpPr/>
          <p:nvPr/>
        </p:nvSpPr>
        <p:spPr>
          <a:xfrm flipV="1">
            <a:off x="3809880" y="1523880"/>
            <a:ext cx="137160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9" name="Line 10"/>
          <p:cNvSpPr/>
          <p:nvPr/>
        </p:nvSpPr>
        <p:spPr>
          <a:xfrm flipV="1">
            <a:off x="6019920" y="1523880"/>
            <a:ext cx="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0" name="Line 11"/>
          <p:cNvSpPr/>
          <p:nvPr/>
        </p:nvSpPr>
        <p:spPr>
          <a:xfrm flipV="1">
            <a:off x="7162920" y="1523880"/>
            <a:ext cx="609480" cy="1447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5345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// set up panel2 and add it to JTabbedP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label2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"panel 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“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Pan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panel2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Pan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// create second pa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anel2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Backgrou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Color.YELLOW );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// set background to ye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anel2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label2 ); // add label to pa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abbedPane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Tab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"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Tab 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ul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panel2, "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Second Pan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5345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// set up panel3 and add it to JTabbedP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label3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"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panel thre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Pan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panel3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Pan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// create third pa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anel3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Layo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BorderLayo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 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anel3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"North" ), BorderLayout.NORTH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anel3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"West" ), BorderLayout.WEST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anel3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"East" ), BorderLayout.EAST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anel3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"South" ), BorderLayout.SOUTH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anel3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label3, BorderLayout.CENTER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abbedPane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Tab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"Tab Three"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ul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panel3, "Third Panel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tabbedPane );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// add JTabbedPane to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// end JTabbedPaneFrame constr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533520" y="4191120"/>
            <a:ext cx="5867280" cy="4572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CCB5-4E1F-4C56-A148-EF907421935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) {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JTabbedPaneFram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JTabbedPaneFram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3333"/>
                </a:solidFill>
                <a:latin typeface="Times New Roman"/>
              </a:rPr>
              <a:t>// set Close operation of Jfram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5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33"/>
                </a:solidFill>
                <a:latin typeface="Times New Roman"/>
              </a:rPr>
              <a:t>//end of clas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31"/>
          <p:cNvGrpSpPr/>
          <p:nvPr/>
        </p:nvGrpSpPr>
        <p:grpSpPr>
          <a:xfrm>
            <a:off x="387360" y="228600"/>
            <a:ext cx="8750160" cy="5717520"/>
            <a:chOff x="387360" y="228600"/>
            <a:chExt cx="8750160" cy="5717520"/>
          </a:xfrm>
        </p:grpSpPr>
        <p:sp>
          <p:nvSpPr>
            <p:cNvPr id="101" name="Text Box 13"/>
            <p:cNvSpPr/>
            <p:nvPr/>
          </p:nvSpPr>
          <p:spPr>
            <a:xfrm>
              <a:off x="912960" y="1438200"/>
              <a:ext cx="1290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ava.awt</a:t>
              </a:r>
              <a:endParaRPr b="1" lang="en-US" sz="24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02" name="Text Box 14"/>
            <p:cNvSpPr/>
            <p:nvPr/>
          </p:nvSpPr>
          <p:spPr>
            <a:xfrm>
              <a:off x="533520" y="2733840"/>
              <a:ext cx="190476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avax.swing</a:t>
              </a:r>
              <a:endParaRPr b="1" lang="en-US" sz="24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3565440" y="2733840"/>
              <a:ext cx="19209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Component</a:t>
              </a:r>
              <a:endParaRPr b="1" lang="en-US" sz="24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5187960" y="3733920"/>
              <a:ext cx="1662120" cy="459720"/>
            </a:xfrm>
            <a:prstGeom prst="rect">
              <a:avLst/>
            </a:prstGeom>
            <a:solidFill>
              <a:srgbClr val="fdfb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MenuBar </a:t>
              </a:r>
              <a:endParaRPr b="1" lang="en-US" sz="24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140560" y="3733920"/>
              <a:ext cx="22136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bstractButton</a:t>
              </a:r>
              <a:endParaRPr b="1" lang="en-US" sz="24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2444040" y="4572000"/>
              <a:ext cx="1706400" cy="459720"/>
            </a:xfrm>
            <a:prstGeom prst="rect">
              <a:avLst/>
            </a:prstGeom>
            <a:solidFill>
              <a:srgbClr val="fdfdc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MenuItem</a:t>
              </a:r>
              <a:endParaRPr b="1" lang="en-US" sz="24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387360" y="5486400"/>
              <a:ext cx="1171440" cy="459720"/>
            </a:xfrm>
            <a:prstGeom prst="rect">
              <a:avLst/>
            </a:prstGeom>
            <a:solidFill>
              <a:srgbClr val="fdfb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Menu </a:t>
              </a:r>
              <a:endParaRPr b="1" lang="en-US" sz="24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3740040" y="1905120"/>
              <a:ext cx="1501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ainer</a:t>
              </a:r>
              <a:endParaRPr b="1" lang="en-US" sz="24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09" name="Text Box 11"/>
            <p:cNvSpPr/>
            <p:nvPr/>
          </p:nvSpPr>
          <p:spPr>
            <a:xfrm>
              <a:off x="3664800" y="1066680"/>
              <a:ext cx="170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1" lang="en-US" sz="24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10" name="Text Box 12"/>
            <p:cNvSpPr/>
            <p:nvPr/>
          </p:nvSpPr>
          <p:spPr>
            <a:xfrm>
              <a:off x="3891240" y="228600"/>
              <a:ext cx="10630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1" lang="en-US" sz="24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11" name="Line 17"/>
            <p:cNvSpPr/>
            <p:nvPr/>
          </p:nvSpPr>
          <p:spPr>
            <a:xfrm flipV="1">
              <a:off x="3352680" y="50292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12" name="Line 18"/>
            <p:cNvSpPr/>
            <p:nvPr/>
          </p:nvSpPr>
          <p:spPr>
            <a:xfrm flipV="1">
              <a:off x="3352680" y="419112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13" name="Line 19"/>
            <p:cNvSpPr/>
            <p:nvPr/>
          </p:nvSpPr>
          <p:spPr>
            <a:xfrm flipV="1">
              <a:off x="3352680" y="3200400"/>
              <a:ext cx="1067040" cy="533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14" name="Line 20"/>
            <p:cNvSpPr/>
            <p:nvPr/>
          </p:nvSpPr>
          <p:spPr>
            <a:xfrm flipV="1">
              <a:off x="4495680" y="236232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15" name="Line 21"/>
            <p:cNvSpPr/>
            <p:nvPr/>
          </p:nvSpPr>
          <p:spPr>
            <a:xfrm flipV="1">
              <a:off x="4495680" y="1523520"/>
              <a:ext cx="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16" name="Line 22"/>
            <p:cNvSpPr/>
            <p:nvPr/>
          </p:nvSpPr>
          <p:spPr>
            <a:xfrm flipV="1">
              <a:off x="4495680" y="68580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17" name="Line 23"/>
            <p:cNvSpPr/>
            <p:nvPr/>
          </p:nvSpPr>
          <p:spPr>
            <a:xfrm flipH="1" flipV="1">
              <a:off x="4419360" y="3200400"/>
              <a:ext cx="1523880" cy="533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18" name="AutoShape 25"/>
            <p:cNvSpPr/>
            <p:nvPr/>
          </p:nvSpPr>
          <p:spPr>
            <a:xfrm>
              <a:off x="2743200" y="990720"/>
              <a:ext cx="685800" cy="144756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19" name="Text Box 27"/>
            <p:cNvSpPr/>
            <p:nvPr/>
          </p:nvSpPr>
          <p:spPr>
            <a:xfrm>
              <a:off x="6018480" y="5486400"/>
              <a:ext cx="3119040" cy="459720"/>
            </a:xfrm>
            <a:prstGeom prst="rect">
              <a:avLst/>
            </a:prstGeom>
            <a:solidFill>
              <a:srgbClr val="fdfb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CheckBoxMenuItem </a:t>
              </a:r>
              <a:endParaRPr b="1" lang="en-US" sz="24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20" name="Text Box 28"/>
            <p:cNvSpPr/>
            <p:nvPr/>
          </p:nvSpPr>
          <p:spPr>
            <a:xfrm>
              <a:off x="1772280" y="5486400"/>
              <a:ext cx="4021200" cy="459720"/>
            </a:xfrm>
            <a:prstGeom prst="rect">
              <a:avLst/>
            </a:prstGeom>
            <a:solidFill>
              <a:srgbClr val="fdfb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Console"/>
                </a:rPr>
                <a:t>JRadioButtonMenuItem </a:t>
              </a:r>
              <a:endParaRPr b="1" lang="en-US" sz="24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21" name="Line 29"/>
            <p:cNvSpPr/>
            <p:nvPr/>
          </p:nvSpPr>
          <p:spPr>
            <a:xfrm flipV="1">
              <a:off x="1066680" y="5029200"/>
              <a:ext cx="228600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22" name="Line 30"/>
            <p:cNvSpPr/>
            <p:nvPr/>
          </p:nvSpPr>
          <p:spPr>
            <a:xfrm flipH="1" flipV="1">
              <a:off x="3352320" y="5029200"/>
              <a:ext cx="403884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086600" cy="261936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1143000" y="2590920"/>
            <a:ext cx="1143000" cy="3294360"/>
            <a:chOff x="1143000" y="2590920"/>
            <a:chExt cx="1143000" cy="3294360"/>
          </a:xfrm>
        </p:grpSpPr>
        <p:sp>
          <p:nvSpPr>
            <p:cNvPr id="127" name="Rectangle 5"/>
            <p:cNvSpPr/>
            <p:nvPr/>
          </p:nvSpPr>
          <p:spPr>
            <a:xfrm>
              <a:off x="1143000" y="2590920"/>
              <a:ext cx="1143000" cy="14475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 flipV="1">
              <a:off x="1828800" y="4038480"/>
              <a:ext cx="75960" cy="137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29" name="Text Box 7"/>
            <p:cNvSpPr/>
            <p:nvPr/>
          </p:nvSpPr>
          <p:spPr>
            <a:xfrm>
              <a:off x="1386360" y="5486400"/>
              <a:ext cx="817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nu</a:t>
              </a:r>
              <a:endParaRPr b="1" lang="en-US" sz="2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1143000" y="2286000"/>
            <a:ext cx="6858000" cy="3522960"/>
            <a:chOff x="1143000" y="2286000"/>
            <a:chExt cx="6858000" cy="3522960"/>
          </a:xfrm>
        </p:grpSpPr>
        <p:sp>
          <p:nvSpPr>
            <p:cNvPr id="131" name="Rectangle 8"/>
            <p:cNvSpPr/>
            <p:nvPr/>
          </p:nvSpPr>
          <p:spPr>
            <a:xfrm>
              <a:off x="1143000" y="2286000"/>
              <a:ext cx="6858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 flipV="1">
              <a:off x="3505320" y="2590560"/>
              <a:ext cx="685800" cy="2819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2899800" y="5410080"/>
              <a:ext cx="12643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nu bar</a:t>
              </a:r>
              <a:endParaRPr b="1" lang="en-US" sz="2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129240" y="2590920"/>
            <a:ext cx="2156760" cy="2608560"/>
            <a:chOff x="129240" y="2590920"/>
            <a:chExt cx="2156760" cy="2608560"/>
          </a:xfrm>
        </p:grpSpPr>
        <p:sp>
          <p:nvSpPr>
            <p:cNvPr id="135" name="Text Box 13"/>
            <p:cNvSpPr/>
            <p:nvPr/>
          </p:nvSpPr>
          <p:spPr>
            <a:xfrm>
              <a:off x="129240" y="4800600"/>
              <a:ext cx="13906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nu Item</a:t>
              </a:r>
              <a:endParaRPr b="1" lang="en-US" sz="2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36" name="Rectangle 14"/>
            <p:cNvSpPr/>
            <p:nvPr/>
          </p:nvSpPr>
          <p:spPr>
            <a:xfrm>
              <a:off x="1143000" y="2590920"/>
              <a:ext cx="1143000" cy="304560"/>
            </a:xfrm>
            <a:prstGeom prst="rect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37" name="Line 15"/>
            <p:cNvSpPr/>
            <p:nvPr/>
          </p:nvSpPr>
          <p:spPr>
            <a:xfrm flipV="1">
              <a:off x="838080" y="2895480"/>
              <a:ext cx="381240" cy="19051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grpSp>
        <p:nvGrpSpPr>
          <p:cNvPr id="138" name="Group 22"/>
          <p:cNvGrpSpPr/>
          <p:nvPr/>
        </p:nvGrpSpPr>
        <p:grpSpPr>
          <a:xfrm>
            <a:off x="1066320" y="3200400"/>
            <a:ext cx="5684040" cy="2583000"/>
            <a:chOff x="1066320" y="3200400"/>
            <a:chExt cx="5684040" cy="2583000"/>
          </a:xfrm>
        </p:grpSpPr>
        <p:sp>
          <p:nvSpPr>
            <p:cNvPr id="139" name="Text Box 17"/>
            <p:cNvSpPr/>
            <p:nvPr/>
          </p:nvSpPr>
          <p:spPr>
            <a:xfrm>
              <a:off x="5032080" y="5384520"/>
              <a:ext cx="17182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parator bar</a:t>
              </a:r>
              <a:endParaRPr b="1" lang="en-US" sz="2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 flipH="1">
              <a:off x="1066320" y="3200400"/>
              <a:ext cx="12193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 flipH="1">
              <a:off x="1066320" y="3733560"/>
              <a:ext cx="12193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 flipH="1" flipV="1">
              <a:off x="2286000" y="3200400"/>
              <a:ext cx="2743200" cy="2209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143" name="Line 21"/>
            <p:cNvSpPr/>
            <p:nvPr/>
          </p:nvSpPr>
          <p:spPr>
            <a:xfrm flipH="1" flipV="1">
              <a:off x="2209320" y="3733560"/>
              <a:ext cx="838440" cy="763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B129-9D36-4D80-8D9F-C3B399D3A15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57200" y="990720"/>
            <a:ext cx="8305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buClr>
                <a:srgbClr val="59595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Console"/>
              </a:rPr>
              <a:t>Event Type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: </a:t>
            </a:r>
            <a:r>
              <a:rPr b="1" lang="en-US" sz="2500" spc="-1" strike="noStrike">
                <a:solidFill>
                  <a:srgbClr val="ff0000"/>
                </a:solidFill>
                <a:latin typeface="Lucida Console"/>
              </a:rPr>
              <a:t>ActionEvent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595959"/>
                </a:solidFill>
                <a:latin typeface="Lucida Console"/>
              </a:rPr>
              <a:t>Implements Interface</a:t>
            </a:r>
            <a:r>
              <a:rPr b="1" lang="en-US" sz="2500" spc="-1" strike="noStrike">
                <a:solidFill>
                  <a:srgbClr val="ff0000"/>
                </a:solidFill>
                <a:latin typeface="Lucida Console"/>
              </a:rPr>
              <a:t>: </a:t>
            </a:r>
            <a:r>
              <a:rPr b="1" lang="en-US" sz="2400" spc="-1" strike="noStrike">
                <a:solidFill>
                  <a:srgbClr val="0000ff"/>
                </a:solidFill>
                <a:latin typeface="Lucida Console"/>
              </a:rPr>
              <a:t>ActionListener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Add Event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دالة إضافة الحدث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: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enuItem1.</a:t>
            </a:r>
            <a:r>
              <a:rPr b="1" lang="en-US" sz="2500" spc="-1" strike="noStrike">
                <a:solidFill>
                  <a:srgbClr val="002060"/>
                </a:solidFill>
                <a:latin typeface="Times New Roman"/>
              </a:rPr>
              <a:t>addActionListene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handle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Handel Even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دالة تنفيذ الحدث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: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</a:rPr>
              <a:t>actionPerformed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ActionEven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2060"/>
                </a:solidFill>
                <a:latin typeface="Times New Roman"/>
              </a:rPr>
              <a:t>even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6" name="Rectangle 1026"/>
          <p:cNvSpPr/>
          <p:nvPr/>
        </p:nvSpPr>
        <p:spPr>
          <a:xfrm>
            <a:off x="457200" y="304920"/>
            <a:ext cx="7772400" cy="533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MenuItem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2359-BA04-4BCE-919D-D6B5B77800C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Lucida Console"/>
              </a:rPr>
              <a:t>Constructo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JMenu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menu_name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Lucida Console"/>
              </a:rPr>
              <a:t>main Method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tMnemonic 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cha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ce press Alt+ch from Keyboar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dd 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JMenuItem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enuItem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dd 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JMenu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menu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dd 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JSeparator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parato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o add separator between item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dd 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tx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026"/>
          <p:cNvSpPr/>
          <p:nvPr/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MenuItem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BF80-0F5C-48AC-BDFE-3537AC38F25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vantGarde"/>
              </a:rPr>
              <a:t>Example(15): using 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JMenus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rite a GUI program that display the following menu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7" descr=""/>
          <p:cNvPicPr/>
          <p:nvPr/>
        </p:nvPicPr>
        <p:blipFill>
          <a:blip r:embed="rId1"/>
          <a:stretch/>
        </p:blipFill>
        <p:spPr>
          <a:xfrm>
            <a:off x="819000" y="2362320"/>
            <a:ext cx="733428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123920" y="380880"/>
            <a:ext cx="6343560" cy="2703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6248520" cy="26668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353520" y="3184560"/>
            <a:ext cx="998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Lucida Console"/>
              </a:rPr>
              <a:t>عند اختيار أحد الألوان من القائمة ينعكس اللون على النص المكتوب في الــ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rame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dor</dc:creator>
  <dc:description/>
  <dc:language>en-US</dc:language>
  <cp:lastModifiedBy>Waleed</cp:lastModifiedBy>
  <dcterms:modified xsi:type="dcterms:W3CDTF">2012-04-19T06:20:06Z</dcterms:modified>
  <cp:revision>1091</cp:revision>
  <dc:subject/>
  <dc:title>PowerPoint Presentation</dc:title>
</cp:coreProperties>
</file>