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6A02-C839-4E70-96C0-60507A1CE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B50E-4303-413A-9642-1F2F5DC86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1570-DAF2-4BA8-9AA7-274793286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B5F7-05D8-4046-BAFD-5784DEBA87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7CA9-A566-4CC5-B12C-1FB47C2FF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C324-B55E-44DC-8214-CE737887F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E1FD-34A8-4E79-8098-38A07483B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8443-188C-4B11-B873-80C29B3D7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ED92-52D9-46E0-83A4-E86F0C3EE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49A6-6060-4C54-9D1E-55931FECC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29FB-22D5-4435-B797-A3D9D9A20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F3DA-0608-4445-BD0E-A558FF8C7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2EEB-0B73-4EB4-8704-9670D4C4BF5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74A5-6747-4E1D-90D5-E65E3325E3E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utorial(2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phical User Interface (</a:t>
            </a:r>
            <a:r>
              <a:rPr b="1" lang="en-US" sz="3600" spc="-1" strike="noStrike">
                <a:solidFill>
                  <a:srgbClr val="0050d5"/>
                </a:solidFill>
                <a:latin typeface="Times New Roman"/>
              </a:rPr>
              <a:t>GU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Components: 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rt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7A00-BA2F-47DF-815E-FA9BEF2354B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publ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Registration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up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"Registration"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Contain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container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getContentPan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Layo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GridLayout(12,2,5,15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Siz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350, 60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tVisib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 true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1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Username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1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TextFiel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T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2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Password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W1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PasswordField(2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PW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4ED5-E530-41B4-A7EB-833BE8AAAE9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76320"/>
            <a:ext cx="77724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2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Confirm Password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W2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PasswordField(2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PW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3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Gender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3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1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Radio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Male",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R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2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Radio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Female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R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G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ButtonGroup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G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R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G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R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1992-57AD-409B-8858-70993D140BD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4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Interesting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JLabel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1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CheckB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Sport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2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CheckB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Technology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3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CheckB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Entertainment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4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CheckB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Business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3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4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Select Country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B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ComboBo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ountry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C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B554-B6E8-4739-ABD1-C437E37D420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5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Enter Code below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5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ImageIc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img=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ImageIc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Code.jpg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6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img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L6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2 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TextFiel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T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1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Clear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B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2=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JBut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"Submit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ainer.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B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43F2-7696-4C90-8D05-B235A1A8DA8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كتب برنامج كاملاً يقوم على عرض النافذة التالي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8093-2E07-4B51-A96A-F00944629A0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340000" y="0"/>
            <a:ext cx="3870360" cy="617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362320" y="6095880"/>
            <a:ext cx="3886200" cy="60984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0" y="0"/>
            <a:ext cx="9142920" cy="7086240"/>
            <a:chOff x="0" y="0"/>
            <a:chExt cx="9142920" cy="7086240"/>
          </a:xfrm>
        </p:grpSpPr>
        <p:pic>
          <p:nvPicPr>
            <p:cNvPr id="48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055080" cy="65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7" descr=""/>
            <p:cNvPicPr/>
            <p:nvPr/>
          </p:nvPicPr>
          <p:blipFill>
            <a:blip r:embed="rId4"/>
            <a:stretch/>
          </p:blipFill>
          <p:spPr>
            <a:xfrm>
              <a:off x="51120" y="6441840"/>
              <a:ext cx="909180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9927-54DE-44AD-9E85-25343EA316B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0" y="0"/>
            <a:ext cx="4288680" cy="6705720"/>
            <a:chOff x="0" y="0"/>
            <a:chExt cx="4288680" cy="6705720"/>
          </a:xfrm>
        </p:grpSpPr>
        <p:pic>
          <p:nvPicPr>
            <p:cNvPr id="52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47640" cy="61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2"/>
            <a:stretch/>
          </p:blipFill>
          <p:spPr>
            <a:xfrm>
              <a:off x="23760" y="6095880"/>
              <a:ext cx="426492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Line 8"/>
          <p:cNvSpPr/>
          <p:nvPr/>
        </p:nvSpPr>
        <p:spPr>
          <a:xfrm flipH="1" flipV="1">
            <a:off x="3733920" y="9907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657600" y="137160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 flipV="1">
            <a:off x="3733920" y="990720"/>
            <a:ext cx="13716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3657600" y="137160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5"/>
          <p:cNvGrpSpPr/>
          <p:nvPr/>
        </p:nvGrpSpPr>
        <p:grpSpPr>
          <a:xfrm>
            <a:off x="3657600" y="990720"/>
            <a:ext cx="1447920" cy="609480"/>
            <a:chOff x="3657600" y="990720"/>
            <a:chExt cx="1447920" cy="609480"/>
          </a:xfrm>
        </p:grpSpPr>
        <p:sp>
          <p:nvSpPr>
            <p:cNvPr id="59" name="Line 13"/>
            <p:cNvSpPr/>
            <p:nvPr/>
          </p:nvSpPr>
          <p:spPr>
            <a:xfrm flipH="1" flipV="1">
              <a:off x="3733920" y="990720"/>
              <a:ext cx="13716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 flipH="1">
              <a:off x="3657600" y="1371600"/>
              <a:ext cx="1447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6"/>
          <p:cNvSpPr/>
          <p:nvPr/>
        </p:nvSpPr>
        <p:spPr>
          <a:xfrm>
            <a:off x="5105520" y="838080"/>
            <a:ext cx="3657600" cy="183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في حالة تطابق المحتوى تظهر رسالة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essful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في حالة عدم التطابق تظهر رسال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 Not M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05520" y="4560840"/>
            <a:ext cx="36576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عند الضغط عل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يتم مسح محتوى كل من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rm Password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 flipH="1">
            <a:off x="1218960" y="4952880"/>
            <a:ext cx="38862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BC53-E1D0-4A24-8F0A-C4BB1D2ED2B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0" y="0"/>
            <a:ext cx="4288680" cy="6705720"/>
            <a:chOff x="0" y="0"/>
            <a:chExt cx="4288680" cy="6705720"/>
          </a:xfrm>
        </p:grpSpPr>
        <p:pic>
          <p:nvPicPr>
            <p:cNvPr id="6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47640" cy="61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" descr=""/>
            <p:cNvPicPr/>
            <p:nvPr/>
          </p:nvPicPr>
          <p:blipFill>
            <a:blip r:embed="rId2"/>
            <a:stretch/>
          </p:blipFill>
          <p:spPr>
            <a:xfrm>
              <a:off x="23760" y="6095880"/>
              <a:ext cx="426492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Text Box 13"/>
          <p:cNvSpPr/>
          <p:nvPr/>
        </p:nvSpPr>
        <p:spPr>
          <a:xfrm>
            <a:off x="4648320" y="1752480"/>
            <a:ext cx="365760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أن يحتوي هذا العنصر على نفس الكلمة الموجودة في الصورة المجاور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3425760" y="919080"/>
            <a:ext cx="6500880" cy="444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عند الضغط على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يتم التحقق من الآتي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4648320" y="2717640"/>
            <a:ext cx="3657600" cy="1313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أن تحتوي هذه العناصر على قيم (أي لا تكون فارغة)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rm Passwor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6"/>
          <p:cNvSpPr/>
          <p:nvPr/>
        </p:nvSpPr>
        <p:spPr>
          <a:xfrm flipH="1">
            <a:off x="830556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883908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2"/>
          <p:cNvGrpSpPr/>
          <p:nvPr/>
        </p:nvGrpSpPr>
        <p:grpSpPr>
          <a:xfrm>
            <a:off x="8305560" y="1371600"/>
            <a:ext cx="533520" cy="1905120"/>
            <a:chOff x="8305560" y="1371600"/>
            <a:chExt cx="533520" cy="1905120"/>
          </a:xfrm>
        </p:grpSpPr>
        <p:sp>
          <p:nvSpPr>
            <p:cNvPr id="74" name="Line 17"/>
            <p:cNvSpPr/>
            <p:nvPr/>
          </p:nvSpPr>
          <p:spPr>
            <a:xfrm flipH="1">
              <a:off x="8305560" y="327672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 flipH="1">
              <a:off x="8305560" y="205740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0"/>
            <p:cNvSpPr/>
            <p:nvPr/>
          </p:nvSpPr>
          <p:spPr>
            <a:xfrm>
              <a:off x="8839080" y="1371600"/>
              <a:ext cx="0" cy="190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23"/>
          <p:cNvSpPr/>
          <p:nvPr/>
        </p:nvSpPr>
        <p:spPr>
          <a:xfrm>
            <a:off x="4059720" y="4606920"/>
            <a:ext cx="5141520" cy="1144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في حالة التحقق من الشرطين أعلاه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تظهر رسالة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gistration Successfu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C9A8-1FEE-4C72-82F8-AB3FF16DE27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0" y="0"/>
            <a:ext cx="4288680" cy="6705720"/>
            <a:chOff x="0" y="0"/>
            <a:chExt cx="4288680" cy="6705720"/>
          </a:xfrm>
        </p:grpSpPr>
        <p:pic>
          <p:nvPicPr>
            <p:cNvPr id="8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47640" cy="61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4" descr=""/>
            <p:cNvPicPr/>
            <p:nvPr/>
          </p:nvPicPr>
          <p:blipFill>
            <a:blip r:embed="rId2"/>
            <a:stretch/>
          </p:blipFill>
          <p:spPr>
            <a:xfrm>
              <a:off x="23760" y="6095880"/>
              <a:ext cx="426492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 Box 5"/>
          <p:cNvSpPr/>
          <p:nvPr/>
        </p:nvSpPr>
        <p:spPr>
          <a:xfrm>
            <a:off x="4648320" y="1752480"/>
            <a:ext cx="365760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أن يحتوي هذا العنصر على نفس الكلمة الموجودة في الصورة المجاور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425760" y="919080"/>
            <a:ext cx="6500880" cy="444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عند الضغط على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يتم التحقق من الآتي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648320" y="2717640"/>
            <a:ext cx="3657600" cy="1313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أن تحتوي هذه العناصر على قيم (أي لا تكون فارغة)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rm Passwor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830556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8839080" y="1371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0"/>
          <p:cNvGrpSpPr/>
          <p:nvPr/>
        </p:nvGrpSpPr>
        <p:grpSpPr>
          <a:xfrm>
            <a:off x="8305560" y="1371600"/>
            <a:ext cx="533520" cy="1905120"/>
            <a:chOff x="8305560" y="1371600"/>
            <a:chExt cx="533520" cy="1905120"/>
          </a:xfrm>
        </p:grpSpPr>
        <p:sp>
          <p:nvSpPr>
            <p:cNvPr id="88" name="Line 11"/>
            <p:cNvSpPr/>
            <p:nvPr/>
          </p:nvSpPr>
          <p:spPr>
            <a:xfrm flipH="1">
              <a:off x="8305560" y="327672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H="1">
              <a:off x="8305560" y="205740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8839080" y="1371600"/>
              <a:ext cx="0" cy="190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4"/>
          <p:cNvSpPr/>
          <p:nvPr/>
        </p:nvSpPr>
        <p:spPr>
          <a:xfrm>
            <a:off x="4876200" y="4191120"/>
            <a:ext cx="3524400" cy="1144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عدم تحقق الشرط الأول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تظهر رسالة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de Not Correc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4245120" y="5475240"/>
            <a:ext cx="4794120" cy="1144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عدم تحقق الشرط الثاني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تظهر رسالة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lease Enter…(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تحدد اسم العنصر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15B6-3DA3-4612-B4A6-FA7DD08ED0B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AvantGarde"/>
                <a:cs typeface="Arial"/>
              </a:rPr>
              <a:t>خطوات حل المسائل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 algn="r" rtl="1"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بل البدء في كتابة البرنامج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93840" algn="r" rtl="1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دراسة النافذة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ame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وتحديد الطريقة المناسبة لعرض عناصر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I Components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أي تحديد نوع الــ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93840" algn="r" rtl="1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تحديد نوع كل عنصر من عناصر الــ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I Components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أي تحديد الــ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xtfield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و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tton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و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 algn="r" rtl="1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دء بتصميم النافذة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93840" algn="r" rtl="1">
              <a:spcBef>
                <a:spcPts val="575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بعد تحديد نوع الـ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yout</a:t>
            </a:r>
            <a:r>
              <a:rPr b="1" lang="ar-SA" sz="2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تبدأ بتصميم النافذة عنصر عنصر بصورة تدريجية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لاحظة هامه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-393840" algn="r" rtl="1">
              <a:spcBef>
                <a:spcPts val="5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لك بعض المطلوبات التي لن يتم ذكرها في السؤال لكن يجب على الطالب مراعاتها مثل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نوع الـ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أحجام الخطوط ، الألوان ، المسافات بين عناصر الـ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وأحجام عناصر الـ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عنوان النافذة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title</a:t>
            </a:r>
            <a:r>
              <a:rPr b="1" lang="ar-S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23320"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0B4D-6595-4B86-8ABE-1DBD863B79C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عناصر الـ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 Components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تي تحتوي على حدث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ة الـ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e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ه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تابة كود الحدث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vantGarde"/>
                <a:cs typeface="Arial"/>
              </a:rPr>
              <a:t>خطوات حل المسائل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DEB4-339F-49FF-8002-4EC133063B1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ava.aw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ava.awt.even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avax.swing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publi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egist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xtend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JFra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TextFie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1,T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Lab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1,L2,L3,L4,L5,L6,L7,L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PasswordFie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W1,PW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1,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CheckBo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1,C2,C3,C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RadioButt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1,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ButtonGro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ComboBo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tring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ountry[]={"Sudan","Egypt","KSA","Qatar","UAE"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leed</cp:lastModifiedBy>
  <dcterms:modified xsi:type="dcterms:W3CDTF">2012-04-12T06:31:19Z</dcterms:modified>
  <cp:revision>497</cp:revision>
  <dc:subject/>
  <dc:title>PowerPoint Presentation</dc:title>
</cp:coreProperties>
</file>