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645275" cy="9172575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456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3765240" y="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1440" y="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28880" y="686880"/>
            <a:ext cx="4587840" cy="344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3765240" y="871380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331A-88CD-4135-B3B1-C08CCDAFD76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2CBE-D807-47C3-9535-497FA87BDC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5C9B-99D6-45C8-BEBB-82A2933076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F193-FE3C-456B-9CAD-ED811F099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9047-FB13-45CE-997A-52DDE30BE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CD08-1A4B-46B2-A676-55152D8A4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B898-611C-467F-96AD-781B709C1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8226-BD23-4475-8C81-78F9543C98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E818-CC85-408C-ADCE-0316B1ACCF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0766-99E4-47DD-99B4-CBA42B5CBF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16AA-8922-4322-A351-D8D52973E2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DB9C-11BA-4B08-904E-D50DB11DDB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DAE3-65AB-4577-8632-51DFF71157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70F98-44CF-4215-A9BC-EB8B5734D8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1E56-D710-4337-B56F-47DE913FB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CFDC-E201-4BDF-86FE-6B08394A6B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8488-9367-42B5-8312-C3F2A54D9F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9056-8738-4E36-A0F7-3373DE732D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2ACA-98A3-4DBD-BBF7-2DD9D006E5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3B75-4971-433F-8FA4-72642D882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BCF1-98DC-4BDB-8C04-F7766F9B7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91C5-7218-4414-B595-AAAEEE5AC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2955-81BB-4B32-87E0-A05667044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84DC-4E8F-4A29-B9D6-4897E3095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9BA5-BCF4-41FD-872E-32E0F2DDC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D5EE-0091-4065-89FD-DF27F59FB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5FA8-7BF8-42CE-8F28-97C126F56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AutoShape 6">
            <a:hlinkClick r:id="" action="ppaction://hlinkshowjump?jump=previousslide"/>
          </p:cNvPr>
          <p:cNvSpPr/>
          <p:nvPr/>
        </p:nvSpPr>
        <p:spPr>
          <a:xfrm rot="10800000">
            <a:off x="3641400" y="6476760"/>
            <a:ext cx="183960" cy="336600"/>
          </a:xfrm>
          <a:custGeom>
            <a:avLst/>
            <a:gdLst>
              <a:gd name="textAreaLeft" fmla="*/ 11880 w 183960"/>
              <a:gd name="textAreaRight" fmla="*/ 172080 w 183960"/>
              <a:gd name="textAreaTop" fmla="*/ 11880 h 336600"/>
              <a:gd name="textAreaBottom" fmla="*/ 324720 h 336600"/>
            </a:gdLst>
            <a:ahLst/>
            <a:rect l="textAreaLeft" t="textAreaTop" r="textAreaRight" b="textAreaBottom"/>
            <a:pathLst>
              <a:path w="21600" h="39488">
                <a:moveTo>
                  <a:pt x="0" y="0"/>
                </a:moveTo>
                <a:lnTo>
                  <a:pt x="21600" y="0"/>
                </a:lnTo>
                <a:lnTo>
                  <a:pt x="21600" y="39488"/>
                </a:lnTo>
                <a:lnTo>
                  <a:pt x="0" y="39488"/>
                </a:lnTo>
                <a:close/>
              </a:path>
              <a:path fill="lightenLess" w="21600" h="394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488">
                <a:moveTo>
                  <a:pt x="21600" y="0"/>
                </a:moveTo>
                <a:lnTo>
                  <a:pt x="21600" y="39488"/>
                </a:lnTo>
                <a:lnTo>
                  <a:pt x="20200" y="38088"/>
                </a:lnTo>
                <a:lnTo>
                  <a:pt x="20200" y="1400"/>
                </a:lnTo>
                <a:close/>
              </a:path>
              <a:path fill="darkenLess" w="21600" h="39488">
                <a:moveTo>
                  <a:pt x="21600" y="39488"/>
                </a:moveTo>
                <a:lnTo>
                  <a:pt x="0" y="39488"/>
                </a:lnTo>
                <a:lnTo>
                  <a:pt x="1400" y="38088"/>
                </a:lnTo>
                <a:lnTo>
                  <a:pt x="20200" y="38088"/>
                </a:lnTo>
                <a:close/>
              </a:path>
              <a:path fill="lighten" w="21600" h="39488">
                <a:moveTo>
                  <a:pt x="0" y="394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8088"/>
                </a:lnTo>
                <a:close/>
              </a:path>
              <a:path fill="darken" w="21600" h="39488">
                <a:moveTo>
                  <a:pt x="3794" y="12737"/>
                </a:moveTo>
                <a:lnTo>
                  <a:pt x="17806" y="19744"/>
                </a:lnTo>
                <a:lnTo>
                  <a:pt x="3794" y="267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271A-894E-45F8-949F-CED1C4E19F8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4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45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BFFF-52E8-4C33-9EAA-21B27BF79A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0292-7340-4CAF-98D1-3AD75D02DEC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07696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cture 6: Graphical User Interface (</a:t>
            </a:r>
            <a:r>
              <a:rPr b="1" lang="en-US" sz="36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Components: 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t 1 cont.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03AF-1EED-43E8-9DF8-FEB120FCDF4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release of any k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ar-SA" sz="2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595959"/>
                </a:solidFill>
                <a:latin typeface="Times New Roman"/>
                <a:cs typeface="Times New Roman"/>
              </a:rPr>
              <a:t>عند فك الضغط من مفتاح معين من لوحة المفاتيح</a:t>
            </a:r>
            <a:r>
              <a:rPr b="1" i="1" lang="ar-SA" sz="22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Rele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eyEv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ne1 = "Key released: 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Key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KeyCod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ines2and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even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8F06-4BA3-438E-86C2-36F2DC17A82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press of any key that is NOT an action k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action key </a:t>
            </a:r>
            <a:r>
              <a:rPr b="1" i="1" lang="ar-SA" sz="2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595959"/>
                </a:solidFill>
                <a:latin typeface="Times New Roman"/>
                <a:cs typeface="Times New Roman"/>
              </a:rPr>
              <a:t>عند الضغط على أي مفتاح ليس من النوع</a:t>
            </a:r>
            <a:r>
              <a:rPr b="1" i="1" lang="ar-SA" sz="2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keyTyp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Key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ne1 = "Key typed: 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KeyCh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ines2and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even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2666880" y="3200400"/>
            <a:ext cx="4876920" cy="1557000"/>
            <a:chOff x="2666880" y="3200400"/>
            <a:chExt cx="4876920" cy="1557000"/>
          </a:xfrm>
        </p:grpSpPr>
        <p:sp>
          <p:nvSpPr>
            <p:cNvPr id="140" name="Text Box 7"/>
            <p:cNvSpPr/>
            <p:nvPr/>
          </p:nvSpPr>
          <p:spPr>
            <a:xfrm>
              <a:off x="2666880" y="4114800"/>
              <a:ext cx="487692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cs typeface="Times New Roman"/>
                </a:rPr>
                <a:t>ترجع الدالة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har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يمثل الــحرف الذي تم الضغط عليه</a:t>
              </a:r>
              <a:endParaRPr b="1" lang="en-US" sz="1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 flipV="1">
              <a:off x="4724280" y="32004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5775-7DFE-48B6-AB07-13F303A6637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// set second and third lines of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Lines2and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eyEv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2 = "This key is " + ( event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sActionKey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? "" : "not " 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an action key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3886200" y="2925720"/>
            <a:ext cx="3139920" cy="2064240"/>
            <a:chOff x="3886200" y="2925720"/>
            <a:chExt cx="3139920" cy="2064240"/>
          </a:xfrm>
        </p:grpSpPr>
        <p:sp>
          <p:nvSpPr>
            <p:cNvPr id="147" name="Text Box 10"/>
            <p:cNvSpPr/>
            <p:nvPr/>
          </p:nvSpPr>
          <p:spPr>
            <a:xfrm>
              <a:off x="3886200" y="3798720"/>
              <a:ext cx="313992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cs typeface="Times New Roman"/>
                </a:rPr>
                <a:t>تقوم الدالة بإرجاع قيمة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rue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اذا كان المفتاح من  الــ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ction Keys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 وفيما عدا ذلك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alse</a:t>
              </a:r>
              <a:endParaRPr b="1" lang="en-US" sz="1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 flipV="1">
              <a:off x="5333760" y="2925720"/>
              <a:ext cx="30456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4C3A-4279-433B-93DE-44A55726A56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mp = even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getKeyModifiers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event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Modifiers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3 = "Modifier keys pressed: " + ( temp.equals( "" 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none" : temp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Area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line1 + "\n" + line2 + "\n" + line3 + "\n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838080" y="1447560"/>
            <a:ext cx="3810240" cy="1801080"/>
            <a:chOff x="838080" y="1447560"/>
            <a:chExt cx="3810240" cy="1801080"/>
          </a:xfrm>
        </p:grpSpPr>
        <p:sp>
          <p:nvSpPr>
            <p:cNvPr id="154" name="Text Box 10"/>
            <p:cNvSpPr/>
            <p:nvPr/>
          </p:nvSpPr>
          <p:spPr>
            <a:xfrm>
              <a:off x="838080" y="2057400"/>
              <a:ext cx="381024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cs typeface="Times New Roman"/>
                </a:rPr>
                <a:t>ترجع الدالة 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tring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يمثل القيمة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hift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أو القيمة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trl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أو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lt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او مزيج بينهم حسب القيمة الـ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nt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المرسلة للدالة</a:t>
              </a:r>
              <a:endParaRPr b="1" lang="en-US" sz="1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 flipV="1">
              <a:off x="2743200" y="1447560"/>
              <a:ext cx="10666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5562720" y="1447560"/>
            <a:ext cx="3124080" cy="1999080"/>
            <a:chOff x="5562720" y="1447560"/>
            <a:chExt cx="3124080" cy="1999080"/>
          </a:xfrm>
        </p:grpSpPr>
        <p:sp>
          <p:nvSpPr>
            <p:cNvPr id="157" name="Text Box 12"/>
            <p:cNvSpPr/>
            <p:nvPr/>
          </p:nvSpPr>
          <p:spPr>
            <a:xfrm>
              <a:off x="5562720" y="1981080"/>
              <a:ext cx="3124080" cy="1465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cs typeface="Times New Roman"/>
                </a:rPr>
                <a:t>ترجع الدالة 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nt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يمثل القيمة المقابلة للمفتاح 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hift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أو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trl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أو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lt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او المجموع إذا تم الضغط على اكتر من مفتاح .</a:t>
              </a:r>
              <a:endParaRPr b="1" lang="en-US" sz="1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V="1">
              <a:off x="7391520" y="1447560"/>
              <a:ext cx="22860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C79-185E-40F8-ADB3-CB6DD237EEE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eyDem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eyDem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CD10-B7E9-4A2F-A807-83438607ECE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بداية التنفي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ضغط على مفتا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عند فك الضغط من على المفتا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67" name="Picture 12" descr=""/>
          <p:cNvPicPr/>
          <p:nvPr/>
        </p:nvPicPr>
        <p:blipFill>
          <a:blip r:embed="rId1"/>
          <a:stretch/>
        </p:blipFill>
        <p:spPr>
          <a:xfrm>
            <a:off x="1676520" y="723960"/>
            <a:ext cx="5467320" cy="1562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2"/>
          <a:stretch/>
        </p:blipFill>
        <p:spPr>
          <a:xfrm>
            <a:off x="1828800" y="2895480"/>
            <a:ext cx="5533920" cy="1506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3"/>
          <a:stretch/>
        </p:blipFill>
        <p:spPr>
          <a:xfrm>
            <a:off x="1828800" y="4952880"/>
            <a:ext cx="55245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7A39-C0D5-4DCA-ABBD-65B3EAC108E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عند الضغط على مفتا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فك الضغط من على مفتا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1876320" y="1206360"/>
            <a:ext cx="5438880" cy="1536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2"/>
          <a:stretch/>
        </p:blipFill>
        <p:spPr>
          <a:xfrm>
            <a:off x="1828800" y="3890880"/>
            <a:ext cx="5391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A5DD-1C6F-4742-8EBF-5A6A913BD99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عند الضغط على مفتا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فك الضغط من على مفتا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1905120" y="4035600"/>
            <a:ext cx="5381640" cy="1527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5371920" cy="1528920"/>
          </a:xfrm>
          <a:prstGeom prst="rect">
            <a:avLst/>
          </a:prstGeom>
          <a:ln w="0">
            <a:noFill/>
          </a:ln>
        </p:spPr>
      </p:pic>
      <p:sp>
        <p:nvSpPr>
          <p:cNvPr id="182" name="Oval 10">
            <a:hlinkClick r:id="rId3" action="ppaction://hlinksldjump"/>
          </p:cNvPr>
          <p:cNvSpPr/>
          <p:nvPr/>
        </p:nvSpPr>
        <p:spPr>
          <a:xfrm>
            <a:off x="457200" y="6172200"/>
            <a:ext cx="228600" cy="2286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Layout Mana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out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for arranging GUI components in a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tLayou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er Meth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Layout Mana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low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for java.awt.Applet, java.awt.Panel and javax.swing.JPan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s components sequentially (left to right) in the order they were added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rder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for the content panes of JFrames and JAppl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s the components into five areas: NORTH, SOUTH, EAST, WEST and CEN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rid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s the components into rows and colum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3766-E363-40F7-BD3A-5A73BEF3C13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3520" y="914400"/>
            <a:ext cx="792468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Key Event Handling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Layout Managers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lowLayou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orderLayou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ridLayou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anels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Flow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Flow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layou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components placed in container from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edge of the container is reached, components continue to display on the nex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lass FlowLayou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Layo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Flow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lass FlowLayou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i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Alignment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 align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d009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0096"/>
                </a:solidFill>
                <a:latin typeface="Times New Roman"/>
              </a:rPr>
              <a:t>FlowLayout.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d009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0096"/>
                </a:solidFill>
                <a:latin typeface="Times New Roman"/>
              </a:rPr>
              <a:t>FlowLayout.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d009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0096"/>
                </a:solidFill>
                <a:latin typeface="Times New Roman"/>
              </a:rPr>
              <a:t>FlowLayout.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youtContainer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i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لة تعمل على إعادة ترتيب محتويات الـ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حالة التعديل في أحدى خصائص الــ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E885-64B3-4F2F-86A0-8749D8F7471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Example(11): 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FlowLayout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three buttons: Left, Right and center. When the user click on each one of those, the specific alignment must apply (align left, align right or align center). Use FlowLayout for your contain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1733400" y="3924360"/>
            <a:ext cx="52768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C2E7-309F-40BC-A390-8365AF9FD5D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vantGarde"/>
              </a:rPr>
              <a:t>Example(11):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Flow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ضغط على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ضغط على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ضغط على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5276880" cy="129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5257800" cy="1199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380880" y="5189400"/>
            <a:ext cx="530568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تصغير حجم الـ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استخدام الماو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981080" y="2401920"/>
            <a:ext cx="4029120" cy="18651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45720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1):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FlowLayout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C401-FF02-4A8C-AD5D-2E030935910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4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4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4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 clas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lowLayoutDemo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eftButton, centerButton, rightButt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Contain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ntain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FlowLay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ayou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lowLayoutDem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 )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"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FlowLayout Dem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;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get content pane and set its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layou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1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B28-A5DF-4DE9-86A5-5A0D54D8A79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up leftButton and register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ftButton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Button( "Left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leftButto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ftButton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Listener(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process leftButto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Performed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ction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you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Alignm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FlowLayout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.LEF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realign attached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you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layout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container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end call to add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1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89F0-1E53-4947-AA24-73F7A157743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up centerButton and register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enterButton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Button( “Center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centerButto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enterButton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Listener(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process leftButto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Performed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ction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you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Alignm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FlowLayout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.C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realign attached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you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layout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container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end call to add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1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5E5C-1EB3-48B0-8DD8-EC268523921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up rightButton and register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ightButton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Button( “Right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RightButto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ightButton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Listener(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process leftButto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Performed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ction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you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Alignm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FlowLayout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.RIGH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realign attached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you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layout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container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end call to add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1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0F3B-84CA-4E2B-98A7-778F31FAFEF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lowLayoutDem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lowLayoutDem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1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9C22-2948-4EA2-BC01-6DB4070C18F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9" name="Rectangle 1026"/>
          <p:cNvSpPr/>
          <p:nvPr/>
        </p:nvSpPr>
        <p:spPr>
          <a:xfrm>
            <a:off x="457200" y="30492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04920" indent="-304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Key Event Handling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33520" y="129528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events are Generated when keys on keyboard are pressed and released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Border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Border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nges components into five reg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top of contai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bottom of contai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right of contai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left of contai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center of contai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D37-D738-49B6-8326-869033D9F31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vantGarde"/>
              </a:rPr>
              <a:t>Example(12):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Border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five buttons on each region : North, South, Left, Right and center. When the user click on each one of those, the button will be invisible. Use BorderLayout for your contain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1981080" y="3098880"/>
            <a:ext cx="4572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80CD-8DC9-4282-986B-28DEF55C727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vantGarde"/>
              </a:rPr>
              <a:t>Example(12):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Border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ضغط عل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ضغط عل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e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4572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B01F-6F2B-48B4-803A-053D9928EF7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vantGarde"/>
              </a:rPr>
              <a:t>Example(12):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Border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ضغط عل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ضغط عل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266760" y="990720"/>
            <a:ext cx="4533840" cy="2563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2"/>
          <a:stretch/>
        </p:blipFill>
        <p:spPr>
          <a:xfrm>
            <a:off x="285840" y="3809880"/>
            <a:ext cx="45147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1D38-408F-4C17-9838-3B233F878D7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vantGarde"/>
              </a:rPr>
              <a:t>Example(12):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Border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لضغط عل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4960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2801-0AAE-47B6-960D-00347826897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 clas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rderLayoutDemo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mplement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ctionListe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uttons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in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ames[] = { "Hide North", "Hide South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Hide East", "Hide West", "Hide Center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ayou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rderLayoutDem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) {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"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BorderLay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Dem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yout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5, 5 )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5 pixel g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get content pane and set its lay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ainer =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layou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2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065640" y="4794120"/>
            <a:ext cx="3048120" cy="1067400"/>
            <a:chOff x="6065640" y="4794120"/>
            <a:chExt cx="3048120" cy="1067400"/>
          </a:xfrm>
        </p:grpSpPr>
        <p:sp>
          <p:nvSpPr>
            <p:cNvPr id="249" name="Text Box 6"/>
            <p:cNvSpPr/>
            <p:nvPr/>
          </p:nvSpPr>
          <p:spPr>
            <a:xfrm>
              <a:off x="6599160" y="4794120"/>
              <a:ext cx="2514600" cy="1067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5 pixel gabs between components horizontal and  vertical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50" name="Line 7"/>
            <p:cNvSpPr/>
            <p:nvPr/>
          </p:nvSpPr>
          <p:spPr>
            <a:xfrm flipH="1">
              <a:off x="6065640" y="525132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7F1C-A047-4F75-A35A-31404E20E82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instantiate button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 names.length 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 ( int count = 0; count &lt; names.length; count++ 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[ count ]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Button( names[ count 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[ count ]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h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place buttons in BorderLayout; order not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buttons[ 0 ],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.NOR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buttons[ 1 ],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.SOU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buttons[ 2 ],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.EA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buttons[ 3 ],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.WE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buttons[ 4 ],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.C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2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133720" y="5397480"/>
            <a:ext cx="4190760" cy="106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Method add with two parameters. The second is the region in which the component should appear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7396-F7CC-40F7-A3A7-C68878D0D6C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Performed(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Action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 ( int count = 0; count &lt; buttons.length; count++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(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Sour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 == buttons[ count ]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[ count ]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[ count ]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re-layout the content p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you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layout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2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1764-5597-4DC5-9358-45FBB7A3884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rderLayoutDem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rderLayoutDem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2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GridLayo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id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s container into grid of specified row and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re added starting at top-lef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 left-to-fight until row is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C8A-0AC1-43FF-93AD-93AC10EFF83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2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Key Event Handling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99072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95959"/>
                </a:solidFill>
                <a:latin typeface="Lucida Console"/>
                <a:ea typeface="Times New Roman"/>
              </a:rPr>
              <a:t>Event Type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         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: </a:t>
            </a:r>
            <a:r>
              <a:rPr b="1" lang="en-US" sz="25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keyEvent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95959"/>
                </a:solidFill>
                <a:latin typeface="Lucida Console"/>
                <a:ea typeface="Times New Roman"/>
              </a:rPr>
              <a:t>Implements Interface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KeyListener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d Event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لة إضافة الحد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dKeyListen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ndl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3BA8-0400-4D79-9CDA-DDEFC04225D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vantGarde"/>
              </a:rPr>
              <a:t>Example(13): </a:t>
            </a:r>
            <a:r>
              <a:rPr b="1" lang="en-US" sz="2600" spc="-1" strike="noStrike">
                <a:solidFill>
                  <a:srgbClr val="ff0000"/>
                </a:solidFill>
                <a:latin typeface="Lucida Console"/>
              </a:rPr>
              <a:t>GridLayout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sex buttons. When the user click on each one of those, the layout will change to another and vi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a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Use GrideLayout for your contain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0" y="3505320"/>
            <a:ext cx="4229280" cy="2114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4876920" y="3467160"/>
            <a:ext cx="4267080" cy="21416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8"/>
          <p:cNvSpPr/>
          <p:nvPr/>
        </p:nvSpPr>
        <p:spPr>
          <a:xfrm>
            <a:off x="4267080" y="42670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A06A-2E33-4B4E-866B-21A9A7E7A97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ridLayoutDemo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mplement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ctionListen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buttons[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fin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names[]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 "one", "two", "three", "four", "five", "six" 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boolea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toggle 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containe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Grid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grid1, grid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ridLayoutDem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) {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"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rideLay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Dem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rid1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Grid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2, 3, 5, 5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rid2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Grid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3, 2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3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76" name="Group 12"/>
          <p:cNvGrpSpPr/>
          <p:nvPr/>
        </p:nvGrpSpPr>
        <p:grpSpPr>
          <a:xfrm>
            <a:off x="5105160" y="4191120"/>
            <a:ext cx="3810240" cy="1600200"/>
            <a:chOff x="5105160" y="4191120"/>
            <a:chExt cx="3810240" cy="1600200"/>
          </a:xfrm>
        </p:grpSpPr>
        <p:sp>
          <p:nvSpPr>
            <p:cNvPr id="277" name="Text Box 7"/>
            <p:cNvSpPr/>
            <p:nvPr/>
          </p:nvSpPr>
          <p:spPr>
            <a:xfrm>
              <a:off x="6248520" y="4191120"/>
              <a:ext cx="2666880" cy="143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2 rows, 3 columns ,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5 pixel gabs between components horizontal and  vertical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 flipH="1">
              <a:off x="5105160" y="4876920"/>
              <a:ext cx="114300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1D5F-F51F-4216-AA1B-04FBBCAD89A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get content pane and set its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grid1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and add but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 names.length 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 ( int count = 0; count &lt; names.length; count++ 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[ count ]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names[ count 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[ count ]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h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buttons[ count 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3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62B1-D81C-4767-B3BE-B819AA77752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handle button events by toggling between lay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Performed(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Action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( toggle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grid2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grid1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ggle = !toggle;   // set toggle to opposite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valid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/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force the container to again lay out the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3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CE30-9872-453A-BD91-7AFE605C1CA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ridLayoutDem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ridLayoutDem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3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ne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organiz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J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components (and other panels) added to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7CA2-7982-429A-AAC3-2684A2BAB36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Example(14): 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Panels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five buttons. As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2485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7C48-DCA2-47C2-93D3-186FC424973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anelDemo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implements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 ActionListen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anelDem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) {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"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anel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Dem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2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get content 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container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buttons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 []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buttons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 5 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1C26-C586-48A6-8F0F-DFD81C9BCD6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up panel and set its 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Panel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Panel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Grid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1, buttons.length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and add but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r ( int count = 0; count &lt; buttons.length; count++ 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[ count ]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Button " + ( count + 1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Panel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buttons[ count 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buttonPanel,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OU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784E-3F8B-4B73-8779-291FE8A1E04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nelDemo</a:t>
            </a:r>
            <a:r>
              <a:rPr b="1" i="1" lang="en-US" sz="5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nelDem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304920" y="22860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Key  Event  Handling  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219320"/>
          <a:ext cx="8610480" cy="438444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59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thods of interface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Listener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3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ethods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: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Pressed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ar-SA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eyEvent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 )</a:t>
                      </a:r>
                      <a:endParaRPr b="1" lang="en-US" sz="25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called in response to pressing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ny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key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leased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ar-SA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eyEvent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event )</a:t>
                      </a:r>
                      <a:endParaRPr b="1" lang="en-US" sz="25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called when the key is released after any keyPressed or keyTyped ev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keyTyped (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eyEven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event 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592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called in response to pressing any key that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ve ASCII Cod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FAA9-3D2A-4D03-935B-62B3EA6163D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Example(10): Key Event Handling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all the Key Ev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e the outpu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>
            <a:hlinkClick r:id="rId1" action="ppaction://hlinksldjump"/>
          </p:cNvPr>
          <p:cNvSpPr/>
          <p:nvPr/>
        </p:nvSpPr>
        <p:spPr>
          <a:xfrm>
            <a:off x="3048120" y="1676520"/>
            <a:ext cx="152280" cy="2286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159A-37C9-4481-8BDF-42735C7A746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 clas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eyDem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implements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Key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line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"",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line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"",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line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JTextAre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textAre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eyDemo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 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Demonstrating Keystroke Event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5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6584760" y="2396880"/>
            <a:ext cx="2178360" cy="642600"/>
            <a:chOff x="6584760" y="2396880"/>
            <a:chExt cx="2178360" cy="642600"/>
          </a:xfrm>
        </p:grpSpPr>
        <p:sp>
          <p:nvSpPr>
            <p:cNvPr id="115" name="Text Box 6"/>
            <p:cNvSpPr/>
            <p:nvPr/>
          </p:nvSpPr>
          <p:spPr>
            <a:xfrm>
              <a:off x="6813720" y="2702160"/>
              <a:ext cx="19494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Use implements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H="1" flipV="1">
              <a:off x="6584760" y="2396880"/>
              <a:ext cx="456840" cy="30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CD1B-F71C-4A9F-AA0F-FCCFA4388F4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xtArea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TextArea( 10, 15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xtArea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Press any key on the keyboard...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tContentPane()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textArea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Key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     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        // allow frame to process key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99E2-2AE8-4074-8887-DF6B9C5FF82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press of an action k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Action key 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  <a:cs typeface="Times New Roman"/>
              </a:rPr>
              <a:t>عند الضغط على أي مفتاح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Press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ey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ne1 = "Key pressed: 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Key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KeyCod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ines2and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even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0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638680" y="2590920"/>
            <a:ext cx="3140280" cy="1789920"/>
            <a:chOff x="5638680" y="2590920"/>
            <a:chExt cx="3140280" cy="1789920"/>
          </a:xfrm>
        </p:grpSpPr>
        <p:sp>
          <p:nvSpPr>
            <p:cNvPr id="126" name="Text Box 7"/>
            <p:cNvSpPr/>
            <p:nvPr/>
          </p:nvSpPr>
          <p:spPr>
            <a:xfrm>
              <a:off x="5638680" y="3463920"/>
              <a:ext cx="3140280" cy="91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cs typeface="Times New Roman"/>
                </a:rPr>
                <a:t>تقوم الدالة بإرجاع قيمة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nt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تمثل الــ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de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للمفتاح المعين</a:t>
              </a:r>
              <a:endParaRPr b="1" lang="en-US" sz="1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 flipV="1">
              <a:off x="7086600" y="2590920"/>
              <a:ext cx="30492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2133720" y="2590920"/>
            <a:ext cx="3139920" cy="1953000"/>
            <a:chOff x="2133720" y="2590920"/>
            <a:chExt cx="3139920" cy="1953000"/>
          </a:xfrm>
        </p:grpSpPr>
        <p:sp>
          <p:nvSpPr>
            <p:cNvPr id="129" name="Text Box 13"/>
            <p:cNvSpPr/>
            <p:nvPr/>
          </p:nvSpPr>
          <p:spPr>
            <a:xfrm>
              <a:off x="2133720" y="3352680"/>
              <a:ext cx="313992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cs typeface="Times New Roman"/>
                </a:rPr>
                <a:t>تستقبل الدالة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nt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يمثل الــ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de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وترجع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tring</a:t>
              </a:r>
              <a:r>
                <a:rPr b="1" lang="ar-SA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يمثل الشكل المطبوع في ال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keyBoard</a:t>
              </a:r>
              <a:endParaRPr b="1" lang="en-US" sz="1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733920" y="2590920"/>
              <a:ext cx="99036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dor</dc:creator>
  <dc:description/>
  <dc:language>en-US</dc:language>
  <cp:lastModifiedBy>ahmed azez</cp:lastModifiedBy>
  <dcterms:modified xsi:type="dcterms:W3CDTF">2018-08-11T04:53:47Z</dcterms:modified>
  <cp:revision>791</cp:revision>
  <dc:subject/>
  <dc:title>PowerPoint Presentation</dc:title>
</cp:coreProperties>
</file>