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  <p:custShowLst>
    <p:custShow name="Custom Show 1" id="0">
      <p:sldLst>
        <p:sld r:id="rId5"/>
        <p:sld r:id="rId6"/>
        <p:sld r:id="rId9"/>
        <p:sld r:id="rId10"/>
        <p:sld r:id="rId12"/>
        <p:sld r:id="rId13"/>
        <p:sld r:id="rId14"/>
        <p:sld r:id="rId21"/>
        <p:sld r:id="rId29"/>
        <p:sld r:id="rId34"/>
        <p:sld r:id="rId3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8F1-F717-4B6F-A5AC-1FB1C4C701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D13-986B-4D4F-8C47-E850DA8997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67DE-D114-45F0-AAAB-C43658040A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050-D639-4042-BDC7-F727774209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CF3-76D5-4AF3-96CB-0746E37E32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C37-6221-41FF-8BCA-F9EDB381CC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E9F-F0D8-47B2-997F-A251CACF0B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E1B-8922-49DF-8A7D-54E40858D6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2DB6-9C5B-4F41-852A-681E807D76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C91-AC14-4EB6-9413-90E69D3520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142-E3EB-4904-B7BF-137165EA9E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110A-79F6-47E0-9E27-950A1FE26C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5FEF-27A5-4B9F-87A9-CD2C40182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D46F-9878-4FE6-9DE5-09E2A9FBD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0493-C337-4707-B76A-3DA57CCCA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356C-71C8-404F-8C45-267FB32BD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825B-AA8D-4E1B-A64D-6D9A35465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67DB-0274-4567-A9D4-4AAA0E458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1692-722F-4752-9969-7EC3B4908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50CC-C10B-42CB-8BE7-69511EC22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7E78-5396-4CC1-BDAF-307C999C9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4F50-7E01-4539-A94F-79DFAD4EB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9DFA-1230-42B6-80F9-90A13AFA4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723-879C-47B6-9968-4F18F31BD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071-A0F9-4E6D-97A7-B1363547C5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phics and Java 2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lor Control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3000" spc="-1" strike="noStrike">
                <a:solidFill>
                  <a:srgbClr val="000000"/>
                </a:solidFill>
                <a:latin typeface="Lucida Console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s methods and constants for manipulating col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ors are created from 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col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e called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G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onstants and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G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al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52280" y="838080"/>
          <a:ext cx="87631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763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lor constructors and metho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lor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color based on red, green and blue components expressed as integers from 0 to 25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lor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lo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lo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lo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color based on red, green and blue components expressed as floating point values from 0.0 to 1.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Re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value between 0 and 255 representing the red cont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Gree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value between 0 and 255 representing the green cont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lor constructors and metho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Blu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value between 0 and 255 representing the blue cont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Color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object representing the current color for the graphics con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Color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the current color for drawing with the graphics contex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1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Color</a:t>
            </a: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present the following win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486400" cy="31244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5181480" y="2165400"/>
            <a:ext cx="3581640" cy="806400"/>
            <a:chOff x="5181480" y="2165400"/>
            <a:chExt cx="3581640" cy="806400"/>
          </a:xfrm>
        </p:grpSpPr>
        <p:sp>
          <p:nvSpPr>
            <p:cNvPr id="120" name="Text Box 6"/>
            <p:cNvSpPr/>
            <p:nvPr/>
          </p:nvSpPr>
          <p:spPr>
            <a:xfrm>
              <a:off x="6477120" y="2165400"/>
              <a:ext cx="22860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: Using color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H="1">
              <a:off x="5181480" y="2514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howColo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howColo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Using colors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set Title bar for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tep4: set the size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p5: display JFrame o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g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setColor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0 , 0 ) );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6: set red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g.setColor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1.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 , 0.0f , 0.0f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g.setColor(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685800" y="5213520"/>
            <a:ext cx="8305920" cy="1263960"/>
            <a:chOff x="685800" y="5213520"/>
            <a:chExt cx="8305920" cy="1263960"/>
          </a:xfrm>
        </p:grpSpPr>
        <p:sp>
          <p:nvSpPr>
            <p:cNvPr id="124" name="Rectangle 8"/>
            <p:cNvSpPr/>
            <p:nvPr/>
          </p:nvSpPr>
          <p:spPr>
            <a:xfrm>
              <a:off x="685800" y="5346000"/>
              <a:ext cx="5410080" cy="8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6534000" y="5286240"/>
              <a:ext cx="245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we can also set Color by passing these  values  to setColor() metho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2"/>
            <p:cNvSpPr/>
            <p:nvPr/>
          </p:nvSpPr>
          <p:spPr>
            <a:xfrm>
              <a:off x="6019920" y="5213520"/>
              <a:ext cx="577800" cy="1259640"/>
            </a:xfrm>
            <a:custGeom>
              <a:avLst/>
              <a:gdLst>
                <a:gd name="textAreaLeft" fmla="*/ 0 w 577800"/>
                <a:gd name="textAreaRight" fmla="*/ 208440 w 577800"/>
                <a:gd name="textAreaTop" fmla="*/ 32760 h 1259640"/>
                <a:gd name="textAreaBottom" fmla="*/ 1226880 h 12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6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): Color Code samp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lor Code s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step7: draw Rectangle shape and fill it with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d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llR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100 ,  100 ,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pai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Colo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Colo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showColors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 output: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nt Control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3000" spc="-1" strike="noStrike">
                <a:solidFill>
                  <a:srgbClr val="000000"/>
                </a:solidFill>
                <a:latin typeface="Lucida Console"/>
              </a:rPr>
              <a:t>Fo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methods and constants for font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nt constructor takes three argum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onospac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ansSer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r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PLAIN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nt style can be used in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e.g.,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ITALIC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nt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BOL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in points (1/72 of in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o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related methods and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final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stant representing a plain font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final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stant representing a bold font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final static 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stant representing an italic font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nt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ame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yle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Font object with the specific font, style and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Styl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n integer value indicating the current font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905120" y="3809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vantGarde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Class Graphics and Method pai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Col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Fon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"/>
              </a:rPr>
              <a:t>Drawing Lines, Rectangles and O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o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related metho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Siz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n integer value indicating the current font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current font name as a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St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etFamil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font’s family name as a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bool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Plai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a font for a plain font style. Returns true if the font is pl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bool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Bold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a font for a bold font style. Returns true if the font is b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o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related metho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bool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Italic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a font for an italic font style. Returns true if the font is ita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Fo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Fo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Font object reference representing the current f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Font(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the current font to the font, style and size specified by the Font object reference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5715000" cy="2776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09480" y="12952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program that represent the following wind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049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Example(2): using 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Font</a:t>
            </a:r>
            <a:r>
              <a:rPr b="1" i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5181480" y="2165400"/>
            <a:ext cx="3581640" cy="806400"/>
            <a:chOff x="5181480" y="2165400"/>
            <a:chExt cx="3581640" cy="806400"/>
          </a:xfrm>
        </p:grpSpPr>
        <p:sp>
          <p:nvSpPr>
            <p:cNvPr id="146" name="Text Box 9"/>
            <p:cNvSpPr/>
            <p:nvPr/>
          </p:nvSpPr>
          <p:spPr>
            <a:xfrm>
              <a:off x="6477120" y="2165400"/>
              <a:ext cx="22860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: Fon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 flipH="1">
              <a:off x="5181480" y="2514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raphic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 class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Fo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Fo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“ Fonts "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set Title bar for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tep4: set the size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tVisible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p5: display JFrame on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ai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raphic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//step6: set Font ( type ,  style ,  size)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setFont(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ont( "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ri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Font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OL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//step7: draw String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drawString( "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Some 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end of pain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2): Font Code samp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lor Code s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Fo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pplicatio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Font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applicatio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end of 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609480"/>
            <a:ext cx="861048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 outpu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76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rawing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methods for draw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v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Lin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line between the point (x1,y1) and the point (x2,y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rectangle of the specified width and height. The top-left corner of the rectangle has the coordinates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solid rectangle of the specified width and height. The top-left corner of the rectangle has the coordinates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solid rectangle of the specified width and height in the current background color. The top-left corner of the rectangle has the coordinates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Roun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Width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rectangle with rounded corners in the current color with the specified width and height. The arcWidth and arcHeight determine the rounding of the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Roun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Width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c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solid rectangle with rounded corners in the current color with the specified width and height. The arcWidth and arcHeight determine the rounding of the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3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three dimensional rectangle in the current color with the specified width and height. The top-left corner of the rectangle has the coordinates (x,y). The rectangle appears raised when b is true and lowered when b i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3DRect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filled three dimensional rectangle in the current color with the specified width and height. The top-left corner of the rectangle has the coordinates (x,y). The rectangle appears raised when b is true and lowered when b is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’s graphics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ing 2D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col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fo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sophisticated graphic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ing the style of lines used to draw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 custom 2D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ing shapes with colors and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Graphic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methods that draw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Oval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n oval in the current color with the specified width and height. The bounding rectangle’s top-left corner is at the coordinates (x,y). The oval touches all four sides of the bounding rectangle at the center of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Oval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s a filled oval in the current color with the specified width and height. The bounding rectangle’s top-left corner is at the coordinates (x,y). The oval touches all four sides of the bounding rectangle at the center of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c width and arc height for rounded rectang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al bounded by a rectang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70866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Example(3): Drawing lines, rectangles and ova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display the following sha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2" descr="12_14"/>
          <p:cNvPicPr/>
          <p:nvPr/>
        </p:nvPicPr>
        <p:blipFill>
          <a:blip r:embed="rId1"/>
          <a:stretch/>
        </p:blipFill>
        <p:spPr>
          <a:xfrm>
            <a:off x="1523880" y="2314440"/>
            <a:ext cx="6172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Fig. 12.14: LinesRectsOvals.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  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rawing lines, rectangles and ova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3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.aw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4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avax.swing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5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6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inesRectsOval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extend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JFram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7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8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set window's title bar String and 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9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inesRectsOval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1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"Drawing lines, rectangles and ovals"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2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3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Size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65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4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setVisible(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5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6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display various lines, rectangles and 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8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paint( Graphics g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19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0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paint( g );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call superclass's paint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1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2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setColor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R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3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Line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5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3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4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5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setColor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BLU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6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Rect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27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fillRect(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29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setColor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CYAN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0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fillRoundRect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9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1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RoundRect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3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setColor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YELLOW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4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3DRect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u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5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fill3DRect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fals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7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setColor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Color.MAGENTA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8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drawOval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9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39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 g.fillOval(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2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10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90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55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0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1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 </a:t>
            </a: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method 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3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xecut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4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main( String args[]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5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6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LinesRectsOvals application =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LinesRectsOval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7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application.setDefaultCloseOperation(</a:t>
            </a:r>
            <a:r>
              <a:rPr b="1" lang="en-US" sz="1600" spc="-1" strike="noStrike">
                <a:solidFill>
                  <a:srgbClr val="0099ff"/>
                </a:solidFill>
                <a:latin typeface="Lucida Console"/>
                <a:ea typeface="Times New Roman"/>
              </a:rPr>
              <a:t>JFrame.EXIT_ON_CLOS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8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49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50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} </a:t>
            </a: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Times New Roman"/>
              </a:rPr>
              <a:t>// end class LinesRectsO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5562720" y="1218960"/>
            <a:ext cx="3580560" cy="337680"/>
            <a:chOff x="5562720" y="1218960"/>
            <a:chExt cx="3580560" cy="337680"/>
          </a:xfrm>
        </p:grpSpPr>
        <p:sp>
          <p:nvSpPr>
            <p:cNvPr id="176" name="Text Box 8"/>
            <p:cNvSpPr/>
            <p:nvPr/>
          </p:nvSpPr>
          <p:spPr>
            <a:xfrm>
              <a:off x="5960160" y="1219320"/>
              <a:ext cx="3183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(non-filled) rounde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5562720" y="1218960"/>
              <a:ext cx="397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6019920" y="1676520"/>
            <a:ext cx="2819160" cy="337320"/>
            <a:chOff x="6019920" y="1676520"/>
            <a:chExt cx="2819160" cy="337320"/>
          </a:xfrm>
        </p:grpSpPr>
        <p:sp>
          <p:nvSpPr>
            <p:cNvPr id="179" name="Line 11"/>
            <p:cNvSpPr/>
            <p:nvPr/>
          </p:nvSpPr>
          <p:spPr>
            <a:xfrm flipH="1">
              <a:off x="6019920" y="182880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7039080" y="1676520"/>
              <a:ext cx="1800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3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3"/>
          <p:cNvGrpSpPr/>
          <p:nvPr/>
        </p:nvGrpSpPr>
        <p:grpSpPr>
          <a:xfrm>
            <a:off x="5105160" y="2209680"/>
            <a:ext cx="3480120" cy="337320"/>
            <a:chOff x="5105160" y="2209680"/>
            <a:chExt cx="3480120" cy="337320"/>
          </a:xfrm>
        </p:grpSpPr>
        <p:sp>
          <p:nvSpPr>
            <p:cNvPr id="182" name="Text Box 14"/>
            <p:cNvSpPr/>
            <p:nvPr/>
          </p:nvSpPr>
          <p:spPr>
            <a:xfrm>
              <a:off x="6248520" y="2209680"/>
              <a:ext cx="2336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filled 3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H="1" flipV="1">
              <a:off x="5105160" y="220968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5257440" y="2666880"/>
            <a:ext cx="3204000" cy="337320"/>
            <a:chOff x="5257440" y="2666880"/>
            <a:chExt cx="3204000" cy="337320"/>
          </a:xfrm>
        </p:grpSpPr>
        <p:sp>
          <p:nvSpPr>
            <p:cNvPr id="185" name="Line 17"/>
            <p:cNvSpPr/>
            <p:nvPr/>
          </p:nvSpPr>
          <p:spPr>
            <a:xfrm flipH="1">
              <a:off x="5257440" y="28191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7391520" y="2666880"/>
              <a:ext cx="106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ov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5181120" y="3123720"/>
            <a:ext cx="3657960" cy="337680"/>
            <a:chOff x="5181120" y="3123720"/>
            <a:chExt cx="3657960" cy="337680"/>
          </a:xfrm>
        </p:grpSpPr>
        <p:sp>
          <p:nvSpPr>
            <p:cNvPr id="188" name="Text Box 20"/>
            <p:cNvSpPr/>
            <p:nvPr/>
          </p:nvSpPr>
          <p:spPr>
            <a:xfrm>
              <a:off x="7162560" y="312408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filled ov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H="1" flipV="1">
              <a:off x="5181120" y="3123720"/>
              <a:ext cx="198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7"/>
          <p:cNvGrpSpPr/>
          <p:nvPr/>
        </p:nvGrpSpPr>
        <p:grpSpPr>
          <a:xfrm>
            <a:off x="4876560" y="304920"/>
            <a:ext cx="3962520" cy="457200"/>
            <a:chOff x="4876560" y="304920"/>
            <a:chExt cx="3962520" cy="457200"/>
          </a:xfrm>
        </p:grpSpPr>
        <p:sp>
          <p:nvSpPr>
            <p:cNvPr id="191" name="Line 5"/>
            <p:cNvSpPr/>
            <p:nvPr/>
          </p:nvSpPr>
          <p:spPr>
            <a:xfrm flipH="1">
              <a:off x="4876560" y="457200"/>
              <a:ext cx="1098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"/>
            <p:cNvSpPr/>
            <p:nvPr/>
          </p:nvSpPr>
          <p:spPr>
            <a:xfrm>
              <a:off x="5943600" y="3049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filled rounde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9"/>
          <p:cNvGrpSpPr/>
          <p:nvPr/>
        </p:nvGrpSpPr>
        <p:grpSpPr>
          <a:xfrm>
            <a:off x="152280" y="457200"/>
            <a:ext cx="8839440" cy="5823720"/>
            <a:chOff x="152280" y="457200"/>
            <a:chExt cx="8839440" cy="5823720"/>
          </a:xfrm>
        </p:grpSpPr>
        <p:pic>
          <p:nvPicPr>
            <p:cNvPr id="194" name="Picture 22" descr="12_14"/>
            <p:cNvPicPr/>
            <p:nvPr/>
          </p:nvPicPr>
          <p:blipFill>
            <a:blip r:embed="rId1"/>
            <a:stretch/>
          </p:blipFill>
          <p:spPr>
            <a:xfrm>
              <a:off x="1523880" y="1857240"/>
              <a:ext cx="617220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5"/>
            <p:cNvSpPr/>
            <p:nvPr/>
          </p:nvSpPr>
          <p:spPr>
            <a:xfrm flipH="1">
              <a:off x="4952520" y="914400"/>
              <a:ext cx="3366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5257800" y="7621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led rounde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5808600" y="1330200"/>
              <a:ext cx="3183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filled) rounde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5961240" y="1676520"/>
              <a:ext cx="3632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 flipV="1">
              <a:off x="1038240" y="4419720"/>
              <a:ext cx="8668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1019160" y="5943600"/>
              <a:ext cx="18003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2743200" y="5410080"/>
              <a:ext cx="23367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led 3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V="1">
              <a:off x="2743200" y="441936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 flipV="1">
              <a:off x="5181480" y="43434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5181480" y="5943600"/>
              <a:ext cx="106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ov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6553080" y="5521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filled ov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 flipV="1">
              <a:off x="6553080" y="4495320"/>
              <a:ext cx="76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>
              <a:off x="1708200" y="609480"/>
              <a:ext cx="5014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1676520" y="457200"/>
              <a:ext cx="1752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"/>
            <p:cNvSpPr/>
            <p:nvPr/>
          </p:nvSpPr>
          <p:spPr>
            <a:xfrm>
              <a:off x="3352680" y="1447920"/>
              <a:ext cx="1526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"/>
            <p:cNvSpPr/>
            <p:nvPr/>
          </p:nvSpPr>
          <p:spPr>
            <a:xfrm>
              <a:off x="2743200" y="106668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led rectangl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>
              <a:off x="838080" y="152388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52280" y="1177920"/>
              <a:ext cx="1371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aw lin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and interfaces used in this chapter from Java’s original graphics capabilities and from the Java2D API.</a:t>
            </a:r>
            <a:endParaRPr b="1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562720" y="1371600"/>
            <a:ext cx="2895480" cy="459720"/>
          </a:xfrm>
          <a:prstGeom prst="rect">
            <a:avLst/>
          </a:prstGeom>
          <a:solidFill>
            <a:srgbClr val="ff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java.aw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0"/>
          <p:cNvGrpSpPr/>
          <p:nvPr/>
        </p:nvGrpSpPr>
        <p:grpSpPr>
          <a:xfrm>
            <a:off x="380880" y="1143000"/>
            <a:ext cx="4724640" cy="5096520"/>
            <a:chOff x="380880" y="1143000"/>
            <a:chExt cx="4724640" cy="5096520"/>
          </a:xfrm>
        </p:grpSpPr>
        <p:sp>
          <p:nvSpPr>
            <p:cNvPr id="58" name="Text Box 3"/>
            <p:cNvSpPr/>
            <p:nvPr/>
          </p:nvSpPr>
          <p:spPr>
            <a:xfrm>
              <a:off x="380880" y="1143000"/>
              <a:ext cx="160020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1752480" y="18288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1752480" y="22860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1752480" y="27432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1752480" y="32004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ontMetric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1752480" y="36576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phic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 flipV="1">
              <a:off x="1066680" y="152352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 flipH="1">
              <a:off x="106632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 flipH="1">
              <a:off x="106632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 flipH="1">
              <a:off x="1066320" y="2895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 flipH="1">
              <a:off x="10663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5"/>
            <p:cNvSpPr/>
            <p:nvPr/>
          </p:nvSpPr>
          <p:spPr>
            <a:xfrm flipH="1">
              <a:off x="1066320" y="3809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1752480" y="5486400"/>
              <a:ext cx="160020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dientPai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1752480" y="590220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xturePai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1"/>
            <p:cNvSpPr/>
            <p:nvPr/>
          </p:nvSpPr>
          <p:spPr>
            <a:xfrm flipH="1">
              <a:off x="106632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2"/>
            <p:cNvSpPr/>
            <p:nvPr/>
          </p:nvSpPr>
          <p:spPr>
            <a:xfrm flipH="1">
              <a:off x="1066320" y="5673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 flipH="1">
              <a:off x="1066320" y="6054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3505320" y="4149720"/>
              <a:ext cx="160020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raphic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5"/>
            <p:cNvGrpSpPr/>
            <p:nvPr/>
          </p:nvGrpSpPr>
          <p:grpSpPr>
            <a:xfrm>
              <a:off x="2590920" y="4038480"/>
              <a:ext cx="914400" cy="304560"/>
              <a:chOff x="2590920" y="4038480"/>
              <a:chExt cx="914400" cy="304560"/>
            </a:xfrm>
          </p:grpSpPr>
          <p:sp>
            <p:nvSpPr>
              <p:cNvPr id="77" name="Line 26"/>
              <p:cNvSpPr/>
              <p:nvPr/>
            </p:nvSpPr>
            <p:spPr>
              <a:xfrm flipV="1">
                <a:off x="2590920" y="4038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7"/>
              <p:cNvSpPr/>
              <p:nvPr/>
            </p:nvSpPr>
            <p:spPr>
              <a:xfrm>
                <a:off x="25909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28"/>
            <p:cNvSpPr/>
            <p:nvPr/>
          </p:nvSpPr>
          <p:spPr>
            <a:xfrm>
              <a:off x="1752480" y="5029200"/>
              <a:ext cx="160020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BasicStrok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and interfaces used in this chapter from Java’s original graphics capabilities and from the Java2D API.</a:t>
            </a:r>
            <a:endParaRPr b="1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800600" y="1371600"/>
            <a:ext cx="3657600" cy="459720"/>
          </a:xfrm>
          <a:prstGeom prst="rect">
            <a:avLst/>
          </a:prstGeom>
          <a:solidFill>
            <a:srgbClr val="ff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e java.awt.ge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2"/>
          <p:cNvGrpSpPr/>
          <p:nvPr/>
        </p:nvGrpSpPr>
        <p:grpSpPr>
          <a:xfrm>
            <a:off x="685800" y="1523880"/>
            <a:ext cx="5409720" cy="4106160"/>
            <a:chOff x="685800" y="1523880"/>
            <a:chExt cx="5409720" cy="4106160"/>
          </a:xfrm>
        </p:grpSpPr>
        <p:sp>
          <p:nvSpPr>
            <p:cNvPr id="83" name="Text Box 4"/>
            <p:cNvSpPr/>
            <p:nvPr/>
          </p:nvSpPr>
          <p:spPr>
            <a:xfrm>
              <a:off x="685800" y="1523880"/>
              <a:ext cx="1599840" cy="337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2057040" y="2209680"/>
              <a:ext cx="1599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GeneralPat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2057040" y="266688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Lin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2057040" y="3124080"/>
              <a:ext cx="198108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ectangularShap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3809880" y="426708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llips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 flipV="1">
              <a:off x="1371240" y="19047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H="1">
              <a:off x="1371240" y="2361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 flipH="1">
              <a:off x="1371240" y="28191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H="1">
              <a:off x="1371240" y="32763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5"/>
            <p:cNvSpPr/>
            <p:nvPr/>
          </p:nvSpPr>
          <p:spPr>
            <a:xfrm>
              <a:off x="3809880" y="4800600"/>
              <a:ext cx="15998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ectangl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6"/>
            <p:cNvSpPr/>
            <p:nvPr/>
          </p:nvSpPr>
          <p:spPr>
            <a:xfrm>
              <a:off x="3809880" y="5341680"/>
              <a:ext cx="228564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RoundRectangle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1"/>
            <p:cNvSpPr/>
            <p:nvPr/>
          </p:nvSpPr>
          <p:spPr>
            <a:xfrm>
              <a:off x="3809880" y="3733560"/>
              <a:ext cx="15998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Arc2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3"/>
            <p:cNvSpPr/>
            <p:nvPr/>
          </p:nvSpPr>
          <p:spPr>
            <a:xfrm flipV="1">
              <a:off x="2895480" y="34286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895480" y="38862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9"/>
            <p:cNvSpPr/>
            <p:nvPr/>
          </p:nvSpPr>
          <p:spPr>
            <a:xfrm>
              <a:off x="2895480" y="441936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0"/>
            <p:cNvSpPr/>
            <p:nvPr/>
          </p:nvSpPr>
          <p:spPr>
            <a:xfrm>
              <a:off x="2895480" y="495288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1"/>
            <p:cNvSpPr/>
            <p:nvPr/>
          </p:nvSpPr>
          <p:spPr>
            <a:xfrm>
              <a:off x="2895480" y="548640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ava’s coordinat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me for identifying all points on scre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per-left corner has coordinat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ordinate point composed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-coordin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-coordin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va coordinate system. Units are measured in pix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03" name="Picture 20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113680" cy="31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ink of a GUI component as a piece of paper and the  Graphics object as a pe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You can apply the methods in the  Graphics class to draw things on a GUI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Graphics and Method pai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ass Graph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s drawing on scre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bstra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mpon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pai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k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public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void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paint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000066"/>
                </a:solidFill>
                <a:latin typeface="Lucida Console"/>
              </a:rPr>
              <a:t>Graphics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g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rough metho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rep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ed azez</cp:lastModifiedBy>
  <dcterms:modified xsi:type="dcterms:W3CDTF">2018-06-28T08:09:22Z</dcterms:modified>
  <cp:revision>229</cp:revision>
  <dc:subject/>
  <dc:title>PowerPoint Presentation</dc:title>
</cp:coreProperties>
</file>