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1D4-BF49-4EDA-A330-2ACCB4F3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5DD-BE17-4AA3-BEBB-614F9510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8CF-D568-4208-B883-0AC1382A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E45-9BE7-414F-A576-57BF92D7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4E8-9A8C-45E3-91B8-B0C8C04D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BD5-6A8A-4A38-AB7A-074F53BC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FC7-D940-46F1-A96B-7BB67457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1E5-2F49-4339-AF5C-A211CF23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E6E-0763-4292-BB84-72C8F111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541-1FC2-4490-9B27-24F24B8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C8B-1E1F-4F7C-8443-6EE455D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5BC-87CE-41B3-83D5-BB03B3B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9453-6A2B-40B6-B2A8-07A10C194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880" y="3724200"/>
            <a:ext cx="6386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Fou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, Models, and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1905120"/>
          <a:ext cx="6353280" cy="31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635328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0" y="60948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-Ti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4440" y="5649840"/>
            <a:ext cx="5316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layer plays the dual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to the top-level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to the manag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middle level: Remote moni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gent (R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1295280"/>
          <a:ext cx="487692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48769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4560" y="533520"/>
            <a:ext cx="43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 of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3640" y="5726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280" y="5649840"/>
            <a:ext cx="5433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NMS manages th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 presents integrated view of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may be geographical, administrativ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vendor-specific produ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676520"/>
          <a:ext cx="548640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548640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360" y="5335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er NM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3800" y="5649840"/>
            <a:ext cx="578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role of both N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management system acts as pe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mbbell architecture discussed in Chapt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the manager and agent functions 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rocesses and no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33520"/>
            <a:ext cx="5562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Model: Analog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" y="1447920"/>
            <a:ext cx="5860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in a book uniquely identifi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BN, Chapter, and Figure number in th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ierarch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: {ISBN, chapter, figur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e elements above define the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is the meaning of the thre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ntities according to Webster’s 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comprises syntax and seman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bout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4876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876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09480"/>
            <a:ext cx="6858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 of Management Inform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(SM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0280" y="1447920"/>
            <a:ext cx="6005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I defines for a manag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additional information such a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ysDesc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ystem 1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Syntax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ET ST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A textual description of the entity. 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Acce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-on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Stat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800" y="609480"/>
            <a:ext cx="63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Information Base (MI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360" y="1295280"/>
            <a:ext cx="61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base contains information about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d by grouping of relat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relationship betwee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a physical database. 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atabase that is compiled into management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33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Base View: An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2000" y="1154160"/>
            <a:ext cx="586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ton County library system has many bra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ranch has a set of 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oks in each branch is a differen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base of the county has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view (catalog) of all 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base of each branch has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atalog of books that belong to that branch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at is, each branch has its view (catalog)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information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apply this to MIB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5240" y="533520"/>
            <a:ext cx="59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B View and Access of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240" y="1154160"/>
            <a:ext cx="5555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aged object has many attributes - i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formation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operations that can b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erformed on th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ser (manager) can view and perform on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ertain operations on the object by invo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management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ew of the object attributes that the ag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erceives is the MIB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ration that a user can perform is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B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09480" y="499284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99284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0040" y="5335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Data Base / Information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240" y="5486400"/>
            <a:ext cx="599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ction between MDB and 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B physical database; e.g.. Oracle, Sy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 virtual database; schema compiled in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anagement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NMS can automatically discover a manag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object, such as a hub, when added to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MS can identify the new object as hub on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fter the MIB schema of the hub is compiled in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MS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1447920"/>
          <a:ext cx="3036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036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657600" y="2133720"/>
          <a:ext cx="2579760" cy="97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133720"/>
                    <a:ext cx="257976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52320" y="4367160"/>
          <a:ext cx="55548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320" y="4367160"/>
                    <a:ext cx="55548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1400" y="533520"/>
            <a:ext cx="33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d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680" y="121932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objects ca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elements (hardware, sys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s, bridges, routers, transmission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(non-phys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,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person, name of group of ob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P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6320" y="685800"/>
            <a:ext cx="26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6840" y="1523880"/>
            <a:ext cx="5029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standards of transport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standards of manag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pplication)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14400" y="46483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46483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0880" y="1752480"/>
          <a:ext cx="589608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589608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1720" y="533520"/>
            <a:ext cx="59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Informat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480" y="53341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53341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43000" y="1295280"/>
          <a:ext cx="440856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440856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2560" y="58248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 Management Informatio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7760" y="5802480"/>
            <a:ext cx="5638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Standards Organiz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lecommunications Un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.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371600"/>
            <a:ext cx="563904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3352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Type and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120" y="5715000"/>
            <a:ext cx="581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a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le” is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is definition from dictionary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“A plane figure bounded by a single curv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ine, every point of which is of equal dist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rom the center of the figur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y of nursery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55627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55627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609480"/>
            <a:ext cx="47242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d Ob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 Perspec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6095880"/>
            <a:ext cx="6324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bject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scrip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name for th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ynta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to model th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rivilege to a managed obj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ual description of the semantic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ob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990720" y="1905120"/>
          <a:ext cx="4813200" cy="35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48132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54864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54864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960" y="5943600"/>
            <a:ext cx="67834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bject cl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d obj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 visible at its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s which may be applied to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haviou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haviour exhibited by it in response to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ific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tions emitted by th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43000" y="1676520"/>
          <a:ext cx="472428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47242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533520" y="228600"/>
            <a:ext cx="5638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d Ob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I Perspec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6400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00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96880" y="1638360"/>
          <a:ext cx="5575320" cy="42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638360"/>
                    <a:ext cx="557532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837720" y="5335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et Count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09480"/>
            <a:ext cx="685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 Vs OSI Managed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9960" y="1219320"/>
            <a:ext cx="633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r object in Internet Vs Object-orien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pproach in 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I characteristics of operations, behaviour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tification are part of communication model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ternet: get/set and response/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syntax is absorbed as part of OSI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access is part of OSI securit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status is part of OSI conformanc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I permits creation and deletion of object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ternet does not: Enhancement in SNMP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609480"/>
            <a:ext cx="6019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mt. Communication Mod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80880" y="1523880"/>
          <a:ext cx="594360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594360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5680" y="5726160"/>
            <a:ext cx="58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nternet requests/responses, in OSI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nternet traps and notifications (SNMPv2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OSI not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60948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Protoco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15800" y="1143000"/>
          <a:ext cx="6137280" cy="38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143000"/>
                    <a:ext cx="613728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4520" y="5649840"/>
            <a:ext cx="6348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is based on SNMP; OSI is based on CM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I uses CMISE (Common Management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rvice Element) application with CM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I specifies both c-o and connectionless transpo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rotocol; SNMPv2 extended to c-o, but rarely u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9920" y="609480"/>
            <a:ext cx="59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tract Syntax Notation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8320" y="1306440"/>
            <a:ext cx="6159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N.1 is more than a syntax; it’s a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both syntax and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 of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: set of rules that specif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ata type and structure for information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syntax: set of rules for communicat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formation betwee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application layer protoco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dependent of lower layer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nerate machine-readable code: Ba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ncoding Rules (BER) is used in manag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838080"/>
          <a:ext cx="56340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563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2600" y="533520"/>
            <a:ext cx="52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us-Nauer Form (BN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143000"/>
            <a:ext cx="6019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name&gt; ::= &lt;defini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igit&gt; ::= 0|1|2|3|4|5|6|7|8|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 ::= &lt;number&gt; | &lt;digit&gt; &lt;numb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p&gt; ::= +|-|x|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AE&gt; ::= &lt;number&gt;|&lt;SAE&gt;|&lt;SAE&gt;&lt;op&gt;&lt;SA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1 and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19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6 and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5715000"/>
            <a:ext cx="571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F is used for ASN.1 constr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s developed from 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ove example illustrates how numbers are constructed from the primitive &lt;digi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rithmetic Expression entity (&lt;SAE&gt;) is constructed from the primitives &lt;digit&gt; and &lt;op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2800" y="53352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Arithmetic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5080" y="580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0240" y="1154160"/>
            <a:ext cx="5336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AE&gt; ::= &lt;number&gt; | &lt;SAE&gt;&lt;op&gt;&lt;numb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26 = 13 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s and 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2952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440" y="53352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and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5080" y="580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9320" y="1230480"/>
            <a:ext cx="495072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oleanType&gt; ::= BOO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oleanValue&gt; ::= TRUE | FA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N.1 module is a group of assign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-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-Name::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"Joh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  "I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Smit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55627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55627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12952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560" y="609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ype: Examp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5080" y="77835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6019920"/>
            <a:ext cx="579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name starts with capital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s: NULL, Graphic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s : 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maker:     SET,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tition:     SET OF, SEQUENCE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between SET and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25600" y="1297080"/>
          <a:ext cx="5484600" cy="403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297080"/>
                    <a:ext cx="5484600" cy="40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5627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56275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6094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ype: Examp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4440" y="6095880"/>
            <a:ext cx="615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OF SEQUENCE makes tables of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85800" y="1447920"/>
          <a:ext cx="5468760" cy="444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546876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4440" y="50976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N.1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1219320"/>
            <a:ext cx="464832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, alternative, options of a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ed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ing the symbol are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and end of a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and end of a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and end of sub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295280"/>
            <a:ext cx="56390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00200" y="533520"/>
            <a:ext cx="39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word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920" y="5802480"/>
            <a:ext cx="48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s are in all UPPERCASE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533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N.1 Data Type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5080" y="580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33520" y="1600200"/>
          <a:ext cx="5651280" cy="22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565128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09480" y="6019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6019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6094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ype: Structure &amp;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5080" y="580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0880" y="1371600"/>
          <a:ext cx="60199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60199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1360" y="6411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6680" y="6335640"/>
            <a:ext cx="47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defines how data type is bu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uniquely identifies the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09480" y="50292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51055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952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560" y="53352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5080" y="580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520" y="1103400"/>
            <a:ext cx="656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Number ::=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Number ::=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/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PageNumber ::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{ChapterNumber, Separator, Page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{1-1, 2-3, 3-39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from another type; given a new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ig. 3-14, INTEGER is either universal 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pplication 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yp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,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9520" y="5559480"/>
            <a:ext cx="63162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Pages ::= SEQUENCE OF { BookPageNumber}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Pages ::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ChapterNumber, Separator, PageNumber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4255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55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5920" y="53352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I Architecture a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1523880"/>
          <a:ext cx="586728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58672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36320" y="4572000"/>
            <a:ext cx="5865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management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of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of management information (S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information base (M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of manageme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12952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920" y="5335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5080" y="580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7680" y="1077840"/>
            <a:ext cx="634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uniquely identifies a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g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- alway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- only in the application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specific - specific context in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- used extensively by commerc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vendo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5680" y="5638680"/>
            <a:ext cx="6043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re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[1] (Figure 3.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based Context-specific un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160" y="53352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umerated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2200" y="58024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D is a special case of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RainbowColors(5) is o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09480" y="1600200"/>
          <a:ext cx="5488200" cy="256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548820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12952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533520"/>
            <a:ext cx="46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N.1 Modul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95080" y="580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533520" y="1447920"/>
          <a:ext cx="632448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63244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09480" y="12952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33520" y="228600"/>
          <a:ext cx="5803920" cy="81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5803920" cy="81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09480" y="67057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67057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4080" y="45720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600" y="7238880"/>
            <a:ext cx="558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OBJECT IDENTIFIER ::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ISO(1) ORG(3) DOD(6) INTERNET(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905120" y="1066680"/>
          <a:ext cx="301464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301464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6680" y="53352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LV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7880" y="5802480"/>
            <a:ext cx="54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V Type, length, and value are compon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of th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295280" y="1447920"/>
          <a:ext cx="416880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416880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09480" y="3581280"/>
          <a:ext cx="5634000" cy="114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56340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60847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60847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12952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44280" y="53352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6440" y="6629400"/>
            <a:ext cx="47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 is used to create new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89040" y="1149480"/>
          <a:ext cx="5830920" cy="236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49480"/>
                    <a:ext cx="5830920" cy="23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689040" y="3809880"/>
          <a:ext cx="5370480" cy="2102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809880"/>
                    <a:ext cx="53704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4360" y="34401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09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5053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12952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98760" y="53352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5080" y="580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28600" y="1600200"/>
          <a:ext cx="6324480" cy="15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63244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8840" y="3962520"/>
            <a:ext cx="577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and change network configuration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ponent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alarm thres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on and isolation of failures i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uble ticket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performance of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ccounting of network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4255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255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2240" y="6094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I Architecture a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3520" y="1523880"/>
          <a:ext cx="586728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58672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49640" y="4724280"/>
            <a:ext cx="5824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syntax with bi-directional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structure (PD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395136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5136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1360" y="60948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MP Architecture a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1523880"/>
          <a:ext cx="586728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58672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6320" y="4267080"/>
            <a:ext cx="4575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OSI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OSI, but sc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less complex than OS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unidirec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structure (PD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77480" y="8610480"/>
            <a:ext cx="353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04800" y="8621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33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M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371600"/>
            <a:ext cx="56386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management of telecommun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OSI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structure on OSI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network, service, and busine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6019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19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5760" y="533520"/>
            <a:ext cx="42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5160" y="1219320"/>
            <a:ext cx="556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requests to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s al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e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s information from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s parameter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s to managers’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alarms and sends them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an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element that is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es management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bjects are not managed / manag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066680"/>
            <a:ext cx="5639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1295280"/>
          <a:ext cx="5667120" cy="33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566712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0000" y="53352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Ti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8680" y="5726160"/>
            <a:ext cx="5953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built into network el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xample: Managed hub, managed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ent can manage multipl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xample: Switched hub, ATM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B is a physic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managed objects are network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at are not managed - both physical (unmanag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ub) and logical (passive el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5T01:48:36Z</dcterms:created>
  <dc:creator>Mani Subramanian</dc:creator>
  <dc:description/>
  <dc:language>en-US</dc:language>
  <cp:lastModifiedBy>Mani Subramanian</cp:lastModifiedBy>
  <cp:lastPrinted>1999-09-08T23:28:30Z</cp:lastPrinted>
  <dcterms:modified xsi:type="dcterms:W3CDTF">2000-01-18T04:14:20Z</dcterms:modified>
  <cp:revision>35</cp:revision>
  <dc:subject/>
  <dc:title>No Slide Title</dc:title>
</cp:coreProperties>
</file>