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9585-627B-404E-BB7A-536CDEFF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FA1-7316-460E-8B13-BAC66428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05D-92F7-4E6C-82D6-2E0082B3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75B-C468-4028-A0D1-EEBB58F2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5D3-0DB9-4C4A-87D0-2473AB45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218-5B23-4B19-B82B-6217FB6B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247-435F-4F3B-B4BA-89CAE2A6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EAD-46F4-49FA-8BE8-87A5BCFC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38E2-AC53-4D07-B8E6-325E8EDD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EC9-847B-4A15-AF31-6779C4AA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74B-6B67-4536-8093-90CDB50B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56F-2E7E-4A80-8563-238E079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12A1-6331-4AF1-8BAD-390AD3AED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440" y="3606840"/>
            <a:ext cx="63345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MPv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and Functional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4495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6040" y="44956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14800" y="53352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xy Access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20760" y="1066680"/>
          <a:ext cx="4270320" cy="30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066680"/>
                    <a:ext cx="4270320" cy="30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93640" y="4952880"/>
            <a:ext cx="62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 agent enables non-SNMP communit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lements to be managed by an SNMP mana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SNMP MIB is created to handle the non-SNM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41680" y="53352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col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640" y="1461960"/>
            <a:ext cx="273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7520" y="4876920"/>
            <a:ext cx="5819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entities support application e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between remote peer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consist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Data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encapsulated and trans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533520"/>
          <a:ext cx="6512040" cy="38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651204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495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6040" y="44956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9160" y="533520"/>
            <a:ext cx="30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 and Set P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3520" y="1447920"/>
          <a:ext cx="601956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6019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19200" y="4040280"/>
          <a:ext cx="5748120" cy="1954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200" y="4040280"/>
                    <a:ext cx="574812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990720" y="6324480"/>
          <a:ext cx="5470560" cy="1544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6324480"/>
                    <a:ext cx="54705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59720" y="594360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U Types: enumerated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9920" y="342900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BindList: multiple instances of VarBind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97180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3400" y="29718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5105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6040" y="51814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520" y="53352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in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20560" y="1446120"/>
          <a:ext cx="549612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1446120"/>
                    <a:ext cx="549612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57200" y="426564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Index: No. of VarBind that the first error occu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38920" y="533520"/>
            <a:ext cx="17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p P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4920" y="1295280"/>
          <a:ext cx="61722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6172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33520" y="5334120"/>
            <a:ext cx="6095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 and agent address pertain to the sys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generating the t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 generic traps specified by enumera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trap is a trap not covered by enterpri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pecific t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stamp indicates elapsed time since last re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it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33520" y="2513160"/>
          <a:ext cx="5600520" cy="234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513160"/>
                    <a:ext cx="56005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95288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9720" y="49528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52760" y="53352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-2612880" y="1487520"/>
          <a:ext cx="12090240" cy="61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12880" y="1487520"/>
                    <a:ext cx="120902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3600" y="533520"/>
            <a:ext cx="45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B for Get-Next-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38080" y="1371600"/>
          <a:ext cx="5097600" cy="53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5097600" cy="53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662940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3400" y="66294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39481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9720" y="39625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17320" y="533520"/>
            <a:ext cx="365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xicographic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3520" y="990720"/>
          <a:ext cx="5637240" cy="30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56372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380880" y="4343400"/>
            <a:ext cx="62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for order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leftmost digit as first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increasing the order in the first positi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elect the lowest digit in the second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he process till the lowest digit 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last position is cap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the order in the last position until al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digits in the last position are cap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back to the last but one position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repeat th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advancing to the first position until al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numbers are 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e structure for the abov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1480" y="5335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B Lexicographic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447920" y="1066680"/>
          <a:ext cx="3203280" cy="41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6680"/>
                    <a:ext cx="3203280" cy="41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051920" y="5573880"/>
            <a:ext cx="1448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525780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9720" y="52578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9400" y="533520"/>
            <a:ext cx="52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re Complex MIB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66680" y="1143000"/>
          <a:ext cx="465480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465480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68360" y="5106960"/>
          <a:ext cx="5618160" cy="2809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5106960"/>
                    <a:ext cx="561816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48769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9720" y="48769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70866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120" y="70405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44040" y="533520"/>
            <a:ext cx="33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4960" y="1219320"/>
          <a:ext cx="601992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219320"/>
                    <a:ext cx="6019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28600" y="7467480"/>
            <a:ext cx="696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ly 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twork management protoc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messages, three from manager and two from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6440" y="533520"/>
            <a:ext cx="49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-Next-Request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-635040" y="2089080"/>
          <a:ext cx="8128080" cy="49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35040" y="2089080"/>
                    <a:ext cx="812808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51800" y="846936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4560" y="533520"/>
            <a:ext cx="49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-Next-Request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-631800" y="1868400"/>
          <a:ext cx="8128080" cy="54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31800" y="1868400"/>
                    <a:ext cx="8128080" cy="54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51800" y="846936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09480" y="4495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52080" y="533520"/>
            <a:ext cx="21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iffe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55760" y="1066680"/>
          <a:ext cx="5906880" cy="34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1066680"/>
                    <a:ext cx="5906880" cy="34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395280" y="4648320"/>
          <a:ext cx="5954760" cy="371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4648320"/>
                    <a:ext cx="595476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1160" y="533520"/>
            <a:ext cx="19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 M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1709640" y="870120"/>
          <a:ext cx="9874080" cy="68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09640" y="870120"/>
                    <a:ext cx="9874080" cy="68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228600" y="7823160"/>
            <a:ext cx="68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Most of the MIB objects were not used and hence deprecated in SNMPv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51800" y="846936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280" y="50796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28400" y="20304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4495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6040" y="45720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40240" y="53352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219320"/>
            <a:ext cx="525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-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-Next-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t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t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st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200" y="4952880"/>
            <a:ext cx="570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t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pNeighbor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t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pecial measurements such as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stamp: Time since last init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4495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6040" y="45720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56840" y="533520"/>
            <a:ext cx="37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rativ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066680"/>
            <a:ext cx="6477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community profile and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 Entiti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 application ent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- Reside in management stations and network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- Manager a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 protocol ent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- Communication processes (PDU handler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- Peer processes that support application e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13520" y="53352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6360" y="1143000"/>
          <a:ext cx="5756400" cy="31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143000"/>
                    <a:ext cx="575640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85800" y="4876920"/>
            <a:ext cx="6172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n SNMPv1 is community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scheme in manager and age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: Pairing of two application e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name: String of oc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applications in the same communit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mmunicate with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could have multiple community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is not secured in SNMPv1 - n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ncry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495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2000" y="44956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73920" y="533520"/>
            <a:ext cx="33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ty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0880" y="1219320"/>
          <a:ext cx="602136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602136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17680" y="4724280"/>
            <a:ext cx="611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B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ent is programmed to view only a subs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f managed objects of a network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mmunity name is assigned an acces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de::  read-only and read-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profile: MIB view + access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on an object determined by communit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rofile and the access mode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of four access privile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bjects, such as table and table entry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on-acce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26708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9720" y="42670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480" y="4495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3400" y="45720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38480" y="53352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ra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9960" y="1460520"/>
            <a:ext cx="588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on model is SNMP access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 community paired with SNM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mmunity profile is SNMP access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5520" y="4964040"/>
            <a:ext cx="32666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/ comm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/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/ mana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495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6040" y="45720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4080" y="533520"/>
            <a:ext cx="25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93840" y="1828800"/>
          <a:ext cx="4159080" cy="22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3840" y="1828800"/>
                    <a:ext cx="415908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33520" y="5029200"/>
            <a:ext cx="5943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manages Community 1 and 2 network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mponents via Agents 1 an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1 has only view of Community Profile 1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.g. Cisco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2 has only view of Community Profile 2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.g. 3Com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has total view of both Cisco and 3C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721188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720" y="71629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6560" y="53352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ized Administra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95280" y="990720"/>
          <a:ext cx="4157640" cy="63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415764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5040" y="7467480"/>
            <a:ext cx="649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1 manages community 1, manager 2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mmunity 2,and manager 3 (MoM) both communiti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 an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56:48Z</dcterms:created>
  <dc:creator>Mani Subramanian</dc:creator>
  <dc:description/>
  <dc:language>en-US</dc:language>
  <cp:lastModifiedBy>Mani Subramanian</cp:lastModifiedBy>
  <cp:lastPrinted>1999-10-05T00:22:57Z</cp:lastPrinted>
  <dcterms:modified xsi:type="dcterms:W3CDTF">2000-01-18T04:18:43Z</dcterms:modified>
  <cp:revision>16</cp:revision>
  <dc:subject/>
  <dc:title>No Slide Title</dc:title>
</cp:coreProperties>
</file>