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D84-174C-494B-86DB-D4F4AB0D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3D1-7187-48CE-9538-D8B005C3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DC9-74B9-4346-9F23-0CF23B78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F04D-81CB-467D-95C8-A88DF63A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127-565C-4500-B869-B079B778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2946-1490-4965-BF81-86A0E45E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8EB-06D2-41AE-BBAE-4413514D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231-A169-407B-816B-022875D4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EAD-B536-4118-8C9F-6531FAEF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B1B-0309-4768-AA0E-F15E3BE0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38F-208C-4E3D-9142-A3141E5C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188-12F9-441B-BE23-0FB072F7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9012-F616-4EF5-9B25-0671A2489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200400"/>
            <a:ext cx="56390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Network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44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7467480"/>
            <a:ext cx="5639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674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1280" y="533520"/>
            <a:ext cx="40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ampus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62120" y="1219320"/>
          <a:ext cx="531324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31324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529920" y="7848720"/>
            <a:ext cx="53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 VLAN an alternative to FDDI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26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2670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2880" y="533520"/>
            <a:ext cx="34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 Top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0880" y="1371600"/>
          <a:ext cx="3014640" cy="20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01464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733920" y="1295280"/>
          <a:ext cx="2670120" cy="26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295280"/>
                    <a:ext cx="267012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437760" y="4659480"/>
            <a:ext cx="471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top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in network layer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paths between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top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nd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est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e top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th Ethernet brid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for small networks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special purpos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53160" y="53352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3600" y="5715000"/>
            <a:ext cx="4639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3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bps data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 - analogy of hollow pi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 of operation; CSMA/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length and drop cable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size of packet 64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size of packet 1500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38080" y="1447920"/>
          <a:ext cx="5616720" cy="239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5616720" cy="23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70384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70384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80840" y="533520"/>
            <a:ext cx="27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720" y="6172200"/>
            <a:ext cx="6148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drop length 100m =&gt; Max round-tri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time 1/10 of Ethernet; hence 10 times data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100Base-T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ility with 10B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P limitation; Use 4-pair UTP @ 25 Mbps/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s: 2-pair 100BaseTX Cat 5(Max 100 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100Base FX optical fiber (Max 2 km)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143000" y="1219320"/>
          <a:ext cx="463716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463716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295280" y="4952880"/>
            <a:ext cx="914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4952880"/>
            <a:ext cx="914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51055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5562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7240" y="4800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pair U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60199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60199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29600" y="533520"/>
            <a:ext cx="40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 Data Rate R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1219320"/>
            <a:ext cx="14479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’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514600"/>
            <a:ext cx="144756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2514600"/>
            <a:ext cx="15238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E’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666880"/>
            <a:ext cx="17524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5.52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505320"/>
            <a:ext cx="152388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it E’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G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4572000"/>
            <a:ext cx="15238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’n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523520" y="198108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198108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648320"/>
            <a:ext cx="17524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13080" y="533520"/>
            <a:ext cx="31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gbit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09480" y="1447920"/>
          <a:ext cx="5634000" cy="251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5634000" cy="25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55680" y="5649840"/>
            <a:ext cx="622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size 512 bytes, slot size 4.096 micro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frame size 64 bytes for backwa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mpatibility; Slot filled with carrier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bursts with no idle time between fram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creases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08160" y="533520"/>
            <a:ext cx="37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tched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95280" y="1295280"/>
          <a:ext cx="372276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95280"/>
                    <a:ext cx="372276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584640" y="5649840"/>
            <a:ext cx="606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throughput increased ~N/2 in N-port 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ooping capability lost for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60199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60199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8880" y="711360"/>
            <a:ext cx="584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/Server Configuration 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itched H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219320" y="1752480"/>
          <a:ext cx="46368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46368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73440" y="533520"/>
            <a:ext cx="239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tual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28600" y="1371600"/>
          <a:ext cx="624852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624852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436320" y="5649840"/>
            <a:ext cx="587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d hub enables establishing virtual LA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s switching stations between LANs with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physical moving of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k through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71280" y="53352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800" y="5791320"/>
            <a:ext cx="4173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ed by I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5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s of 4Mbps and 16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and dual ring 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19320" y="1447920"/>
          <a:ext cx="380844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3808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" y="53352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and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960" y="1830240"/>
            <a:ext cx="5983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technologies that need to manag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of technological progres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network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63760" y="457200"/>
            <a:ext cx="36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al Ring TR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371600" y="1447920"/>
          <a:ext cx="417996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417996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517680" y="56498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70102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70102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7680" y="533520"/>
            <a:ext cx="55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lure Recovery in TR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5160" y="7402680"/>
            <a:ext cx="29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 failure 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failure 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219320" y="1219320"/>
          <a:ext cx="441936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441936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600200" y="3733920"/>
          <a:ext cx="3657600" cy="30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733920"/>
                    <a:ext cx="365760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02800" y="6094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90720" y="1143000"/>
          <a:ext cx="4848120" cy="41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484812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433800" y="5649840"/>
            <a:ext cx="613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fiber optics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token ring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 100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length 100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stations in the ring with max separation of 2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and dual attached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 attached stations load share the two 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64771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4771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03600" y="533520"/>
            <a:ext cx="433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Network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85800" y="1371600"/>
          <a:ext cx="54864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54864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6600" y="533520"/>
            <a:ext cx="55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Nod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2240" y="5791320"/>
            <a:ext cx="2926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bri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bridge / half 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80880" y="1523880"/>
          <a:ext cx="60912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60912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51814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51814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67440" y="53352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8840" y="5715000"/>
            <a:ext cx="471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 is a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dependent on what is ho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d 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762120" y="1295280"/>
          <a:ext cx="5562360" cy="36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556236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35120" y="533520"/>
            <a:ext cx="28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cked H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85800" y="1447920"/>
          <a:ext cx="563868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563868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524520" y="5791320"/>
            <a:ext cx="569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 ports can be scaled up using stacked h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ed 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back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 as daisy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58672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8672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19760" y="5335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95480" y="1371600"/>
            <a:ext cx="17528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90720" y="2743200"/>
            <a:ext cx="175248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2743200"/>
            <a:ext cx="20574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3657600"/>
            <a:ext cx="175248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4419720"/>
            <a:ext cx="175248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71800" y="4876920"/>
            <a:ext cx="17524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828440" y="205740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066320" y="34290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52480" y="342900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342900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9880" y="20574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9400" y="6259680"/>
            <a:ext cx="6261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s two nodes at data link control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: tree topology, transparent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ken ring:mesh topology, source routing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bridge uses WAN interface car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ame protocol used at both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bridge is a learning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08600" y="53352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219320"/>
          <a:ext cx="5824440" cy="36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5824440" cy="36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508320" y="5649840"/>
            <a:ext cx="5700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operate at network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packets between nodes of simila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etwork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table used to route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C and Physical layers could be differ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er the same common network layer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41640" y="53352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533520" y="1295280"/>
          <a:ext cx="5748120" cy="36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574812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433080" y="5649840"/>
            <a:ext cx="5718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way is router connecting two networks wi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issimilar network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way does the protocol conversion at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etwork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converter does the conversion at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pplication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8769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8769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1320" y="609480"/>
            <a:ext cx="62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 Network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7400" y="1230480"/>
            <a:ext cx="4133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m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ology: How they’re config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9560" y="5268960"/>
            <a:ext cx="42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ction between LAN and 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05920" y="53352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533520" y="1143000"/>
          <a:ext cx="5715000" cy="14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571500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838080" y="2895480"/>
            <a:ext cx="17528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e’s Mo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: Sea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8080" y="4419720"/>
            <a:ext cx="16002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95680" y="3505320"/>
            <a:ext cx="16002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60020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3886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90920" y="3352680"/>
            <a:ext cx="1904760" cy="5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66880" y="3962520"/>
            <a:ext cx="9907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657600" y="38098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33526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5562720"/>
            <a:ext cx="6400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neling is transmission of packets (vi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ultiprotocol routers) by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igure 2.24, packets are encapsulated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ransmitted through X.25 network in a seri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mobile environment, Joe and his home ag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NY communicate Joe’s Seattle location to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oreign agent.  His communication with Sally 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LA is tunne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83880" y="53352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lf-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066680" y="2209680"/>
          <a:ext cx="4797720" cy="17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479772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511200" y="5649840"/>
            <a:ext cx="6067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-bridge (also referred to as half-router)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oint-to-point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PPP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low-end users to communicate with IS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n dial-up link saving the expense of dedicated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encapsulates packets in PPP frames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uts serial outputs to the bridge, and vice-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570384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570384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17800" y="533520"/>
            <a:ext cx="39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tche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160" y="6095880"/>
            <a:ext cx="560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re embedded in bridges and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d network used in 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ypes of switche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gram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62120" y="1066680"/>
          <a:ext cx="533880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533880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838080" y="3429000"/>
          <a:ext cx="5335560" cy="21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429000"/>
                    <a:ext cx="533556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1520" y="533520"/>
            <a:ext cx="52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mission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30840" y="1143000"/>
            <a:ext cx="30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76880" y="190512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360" y="1981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1080" y="27432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14600" y="274320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429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8880" y="34178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64680" y="28083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19720" y="28195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11480" y="342900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 Mobile Satel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362320" y="16765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57600" y="16765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523520" y="2362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09680" y="236232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914400" y="3200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3200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2514240" y="32004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32004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343040" y="24382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24382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7320" y="5726160"/>
            <a:ext cx="320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transport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restrial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76201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76201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63000" y="533520"/>
            <a:ext cx="42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mission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762120" y="1295280"/>
          <a:ext cx="541476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5414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4572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45720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13760" y="53352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adb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609480" y="1143000"/>
          <a:ext cx="56721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56721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297720" y="4876920"/>
            <a:ext cx="6226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services: Voice, video, a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ow band ISDN (Integrated Services Digital Ne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ate:2B + D (B channel 64 kbps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 channel 16 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rate: 23B + D chann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and (ISDN) Services uses ATM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ET (Synchronous Optical Network) 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DH (Synchronous Digital Hierarc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 OC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1  51.84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3  155.52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echnolog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FC (Hybrid Fiber Coaxial) / Cable 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SL (Asymmetric Digital Subscriber Lin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45480" y="53352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4200" y="1371600"/>
            <a:ext cx="3769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gabit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-duplex Vs Full-d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d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ken 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 / 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54760" y="53352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72720" y="1230480"/>
            <a:ext cx="2926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bri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bridge / half 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1722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77800" y="53352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0720" y="1371600"/>
            <a:ext cx="2401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ies /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re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952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9528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5120" y="53352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LAN Top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66680" y="1219320"/>
          <a:ext cx="415620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415620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511200" y="5268960"/>
            <a:ext cx="5961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top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Ethernet LAN fam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shared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ized access (CSMA/C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mp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utilization under heavy traffic 30%-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culprit could effect the entire 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952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9528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5120" y="53352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LAN Top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66680" y="1219320"/>
          <a:ext cx="415620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415620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15160" y="5268960"/>
            <a:ext cx="4008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 Top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token ring and FD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stic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DTE ha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utilization &gt;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720" y="54864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212760" y="54864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5720" y="533520"/>
            <a:ext cx="60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 &amp; Hybrid LAN Top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2895480"/>
          <a:ext cx="5554800" cy="25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95480"/>
                    <a:ext cx="555480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22840" y="5954760"/>
            <a:ext cx="5560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 topology used with bus and ring topolo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 is “LAN in a box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the electronic LAN inside the box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look lik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has hub become so pop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1295280"/>
          <a:ext cx="2808000" cy="13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295280"/>
                    <a:ext cx="280800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2T22:40:07Z</dcterms:created>
  <dc:creator>Mani Subramanian</dc:creator>
  <dc:description/>
  <dc:language>en-US</dc:language>
  <cp:lastModifiedBy>Mani Subramanian</cp:lastModifiedBy>
  <cp:lastPrinted>2000-01-14T03:18:51Z</cp:lastPrinted>
  <dcterms:modified xsi:type="dcterms:W3CDTF">2000-01-14T03:31:59Z</dcterms:modified>
  <cp:revision>12</cp:revision>
  <dc:subject/>
  <dc:title>No Slide Title</dc:title>
</cp:coreProperties>
</file>