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2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7F63-A54B-42B3-AC81-EE4D9F3BA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91E2-0BA2-478C-A929-A319470D1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A81C-DA00-4173-9438-982019196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87CF-5F00-4037-A9FF-A9BE094E8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16D4-9DDB-46F0-BB0B-947EA1320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C629-E1D2-43F9-9841-D88B1E024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D371-5FD5-4F13-BC2E-624052776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E170-9B23-4A65-8382-5462A5F0E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474A-8713-4D97-B104-98E2CD9D5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01A7-58AC-4871-9612-FD8B8CA6E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177B-EF0B-460F-91B1-A24439DD2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9FB0-917A-4450-9DA2-2CA780D43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876920" y="838188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03EFC-44AF-4A8E-80D3-EBEE40F7C3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533520"/>
            <a:ext cx="563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3200400"/>
            <a:ext cx="5639040" cy="21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Commun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M Over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104440" y="2286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821240" y="8458200"/>
            <a:ext cx="331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Management: Principles and Prac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 Mani Subramanian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83818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852160" y="846936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533520" y="533520"/>
            <a:ext cx="563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09480" y="525780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5257800"/>
            <a:ext cx="1523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085760" y="533520"/>
            <a:ext cx="397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ent/Server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333040" y="2286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304920" y="1447920"/>
          <a:ext cx="6213240" cy="338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447920"/>
                    <a:ext cx="6213240" cy="338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"/>
          <p:cNvSpPr/>
          <p:nvPr/>
        </p:nvSpPr>
        <p:spPr>
          <a:xfrm>
            <a:off x="585720" y="5649840"/>
            <a:ext cx="59292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 office analogy; clerk the server, and th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customer the cl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 always initiates reque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r always respo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ice that control is handed over to the receiving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enti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031560" y="1328760"/>
            <a:ext cx="75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878560" y="3081240"/>
            <a:ext cx="86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821240" y="8458200"/>
            <a:ext cx="331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Management: Principles and Prac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 Mani Subramanian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09480" y="83818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51800" y="846936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-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533520" y="533520"/>
            <a:ext cx="563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9480" y="716292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7162920"/>
            <a:ext cx="1523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715000" y="838188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24320" y="533520"/>
            <a:ext cx="469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ent/Server Exam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333040" y="2286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066680" y="1371600"/>
          <a:ext cx="4800600" cy="563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371600"/>
                    <a:ext cx="4800600" cy="563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"/>
          <p:cNvSpPr/>
          <p:nvPr/>
        </p:nvSpPr>
        <p:spPr>
          <a:xfrm>
            <a:off x="1821240" y="8458200"/>
            <a:ext cx="331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Management: Principles and Prac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 Mani Subramanian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09480" y="83818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851800" y="846936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-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533520" y="533520"/>
            <a:ext cx="563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09480" y="525780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5257800"/>
            <a:ext cx="1523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91200" y="533520"/>
            <a:ext cx="476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P/IP Based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333040" y="2286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63120" y="1382760"/>
            <a:ext cx="56289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P/IP is a suite of protoc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et is based on TCP/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P is Internet protocol at the network layer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P is connection-oriented transport protoco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and ensures end-to-end conn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DP is connectionless transport protocol and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provides datagram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et e-mail and much of the network mgmt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messages are based on UDP/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CMP part of TCP/IP su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821240" y="8458200"/>
            <a:ext cx="331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Management: Principles and Prac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 Mani Subramanian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09480" y="83818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851800" y="846936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-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533520" y="533520"/>
            <a:ext cx="563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9480" y="693432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6934320"/>
            <a:ext cx="1523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638680" y="838188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47800" y="533520"/>
            <a:ext cx="444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rnet Configu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33040" y="2286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1447920" y="1371600"/>
          <a:ext cx="3405240" cy="54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371600"/>
                    <a:ext cx="3405240" cy="54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"/>
          <p:cNvSpPr/>
          <p:nvPr/>
        </p:nvSpPr>
        <p:spPr>
          <a:xfrm>
            <a:off x="297000" y="7315200"/>
            <a:ext cx="630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lk through the scenario of e-mail from Joe to S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821240" y="8458200"/>
            <a:ext cx="331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Management: Principles and Prac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 Mani Subramanian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09480" y="83818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851800" y="846936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-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533520" y="533520"/>
            <a:ext cx="563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09480" y="525780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5257800"/>
            <a:ext cx="1523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638680" y="838188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34600" y="609480"/>
            <a:ext cx="575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chitecture, Protocols and Stand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333040" y="2286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160" y="1306440"/>
            <a:ext cx="62737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unication archite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ling of communication systems, compr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al components 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rations interfaces between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unication protoc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rational proced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a- and inter-modu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unication standar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reement between manufacturers on protocol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of communication equipment 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 a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rational procedur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37760" y="5802480"/>
            <a:ext cx="400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s:  (Students to call ou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821240" y="8458200"/>
            <a:ext cx="331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Management: Principles and Prac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 Mani Subramanian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83818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851800" y="846936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-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533520" y="533520"/>
            <a:ext cx="563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09480" y="58672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5867280"/>
            <a:ext cx="1523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638680" y="838188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07680" y="533520"/>
            <a:ext cx="575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munication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333040" y="2286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990720" y="1143000"/>
          <a:ext cx="4876560" cy="478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143000"/>
                    <a:ext cx="4876560" cy="478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" name=""/>
          <p:cNvSpPr/>
          <p:nvPr/>
        </p:nvSpPr>
        <p:spPr>
          <a:xfrm>
            <a:off x="600840" y="6248520"/>
            <a:ext cx="55436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-layer interface: user and service provi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er-layer protocol interfa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logy of hearing-impaired stud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le of intermediate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teway: Router with protocol conversion a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gateway to an autonomous network or sub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821240" y="8458200"/>
            <a:ext cx="331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Management: Principles and Prac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 Mani Subramanian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09480" y="83818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851800" y="846936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-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533520" y="533520"/>
            <a:ext cx="563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09480" y="670572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6705720"/>
            <a:ext cx="1523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562720" y="838188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50040" y="533520"/>
            <a:ext cx="424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SI Reference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333040" y="2286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914400" y="1143000"/>
          <a:ext cx="4672080" cy="570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143000"/>
                    <a:ext cx="4672080" cy="570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"/>
          <p:cNvSpPr/>
          <p:nvPr/>
        </p:nvSpPr>
        <p:spPr>
          <a:xfrm>
            <a:off x="524520" y="7086600"/>
            <a:ext cx="557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ce of the knowledge of layer structur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in N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821240" y="8458200"/>
            <a:ext cx="331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Management: Principles and Prac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 Mani Subramanian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9480" y="83818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851800" y="846936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-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533520" y="533520"/>
            <a:ext cx="563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09480" y="716292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7162920"/>
            <a:ext cx="1523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838188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37720" y="533520"/>
            <a:ext cx="492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SI Layers and Ser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333040" y="2286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533520" y="1143000"/>
          <a:ext cx="5637240" cy="6114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143000"/>
                    <a:ext cx="5637240" cy="611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2" name=""/>
          <p:cNvSpPr/>
          <p:nvPr/>
        </p:nvSpPr>
        <p:spPr>
          <a:xfrm>
            <a:off x="432000" y="7478640"/>
            <a:ext cx="620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ce of services offered by different layer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and the protocol conversion at different layers in N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821240" y="8458200"/>
            <a:ext cx="331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Management: Principles and Prac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 Mani Subramanian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83818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851800" y="846936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-1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533520" y="533520"/>
            <a:ext cx="563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525780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5257800"/>
            <a:ext cx="1523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791320" y="838188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32080" y="533520"/>
            <a:ext cx="551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DU Communication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333040" y="2286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457200" y="1295280"/>
          <a:ext cx="5943600" cy="349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295280"/>
                    <a:ext cx="5943600" cy="349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4" name=""/>
          <p:cNvSpPr/>
          <p:nvPr/>
        </p:nvSpPr>
        <p:spPr>
          <a:xfrm>
            <a:off x="588960" y="5726160"/>
            <a:ext cx="538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the relevance of PDU model in NM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821240" y="8458200"/>
            <a:ext cx="331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Management: Principles and Prac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 Mani Subramanian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09480" y="83818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851800" y="846936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-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533520" y="533520"/>
            <a:ext cx="563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9480" y="685800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6858000"/>
            <a:ext cx="1523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141640" y="533520"/>
            <a:ext cx="185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atew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333040" y="2286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685800" y="1219320"/>
          <a:ext cx="5310360" cy="556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219320"/>
                    <a:ext cx="5310360" cy="55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5" name=""/>
          <p:cNvSpPr/>
          <p:nvPr/>
        </p:nvSpPr>
        <p:spPr>
          <a:xfrm>
            <a:off x="512640" y="7326360"/>
            <a:ext cx="5456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c:mail from a station in Novel IPX network to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an Internet station with SMTP e-ma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821240" y="8458200"/>
            <a:ext cx="331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Management: Principles and Prac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 Mani Subramanian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480" y="83818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851800" y="846936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-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33520" y="533520"/>
            <a:ext cx="563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525780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5257800"/>
            <a:ext cx="1523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78080" y="533520"/>
            <a:ext cx="158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3040" y="2286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83920" y="1308240"/>
            <a:ext cx="6026760" cy="32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logy of telephone 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and telecommunication 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ributed computing enviro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ocols and standar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ma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work and system ma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status and future of network managem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821240" y="8458200"/>
            <a:ext cx="331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Management: Principles and Prac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 Mani Subramanian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09480" y="83818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852160" y="846936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-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533520" y="533520"/>
            <a:ext cx="563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09480" y="56386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0" y="5638680"/>
            <a:ext cx="1523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791320" y="838188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989280" y="533520"/>
            <a:ext cx="451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NA, OSI, and Inter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333040" y="2286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533520" y="1143000"/>
          <a:ext cx="5790960" cy="45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143000"/>
                    <a:ext cx="5790960" cy="45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7" name=""/>
          <p:cNvSpPr/>
          <p:nvPr/>
        </p:nvSpPr>
        <p:spPr>
          <a:xfrm>
            <a:off x="527400" y="6019920"/>
            <a:ext cx="5968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ilarity between SNA and O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icity of Internet; specifies only layers 3 and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ed application layers over Inter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onality of layers 1 and 2 - IEEE stand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821240" y="8458200"/>
            <a:ext cx="331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Management: Principles and Prac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 Mani Subramanian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09480" y="83818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851800" y="846936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-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533520" y="533520"/>
            <a:ext cx="563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42670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0" y="4267080"/>
            <a:ext cx="1523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791320" y="838188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064880" y="533520"/>
            <a:ext cx="438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pplication Protoc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333040" y="2286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457200" y="1371600"/>
          <a:ext cx="6095880" cy="297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371600"/>
                    <a:ext cx="6095880" cy="297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9" name=""/>
          <p:cNvSpPr/>
          <p:nvPr/>
        </p:nvSpPr>
        <p:spPr>
          <a:xfrm>
            <a:off x="362160" y="4888080"/>
            <a:ext cx="61912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et us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OSI u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lne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rtual Term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 Transf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oco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 Transfer Access &amp; Mgm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Mail Transf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sage-oriented Tex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Protocol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Interchange Stand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Netw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on Managemen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Management Protocol   Information Protoc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821240" y="8458200"/>
            <a:ext cx="331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Management: Principles and Prac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 Mani Subramanian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83818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851800" y="846936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-2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33520" y="533520"/>
            <a:ext cx="563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09480" y="685800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0" y="6858000"/>
            <a:ext cx="1523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791320" y="838188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197000" y="533520"/>
            <a:ext cx="37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M Case Hist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333040" y="2286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82200" y="1371600"/>
            <a:ext cx="3454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ase of the Footpr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se of the crashing bri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533520" y="2452680"/>
          <a:ext cx="5790960" cy="423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452680"/>
                    <a:ext cx="5790960" cy="42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2" name=""/>
          <p:cNvSpPr/>
          <p:nvPr/>
        </p:nvSpPr>
        <p:spPr>
          <a:xfrm>
            <a:off x="1821240" y="8458200"/>
            <a:ext cx="331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Management: Principles and Prac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 Mani Subramanian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09480" y="83818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851800" y="846936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-2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533520" y="533520"/>
            <a:ext cx="563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525780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0" y="5257800"/>
            <a:ext cx="1523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791320" y="838188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32800" y="533520"/>
            <a:ext cx="562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mon Network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333040" y="2286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834120" y="1373040"/>
            <a:ext cx="3597480" cy="24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ss of conne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plicate IP add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mittent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work configuration iss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-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formance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821240" y="8458200"/>
            <a:ext cx="331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Management: Principles and Prac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 Mani Subramanian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09480" y="83818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851800" y="846936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-2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533520" y="533520"/>
            <a:ext cx="563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09480" y="525780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0" y="5257800"/>
            <a:ext cx="1523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791320" y="838188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835920" y="533520"/>
            <a:ext cx="532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llenges of IT Manag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333040" y="2286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28840" y="1219320"/>
            <a:ext cx="5121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ia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-real time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pid technological adv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ing client/server enviro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la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oubleshooting tools and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ouble predi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ardization of operations - NMS hel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ntralized management vs “sneaker-net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821240" y="8458200"/>
            <a:ext cx="331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Management: Principles and Prac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 Mani Subramanian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09480" y="83818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851800" y="846936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-2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533520" y="533520"/>
            <a:ext cx="563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09480" y="56386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0" y="5638680"/>
            <a:ext cx="1523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791320" y="8381880"/>
            <a:ext cx="457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879840" y="533520"/>
            <a:ext cx="438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twork Mana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333040" y="2286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533520" y="1295280"/>
          <a:ext cx="5790960" cy="398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295280"/>
                    <a:ext cx="5790960" cy="39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3" name=""/>
          <p:cNvSpPr/>
          <p:nvPr/>
        </p:nvSpPr>
        <p:spPr>
          <a:xfrm>
            <a:off x="670320" y="6107040"/>
            <a:ext cx="2478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AM&amp;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minist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en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sio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821240" y="8458200"/>
            <a:ext cx="331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Management: Principles and Prac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 Mani Subramanian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09480" y="83818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851800" y="846936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-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533520" y="533520"/>
            <a:ext cx="563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09480" y="647712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0" y="6477120"/>
            <a:ext cx="1523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791320" y="838188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30280" y="533520"/>
            <a:ext cx="530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M Functional Flow Char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333040" y="2286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685800" y="1295280"/>
          <a:ext cx="5410080" cy="455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295280"/>
                    <a:ext cx="5410080" cy="455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5" name=""/>
          <p:cNvSpPr/>
          <p:nvPr/>
        </p:nvSpPr>
        <p:spPr>
          <a:xfrm>
            <a:off x="1821240" y="8458200"/>
            <a:ext cx="331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Management: Principles and Prac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 Mani Subramanian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09480" y="83818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851800" y="846936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-2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533520" y="533520"/>
            <a:ext cx="563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09480" y="525780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0" y="5257800"/>
            <a:ext cx="1523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791320" y="838188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364400" y="533520"/>
            <a:ext cx="340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M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333040" y="2286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1066680" y="1219320"/>
          <a:ext cx="4496040" cy="39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219320"/>
                    <a:ext cx="4496040" cy="39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6" name=""/>
          <p:cNvSpPr/>
          <p:nvPr/>
        </p:nvSpPr>
        <p:spPr>
          <a:xfrm>
            <a:off x="1821240" y="8458200"/>
            <a:ext cx="331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Management: Principles and Prac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 Mani Subramanian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09480" y="83818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851800" y="846936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-2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533520" y="533520"/>
            <a:ext cx="563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09480" y="693432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0" y="6934320"/>
            <a:ext cx="1523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791320" y="838188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512360" y="533520"/>
            <a:ext cx="311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333040" y="2286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5" name=""/>
          <p:cNvGraphicFramePr/>
          <p:nvPr/>
        </p:nvGraphicFramePr>
        <p:xfrm>
          <a:off x="380880" y="1143000"/>
          <a:ext cx="6061320" cy="24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143000"/>
                    <a:ext cx="6061320" cy="24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603000" y="7315200"/>
            <a:ext cx="55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sage exchange between NMSs managing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different domai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8" name=""/>
          <p:cNvGraphicFramePr/>
          <p:nvPr/>
        </p:nvGraphicFramePr>
        <p:xfrm>
          <a:off x="609480" y="3886200"/>
          <a:ext cx="5334120" cy="2786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3886200"/>
                    <a:ext cx="5334120" cy="27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0" name=""/>
          <p:cNvSpPr/>
          <p:nvPr/>
        </p:nvSpPr>
        <p:spPr>
          <a:xfrm>
            <a:off x="1821240" y="8458200"/>
            <a:ext cx="331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Management: Principles and Prac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 Mani Subramanian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09480" y="83818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851800" y="846936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-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533520" y="533520"/>
            <a:ext cx="563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09480" y="525780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0" y="5257800"/>
            <a:ext cx="1523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791320" y="838188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22360" y="533520"/>
            <a:ext cx="564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atus and Future Tre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3040" y="2286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14080" y="1459080"/>
            <a:ext cx="44906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u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NMP ma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mited CMIP ma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rations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lled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ture trend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-oriented approa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ce and policy managem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siness ma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-based ma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821240" y="8458200"/>
            <a:ext cx="331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Management: Principles and Prac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 Mani Subramanian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09480" y="83818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51800" y="846936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-2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33520" y="533520"/>
            <a:ext cx="563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525780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5257800"/>
            <a:ext cx="1523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104840" y="533520"/>
            <a:ext cx="392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lephone Net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333040" y="2286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17680" y="1382760"/>
            <a:ext cx="57308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acteristic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iable - does what is expected of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pendable - always there when you need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it (remember 911?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od quality (connection) - hearing each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other we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son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od planning, design, and implem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od operation and management of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1240" y="8458200"/>
            <a:ext cx="331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Management: Principles and Prac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 Mani Subramanian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9480" y="83818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852160" y="846936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-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533520" y="533520"/>
            <a:ext cx="563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617220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6172200"/>
            <a:ext cx="1523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63680" y="533520"/>
            <a:ext cx="521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lephone Network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33040" y="2286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990720" y="1219320"/>
          <a:ext cx="5029200" cy="463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219320"/>
                    <a:ext cx="5029200" cy="46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"/>
          <p:cNvSpPr/>
          <p:nvPr/>
        </p:nvSpPr>
        <p:spPr>
          <a:xfrm>
            <a:off x="508320" y="6564240"/>
            <a:ext cx="5254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ice the hierarchy of switch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mary and secondary routes programm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atic rou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the most likely failur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f Operations Systems to ensure Q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821240" y="8458200"/>
            <a:ext cx="331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Management: Principles and Prac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 Mani Subramanian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83818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852160" y="846936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533520" y="533520"/>
            <a:ext cx="563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60958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6095880"/>
            <a:ext cx="1523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791320" y="838188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4360" y="609480"/>
            <a:ext cx="535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perations Systems / NO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333040" y="2286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18880" y="1447920"/>
            <a:ext cx="63619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itor telephone network parame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/N ratio, transmission loss, call blockage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-time management of 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unk (logical entity between switches) maintena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system measures loss and S/N.  Trunks not meeting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QoS are removed before customer notices poo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qua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ffic measurement systems measure call blockage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Additional switch planned to keep the call blockag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below acceptabl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rations systems are distributed at central off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work management done centrally from Network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Operations Center (NO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821240" y="8458200"/>
            <a:ext cx="331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Management: Principles and Prac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 Mani Subramanian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09480" y="83818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852160" y="846936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-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533520" y="533520"/>
            <a:ext cx="563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9480" y="525780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5257800"/>
            <a:ext cx="1523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91320" y="838188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57920" y="685800"/>
            <a:ext cx="570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a and Telecommunication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3040" y="2286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609480" y="1447920"/>
          <a:ext cx="5562720" cy="347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447920"/>
                    <a:ext cx="5562720" cy="347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510840" y="5726160"/>
            <a:ext cx="58240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uter data is carried over long distance b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telephone (telecommunication networ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 of telephone is analog and output of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computers is digi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m is used to “modulate” and “demodulate”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computer data to analog format and b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r distinction between the two networks i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getting fuzzier with modern multimedia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1240" y="8458200"/>
            <a:ext cx="331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Management: Principles and Prac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 Mani Subramanian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09480" y="83818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852160" y="846936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-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533520" y="533520"/>
            <a:ext cx="563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9480" y="63244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6324480"/>
            <a:ext cx="1523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72280" y="533520"/>
            <a:ext cx="44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BM SNA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333040" y="2286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371600" y="1143000"/>
          <a:ext cx="4732200" cy="487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143000"/>
                    <a:ext cx="473220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434520" y="6716880"/>
            <a:ext cx="6081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BM System Network Architecture (SNA) is a majo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step in network archite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NA is based on multitude of (dumb) terminal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accessing a mainframe host at a remote lo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821240" y="8458200"/>
            <a:ext cx="331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Management: Principles and Prac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 Mani Subramanian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09480" y="83818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852160" y="846936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-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533520" y="533520"/>
            <a:ext cx="563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9480" y="525780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5257800"/>
            <a:ext cx="1523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791320" y="838188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615320" y="533520"/>
            <a:ext cx="29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CE with 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33040" y="2286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457200" y="1828800"/>
          <a:ext cx="5943600" cy="263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828800"/>
                    <a:ext cx="5943600" cy="263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>
            <a:off x="1221480" y="1066680"/>
            <a:ext cx="398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CE.. Distributed Computing Environ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91480" y="5726160"/>
            <a:ext cx="36795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iving technologies for DC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ktop process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N - WAN 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821240" y="8458200"/>
            <a:ext cx="331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Management: Principles and Prac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 Mani Subramanian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9480" y="83818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852160" y="846936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-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533520" y="533520"/>
            <a:ext cx="563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9480" y="525780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5257800"/>
            <a:ext cx="1523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791320" y="838188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151280" y="533520"/>
            <a:ext cx="38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N-WAN Net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333040" y="2286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685800" y="1371600"/>
          <a:ext cx="5486400" cy="349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371600"/>
                    <a:ext cx="5486400" cy="349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"/>
          <p:cNvSpPr/>
          <p:nvPr/>
        </p:nvSpPr>
        <p:spPr>
          <a:xfrm>
            <a:off x="510120" y="5649840"/>
            <a:ext cx="55238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jor impacts of DC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more monopolistic service provi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centralized IT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sts doing specialized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/Server architecture formed the cor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of DCE 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21240" y="8458200"/>
            <a:ext cx="331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Management: Principles and Prac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 Mani Subramanian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9480" y="83818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852160" y="846936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-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05T01:48:36Z</dcterms:created>
  <dc:creator>Mani Subramanian</dc:creator>
  <dc:description/>
  <dc:language>en-US</dc:language>
  <cp:lastModifiedBy>Mani Subramanian</cp:lastModifiedBy>
  <cp:lastPrinted>2000-01-18T03:47:47Z</cp:lastPrinted>
  <dcterms:modified xsi:type="dcterms:W3CDTF">2000-01-18T03:48:15Z</dcterms:modified>
  <cp:revision>25</cp:revision>
  <dc:subject/>
  <dc:title>No Slide Title</dc:title>
</cp:coreProperties>
</file>