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6DE-D972-4399-B252-B2E63D9B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EB9-EDD5-467E-B90D-4B1B3BF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081-F84F-44BE-BCCB-D13EDF20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E3A-742F-4345-9D39-E41F3B25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E8F-B23B-4912-A134-790DD8FE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06A-B59C-459A-A984-A708394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47C-56EF-4C51-AB00-40B5AF8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A80-2662-493A-9205-8749EB2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F3A-D0B7-4BA1-BF34-03A62C3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6EC-7EF3-48C6-A98C-915F8EA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45A-1FC5-4796-B0FE-04D2C2A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C3F-9160-4241-A6FB-E42B8A9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625-2945-4F39-BC21-CA5B56A2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8381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48800" y="3828960"/>
            <a:ext cx="174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6858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858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7080" y="3668760"/>
            <a:ext cx="5103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enera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respon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rece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rece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Forwa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bulk to get-n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SNMP version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066680"/>
          <a:ext cx="530208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530208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09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9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9760" y="5824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1154160"/>
            <a:ext cx="5397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Engin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Engin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Who: person or group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human readab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Engin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Engin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7680" y="5105520"/>
            <a:ext cx="50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Engin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dres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, David, Kristen, Rashm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20" y="4267080"/>
            <a:ext cx="53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NMP agent can monitor more than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 element (con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26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670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 Servic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1066680"/>
          <a:ext cx="625320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25320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7840" y="4724280"/>
            <a:ext cx="60861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ervice interface is a conceptual interfa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etween modules, independent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a set of primi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 associated with receiving entities exce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or 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r primitives associated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to and from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ing and un-registering of 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ing to and receiving messages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d OU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formation /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PDU Primi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5920" y="1320840"/>
          <a:ext cx="624492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320840"/>
                    <a:ext cx="624492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31280" y="4964040"/>
            <a:ext cx="635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Pdu request sent by the application modul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mand generator, is associated with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ceiving module, 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message is transmitted over the networ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patcher sends a handle to the command gener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tracking th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Pdu is the IN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PduHandle is the OUT parameter, shown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upled to the IN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029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029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atcher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447920"/>
          <a:ext cx="5634000" cy="30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563400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06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95120" y="938160"/>
          <a:ext cx="6467760" cy="72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938160"/>
                    <a:ext cx="6467760" cy="72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33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Resp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990720"/>
          <a:ext cx="6356520" cy="71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6356520" cy="71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09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fication /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5791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791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1400" y="1143000"/>
            <a:ext cx="629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orig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trap and inform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arget, SNMP version,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contex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 with SNMP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notific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forw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only SNMP messages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ind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the translation table in the proxy group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14000" y="58248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2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143000"/>
          <a:ext cx="55641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55641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09480" y="5791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791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2160" y="6172200"/>
            <a:ext cx="54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v3 MIB developed under snmp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laceholder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7680" y="6094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295280"/>
          <a:ext cx="555624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555624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433440" y="5014800"/>
            <a:ext cx="595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FrameworkMIB describes SNM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nagement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MPDMIB identifies objects in the mess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cessing and dispatch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TargetMIB and snmpNotificationMIB us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notification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ProxyMIB defines translation table for prox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w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UsMIB defines user-based security mod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VacmMIB defines objects for view-bas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9400" y="58248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5880" y="1143000"/>
            <a:ext cx="367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zation of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zation of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eng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82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Target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0920" y="4964040"/>
            <a:ext cx="6256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MIB contains two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ddress table contains addresses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rgets for notifications (see notification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ddress table also contains information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stablishing the transpor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ddress table contains reference to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cond table, target parameter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parameter table contains security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authentication and 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1371600"/>
          <a:ext cx="5553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553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24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Notification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3080" y="4964040"/>
            <a:ext cx="6168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group contains thre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y table contains groups of management targ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 receive notifications and the type of 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rget addresses to receive notifications th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listed in target address table (see target group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tagg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profile table defines filter profi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ssociated with targe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filter table contains table profiles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88920" y="1295280"/>
          <a:ext cx="4411800" cy="26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295280"/>
                    <a:ext cx="441180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4876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876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609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1219320"/>
          <a:ext cx="552744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52744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47120" y="5257800"/>
            <a:ext cx="624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information: Contents modified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authorized user, does not include addres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querade: change of originating address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authorize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of message altered by an unauthoriz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r to modify the meaning of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ure is eaves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ure does not require intercep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 of service and traffic analysis are not con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idered as thr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8680" y="58248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143000"/>
          <a:ext cx="575964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575964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86560" y="4876920"/>
            <a:ext cx="607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AC-MD5-96 / HMAC-SHA-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rigin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 to the message a unique Identif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ssociated with authoritative SNMP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/ confidenti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ative Engine ID, No. of engine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582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of SNMP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371600"/>
            <a:ext cx="35812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Authoritative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3657600"/>
            <a:ext cx="3581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ative Eng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0360" y="5638680"/>
            <a:ext cx="6168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y of Authoritative eng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NMP engin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sta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authoritative engine should keep a table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ime-stamp and authoritative engin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1306440"/>
            <a:ext cx="204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6320" y="55728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Messag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-2246400" y="1276200"/>
          <a:ext cx="11352240" cy="659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46400" y="1276200"/>
                    <a:ext cx="11352240" cy="65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Messag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80880" y="1600200"/>
          <a:ext cx="607068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60706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06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-Based Securit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7480" y="1195560"/>
            <a:ext cx="590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raditional user name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M primitives across abstract servic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service 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Outgoing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Incoming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98560" y="1306440"/>
            <a:ext cx="204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557280"/>
            <a:ext cx="56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 Outgoin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-1776240" y="1320840"/>
          <a:ext cx="995832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6240" y="1320840"/>
                    <a:ext cx="995832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609480" y="660384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60384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582840" y="7112160"/>
            <a:ext cx="7451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M invokes privacy module w/ encryption key and scoped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 module returns privacy parameters and encrypted scoped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M then invokes the authentication module w/authentication key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hole message and receives authenticated whol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868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852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98560" y="1306440"/>
            <a:ext cx="204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91840" y="557280"/>
            <a:ext cx="46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 Incoming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-1890720" y="1219320"/>
          <a:ext cx="1046484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90720" y="1219320"/>
                    <a:ext cx="104648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09480" y="6400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400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849960" y="6908760"/>
            <a:ext cx="88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ecure incoming message reverse of secure outgoing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validation done first by the authentication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ion of the message done then by the privacy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4800" y="582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1368360" y="1320840"/>
          <a:ext cx="9651960" cy="63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68360" y="1320840"/>
                    <a:ext cx="9651960" cy="63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-450360" y="7634160"/>
            <a:ext cx="66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is to the document organization in Chapt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582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33520" y="990720"/>
          <a:ext cx="548640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54864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228600" y="5638680"/>
          <a:ext cx="6305400" cy="2590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638680"/>
                    <a:ext cx="630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8720" y="658800"/>
            <a:ext cx="27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cy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8680" y="1219320"/>
            <a:ext cx="543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and decryption of scoped PD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context engine ID, context name, and PD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 - DES (Cipher Block Chaining -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ncryption Standard) symmetric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key (and initialization vector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made up of secret key (user password)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imeliness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parameter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(unique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ach packet) in CBC-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3798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87504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9640" y="58248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6680" y="1195560"/>
            <a:ext cx="4333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 for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user (NMS)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5 or SHA-1 algorithm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ke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1800" y="4343400"/>
            <a:ext cx="5822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repeated until it form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MD5 or SHA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atenate authoritative SNMP engine I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est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hash with the same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3809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809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82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0720" y="1143000"/>
            <a:ext cx="549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parameter is Hashed Mess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ccess Code (HM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AC is 96-bit long (12 oct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authorization ke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h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6320" y="4191120"/>
            <a:ext cx="6005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Auth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 authKey with 0s to get 64-byte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Def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pad, op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1, and K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p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x36 (00110110) repeated 6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x5c (01011100) repeated 6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Auth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2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Auth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rive HMAC by hashing algorithm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AC = H (K2, H (K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oleMsg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398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398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ryp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33520" y="3189240"/>
          <a:ext cx="552744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89240"/>
                    <a:ext cx="552744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295920" y="1066680"/>
            <a:ext cx="643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 Block Chaining mod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ta Encryption Standard (CBC-DES)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-oct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ecre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8-oct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as 56-bit DES ke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Only 7 high-order bits of each octet u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8-oct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as pre-initialization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7040" y="5867280"/>
            <a:ext cx="5805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 divided into 64-bit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is XOR-d with ciphertext o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evious block and then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e-IV (initialization vector) for prefix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first message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6172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172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160" y="1066680"/>
            <a:ext cx="6105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-based Access Contro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: Name of the group compri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curity model and security nam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SNMPv1, is communit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uthentication - no 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- no 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- 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s: Names of the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Views and View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view is a combination of view sub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-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-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y-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-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33120" y="65880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AM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" y="1143000"/>
            <a:ext cx="6052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s 6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o are you (group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ere do you want to go (context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w secured are you to access the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urity model and security level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hy do you want to access the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read, write, or send notification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hat object (object type) do you want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acces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ich object (object instance) do you want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a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98560" y="1306440"/>
            <a:ext cx="204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557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AM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-1004760" y="1258920"/>
          <a:ext cx="904536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4760" y="1258920"/>
                    <a:ext cx="904536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5105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51055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CM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9200" y="5562720"/>
            <a:ext cx="613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tables used to achieve 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defined by security-to-group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defined by contex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determines access allowed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iew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ree family table determines the MIB view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is very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63560" y="1219320"/>
          <a:ext cx="5105520" cy="34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219320"/>
                    <a:ext cx="510552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B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000" y="1143000"/>
            <a:ext cx="5793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.6.1.2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formation relevant to a particular interfac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view sub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ith all columnar objects in a row app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eparate subtre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DENTIFIER (family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string value (family m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or suppress columna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72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0320" y="58248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43000"/>
          <a:ext cx="548460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43000"/>
                    <a:ext cx="5484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3240" y="6553080"/>
            <a:ext cx="616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entity is a node with an SNMP manag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lement - either an agent or manager or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names associated with an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: SNMP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ies: Principal and securit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nformation: Context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582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CM MIB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1066680"/>
          <a:ext cx="5029200" cy="39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48920" y="5638680"/>
            <a:ext cx="57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view name =  “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subtree = 1.3.6.1.2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mask = “” (implies all 1s by conven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type = 1 (implies value to be in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86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86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3080" y="58248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Engin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0440" y="1219320"/>
          <a:ext cx="588312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219320"/>
                    <a:ext cx="5883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00600" y="4319640"/>
            <a:ext cx="6293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NMP engine has a unique ID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mpEngine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 Networks  {enterprises 696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v1 snmpEngineID  ‘000002b8’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v3 snmpEngineID  ‘800002b8’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the 1st octet is 1000 0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791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91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0200" y="5824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3 Engine ID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th Oc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0280" y="1752480"/>
          <a:ext cx="5576760" cy="39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52480"/>
                    <a:ext cx="557676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04920" y="617220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NMPv1 and SNMPv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5 is 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6-12 is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IBM host IP address 10.10.10.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1: 00 00 00 02 01 0A 0A 0A 0A 00 00 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NMPv3: 10 00 00 02 02 00 00 00 00 00 00 00 0A 0A 0A 0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400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400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3560" y="1219320"/>
          <a:ext cx="52992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219320"/>
                    <a:ext cx="52992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25880" y="2743200"/>
            <a:ext cx="616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ispatcher in an SNMP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ultiple vers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with application modules, network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essage process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omponents for thre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mapper delivers messages over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ispatcher routes messages betw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 and appropriate module of 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U dispatcher handles messages betw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pplication and M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33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Processing Sub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219320"/>
          <a:ext cx="529884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19320"/>
                    <a:ext cx="52988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09040" y="2754360"/>
            <a:ext cx="611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one or more Message Process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PM for each SNM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version identified in the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1306440"/>
            <a:ext cx="27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82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and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3560" y="1295280"/>
          <a:ext cx="52992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295280"/>
                    <a:ext cx="52992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9760" y="2754360"/>
            <a:ext cx="6035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at the messag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of message via secure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can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be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MIB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5T01:48:36Z</dcterms:created>
  <dc:creator>Mani Subramanian</dc:creator>
  <dc:description/>
  <dc:language>en-US</dc:language>
  <cp:lastModifiedBy>Mani Subramanian</cp:lastModifiedBy>
  <cp:lastPrinted>1999-10-14T02:16:03Z</cp:lastPrinted>
  <dcterms:modified xsi:type="dcterms:W3CDTF">2000-02-06T14:10:41Z</dcterms:modified>
  <cp:revision>33</cp:revision>
  <dc:subject/>
  <dc:title>No Slide Title</dc:title>
</cp:coreProperties>
</file>