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31.wmf" ContentType="image/x-wmf"/>
  <Override PartName="/ppt/media/image28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934F-3BBD-42C7-B5AE-577BAD69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793-C76D-466E-8085-8C3B91B8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177-6FAE-4680-93BC-42203080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5FD-ECA2-47B6-8B07-083D2DA8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0A0B-CCB4-416B-915A-CE5B80C7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051-3F56-4474-B761-3304BAEE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2CA-AEE1-4254-B8CA-7882471A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A5C-F261-4388-B0C2-E9BD63AD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4D5-B0D3-4B1A-AF5F-A30E3592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B4F-CBDC-4B52-962B-4434252A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293-44D6-4831-9C91-6F757E4C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9AF-6916-4A09-BFB9-38F1CB86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7330-E923-4EF5-ABFC-AFAD42809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3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400" y="3724200"/>
            <a:ext cx="60206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MPv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 and Information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1120" y="5211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2360" y="533520"/>
            <a:ext cx="23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MP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8880" y="1066680"/>
            <a:ext cx="6407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between network elemen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gent, and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ical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SN.1 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I (Structure of Managemen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B ( Management Information 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 over 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services addressed by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framework community-based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1120" y="5211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080" y="533520"/>
            <a:ext cx="50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-Tier Organiza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440" y="1523880"/>
          <a:ext cx="6475680" cy="21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523880"/>
                    <a:ext cx="647568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81160" y="5573880"/>
            <a:ext cx="58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host that could query an agent is a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1120" y="5211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160" y="533520"/>
            <a:ext cx="543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-Tier Organization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5800" y="57006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909800" y="1828800"/>
          <a:ext cx="2565360" cy="23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9800" y="1828800"/>
                    <a:ext cx="2565360" cy="23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355680" y="5649840"/>
            <a:ext cx="6124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object comprises network element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anagement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ON acts as an agent and a manag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ON (Remote Monitoring) gathers data from MO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alyses the data, and stores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s the statistics to the manag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1120" y="5211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4920" y="533520"/>
            <a:ext cx="543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-Tier Organization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xy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800" y="57006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763640" y="1828800"/>
          <a:ext cx="2962440" cy="30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828800"/>
                    <a:ext cx="296244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360720" y="5649840"/>
            <a:ext cx="577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 server converts non-SNMP data fr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on-SNMP objects to SNMP compatible obje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9480" y="71359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1120" y="7086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92840" y="533520"/>
            <a:ext cx="36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5800" y="79866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34960" y="1219320"/>
          <a:ext cx="601992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219320"/>
                    <a:ext cx="6019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25240" y="7391520"/>
            <a:ext cx="53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between manager and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 of messages - 3 from manager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2 from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09480" y="53830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1120" y="53341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06760" y="53352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MP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2640" y="1066680"/>
            <a:ext cx="588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-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 by manager requesting data from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-Next-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 by manager requesting data on the n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 to the on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-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s or changes the value of networ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responds with data for get and s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requests from the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rm generated by an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1120" y="5211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5335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9440" y="1382760"/>
            <a:ext cx="5244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of Management Information (SMI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RFC 115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e or tabula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Information Base (RFC 12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7840" y="5649840"/>
            <a:ext cx="587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s can be downloaded from ftp.internic.net/r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1120" y="5211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46360" y="533520"/>
            <a:ext cx="29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d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1760" y="5562720"/>
            <a:ext cx="5292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type and data type are synonym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identifier is data type, not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instance IP address (See Figure 4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82680" y="1371600"/>
          <a:ext cx="6251400" cy="33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371600"/>
                    <a:ext cx="625140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1120" y="5211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5440" y="609480"/>
            <a:ext cx="62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d Object: Multiple In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5800" y="57006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85800" y="1523880"/>
          <a:ext cx="5241960" cy="27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5241960" cy="27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222840" y="5638680"/>
            <a:ext cx="598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3 Com hubs of the same version have identic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dentifier; they are distinguished by the I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P address is an instance of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09480" y="5078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1120" y="50292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28720" y="5335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6040" y="6324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52640" y="1001880"/>
            <a:ext cx="338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defin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OR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IDENTIF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992160" y="2268360"/>
          <a:ext cx="4890960" cy="53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2268360"/>
                    <a:ext cx="489096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344520" y="3268800"/>
          <a:ext cx="6338880" cy="169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520" y="3268800"/>
                    <a:ext cx="633888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366480" y="5497560"/>
            <a:ext cx="347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Addr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295280"/>
            <a:ext cx="563868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&amp;T Network Management Cen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ntrol C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Operations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N World Headquar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ized troubleshooting of 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degradation due to N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l Operating company 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440" y="533520"/>
            <a:ext cx="30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Hi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400" y="526896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1120" y="5211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62760" y="533520"/>
            <a:ext cx="32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 Sub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0120" y="5700600"/>
            <a:ext cx="5316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IDENTIFIER ::= {internet 1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gm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IDENTIFIER ::= {internet 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IDENTIFIER ::= {internet 3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IDENTIFIER ::= {internet 4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04920" y="1295280"/>
          <a:ext cx="6248160" cy="32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6248160" cy="32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09480" y="59436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1120" y="58975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240" y="533520"/>
            <a:ext cx="36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 MIB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5800" y="6386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533520" y="1143000"/>
          <a:ext cx="548784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548784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281160" y="6259680"/>
            <a:ext cx="626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B intended for vendor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NA (Internet Assigned Numbers Authority) assig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dentif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33640" y="53352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MP ASN.1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-1619280" y="1422360"/>
          <a:ext cx="9753480" cy="63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19280" y="1422360"/>
                    <a:ext cx="9753480" cy="63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140868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852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533520"/>
            <a:ext cx="59817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22200" y="20304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1120" y="5211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50800" y="609480"/>
            <a:ext cx="36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5800" y="57006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28600" y="1371600"/>
          <a:ext cx="6246720" cy="24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62467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280080" y="5573880"/>
            <a:ext cx="6213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t-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ssage has NULL for value fields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t-respon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gent has the values filled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yp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(0..25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ET STRING (SIZE 0..25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ET STRING (SIZE 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1120" y="5211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37240" y="53352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umera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1840" y="5651640"/>
            <a:ext cx="430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Err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 by con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7440" y="1460520"/>
            <a:ext cx="438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ase of INTEGER dat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12840" y="2135160"/>
          <a:ext cx="6141960" cy="21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2135160"/>
                    <a:ext cx="614196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1120" y="5211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2280" y="533520"/>
            <a:ext cx="57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d or Application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80880" y="1981080"/>
          <a:ext cx="6096240" cy="28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60962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356400" y="5573880"/>
            <a:ext cx="561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data types are simple or base typ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que is used to create data types based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reviously defined data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09480" y="63244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960" y="63244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7120" y="533520"/>
            <a:ext cx="64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or or Structured Data Ty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72480" y="150984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m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838080" y="2057400"/>
          <a:ext cx="5791320" cy="17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579132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380880" y="2590920"/>
          <a:ext cx="6324840" cy="1676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90920"/>
                    <a:ext cx="632484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403200" y="4465800"/>
          <a:ext cx="6095880" cy="1714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200" y="4465800"/>
                    <a:ext cx="609588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960" y="52578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1800" y="609480"/>
            <a:ext cx="649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or or Structured Data Ty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ENC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33520" y="2666880"/>
          <a:ext cx="5640120" cy="17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66880"/>
                    <a:ext cx="56401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304920" y="1752480"/>
          <a:ext cx="6172200" cy="533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752480"/>
                    <a:ext cx="6172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11160" y="5148360"/>
            <a:ext cx="5639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1680" y="5148360"/>
            <a:ext cx="1525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24480" y="5207040"/>
            <a:ext cx="84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1160" y="8272440"/>
            <a:ext cx="5639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1000" y="8272440"/>
            <a:ext cx="4344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41480" y="8510760"/>
            <a:ext cx="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3000" y="819612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59120" y="423720"/>
            <a:ext cx="10191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40840" y="457200"/>
            <a:ext cx="4746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E OF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379440" y="1219320"/>
          <a:ext cx="5965920" cy="305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1219320"/>
                    <a:ext cx="5965920" cy="30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509400" y="5573880"/>
            <a:ext cx="578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ove example (Figure 4.3) uses part of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P MIB discussed for SEQUENCE OF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9480" y="6907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1120" y="68580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02920" y="53352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5800" y="6539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8600" y="3886200"/>
            <a:ext cx="6172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 Data Types and 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IDENTIF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 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 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Add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u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Tic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q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5040" y="1093680"/>
            <a:ext cx="41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Encoding Rules (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, Length, and Value (TL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609480" y="1905120"/>
          <a:ext cx="416880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416880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5791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0720" y="533520"/>
            <a:ext cx="28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d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066680"/>
          <a:ext cx="373536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066680"/>
                    <a:ext cx="373536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67560" y="575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6760" y="6132600"/>
            <a:ext cx="59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S on subnet 192.168.252.1 manages the router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hubs on subnet 172.16.46.1 across the backbo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8960" y="52578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50320" y="533520"/>
            <a:ext cx="47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d Object: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455760" y="1382760"/>
          <a:ext cx="5651280" cy="28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1382760"/>
                    <a:ext cx="565128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09480" y="47242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8960" y="47242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5800" y="57006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604800" y="1371600"/>
          <a:ext cx="5384880" cy="279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1371600"/>
                    <a:ext cx="5384880" cy="27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996480" y="68580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d Object: 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66560" y="5181480"/>
          <a:ext cx="5429520" cy="3173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560" y="5181480"/>
                    <a:ext cx="54295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09480" y="4648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960" y="46483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38000" y="53352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4800" y="1066680"/>
            <a:ext cx="435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roup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alled tabular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represented by a table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ws of in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0880" y="5081760"/>
            <a:ext cx="6172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IP address 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obj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14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14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14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net mask (which subnet this address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longs 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14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address (value of l.s.b. in IP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roadcast addr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14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st IP datagram that can be assemb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stances of these objects associated wi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481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059560" y="266688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35160" y="35053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4812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92720" y="41911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762120" y="472428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3400" y="46782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92320" y="533520"/>
            <a:ext cx="40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e M.O. Mac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376200" y="1528920"/>
          <a:ext cx="5981760" cy="305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528920"/>
                    <a:ext cx="5981760" cy="30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442800" y="5040360"/>
            <a:ext cx="383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Addr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TYP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{ip 20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AddrE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-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{ipAddrTable 1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380880" y="6858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3400" y="68580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82600" y="533520"/>
            <a:ext cx="40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e M.O. Mac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y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692280" y="1447920"/>
          <a:ext cx="5375160" cy="528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447920"/>
                    <a:ext cx="5375160" cy="52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448920" y="7238880"/>
            <a:ext cx="61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pAdEntAd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quely identifies a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require more than one object in the instance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iquely identify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380880" y="64501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20" y="64008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1640" y="533520"/>
            <a:ext cx="40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e M.O. Mac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umnar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533520" y="1447920"/>
          <a:ext cx="5484600" cy="210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5484600" cy="21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409680" y="3843360"/>
          <a:ext cx="5848200" cy="2365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9680" y="3843360"/>
                    <a:ext cx="5848200" cy="23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09480" y="44956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1120" y="4449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23760" y="533520"/>
            <a:ext cx="458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ular Representa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612720" y="1676520"/>
          <a:ext cx="5597640" cy="25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676520"/>
                    <a:ext cx="5597640" cy="25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281160" y="4888080"/>
            <a:ext cx="6650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bjec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BLE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TRY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bjects th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re logical objects.  They define the grouping and 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ot acce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ar objects are objects that represent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ttributes and hence are acce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stanc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row of columnar objec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 through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stanc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represented by multiple 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09480" y="64771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1120" y="643104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25200" y="533520"/>
            <a:ext cx="458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ular Representa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609480" y="1676520"/>
          <a:ext cx="564192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564192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374040" y="6858000"/>
            <a:ext cx="604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that the column-row numeric designation 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reverse of what we are used to as row-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40600" y="533520"/>
            <a:ext cx="478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Instance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e Managed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609480" y="1523880"/>
          <a:ext cx="5616720" cy="254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5616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534960" y="4495680"/>
          <a:ext cx="5627880" cy="1586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4960" y="4495680"/>
                    <a:ext cx="562788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533520" y="6095880"/>
          <a:ext cx="5634000" cy="2202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6095880"/>
                    <a:ext cx="5634000" cy="22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609480" y="509436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1120" y="504684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8560" y="609480"/>
            <a:ext cx="57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I Definition STD 16 / 1155 R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457200" y="1143000"/>
          <a:ext cx="5952960" cy="399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595296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284400" y="5486400"/>
            <a:ext cx="646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 identifies the objects that any other modu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uld im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1120" y="5211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33360" y="484200"/>
            <a:ext cx="397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d Hub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4400" y="5715000"/>
            <a:ext cx="51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btained querying the hu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uly reflects what is stored in the 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1600200"/>
          <a:ext cx="6248520" cy="35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6248520" cy="35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09480" y="44956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1120" y="4449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6280" y="609480"/>
            <a:ext cx="57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I Definition STD 16 / 1155 R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22200" y="1217520"/>
          <a:ext cx="6007320" cy="323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1217520"/>
                    <a:ext cx="600732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09480" y="48769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1120" y="483084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62600" y="609480"/>
            <a:ext cx="57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I Definition STD 16 / 1155 R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685800" y="1219320"/>
          <a:ext cx="5342040" cy="351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5342040" cy="35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609480" y="40384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32280" y="533520"/>
            <a:ext cx="57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I Definition STD 16 / 1155 R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608040" y="1295280"/>
          <a:ext cx="5383080" cy="25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295280"/>
                    <a:ext cx="538308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609480" y="4267080"/>
          <a:ext cx="5373720" cy="3678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267080"/>
                    <a:ext cx="5373720" cy="36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609480" y="70596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1120" y="70102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2280" y="533520"/>
            <a:ext cx="57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I Definition STD 16 / 1155 R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73040" y="1066680"/>
          <a:ext cx="5799240" cy="57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066680"/>
                    <a:ext cx="5799240" cy="57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09480" y="61722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31120" y="61261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18800" y="53352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992160" y="1143000"/>
          <a:ext cx="49942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1143000"/>
                    <a:ext cx="49942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"/>
          <p:cNvSpPr/>
          <p:nvPr/>
        </p:nvSpPr>
        <p:spPr>
          <a:xfrm>
            <a:off x="281520" y="6488280"/>
            <a:ext cx="6095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B-II (RFC 1213) is superset of MIB-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that are related grouped into object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B module comprises module name, imports fr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ther modules, and definitions of current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 1213 defines eleven groups; expanded la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609480" y="50292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31120" y="49831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37160" y="533520"/>
            <a:ext cx="26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373040" y="1066680"/>
          <a:ext cx="4191120" cy="37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066680"/>
                    <a:ext cx="4191120" cy="37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528480" y="5715000"/>
          <a:ext cx="5642280" cy="2220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480" y="5715000"/>
                    <a:ext cx="56422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09480" y="7364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1120" y="73915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121840" y="53352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531720" y="1143000"/>
          <a:ext cx="537696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1143000"/>
                    <a:ext cx="537696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609480" y="70102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8960" y="70102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30880" y="533520"/>
            <a:ext cx="30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685800" y="990720"/>
          <a:ext cx="5445000" cy="58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5445000" cy="58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09480" y="44956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8960" y="44956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85160" y="53352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703440" y="1446120"/>
          <a:ext cx="5364000" cy="290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446120"/>
                    <a:ext cx="536400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"/>
          <p:cNvSpPr/>
          <p:nvPr/>
        </p:nvSpPr>
        <p:spPr>
          <a:xfrm>
            <a:off x="444960" y="4989600"/>
            <a:ext cx="53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Entry specifies the objects in a row in the if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nterface is defined as a row in th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80880" y="70866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3400" y="7086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623680" y="53352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609480" y="1066680"/>
          <a:ext cx="538668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538668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372960" y="7467480"/>
            <a:ext cx="622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interface below the network layer defined 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enumerated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522756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1120" y="51814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4280" y="560520"/>
            <a:ext cx="397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d Rout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0440" y="1905120"/>
          <a:ext cx="5943600" cy="292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905120"/>
                    <a:ext cx="594360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685800" y="655308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7440" y="65070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98320" y="53352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57200" y="914400"/>
          <a:ext cx="5326200" cy="54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532620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"/>
          <p:cNvSpPr/>
          <p:nvPr/>
        </p:nvSpPr>
        <p:spPr>
          <a:xfrm>
            <a:off x="370080" y="6894360"/>
            <a:ext cx="581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Forwarding: Gateway(1) and Router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Address Table contains table of IP 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Route Table contains an entry for each ro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Network-to-Media Table is address translation t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mapping IP addresses to physical 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609480" y="44956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960" y="44956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16840" y="53352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 Address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608040" y="5257800"/>
          <a:ext cx="5640480" cy="260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5257800"/>
                    <a:ext cx="56404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914400" y="990720"/>
          <a:ext cx="4718160" cy="342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990720"/>
                    <a:ext cx="4718160" cy="34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609480" y="51544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701000" y="533520"/>
            <a:ext cx="30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 Routing 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609480" y="990720"/>
          <a:ext cx="5181840" cy="37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5181840" cy="37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604800" y="5181480"/>
          <a:ext cx="5626080" cy="3218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800" y="5181480"/>
                    <a:ext cx="562608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609480" y="44956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6040" y="44956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7160" y="609480"/>
            <a:ext cx="50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 Address Translation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763560" y="1371600"/>
          <a:ext cx="4875120" cy="30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1371600"/>
                    <a:ext cx="4875120" cy="30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533520" y="5181480"/>
          <a:ext cx="5635440" cy="242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181480"/>
                    <a:ext cx="5635440" cy="24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609480" y="51544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6040" y="51814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24720" y="53352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MP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990720"/>
          <a:ext cx="55641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55641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"/>
          <p:cNvSpPr/>
          <p:nvPr/>
        </p:nvSpPr>
        <p:spPr>
          <a:xfrm>
            <a:off x="441360" y="5715000"/>
            <a:ext cx="6416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associated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mpOutEchos       # ICMP echo messages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mpInEchoReps   # ICMP echo reply mess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associated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ceroute/trac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mpInTimeExcs   # ICMP time exceed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380880" y="51544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520" y="51055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12200" y="533520"/>
            <a:ext cx="20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230040" y="990720"/>
          <a:ext cx="6239160" cy="62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990720"/>
                    <a:ext cx="6239160" cy="62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6" name=""/>
          <p:cNvSpPr/>
          <p:nvPr/>
        </p:nvSpPr>
        <p:spPr>
          <a:xfrm>
            <a:off x="356760" y="5573880"/>
            <a:ext cx="540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-oriented transport protocol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on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609480" y="44956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36040" y="44956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60720" y="533520"/>
            <a:ext cx="39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 Connection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920880" y="1219320"/>
          <a:ext cx="4524120" cy="31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219320"/>
                    <a:ext cx="452412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611280" y="5334120"/>
          <a:ext cx="5557680" cy="2100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334120"/>
                    <a:ext cx="555768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609480" y="44956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59720" y="45720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191680" y="533520"/>
            <a:ext cx="20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DP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534960" y="1066680"/>
          <a:ext cx="5562720" cy="33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066680"/>
                    <a:ext cx="556272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"/>
          <p:cNvSpPr/>
          <p:nvPr/>
        </p:nvSpPr>
        <p:spPr>
          <a:xfrm>
            <a:off x="357840" y="488808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less transport protocol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one table, UDP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455760" y="5715000"/>
          <a:ext cx="5640120" cy="2449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5760" y="5715000"/>
                    <a:ext cx="564012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1120" y="5211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97840" y="533520"/>
            <a:ext cx="28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d Hub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t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762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79360" y="2217600"/>
          <a:ext cx="6108840" cy="151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2217600"/>
                    <a:ext cx="6108840" cy="15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33440" y="5649840"/>
            <a:ext cx="615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cquired by the NMS on hub interfa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refers to the interface on the hu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address is the MAC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ond row data is a seri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1120" y="5211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14960" y="533520"/>
            <a:ext cx="318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d Route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t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5920" y="5638680"/>
            <a:ext cx="6323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cquired by NMS on the router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refers to the interface on the 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 is the LAN emulation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 2/0 interface refers to the interf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ard 2 and port 0 in that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7160" y="1752480"/>
          <a:ext cx="64069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752480"/>
                    <a:ext cx="64069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1120" y="5211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6520" y="53352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 SNMP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371600"/>
            <a:ext cx="629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ced Research Project Agency Network (ARPANE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Internet control Message Protocol (ICM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 Engineering Task Force (IET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MP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MP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MPv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 docum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for Comments (RF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TF STD Internet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YI For your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for RF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://nic.mil/rf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://ftp.internic.net/rf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ic/internet.net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8305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44360" y="609480"/>
            <a:ext cx="347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MPv1 &amp; SNMPv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2033640" y="711360"/>
          <a:ext cx="10864800" cy="77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33640" y="711360"/>
                    <a:ext cx="10864800" cy="77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580040" y="833112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89600" y="853452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07960"/>
            <a:ext cx="645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79080" y="20304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5T01:48:36Z</dcterms:created>
  <dc:creator>Mani Subramanian</dc:creator>
  <dc:description/>
  <dc:language>en-US</dc:language>
  <cp:lastModifiedBy>Mani Subramanian</cp:lastModifiedBy>
  <cp:lastPrinted>1999-09-28T11:11:24Z</cp:lastPrinted>
  <dcterms:modified xsi:type="dcterms:W3CDTF">2000-05-07T13:42:07Z</dcterms:modified>
  <cp:revision>39</cp:revision>
  <dc:subject/>
  <dc:title>No Slide Title</dc:title>
</cp:coreProperties>
</file>