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38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04A1A-2C09-43B4-9958-DCEC7459C12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14B40-2D65-4A5C-B47F-7481487AD22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A8BFC-DB5D-4C80-9F4B-53623143918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D6EB5-414B-4399-AF26-0A53C8F74BC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D3F2E-B836-4786-B8A1-25413F1677D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F1B6F-C6A8-43FF-940B-B4F47BD941E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18F62-889D-4229-8609-3BCE2048DD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2FC27-F69D-49D1-B937-54827A82D10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AC6FA-8BEF-4513-B7FC-D726293F7A5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438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2B4E0-57DD-4EDF-A305-807B864F5DB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345A6-597F-40A5-908E-2A205205B18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5511A-1E32-4D9C-AD13-B8CE3DAB9E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56760" indent="-35676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1520" indent="-361440">
              <a:spcBef>
                <a:spcPts val="2801"/>
              </a:spcBef>
              <a:spcAft>
                <a:spcPts val="700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0556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2801"/>
              </a:spcBef>
              <a:spcAft>
                <a:spcPts val="700"/>
              </a:spcAft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844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51480" indent="-208440">
              <a:spcBef>
                <a:spcPts val="2801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51480" indent="-208440">
              <a:spcBef>
                <a:spcPts val="2801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1066680"/>
            <a:ext cx="2867040" cy="3157560"/>
            <a:chOff x="0" y="1066680"/>
            <a:chExt cx="2867040" cy="3157560"/>
          </a:xfrm>
        </p:grpSpPr>
        <p:sp>
          <p:nvSpPr>
            <p:cNvPr id="51" name="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CF0BA-F0E5-440A-A6AC-273277FEF9D9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11448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556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55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55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743200" y="914400"/>
            <a:ext cx="6095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</a:rPr>
              <a:t>أساسيات البرمج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28440" y="304812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ontrol structure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Loops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62320" y="2133720"/>
            <a:ext cx="5105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(4)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"/>
          <p:cNvGrpSpPr/>
          <p:nvPr/>
        </p:nvGrpSpPr>
        <p:grpSpPr>
          <a:xfrm>
            <a:off x="609480" y="1143000"/>
            <a:ext cx="8077320" cy="1218960"/>
            <a:chOff x="609480" y="1143000"/>
            <a:chExt cx="8077320" cy="1218960"/>
          </a:xfrm>
        </p:grpSpPr>
        <p:sp>
          <p:nvSpPr>
            <p:cNvPr id="236" name=""/>
            <p:cNvSpPr/>
            <p:nvPr/>
          </p:nvSpPr>
          <p:spPr>
            <a:xfrm>
              <a:off x="609480" y="1143000"/>
              <a:ext cx="8077320" cy="1218960"/>
            </a:xfrm>
            <a:prstGeom prst="rect">
              <a:avLst/>
            </a:prstGeom>
            <a:noFill/>
            <a:ln w="22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62120" y="1218960"/>
              <a:ext cx="777240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600" spc="-1" strike="noStrike">
                  <a:solidFill>
                    <a:srgbClr val="000000"/>
                  </a:solidFill>
                  <a:latin typeface="Arial"/>
                </a:rPr>
                <a:t>بإستخدام حلقة </a:t>
              </a:r>
              <a:r>
                <a:rPr b="1" i="1" lang="en-US" sz="2500" spc="-1" strike="noStrike">
                  <a:solidFill>
                    <a:srgbClr val="00007d"/>
                  </a:solidFill>
                  <a:latin typeface="Arial"/>
                </a:rPr>
                <a:t>do-while</a:t>
              </a:r>
              <a:r>
                <a:rPr b="1" lang="ar-SA" sz="2600" spc="-1" strike="noStrike">
                  <a:solidFill>
                    <a:srgbClr val="000000"/>
                  </a:solidFill>
                  <a:latin typeface="Arial"/>
                </a:rPr>
                <a:t>، اكتب برنامج يقوم بطباعة الحروف من ”</a:t>
              </a:r>
              <a:r>
                <a:rPr b="1" lang="en-US" sz="2600" spc="-1" strike="noStrike">
                  <a:solidFill>
                    <a:srgbClr val="ff0000"/>
                  </a:solidFill>
                  <a:latin typeface="Arial"/>
                </a:rPr>
                <a:t>Z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 - </a:t>
              </a:r>
              <a:r>
                <a:rPr b="1" lang="en-US" sz="26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1" lang="ar-SA" sz="26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ar-SA" sz="2600" spc="-1" strike="noStrike">
                  <a:solidFill>
                    <a:srgbClr val="000000"/>
                  </a:solidFill>
                  <a:latin typeface="Arial"/>
                </a:rPr>
                <a:t> على شاشة التنفيذ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228600" y="304920"/>
            <a:ext cx="876312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4. The do-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whil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loop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2819520"/>
            <a:ext cx="78483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ناتج تنفيذ البرنامج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A- B- C- D- E – F- G- H- ...................... V- W- X- Y-Z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21932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تسلسل تنفيذ برنامج طباعة الحروف من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Z - A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971800" y="3962520"/>
            <a:ext cx="2286000" cy="1218960"/>
          </a:xfrm>
          <a:prstGeom prst="flowChartDecision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(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&lt;=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‘Z’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962520" y="5181480"/>
            <a:ext cx="304560" cy="1067040"/>
            <a:chOff x="3962520" y="5181480"/>
            <a:chExt cx="304560" cy="1067040"/>
          </a:xfrm>
        </p:grpSpPr>
        <p:sp>
          <p:nvSpPr>
            <p:cNvPr id="243" name=""/>
            <p:cNvSpPr/>
            <p:nvPr/>
          </p:nvSpPr>
          <p:spPr>
            <a:xfrm>
              <a:off x="3962520" y="5943600"/>
              <a:ext cx="304560" cy="304920"/>
            </a:xfrm>
            <a:prstGeom prst="flowChartConnector">
              <a:avLst/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14800" y="5181480"/>
              <a:ext cx="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2209680" y="2514600"/>
            <a:ext cx="4267440" cy="762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ystem.out.print (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 ch  +  “-”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114800" y="327672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209680" y="4191120"/>
            <a:ext cx="7621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tru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051440" y="5272200"/>
            <a:ext cx="9777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fal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608760" y="2209680"/>
            <a:ext cx="3505320" cy="2362320"/>
            <a:chOff x="608760" y="2209680"/>
            <a:chExt cx="3505320" cy="2362320"/>
          </a:xfrm>
        </p:grpSpPr>
        <p:grpSp>
          <p:nvGrpSpPr>
            <p:cNvPr id="250" name=""/>
            <p:cNvGrpSpPr/>
            <p:nvPr/>
          </p:nvGrpSpPr>
          <p:grpSpPr>
            <a:xfrm>
              <a:off x="609120" y="2209680"/>
              <a:ext cx="2438280" cy="2362320"/>
              <a:chOff x="609120" y="2209680"/>
              <a:chExt cx="2438280" cy="2362320"/>
            </a:xfrm>
          </p:grpSpPr>
          <p:sp>
            <p:nvSpPr>
              <p:cNvPr id="251" name=""/>
              <p:cNvSpPr/>
              <p:nvPr/>
            </p:nvSpPr>
            <p:spPr>
              <a:xfrm flipH="1">
                <a:off x="609120" y="4572000"/>
                <a:ext cx="2438280" cy="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V="1">
                <a:off x="609480" y="2209680"/>
                <a:ext cx="0" cy="2362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608760" y="2209680"/>
              <a:ext cx="3505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914400" y="4692600"/>
            <a:ext cx="1981080" cy="67140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>
                <a:solidFill>
                  <a:srgbClr val="000000"/>
                </a:solidFill>
                <a:latin typeface="Arial"/>
              </a:rPr>
              <a:t>مواصلة التنفيذ الحلقة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00400" y="1447920"/>
            <a:ext cx="1828800" cy="533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h =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‘A’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114800" y="1981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990720" y="990720"/>
            <a:ext cx="2209680" cy="1189800"/>
            <a:chOff x="990720" y="990720"/>
            <a:chExt cx="2209680" cy="1189800"/>
          </a:xfrm>
        </p:grpSpPr>
        <p:sp>
          <p:nvSpPr>
            <p:cNvPr id="258" name=""/>
            <p:cNvSpPr/>
            <p:nvPr/>
          </p:nvSpPr>
          <p:spPr>
            <a:xfrm>
              <a:off x="990720" y="990720"/>
              <a:ext cx="1523880" cy="1189800"/>
            </a:xfrm>
            <a:prstGeom prst="rect">
              <a:avLst/>
            </a:prstGeom>
            <a:solidFill>
              <a:srgbClr val="00007d"/>
            </a:solidFill>
            <a:ln w="158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ffff"/>
                  </a:solidFill>
                  <a:latin typeface="Arial"/>
                </a:rPr>
                <a:t>القيمة الابتدائية لبداية تنفيذ الحلق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514600" y="1371600"/>
              <a:ext cx="685800" cy="2142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666880" y="1523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4952880" y="3641760"/>
            <a:ext cx="3862080" cy="1027080"/>
            <a:chOff x="4952880" y="3641760"/>
            <a:chExt cx="3862080" cy="1027080"/>
          </a:xfrm>
        </p:grpSpPr>
        <p:grpSp>
          <p:nvGrpSpPr>
            <p:cNvPr id="262" name=""/>
            <p:cNvGrpSpPr/>
            <p:nvPr/>
          </p:nvGrpSpPr>
          <p:grpSpPr>
            <a:xfrm>
              <a:off x="4952880" y="3641760"/>
              <a:ext cx="3862080" cy="1027080"/>
              <a:chOff x="4952880" y="3641760"/>
              <a:chExt cx="3862080" cy="1027080"/>
            </a:xfrm>
          </p:grpSpPr>
          <p:grpSp>
            <p:nvGrpSpPr>
              <p:cNvPr id="263" name=""/>
              <p:cNvGrpSpPr/>
              <p:nvPr/>
            </p:nvGrpSpPr>
            <p:grpSpPr>
              <a:xfrm>
                <a:off x="5486400" y="3641760"/>
                <a:ext cx="3328560" cy="1027080"/>
                <a:chOff x="5486400" y="3641760"/>
                <a:chExt cx="3328560" cy="102708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5590080" y="3641760"/>
                  <a:ext cx="3120840" cy="930240"/>
                </a:xfrm>
                <a:prstGeom prst="flowChartDocumen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5486400" y="3708000"/>
                  <a:ext cx="3328560" cy="96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900" spc="-1" strike="noStrike">
                      <a:solidFill>
                        <a:srgbClr val="000000"/>
                      </a:solidFill>
                      <a:latin typeface="Arial"/>
                    </a:rPr>
                    <a:t>شرط تنفيذ الحلقة أن تكون قيمة المتغير</a:t>
                  </a:r>
                  <a:r>
                    <a:rPr b="1" lang="en-US" sz="19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1" lang="en-US" sz="19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ar-SA" sz="19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ar-SA" sz="1900" spc="-1" strike="noStrike" u="sng">
                      <a:solidFill>
                        <a:srgbClr val="000000"/>
                      </a:solidFill>
                      <a:uFillTx/>
                      <a:latin typeface="Arial"/>
                    </a:rPr>
                    <a:t>أقل من أو تساوى</a:t>
                  </a:r>
                  <a:r>
                    <a:rPr b="1" lang="en-US" sz="1900" spc="-1" strike="noStrike" u="sng">
                      <a:solidFill>
                        <a:srgbClr val="ff0000"/>
                      </a:solidFill>
                      <a:uFillTx/>
                      <a:latin typeface="Arial"/>
                    </a:rPr>
                    <a:t>’</a:t>
                  </a:r>
                  <a:r>
                    <a:rPr b="1" lang="en-US" sz="1900" spc="-1" strike="noStrike" u="sng">
                      <a:solidFill>
                        <a:srgbClr val="ff0000"/>
                      </a:solidFill>
                      <a:uFillTx/>
                      <a:latin typeface="Arial"/>
                    </a:rPr>
                    <a:t>Z</a:t>
                  </a:r>
                  <a:r>
                    <a:rPr b="1" lang="en-US" sz="1900" spc="-1" strike="noStrike" u="sng">
                      <a:solidFill>
                        <a:srgbClr val="ff0000"/>
                      </a:solidFill>
                      <a:uFillTx/>
                      <a:latin typeface="Arial"/>
                    </a:rPr>
                    <a:t>’</a:t>
                  </a:r>
                  <a:r>
                    <a:rPr b="1" lang="en-US" sz="1900" spc="-1" strike="noStrike" u="sng">
                      <a:solidFill>
                        <a:srgbClr val="000000"/>
                      </a:solidFill>
                      <a:uFillTx/>
                      <a:latin typeface="Arial"/>
                    </a:rPr>
                    <a:t> </a:t>
                  </a: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6" name=""/>
              <p:cNvSpPr/>
              <p:nvPr/>
            </p:nvSpPr>
            <p:spPr>
              <a:xfrm flipH="1">
                <a:off x="4952880" y="4114800"/>
                <a:ext cx="609840" cy="244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5257800" y="40384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762120" y="3123720"/>
            <a:ext cx="2057400" cy="1220760"/>
            <a:chOff x="762120" y="3123720"/>
            <a:chExt cx="2057400" cy="1220760"/>
          </a:xfrm>
        </p:grpSpPr>
        <p:sp>
          <p:nvSpPr>
            <p:cNvPr id="269" name=""/>
            <p:cNvSpPr/>
            <p:nvPr/>
          </p:nvSpPr>
          <p:spPr>
            <a:xfrm>
              <a:off x="762120" y="3429000"/>
              <a:ext cx="2057400" cy="915480"/>
            </a:xfrm>
            <a:prstGeom prst="rect">
              <a:avLst/>
            </a:prstGeom>
            <a:solidFill>
              <a:srgbClr val="00007d"/>
            </a:solidFill>
            <a:ln w="158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ffff"/>
                  </a:solidFill>
                  <a:latin typeface="Arial"/>
                </a:rPr>
                <a:t>زيادة قيمة المتغير بواحد بعد كل تكرار للحلق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1828800" y="3123720"/>
              <a:ext cx="457200" cy="30492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676520" y="3124080"/>
              <a:ext cx="30456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4. The do-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whil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loop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380880" y="838080"/>
            <a:ext cx="8305560" cy="5638680"/>
            <a:chOff x="380880" y="838080"/>
            <a:chExt cx="8305560" cy="5638680"/>
          </a:xfrm>
        </p:grpSpPr>
        <p:sp>
          <p:nvSpPr>
            <p:cNvPr id="274" name=""/>
            <p:cNvSpPr/>
            <p:nvPr/>
          </p:nvSpPr>
          <p:spPr>
            <a:xfrm>
              <a:off x="380880" y="1203840"/>
              <a:ext cx="8305560" cy="527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80880" y="838080"/>
              <a:ext cx="8305560" cy="36576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uess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762120" y="121932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Guess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38080" y="175248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990720" y="2895480"/>
            <a:ext cx="69339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do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{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start of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295280" y="3505320"/>
            <a:ext cx="6934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System.out.prin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ch + ”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990720" y="4648320"/>
            <a:ext cx="45720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09480" y="5334120"/>
            <a:ext cx="716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914400" y="2819520"/>
            <a:ext cx="7315200" cy="243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14400" y="2286000"/>
            <a:ext cx="25146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char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ch =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‘A’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80880" y="5881680"/>
            <a:ext cx="716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371600" y="4038480"/>
            <a:ext cx="1676520" cy="5040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+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4. The do-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whil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loop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95280" y="4648320"/>
            <a:ext cx="327672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h &lt;=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‘Z’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"/>
          <p:cNvGrpSpPr/>
          <p:nvPr/>
        </p:nvGrpSpPr>
        <p:grpSpPr>
          <a:xfrm>
            <a:off x="609480" y="1143000"/>
            <a:ext cx="8077320" cy="1218960"/>
            <a:chOff x="609480" y="1143000"/>
            <a:chExt cx="8077320" cy="1218960"/>
          </a:xfrm>
        </p:grpSpPr>
        <p:sp>
          <p:nvSpPr>
            <p:cNvPr id="289" name=""/>
            <p:cNvSpPr/>
            <p:nvPr/>
          </p:nvSpPr>
          <p:spPr>
            <a:xfrm>
              <a:off x="609480" y="1143000"/>
              <a:ext cx="8077320" cy="1218960"/>
            </a:xfrm>
            <a:prstGeom prst="rect">
              <a:avLst/>
            </a:prstGeom>
            <a:noFill/>
            <a:ln w="22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62120" y="1218960"/>
              <a:ext cx="777240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600" spc="-1" strike="noStrike">
                  <a:solidFill>
                    <a:srgbClr val="000000"/>
                  </a:solidFill>
                  <a:latin typeface="Arial"/>
                </a:rPr>
                <a:t>بإستخدام حلقة </a:t>
              </a:r>
              <a:r>
                <a:rPr b="1" i="1" lang="en-US" sz="2500" spc="-1" strike="noStrike">
                  <a:solidFill>
                    <a:srgbClr val="00007d"/>
                  </a:solidFill>
                  <a:latin typeface="Arial"/>
                </a:rPr>
                <a:t>do-while</a:t>
              </a:r>
              <a:r>
                <a:rPr b="1" lang="ar-SA" sz="2600" spc="-1" strike="noStrike">
                  <a:solidFill>
                    <a:srgbClr val="000000"/>
                  </a:solidFill>
                  <a:latin typeface="Arial"/>
                </a:rPr>
                <a:t>،اكتب برنامج يقوم بطباعة الأعداد فى المدى من </a:t>
              </a:r>
              <a:r>
                <a:rPr b="1" lang="en-US" sz="2600" spc="-1" strike="noStrike">
                  <a:solidFill>
                    <a:srgbClr val="ff0000"/>
                  </a:solidFill>
                  <a:latin typeface="Arial"/>
                </a:rPr>
                <a:t>100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 - </a:t>
              </a:r>
              <a:r>
                <a:rPr b="1" lang="en-US" sz="26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ar-SA" sz="2600" spc="-1" strike="noStrike">
                  <a:solidFill>
                    <a:srgbClr val="000000"/>
                  </a:solidFill>
                  <a:latin typeface="Arial"/>
                </a:rPr>
                <a:t> بحيث يكون ناتج تنفيذ البرنامج  كالآتى :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457200" y="2743200"/>
            <a:ext cx="8458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he numbers from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1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 100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ar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1-2-3-4-5- .......... 44- 45- 46- 47- 48-49-50 ....... 98-99-100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28600" y="304920"/>
            <a:ext cx="876312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4. The do-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whil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loop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21932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تسلسل تنفيذ برنامج طباعة الأعداد من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100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971800" y="3962520"/>
            <a:ext cx="2362320" cy="1295280"/>
          </a:xfrm>
          <a:prstGeom prst="flowChartDecision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(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um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&lt;=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100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4038480" y="5257800"/>
            <a:ext cx="304560" cy="990360"/>
            <a:chOff x="4038480" y="5257800"/>
            <a:chExt cx="304560" cy="990360"/>
          </a:xfrm>
        </p:grpSpPr>
        <p:sp>
          <p:nvSpPr>
            <p:cNvPr id="296" name=""/>
            <p:cNvSpPr/>
            <p:nvPr/>
          </p:nvSpPr>
          <p:spPr>
            <a:xfrm>
              <a:off x="4038480" y="5965200"/>
              <a:ext cx="304560" cy="282960"/>
            </a:xfrm>
            <a:prstGeom prst="flowChartConnector">
              <a:avLst/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190760" y="5257800"/>
              <a:ext cx="0" cy="707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2209680" y="2514600"/>
            <a:ext cx="4267440" cy="762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ystem.out.print (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 num  +  “-”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um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114800" y="327672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209680" y="4191120"/>
            <a:ext cx="7621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tru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051440" y="5272200"/>
            <a:ext cx="9777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fal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608760" y="2209680"/>
            <a:ext cx="3505320" cy="2362320"/>
            <a:chOff x="608760" y="2209680"/>
            <a:chExt cx="3505320" cy="2362320"/>
          </a:xfrm>
        </p:grpSpPr>
        <p:grpSp>
          <p:nvGrpSpPr>
            <p:cNvPr id="303" name=""/>
            <p:cNvGrpSpPr/>
            <p:nvPr/>
          </p:nvGrpSpPr>
          <p:grpSpPr>
            <a:xfrm>
              <a:off x="609120" y="2209680"/>
              <a:ext cx="2438280" cy="2362320"/>
              <a:chOff x="609120" y="2209680"/>
              <a:chExt cx="2438280" cy="2362320"/>
            </a:xfrm>
          </p:grpSpPr>
          <p:sp>
            <p:nvSpPr>
              <p:cNvPr id="304" name=""/>
              <p:cNvSpPr/>
              <p:nvPr/>
            </p:nvSpPr>
            <p:spPr>
              <a:xfrm flipH="1">
                <a:off x="609120" y="4572000"/>
                <a:ext cx="2438280" cy="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609480" y="2209680"/>
                <a:ext cx="0" cy="2362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>
              <a:off x="608760" y="2209680"/>
              <a:ext cx="3505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914400" y="4692600"/>
            <a:ext cx="1981080" cy="67140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>
                <a:solidFill>
                  <a:srgbClr val="000000"/>
                </a:solidFill>
                <a:latin typeface="Arial"/>
              </a:rPr>
              <a:t>مواصلة التنفيذ الحلقة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200400" y="1447920"/>
            <a:ext cx="1828800" cy="533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um =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114800" y="1981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990720" y="990720"/>
            <a:ext cx="2209680" cy="1189800"/>
            <a:chOff x="990720" y="990720"/>
            <a:chExt cx="2209680" cy="1189800"/>
          </a:xfrm>
        </p:grpSpPr>
        <p:sp>
          <p:nvSpPr>
            <p:cNvPr id="311" name=""/>
            <p:cNvSpPr/>
            <p:nvPr/>
          </p:nvSpPr>
          <p:spPr>
            <a:xfrm>
              <a:off x="990720" y="990720"/>
              <a:ext cx="1523880" cy="1189800"/>
            </a:xfrm>
            <a:prstGeom prst="rect">
              <a:avLst/>
            </a:prstGeom>
            <a:solidFill>
              <a:srgbClr val="00007d"/>
            </a:solidFill>
            <a:ln w="158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ffff"/>
                  </a:solidFill>
                  <a:latin typeface="Arial"/>
                </a:rPr>
                <a:t>القيمة الابتدائية لبداية تنفيذ حلق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14600" y="1371600"/>
              <a:ext cx="685800" cy="2142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2666880" y="1523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4952880" y="3641760"/>
            <a:ext cx="3862080" cy="1027080"/>
            <a:chOff x="4952880" y="3641760"/>
            <a:chExt cx="3862080" cy="1027080"/>
          </a:xfrm>
        </p:grpSpPr>
        <p:grpSp>
          <p:nvGrpSpPr>
            <p:cNvPr id="315" name=""/>
            <p:cNvGrpSpPr/>
            <p:nvPr/>
          </p:nvGrpSpPr>
          <p:grpSpPr>
            <a:xfrm>
              <a:off x="4952880" y="3641760"/>
              <a:ext cx="3862080" cy="1027080"/>
              <a:chOff x="4952880" y="3641760"/>
              <a:chExt cx="3862080" cy="1027080"/>
            </a:xfrm>
          </p:grpSpPr>
          <p:grpSp>
            <p:nvGrpSpPr>
              <p:cNvPr id="316" name=""/>
              <p:cNvGrpSpPr/>
              <p:nvPr/>
            </p:nvGrpSpPr>
            <p:grpSpPr>
              <a:xfrm>
                <a:off x="5486400" y="3641760"/>
                <a:ext cx="3328560" cy="1027080"/>
                <a:chOff x="5486400" y="3641760"/>
                <a:chExt cx="3328560" cy="102708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5590080" y="3641760"/>
                  <a:ext cx="3120840" cy="930240"/>
                </a:xfrm>
                <a:prstGeom prst="flowChartDocumen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5486400" y="3708000"/>
                  <a:ext cx="3328560" cy="96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900" spc="-1" strike="noStrike">
                      <a:solidFill>
                        <a:srgbClr val="000000"/>
                      </a:solidFill>
                      <a:latin typeface="Arial"/>
                    </a:rPr>
                    <a:t>شرط تنفيذ الحلقة أن تكون قيمة المتغير</a:t>
                  </a:r>
                  <a:r>
                    <a:rPr b="1" lang="en-US" sz="1900" spc="-1" strike="noStrike">
                      <a:solidFill>
                        <a:srgbClr val="000000"/>
                      </a:solidFill>
                      <a:latin typeface="Arial"/>
                    </a:rPr>
                    <a:t>num</a:t>
                  </a:r>
                  <a:r>
                    <a:rPr b="1" lang="en-US" sz="19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ar-SA" sz="19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ar-SA" sz="1900" spc="-1" strike="noStrike" u="sng">
                      <a:solidFill>
                        <a:srgbClr val="000000"/>
                      </a:solidFill>
                      <a:uFillTx/>
                      <a:latin typeface="Arial"/>
                    </a:rPr>
                    <a:t>أقل من أو تساوى</a:t>
                  </a:r>
                  <a:r>
                    <a:rPr b="1" lang="en-US" sz="1900" spc="-1" strike="noStrike" u="sng">
                      <a:solidFill>
                        <a:srgbClr val="ff0000"/>
                      </a:solidFill>
                      <a:uFillTx/>
                      <a:latin typeface="Arial"/>
                    </a:rPr>
                    <a:t>100</a:t>
                  </a:r>
                  <a:r>
                    <a:rPr b="1" lang="en-US" sz="1900" spc="-1" strike="noStrike" u="sng">
                      <a:solidFill>
                        <a:srgbClr val="000000"/>
                      </a:solidFill>
                      <a:uFillTx/>
                      <a:latin typeface="Arial"/>
                    </a:rPr>
                    <a:t> </a:t>
                  </a: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9" name=""/>
              <p:cNvSpPr/>
              <p:nvPr/>
            </p:nvSpPr>
            <p:spPr>
              <a:xfrm flipH="1">
                <a:off x="4952880" y="4114800"/>
                <a:ext cx="609840" cy="244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0" name=""/>
            <p:cNvSpPr/>
            <p:nvPr/>
          </p:nvSpPr>
          <p:spPr>
            <a:xfrm>
              <a:off x="5257800" y="40384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762120" y="3123720"/>
            <a:ext cx="2057400" cy="1220760"/>
            <a:chOff x="762120" y="3123720"/>
            <a:chExt cx="2057400" cy="1220760"/>
          </a:xfrm>
        </p:grpSpPr>
        <p:sp>
          <p:nvSpPr>
            <p:cNvPr id="322" name=""/>
            <p:cNvSpPr/>
            <p:nvPr/>
          </p:nvSpPr>
          <p:spPr>
            <a:xfrm>
              <a:off x="762120" y="3429000"/>
              <a:ext cx="2057400" cy="915480"/>
            </a:xfrm>
            <a:prstGeom prst="rect">
              <a:avLst/>
            </a:prstGeom>
            <a:solidFill>
              <a:srgbClr val="00007d"/>
            </a:solidFill>
            <a:ln w="158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ffff"/>
                  </a:solidFill>
                  <a:latin typeface="Arial"/>
                </a:rPr>
                <a:t>زيادة قيمة المتغير بواحد بعد كل تكرار للحلق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1828800" y="3123720"/>
              <a:ext cx="457200" cy="30492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676520" y="3124080"/>
              <a:ext cx="30456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4. The do-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whil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loop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"/>
          <p:cNvGrpSpPr/>
          <p:nvPr/>
        </p:nvGrpSpPr>
        <p:grpSpPr>
          <a:xfrm>
            <a:off x="380880" y="838080"/>
            <a:ext cx="8305560" cy="5638680"/>
            <a:chOff x="380880" y="838080"/>
            <a:chExt cx="8305560" cy="5638680"/>
          </a:xfrm>
        </p:grpSpPr>
        <p:sp>
          <p:nvSpPr>
            <p:cNvPr id="327" name=""/>
            <p:cNvSpPr/>
            <p:nvPr/>
          </p:nvSpPr>
          <p:spPr>
            <a:xfrm>
              <a:off x="380880" y="1203840"/>
              <a:ext cx="8305560" cy="527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80880" y="838080"/>
              <a:ext cx="8305560" cy="36576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uessNum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762120" y="121932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GuessNum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38080" y="175248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990720" y="2895480"/>
            <a:ext cx="69339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do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{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start of loop 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295280" y="3505320"/>
            <a:ext cx="6934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System.out.prin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num + ”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90720" y="4648320"/>
            <a:ext cx="45720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09480" y="5334120"/>
            <a:ext cx="716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914400" y="2819520"/>
            <a:ext cx="7315200" cy="243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914400" y="2286000"/>
            <a:ext cx="693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num =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80880" y="5881680"/>
            <a:ext cx="716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371600" y="4038480"/>
            <a:ext cx="1676520" cy="5040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num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+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4. The do-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whil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loop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295280" y="4648320"/>
            <a:ext cx="373392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num &lt;=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100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609480" y="1143000"/>
            <a:ext cx="8077320" cy="1218960"/>
            <a:chOff x="609480" y="1143000"/>
            <a:chExt cx="8077320" cy="1218960"/>
          </a:xfrm>
        </p:grpSpPr>
        <p:sp>
          <p:nvSpPr>
            <p:cNvPr id="342" name=""/>
            <p:cNvSpPr/>
            <p:nvPr/>
          </p:nvSpPr>
          <p:spPr>
            <a:xfrm>
              <a:off x="609480" y="1143000"/>
              <a:ext cx="8077320" cy="1218960"/>
            </a:xfrm>
            <a:prstGeom prst="rect">
              <a:avLst/>
            </a:prstGeom>
            <a:noFill/>
            <a:ln w="22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62120" y="1218960"/>
              <a:ext cx="777240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600" spc="-1" strike="noStrike">
                  <a:solidFill>
                    <a:srgbClr val="000000"/>
                  </a:solidFill>
                  <a:latin typeface="Arial"/>
                </a:rPr>
                <a:t>بإستخدام حلقة </a:t>
              </a:r>
              <a:r>
                <a:rPr b="1" i="1" lang="en-US" sz="2500" spc="-1" strike="noStrike">
                  <a:solidFill>
                    <a:srgbClr val="00007d"/>
                  </a:solidFill>
                  <a:latin typeface="Arial"/>
                </a:rPr>
                <a:t>do-while</a:t>
              </a:r>
              <a:r>
                <a:rPr b="1" lang="ar-SA" sz="2600" spc="-1" strike="noStrike">
                  <a:solidFill>
                    <a:srgbClr val="000000"/>
                  </a:solidFill>
                  <a:latin typeface="Arial"/>
                </a:rPr>
                <a:t>،اكتب برنامج يقوم بطباعة </a:t>
              </a:r>
              <a:r>
                <a:rPr b="1" lang="ar-SA" sz="2600" spc="-1" strike="noStrike">
                  <a:solidFill>
                    <a:srgbClr val="ff0000"/>
                  </a:solidFill>
                  <a:latin typeface="Arial"/>
                </a:rPr>
                <a:t>مجموع الأعداد الفردية</a:t>
              </a:r>
              <a:r>
                <a:rPr b="1" lang="ar-SA" sz="2600" spc="-1" strike="noStrike">
                  <a:solidFill>
                    <a:srgbClr val="000000"/>
                  </a:solidFill>
                  <a:latin typeface="Arial"/>
                </a:rPr>
                <a:t> المحصورة فى المدى من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007d"/>
                  </a:solidFill>
                  <a:latin typeface="Arial"/>
                </a:rPr>
                <a:t>50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 - </a:t>
              </a:r>
              <a:r>
                <a:rPr b="1" lang="en-US" sz="2600" spc="-1" strike="noStrike">
                  <a:solidFill>
                    <a:srgbClr val="00007d"/>
                  </a:solidFill>
                  <a:latin typeface="Arial"/>
                </a:rPr>
                <a:t>10</a:t>
              </a:r>
              <a:r>
                <a:rPr b="1" lang="ar-SA" sz="2600" spc="-1" strike="noStrike">
                  <a:solidFill>
                    <a:srgbClr val="000000"/>
                  </a:solidFill>
                  <a:latin typeface="Arial"/>
                </a:rPr>
                <a:t>بحيث يكون ناتج تنفيذ البرنامج: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380880" y="2895480"/>
            <a:ext cx="8305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he Summation of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odd number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between 10 - 50: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600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4. The do-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whil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loop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914400" y="68580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طباعة مجموع الاعداد الفردية بين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819520" y="5181480"/>
            <a:ext cx="2590560" cy="838440"/>
          </a:xfrm>
          <a:prstGeom prst="flowChartDecision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50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3962520" y="6019920"/>
            <a:ext cx="304560" cy="685800"/>
            <a:chOff x="3962520" y="6019920"/>
            <a:chExt cx="304560" cy="685800"/>
          </a:xfrm>
        </p:grpSpPr>
        <p:sp>
          <p:nvSpPr>
            <p:cNvPr id="349" name=""/>
            <p:cNvSpPr/>
            <p:nvPr/>
          </p:nvSpPr>
          <p:spPr>
            <a:xfrm>
              <a:off x="3962520" y="6438960"/>
              <a:ext cx="304560" cy="266760"/>
            </a:xfrm>
            <a:prstGeom prst="flowChartConnector">
              <a:avLst/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114800" y="6019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4114800" y="48006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209680" y="5195880"/>
            <a:ext cx="7621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tru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191120" y="6019920"/>
            <a:ext cx="9777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fal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685080" y="2057040"/>
            <a:ext cx="3429000" cy="3581280"/>
            <a:chOff x="685080" y="2057040"/>
            <a:chExt cx="3429000" cy="3581280"/>
          </a:xfrm>
        </p:grpSpPr>
        <p:grpSp>
          <p:nvGrpSpPr>
            <p:cNvPr id="355" name=""/>
            <p:cNvGrpSpPr/>
            <p:nvPr/>
          </p:nvGrpSpPr>
          <p:grpSpPr>
            <a:xfrm>
              <a:off x="685800" y="2057040"/>
              <a:ext cx="2133360" cy="3581280"/>
              <a:chOff x="685800" y="2057040"/>
              <a:chExt cx="2133360" cy="3581280"/>
            </a:xfrm>
          </p:grpSpPr>
          <p:sp>
            <p:nvSpPr>
              <p:cNvPr id="356" name=""/>
              <p:cNvSpPr/>
              <p:nvPr/>
            </p:nvSpPr>
            <p:spPr>
              <a:xfrm flipH="1">
                <a:off x="685800" y="5638320"/>
                <a:ext cx="2133360" cy="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V="1">
                <a:off x="685800" y="2057040"/>
                <a:ext cx="0" cy="3580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685080" y="2057400"/>
              <a:ext cx="3429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6019920" y="4605480"/>
            <a:ext cx="2944440" cy="1082520"/>
            <a:chOff x="6019920" y="4605480"/>
            <a:chExt cx="2944440" cy="1082520"/>
          </a:xfrm>
        </p:grpSpPr>
        <p:sp>
          <p:nvSpPr>
            <p:cNvPr id="360" name=""/>
            <p:cNvSpPr/>
            <p:nvPr/>
          </p:nvSpPr>
          <p:spPr>
            <a:xfrm>
              <a:off x="6111360" y="4605480"/>
              <a:ext cx="2760480" cy="103320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019920" y="4680720"/>
              <a:ext cx="2944440" cy="100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شرط تنفيذ الحلقة أن تكون قيمة المتغير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ar-SA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أقل من أو تساوى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50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"/>
          <p:cNvSpPr/>
          <p:nvPr/>
        </p:nvSpPr>
        <p:spPr>
          <a:xfrm flipH="1">
            <a:off x="5257800" y="5257800"/>
            <a:ext cx="838080" cy="3049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2120" y="5181480"/>
            <a:ext cx="1447560" cy="67140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>
                <a:solidFill>
                  <a:srgbClr val="000000"/>
                </a:solidFill>
                <a:latin typeface="Arial"/>
              </a:rPr>
              <a:t>مواصلة التنفي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895480" y="1295280"/>
            <a:ext cx="2514600" cy="533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x =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10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114800" y="18288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1066680" y="914400"/>
            <a:ext cx="1981080" cy="702360"/>
            <a:chOff x="1066680" y="914400"/>
            <a:chExt cx="1981080" cy="702360"/>
          </a:xfrm>
        </p:grpSpPr>
        <p:sp>
          <p:nvSpPr>
            <p:cNvPr id="367" name=""/>
            <p:cNvSpPr/>
            <p:nvPr/>
          </p:nvSpPr>
          <p:spPr>
            <a:xfrm>
              <a:off x="1066680" y="914400"/>
              <a:ext cx="1471680" cy="702360"/>
            </a:xfrm>
            <a:prstGeom prst="rect">
              <a:avLst/>
            </a:prstGeom>
            <a:solidFill>
              <a:srgbClr val="ccffcc"/>
            </a:solidFill>
            <a:ln w="158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القيمة الابتدائي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538360" y="1295280"/>
              <a:ext cx="509400" cy="3049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3429000" y="4343400"/>
            <a:ext cx="14479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590920" y="9907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791320" y="51055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819520" y="2286000"/>
            <a:ext cx="2666880" cy="1066680"/>
          </a:xfrm>
          <a:prstGeom prst="flowChartDecision">
            <a:avLst/>
          </a:prstGeom>
          <a:solidFill>
            <a:srgbClr val="00007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if 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x % 2 !=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90720" y="3276720"/>
            <a:ext cx="2361960" cy="457200"/>
          </a:xfrm>
          <a:prstGeom prst="rect">
            <a:avLst/>
          </a:prstGeom>
          <a:solidFill>
            <a:srgbClr val="00007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um = sum + x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4876560" y="2819520"/>
            <a:ext cx="1143360" cy="1752480"/>
            <a:chOff x="4876560" y="2819520"/>
            <a:chExt cx="1143360" cy="1752480"/>
          </a:xfrm>
        </p:grpSpPr>
        <p:sp>
          <p:nvSpPr>
            <p:cNvPr id="375" name=""/>
            <p:cNvSpPr/>
            <p:nvPr/>
          </p:nvSpPr>
          <p:spPr>
            <a:xfrm>
              <a:off x="5357880" y="2819520"/>
              <a:ext cx="660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018840" y="2819520"/>
              <a:ext cx="1080" cy="1752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4876560" y="457200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5423040" y="2438280"/>
            <a:ext cx="977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1981080" y="2438280"/>
            <a:ext cx="836640" cy="838080"/>
            <a:chOff x="1981080" y="2438280"/>
            <a:chExt cx="836640" cy="838080"/>
          </a:xfrm>
        </p:grpSpPr>
        <p:sp>
          <p:nvSpPr>
            <p:cNvPr id="380" name=""/>
            <p:cNvSpPr/>
            <p:nvPr/>
          </p:nvSpPr>
          <p:spPr>
            <a:xfrm>
              <a:off x="1981080" y="281916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981080" y="2438280"/>
              <a:ext cx="762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Arial"/>
                </a:rPr>
                <a:t>tr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981080" y="2819160"/>
              <a:ext cx="836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1981080" y="3733920"/>
            <a:ext cx="2133720" cy="609120"/>
            <a:chOff x="1981080" y="3733920"/>
            <a:chExt cx="2133720" cy="609120"/>
          </a:xfrm>
        </p:grpSpPr>
        <p:sp>
          <p:nvSpPr>
            <p:cNvPr id="384" name=""/>
            <p:cNvSpPr/>
            <p:nvPr/>
          </p:nvSpPr>
          <p:spPr>
            <a:xfrm>
              <a:off x="1981080" y="37339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981080" y="4038480"/>
              <a:ext cx="2133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114800" y="403848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4876560" y="1328760"/>
            <a:ext cx="3809880" cy="1387440"/>
            <a:chOff x="4876560" y="1328760"/>
            <a:chExt cx="3809880" cy="1387440"/>
          </a:xfrm>
        </p:grpSpPr>
        <p:grpSp>
          <p:nvGrpSpPr>
            <p:cNvPr id="388" name=""/>
            <p:cNvGrpSpPr/>
            <p:nvPr/>
          </p:nvGrpSpPr>
          <p:grpSpPr>
            <a:xfrm>
              <a:off x="5742000" y="1328760"/>
              <a:ext cx="2944440" cy="1387440"/>
              <a:chOff x="5742000" y="1328760"/>
              <a:chExt cx="2944440" cy="1387440"/>
            </a:xfrm>
          </p:grpSpPr>
          <p:sp>
            <p:nvSpPr>
              <p:cNvPr id="389" name=""/>
              <p:cNvSpPr/>
              <p:nvPr/>
            </p:nvSpPr>
            <p:spPr>
              <a:xfrm>
                <a:off x="5833440" y="1328760"/>
                <a:ext cx="2760480" cy="1033560"/>
              </a:xfrm>
              <a:prstGeom prst="flowChartDocumen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742000" y="1404000"/>
                <a:ext cx="2944440" cy="131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Arial"/>
                  </a:rPr>
                  <a:t>باستخدام عبارة الاختيار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if</a:t>
                </a:r>
                <a:r>
                  <a:rPr b="1" lang="ar-SA" sz="2000" spc="-1" strike="noStrike">
                    <a:solidFill>
                      <a:srgbClr val="000000"/>
                    </a:solidFill>
                    <a:latin typeface="Arial"/>
                  </a:rPr>
                  <a:t> يتم اختبار العدد اذا كان فردى أو لا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 flipH="1">
              <a:off x="4876560" y="2057400"/>
              <a:ext cx="990360" cy="60948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4. The do-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whil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loop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048120" y="44197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"/>
          <p:cNvGrpSpPr/>
          <p:nvPr/>
        </p:nvGrpSpPr>
        <p:grpSpPr>
          <a:xfrm>
            <a:off x="457200" y="762120"/>
            <a:ext cx="8457840" cy="5943240"/>
            <a:chOff x="457200" y="762120"/>
            <a:chExt cx="8457840" cy="5943240"/>
          </a:xfrm>
        </p:grpSpPr>
        <p:sp>
          <p:nvSpPr>
            <p:cNvPr id="395" name=""/>
            <p:cNvSpPr/>
            <p:nvPr/>
          </p:nvSpPr>
          <p:spPr>
            <a:xfrm>
              <a:off x="457200" y="1147680"/>
              <a:ext cx="8457840" cy="555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7200" y="762120"/>
              <a:ext cx="8457840" cy="38556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etOdd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533520" y="115740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GetOdd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09480" y="153828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066680" y="2452680"/>
            <a:ext cx="403884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do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start of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990720" y="4325760"/>
            <a:ext cx="45720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62120" y="5729400"/>
            <a:ext cx="71625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38080" y="2529000"/>
            <a:ext cx="7010640" cy="236196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914400" y="1995480"/>
            <a:ext cx="3429000" cy="458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  x = 10 , sum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57200" y="6186600"/>
            <a:ext cx="716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447920" y="2941560"/>
            <a:ext cx="64767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if 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(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!=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check if num is o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828800" y="3398760"/>
            <a:ext cx="5105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sum = sum + 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447920" y="3824280"/>
            <a:ext cx="990360" cy="8236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x +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4. The do-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whil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loop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295280" y="4281480"/>
            <a:ext cx="274320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x &lt;=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50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62120" y="4890960"/>
            <a:ext cx="7848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“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he summation of odd number betwee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” + sum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"/>
          <p:cNvGrpSpPr/>
          <p:nvPr/>
        </p:nvGrpSpPr>
        <p:grpSpPr>
          <a:xfrm>
            <a:off x="457200" y="838080"/>
            <a:ext cx="8077320" cy="2133720"/>
            <a:chOff x="457200" y="838080"/>
            <a:chExt cx="8077320" cy="2133720"/>
          </a:xfrm>
        </p:grpSpPr>
        <p:sp>
          <p:nvSpPr>
            <p:cNvPr id="412" name=""/>
            <p:cNvSpPr/>
            <p:nvPr/>
          </p:nvSpPr>
          <p:spPr>
            <a:xfrm>
              <a:off x="457200" y="838080"/>
              <a:ext cx="8077320" cy="2133720"/>
            </a:xfrm>
            <a:prstGeom prst="rect">
              <a:avLst/>
            </a:prstGeom>
            <a:noFill/>
            <a:ln w="22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09840" y="1295280"/>
              <a:ext cx="77724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600" spc="-1" strike="noStrike">
                  <a:solidFill>
                    <a:srgbClr val="000000"/>
                  </a:solidFill>
                  <a:latin typeface="Arial"/>
                </a:rPr>
                <a:t>بإستخدام حلقة </a:t>
              </a:r>
              <a:r>
                <a:rPr b="1" i="1" lang="en-US" sz="2500" spc="-1" strike="noStrike">
                  <a:solidFill>
                    <a:srgbClr val="00007d"/>
                  </a:solidFill>
                  <a:latin typeface="Arial"/>
                </a:rPr>
                <a:t>do-while</a:t>
              </a:r>
              <a:r>
                <a:rPr b="1" lang="ar-SA" sz="2600" spc="-1" strike="noStrike">
                  <a:solidFill>
                    <a:srgbClr val="000000"/>
                  </a:solidFill>
                  <a:latin typeface="Arial"/>
                </a:rPr>
                <a:t>،اكتب برنامج يطلب من المستخدم ادخال عدد صحيح (من النوع </a:t>
              </a:r>
              <a:r>
                <a:rPr b="1" lang="en-US" sz="2600" spc="-1" strike="noStrike">
                  <a:solidFill>
                    <a:srgbClr val="0000ff"/>
                  </a:solidFill>
                  <a:latin typeface="Arial"/>
                </a:rPr>
                <a:t>int</a:t>
              </a:r>
              <a:r>
                <a:rPr b="1" lang="ar-SA" sz="2600" spc="-1" strike="noStrike">
                  <a:solidFill>
                    <a:srgbClr val="000000"/>
                  </a:solidFill>
                  <a:latin typeface="Arial"/>
                </a:rPr>
                <a:t>) لعدد من المرات، بحيث يستمر المستخدم فى الادخال الى أن يتم إدخال القيمة </a:t>
              </a:r>
              <a:r>
                <a:rPr b="1" lang="ar-SA" sz="2600" spc="-1" strike="noStrike">
                  <a:solidFill>
                    <a:srgbClr val="0000ff"/>
                  </a:solidFill>
                  <a:latin typeface="Arial"/>
                </a:rPr>
                <a:t>صفر</a:t>
              </a:r>
              <a:r>
                <a:rPr b="1" lang="ar-SA" sz="26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1" lang="en-US" sz="26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r>
                <a:rPr b="1" lang="ar-SA" sz="26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r>
                <a:rPr b="1" lang="ar-SA" sz="2600" spc="-1" strike="noStrike">
                  <a:solidFill>
                    <a:srgbClr val="ff0000"/>
                  </a:solidFill>
                  <a:latin typeface="Arial"/>
                </a:rPr>
                <a:t>لإنهاء الإدخال</a:t>
              </a:r>
              <a:r>
                <a:rPr b="1" lang="ar-SA" sz="2600" spc="-1" strike="noStrike">
                  <a:solidFill>
                    <a:srgbClr val="000000"/>
                  </a:solidFill>
                  <a:latin typeface="Arial"/>
                </a:rPr>
                <a:t>، ثم يقوم البرنامج </a:t>
              </a:r>
              <a:r>
                <a:rPr b="1" lang="ar-SA" sz="2600" spc="-1" strike="noStrike">
                  <a:solidFill>
                    <a:srgbClr val="00007d"/>
                  </a:solidFill>
                  <a:latin typeface="Arial"/>
                </a:rPr>
                <a:t>بطباعة مجموع الاعداد</a:t>
              </a:r>
              <a:r>
                <a:rPr b="1" lang="ar-SA" sz="2600" spc="-1" strike="noStrike">
                  <a:solidFill>
                    <a:srgbClr val="000000"/>
                  </a:solidFill>
                  <a:latin typeface="Arial"/>
                </a:rPr>
                <a:t> التى قام المستخدم بادخالها.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380880" y="3048120"/>
            <a:ext cx="83059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بإفتراض أن المستخدم قام بإدخال القيم الآتية: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nter number: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1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nter number :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nter number :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2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nter number :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1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nter number :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nter number :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The summation of inserted numbers is :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54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4. The do-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whil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loop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0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80880" y="533520"/>
            <a:ext cx="8534520" cy="609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ontents:</a:t>
            </a:r>
            <a:r>
              <a:rPr b="1" lang="ar-SA" sz="3400" spc="-1" strike="noStrike">
                <a:solidFill>
                  <a:srgbClr val="ffffff"/>
                </a:solidFill>
                <a:latin typeface="Arial"/>
              </a:rPr>
              <a:t>محتويات المحاضرة</a:t>
            </a:r>
            <a:r>
              <a:rPr b="1" lang="ar-SA" sz="3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114300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4d4d4d"/>
                </a:solidFill>
                <a:latin typeface="Arial"/>
              </a:rPr>
              <a:t>1. Introduc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2590920"/>
            <a:ext cx="8305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4d4d4d"/>
                </a:solidFill>
                <a:latin typeface="Arial"/>
              </a:rPr>
              <a:t>3. </a:t>
            </a:r>
            <a:r>
              <a:rPr b="1" i="1" lang="en-US" sz="2700" spc="-1" strike="noStrike">
                <a:solidFill>
                  <a:srgbClr val="4d4d4d"/>
                </a:solidFill>
                <a:latin typeface="Arial"/>
              </a:rPr>
              <a:t>The while Loop</a:t>
            </a:r>
            <a:r>
              <a:rPr b="1" i="1" lang="en-US" sz="2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4d4d4d"/>
                </a:solidFill>
                <a:latin typeface="Arial"/>
              </a:rPr>
              <a:t>(sec 4.2)</a:t>
            </a:r>
            <a:r>
              <a:rPr b="1" i="1" lang="en-US" sz="26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4191120"/>
            <a:ext cx="8305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7d"/>
                </a:solidFill>
                <a:latin typeface="Arial"/>
              </a:rPr>
              <a:t>Examp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182880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4d4d4d"/>
                </a:solidFill>
                <a:latin typeface="Arial"/>
              </a:rPr>
              <a:t>2. The  for  Loop </a:t>
            </a:r>
            <a:r>
              <a:rPr b="1" i="1" lang="en-US" sz="2400" spc="-1" strike="noStrike">
                <a:solidFill>
                  <a:srgbClr val="4d4d4d"/>
                </a:solidFill>
                <a:latin typeface="Arial"/>
              </a:rPr>
              <a:t>(sec 4.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335268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700" spc="-1" strike="noStrike">
                <a:solidFill>
                  <a:srgbClr val="00007d"/>
                </a:solidFill>
                <a:latin typeface="Arial"/>
              </a:rPr>
              <a:t>do-while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Loop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sec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4.3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121932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ادخال اعداد صحيحة من المستخدم، وطباعة مجموع هذه الاعداد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971800" y="3809880"/>
            <a:ext cx="2286000" cy="1067040"/>
          </a:xfrm>
          <a:prstGeom prst="flowChartDecision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(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um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114800" y="48769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114800" y="35053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209680" y="3900600"/>
            <a:ext cx="7621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tru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038480" y="4800600"/>
            <a:ext cx="11430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fal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608760" y="1905120"/>
            <a:ext cx="3505320" cy="2437920"/>
            <a:chOff x="608760" y="1905120"/>
            <a:chExt cx="3505320" cy="2437920"/>
          </a:xfrm>
        </p:grpSpPr>
        <p:grpSp>
          <p:nvGrpSpPr>
            <p:cNvPr id="423" name=""/>
            <p:cNvGrpSpPr/>
            <p:nvPr/>
          </p:nvGrpSpPr>
          <p:grpSpPr>
            <a:xfrm>
              <a:off x="609120" y="1905120"/>
              <a:ext cx="2438280" cy="2437920"/>
              <a:chOff x="609120" y="1905120"/>
              <a:chExt cx="2438280" cy="2437920"/>
            </a:xfrm>
          </p:grpSpPr>
          <p:sp>
            <p:nvSpPr>
              <p:cNvPr id="424" name=""/>
              <p:cNvSpPr/>
              <p:nvPr/>
            </p:nvSpPr>
            <p:spPr>
              <a:xfrm flipH="1">
                <a:off x="609120" y="4343040"/>
                <a:ext cx="2438280" cy="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V="1">
                <a:off x="609480" y="1905120"/>
                <a:ext cx="0" cy="2437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608760" y="1905120"/>
              <a:ext cx="3505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838080" y="4419720"/>
            <a:ext cx="1981440" cy="67140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>
                <a:solidFill>
                  <a:srgbClr val="000000"/>
                </a:solidFill>
                <a:latin typeface="Arial"/>
              </a:rPr>
              <a:t>مواصلة التنفيذ للحلقة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895480" y="1219320"/>
            <a:ext cx="2895840" cy="533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  sum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0, 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num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114800" y="17524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5105160" y="3657600"/>
            <a:ext cx="3352680" cy="1378440"/>
            <a:chOff x="5105160" y="3657600"/>
            <a:chExt cx="3352680" cy="1378440"/>
          </a:xfrm>
        </p:grpSpPr>
        <p:grpSp>
          <p:nvGrpSpPr>
            <p:cNvPr id="431" name=""/>
            <p:cNvGrpSpPr/>
            <p:nvPr/>
          </p:nvGrpSpPr>
          <p:grpSpPr>
            <a:xfrm>
              <a:off x="5105160" y="3657600"/>
              <a:ext cx="3352680" cy="1378440"/>
              <a:chOff x="5105160" y="3657600"/>
              <a:chExt cx="3352680" cy="1378440"/>
            </a:xfrm>
          </p:grpSpPr>
          <p:grpSp>
            <p:nvGrpSpPr>
              <p:cNvPr id="432" name=""/>
              <p:cNvGrpSpPr/>
              <p:nvPr/>
            </p:nvGrpSpPr>
            <p:grpSpPr>
              <a:xfrm>
                <a:off x="5634000" y="3657600"/>
                <a:ext cx="2823840" cy="1378440"/>
                <a:chOff x="5634000" y="3657600"/>
                <a:chExt cx="2823840" cy="137844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5721840" y="3657600"/>
                  <a:ext cx="2647440" cy="930240"/>
                </a:xfrm>
                <a:prstGeom prst="flowChartDocumen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5634000" y="3723840"/>
                  <a:ext cx="2823840" cy="131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000" spc="-1" strike="noStrike">
                      <a:solidFill>
                        <a:srgbClr val="000000"/>
                      </a:solidFill>
                      <a:latin typeface="Arial"/>
                    </a:rPr>
                    <a:t>شرط تنفيذ الحلقة أن تكون قيمة المتغير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num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ar-SA" sz="20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ar-SA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rPr>
                    <a:t>أكبر من </a:t>
                  </a:r>
                  <a:r>
                    <a:rPr b="1" lang="en-US" sz="2000" spc="-1" strike="noStrike" u="sng">
                      <a:solidFill>
                        <a:srgbClr val="ff0000"/>
                      </a:solidFill>
                      <a:uFillTx/>
                      <a:latin typeface="Arial"/>
                    </a:rPr>
                    <a:t>0</a:t>
                  </a:r>
                  <a:r>
                    <a:rPr b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rPr>
                    <a:t>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 flipH="1">
                <a:off x="5105160" y="4130640"/>
                <a:ext cx="593640" cy="136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5410080" y="38098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4. The do-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whil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loop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447920" y="2209680"/>
            <a:ext cx="48765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ystem.out.prin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“Enter number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(press 0 to Exit)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:”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447920" y="2590920"/>
            <a:ext cx="487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num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scanner.nextInt(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523880" y="30481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 = sum + 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num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371600" y="2133720"/>
            <a:ext cx="7010280" cy="1371600"/>
          </a:xfrm>
          <a:prstGeom prst="rect">
            <a:avLst/>
          </a:prstGeom>
          <a:noFill/>
          <a:ln w="22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3962520" y="5791320"/>
            <a:ext cx="304560" cy="685800"/>
            <a:chOff x="3962520" y="5791320"/>
            <a:chExt cx="304560" cy="685800"/>
          </a:xfrm>
        </p:grpSpPr>
        <p:sp>
          <p:nvSpPr>
            <p:cNvPr id="443" name=""/>
            <p:cNvSpPr/>
            <p:nvPr/>
          </p:nvSpPr>
          <p:spPr>
            <a:xfrm>
              <a:off x="3962520" y="6172200"/>
              <a:ext cx="304560" cy="304920"/>
            </a:xfrm>
            <a:prstGeom prst="flowChartConnector">
              <a:avLst/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114800" y="57913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"/>
          <p:cNvSpPr/>
          <p:nvPr/>
        </p:nvSpPr>
        <p:spPr>
          <a:xfrm>
            <a:off x="2438280" y="5257800"/>
            <a:ext cx="3505320" cy="533520"/>
          </a:xfrm>
          <a:prstGeom prst="rect">
            <a:avLst/>
          </a:prstGeom>
          <a:solidFill>
            <a:srgbClr val="00007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System.out.print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(sum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12193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90720" y="26668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990720" y="31240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990720" y="22096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6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4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9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1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2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"/>
          <p:cNvGrpSpPr/>
          <p:nvPr/>
        </p:nvGrpSpPr>
        <p:grpSpPr>
          <a:xfrm>
            <a:off x="457200" y="762120"/>
            <a:ext cx="8458200" cy="5943600"/>
            <a:chOff x="457200" y="762120"/>
            <a:chExt cx="8458200" cy="5943600"/>
          </a:xfrm>
        </p:grpSpPr>
        <p:sp>
          <p:nvSpPr>
            <p:cNvPr id="451" name=""/>
            <p:cNvSpPr/>
            <p:nvPr/>
          </p:nvSpPr>
          <p:spPr>
            <a:xfrm>
              <a:off x="457200" y="1066680"/>
              <a:ext cx="8458200" cy="563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57200" y="762120"/>
              <a:ext cx="8458200" cy="30456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GetNum.jav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533520" y="144792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GetNum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09480" y="182880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838080" y="3124080"/>
            <a:ext cx="4038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{   </a:t>
            </a: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//start of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990720" y="4768920"/>
            <a:ext cx="45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62120" y="5943600"/>
            <a:ext cx="71625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38080" y="3124080"/>
            <a:ext cx="7925040" cy="213372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914400" y="2209680"/>
            <a:ext cx="1981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 sum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57200" y="6324480"/>
            <a:ext cx="716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219320" y="4343400"/>
            <a:ext cx="5105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 = sum +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n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4. The do-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whil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loop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295280" y="4754520"/>
            <a:ext cx="3886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n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62120" y="5197320"/>
            <a:ext cx="80010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“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The summation of inserted number i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:” +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219320" y="3505320"/>
            <a:ext cx="761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“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Enter number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(press 0 to Exit)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: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219320" y="3886200"/>
            <a:ext cx="487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n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scanner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xtInt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33520" y="898920"/>
            <a:ext cx="7619760" cy="762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impor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java.util.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//Scanner </a:t>
            </a:r>
            <a:r>
              <a:rPr b="1" lang="ar-SA" sz="2200" spc="-1" strike="noStrike">
                <a:solidFill>
                  <a:srgbClr val="4d4d4d"/>
                </a:solidFill>
                <a:latin typeface="Arial"/>
              </a:rPr>
              <a:t>تحديد مكان وجود الـ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2666520"/>
            <a:ext cx="670572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canner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w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ystem.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8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3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3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3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3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8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8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3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in">
                                      <p:cBhvr additive="repl">
                                        <p:cTn id="84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0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609480" y="762120"/>
            <a:ext cx="8077320" cy="1752480"/>
          </a:xfrm>
          <a:prstGeom prst="rect">
            <a:avLst/>
          </a:prstGeom>
          <a:noFill/>
          <a:ln w="22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8380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بإستخدام حلقة 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do-while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،اكتب برنامج يطلب من المستخدم ادخال مجموعة من الحروف تنتهى بإدخال العلامة(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$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)، ثم يقوم البرنامج بإختبار الحروف المُدخلة وتحديد ما اذا كانت من ضمن الحروف المتحركة "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Vowel letter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”، وطباعة مجموعها بحيث يكون التنفيذ كالآتى: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33520" y="2743200"/>
            <a:ext cx="2743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er char: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er char: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er char: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er char: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er char: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er char: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er char: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er char: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er char: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er char: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4. The do-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whil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loop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495680" y="2666880"/>
            <a:ext cx="38102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ناتج التنفيذ بعد الإدخال: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ber of 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umber of 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umber of  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umber of 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umber of 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U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7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2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"/>
          <p:cNvGrpSpPr/>
          <p:nvPr/>
        </p:nvGrpSpPr>
        <p:grpSpPr>
          <a:xfrm>
            <a:off x="761400" y="1523520"/>
            <a:ext cx="3733560" cy="4114800"/>
            <a:chOff x="761400" y="1523520"/>
            <a:chExt cx="3733560" cy="4114800"/>
          </a:xfrm>
        </p:grpSpPr>
        <p:grpSp>
          <p:nvGrpSpPr>
            <p:cNvPr id="475" name=""/>
            <p:cNvGrpSpPr/>
            <p:nvPr/>
          </p:nvGrpSpPr>
          <p:grpSpPr>
            <a:xfrm>
              <a:off x="784080" y="1523520"/>
              <a:ext cx="1730160" cy="4114800"/>
              <a:chOff x="784080" y="1523520"/>
              <a:chExt cx="1730160" cy="4114800"/>
            </a:xfrm>
          </p:grpSpPr>
          <p:sp>
            <p:nvSpPr>
              <p:cNvPr id="476" name=""/>
              <p:cNvSpPr/>
              <p:nvPr/>
            </p:nvSpPr>
            <p:spPr>
              <a:xfrm flipH="1">
                <a:off x="784080" y="5638320"/>
                <a:ext cx="1730160" cy="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V="1">
                <a:off x="784080" y="1523520"/>
                <a:ext cx="0" cy="4114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8" name=""/>
            <p:cNvSpPr/>
            <p:nvPr/>
          </p:nvSpPr>
          <p:spPr>
            <a:xfrm>
              <a:off x="761400" y="1523880"/>
              <a:ext cx="3733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2590920" y="609480"/>
            <a:ext cx="5029200" cy="762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7d"/>
                </a:solidFill>
                <a:latin typeface="Arial"/>
              </a:rPr>
              <a:t>System.out.pri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“Enter char :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har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ch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nner.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next().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charAt[0]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572000" y="13716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380880" y="609480"/>
            <a:ext cx="2286000" cy="1312200"/>
            <a:chOff x="380880" y="609480"/>
            <a:chExt cx="2286000" cy="1312200"/>
          </a:xfrm>
        </p:grpSpPr>
        <p:sp>
          <p:nvSpPr>
            <p:cNvPr id="482" name=""/>
            <p:cNvSpPr/>
            <p:nvPr/>
          </p:nvSpPr>
          <p:spPr>
            <a:xfrm>
              <a:off x="380880" y="609480"/>
              <a:ext cx="1989360" cy="1312200"/>
            </a:xfrm>
            <a:prstGeom prst="rect">
              <a:avLst/>
            </a:prstGeom>
            <a:solidFill>
              <a:srgbClr val="00007d"/>
            </a:solidFill>
            <a:ln w="158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Arial"/>
                </a:rPr>
                <a:t>قراءة القيمة الابتدائية لبداية تنفيذ الحلق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320920" y="990360"/>
              <a:ext cx="345960" cy="1843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4114800" y="6248520"/>
            <a:ext cx="375840" cy="533160"/>
            <a:chOff x="4114800" y="6248520"/>
            <a:chExt cx="375840" cy="533160"/>
          </a:xfrm>
        </p:grpSpPr>
        <p:sp>
          <p:nvSpPr>
            <p:cNvPr id="485" name=""/>
            <p:cNvSpPr/>
            <p:nvPr/>
          </p:nvSpPr>
          <p:spPr>
            <a:xfrm>
              <a:off x="4114800" y="6515280"/>
              <a:ext cx="375840" cy="266400"/>
            </a:xfrm>
            <a:prstGeom prst="flowChartConnector">
              <a:avLst/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302720" y="62485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266720" y="4419720"/>
            <a:ext cx="3886560" cy="1828800"/>
            <a:chOff x="4266720" y="4419720"/>
            <a:chExt cx="3886560" cy="1828800"/>
          </a:xfrm>
        </p:grpSpPr>
        <p:sp>
          <p:nvSpPr>
            <p:cNvPr id="488" name=""/>
            <p:cNvSpPr/>
            <p:nvPr/>
          </p:nvSpPr>
          <p:spPr>
            <a:xfrm>
              <a:off x="5638680" y="4419720"/>
              <a:ext cx="2514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153280" y="4419720"/>
              <a:ext cx="0" cy="1828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4266720" y="6248520"/>
              <a:ext cx="3886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5486400" y="4038480"/>
            <a:ext cx="1211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80880" y="152280"/>
            <a:ext cx="8534520" cy="38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209680" y="1676520"/>
            <a:ext cx="4648320" cy="2133360"/>
          </a:xfrm>
          <a:prstGeom prst="rect">
            <a:avLst/>
          </a:prstGeom>
          <a:solidFill>
            <a:srgbClr val="00007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witch (ch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se ‘A’: case ‘a’ :   op1++;   bre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se ‘E’: case ‘e’ :   op2++;   bre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se ‘I’: case ‘i’ :     op3++;   bre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se ‘O’: case ‘o’ :  op4++;   bre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se ‘U’: case ‘u’ :  op5++;   bre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514600" y="5029200"/>
            <a:ext cx="4419720" cy="762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ystem.out.print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(“Enter char :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ch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nner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next().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charAt[0]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495680" y="48006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533520" y="6064200"/>
            <a:ext cx="3657600" cy="702360"/>
            <a:chOff x="533520" y="6064200"/>
            <a:chExt cx="3657600" cy="702360"/>
          </a:xfrm>
        </p:grpSpPr>
        <p:sp>
          <p:nvSpPr>
            <p:cNvPr id="497" name=""/>
            <p:cNvSpPr/>
            <p:nvPr/>
          </p:nvSpPr>
          <p:spPr>
            <a:xfrm>
              <a:off x="533520" y="6064200"/>
              <a:ext cx="1912680" cy="702360"/>
            </a:xfrm>
            <a:prstGeom prst="rect">
              <a:avLst/>
            </a:prstGeom>
            <a:solidFill>
              <a:srgbClr val="00007d"/>
            </a:solidFill>
            <a:ln w="158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Arial"/>
                </a:rPr>
                <a:t>طباعة قيم المتغيرا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438280" y="6324480"/>
              <a:ext cx="175284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990720" y="4495680"/>
            <a:ext cx="1676160" cy="1189800"/>
            <a:chOff x="990720" y="4495680"/>
            <a:chExt cx="1676160" cy="1189800"/>
          </a:xfrm>
        </p:grpSpPr>
        <p:sp>
          <p:nvSpPr>
            <p:cNvPr id="500" name=""/>
            <p:cNvSpPr/>
            <p:nvPr/>
          </p:nvSpPr>
          <p:spPr>
            <a:xfrm>
              <a:off x="990720" y="4495680"/>
              <a:ext cx="1676160" cy="11898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Arial"/>
                </a:rPr>
                <a:t>قراءة حرف جديد لمواصلة التنفي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362320" y="5181480"/>
              <a:ext cx="228600" cy="30492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3352680" y="4038480"/>
            <a:ext cx="2286000" cy="762120"/>
          </a:xfrm>
          <a:prstGeom prst="flowChartDecision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(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ch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!=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‘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495680" y="38098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657600" y="4648320"/>
            <a:ext cx="76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9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7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5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8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3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6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9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"/>
          <p:cNvGrpSpPr/>
          <p:nvPr/>
        </p:nvGrpSpPr>
        <p:grpSpPr>
          <a:xfrm>
            <a:off x="457200" y="685800"/>
            <a:ext cx="8458200" cy="5943240"/>
            <a:chOff x="457200" y="685800"/>
            <a:chExt cx="8458200" cy="5943240"/>
          </a:xfrm>
        </p:grpSpPr>
        <p:sp>
          <p:nvSpPr>
            <p:cNvPr id="506" name=""/>
            <p:cNvSpPr/>
            <p:nvPr/>
          </p:nvSpPr>
          <p:spPr>
            <a:xfrm>
              <a:off x="457200" y="1006560"/>
              <a:ext cx="8458200" cy="562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57200" y="685800"/>
              <a:ext cx="8458200" cy="48168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GetChar.jav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609480" y="152388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GetChar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914400" y="190512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143000" y="4038480"/>
            <a:ext cx="10666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do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990720" y="4146480"/>
            <a:ext cx="7543800" cy="255924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143000" y="2362320"/>
            <a:ext cx="5029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op1, op2, op3, op4, op5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828800" y="4419720"/>
            <a:ext cx="5943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wit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ch) {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start switch blo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4. The do-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whil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loop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57200" y="1142640"/>
            <a:ext cx="8458200" cy="427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impor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java.util.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//Scanner </a:t>
            </a:r>
            <a:r>
              <a:rPr b="1" lang="ar-SA" sz="2200" spc="-1" strike="noStrike">
                <a:solidFill>
                  <a:srgbClr val="4d4d4d"/>
                </a:solidFill>
                <a:latin typeface="Arial"/>
              </a:rPr>
              <a:t>تحديد مكان وجود الـ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143000" y="3276720"/>
            <a:ext cx="5486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“Enter char:”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143000" y="365760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ha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scanner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xt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charAt[0]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828800" y="4952880"/>
            <a:ext cx="640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‘a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cas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‘A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op1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rea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828800" y="5486400"/>
            <a:ext cx="640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‘e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cas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‘E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op2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rea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828800" y="6019920"/>
            <a:ext cx="640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‘i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cas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‘I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  op3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rea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066680" y="2819160"/>
            <a:ext cx="670572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canner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w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ystem.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4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9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4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9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9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4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9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9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4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"/>
          <p:cNvGrpSpPr/>
          <p:nvPr/>
        </p:nvGrpSpPr>
        <p:grpSpPr>
          <a:xfrm>
            <a:off x="457200" y="685800"/>
            <a:ext cx="8458200" cy="5943240"/>
            <a:chOff x="457200" y="685800"/>
            <a:chExt cx="8458200" cy="5943240"/>
          </a:xfrm>
        </p:grpSpPr>
        <p:sp>
          <p:nvSpPr>
            <p:cNvPr id="523" name=""/>
            <p:cNvSpPr/>
            <p:nvPr/>
          </p:nvSpPr>
          <p:spPr>
            <a:xfrm>
              <a:off x="457200" y="1006560"/>
              <a:ext cx="8458200" cy="562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57200" y="685800"/>
              <a:ext cx="8458200" cy="48168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GetChar.jav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"/>
          <p:cNvSpPr/>
          <p:nvPr/>
        </p:nvSpPr>
        <p:spPr>
          <a:xfrm>
            <a:off x="838080" y="1219320"/>
            <a:ext cx="7543800" cy="281916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4. The do-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whil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loop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066680" y="1219320"/>
            <a:ext cx="640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‘o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cas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‘O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op1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rea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066680" y="1752480"/>
            <a:ext cx="640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‘u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cas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‘U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op2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rea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990720" y="3429000"/>
            <a:ext cx="45720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95280" y="3459240"/>
            <a:ext cx="388620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ch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!=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‘$’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143000" y="2590920"/>
            <a:ext cx="5486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“Enter char:”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143000" y="30481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scanner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xt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charAt[0]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143000" y="2209680"/>
            <a:ext cx="6629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200" spc="-1" strike="noStrike">
                <a:solidFill>
                  <a:srgbClr val="4d4d4d"/>
                </a:solidFill>
                <a:latin typeface="Arial"/>
              </a:rPr>
              <a:t> قراءة حرف جديد لمواصلة التنفيذ الى أن يتم ادخال العلامة $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066680" y="4572000"/>
            <a:ext cx="7315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“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he number of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 +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p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219320" y="4191120"/>
            <a:ext cx="716256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عند انهاء الادخال بالعلامة 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‘$’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يتم طباعة قيم المتغيرات الخمسة كالآتى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66680" y="5029200"/>
            <a:ext cx="7315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“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he number of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 +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p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66680" y="5562720"/>
            <a:ext cx="7315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“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he number of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 +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p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6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1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9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4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9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9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2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2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8" name=""/>
          <p:cNvGrpSpPr/>
          <p:nvPr/>
        </p:nvGrpSpPr>
        <p:grpSpPr>
          <a:xfrm>
            <a:off x="457200" y="685800"/>
            <a:ext cx="8458200" cy="5943240"/>
            <a:chOff x="457200" y="685800"/>
            <a:chExt cx="8458200" cy="5943240"/>
          </a:xfrm>
        </p:grpSpPr>
        <p:sp>
          <p:nvSpPr>
            <p:cNvPr id="539" name=""/>
            <p:cNvSpPr/>
            <p:nvPr/>
          </p:nvSpPr>
          <p:spPr>
            <a:xfrm>
              <a:off x="457200" y="1006560"/>
              <a:ext cx="8458200" cy="562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57200" y="685800"/>
              <a:ext cx="8458200" cy="48168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GetChar.jav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4. The do-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whil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loop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990720" y="1371600"/>
            <a:ext cx="7315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“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he number of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 +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p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990720" y="1905120"/>
            <a:ext cx="7315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“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he number of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 +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p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85800" y="2590920"/>
            <a:ext cx="716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57200" y="3138480"/>
            <a:ext cx="716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9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4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9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2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685800" y="3200400"/>
            <a:ext cx="784872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بإفتراض أن المستخدم قام بإدخال الآتى: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nter number: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nter number: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nter number: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1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nter number: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7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nter number: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1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nter number: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The minimum number is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ss Work                   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09480" y="838080"/>
            <a:ext cx="8077320" cy="2133720"/>
          </a:xfrm>
          <a:prstGeom prst="rect">
            <a:avLst/>
          </a:prstGeom>
          <a:noFill/>
          <a:ln w="22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6212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اكتب برنامج يطلب من ؇لمستخدم ادخال مجموعة من الأعداد الصحيحة (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) بحيث ينتهى الادخال بإدخال الرقم (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)، ثم يقوم البرنامج بطباعة </a:t>
            </a:r>
            <a:r>
              <a:rPr b="1" lang="ar-SA" sz="2500" spc="-1" strike="noStrike" u="sng">
                <a:solidFill>
                  <a:srgbClr val="ff0000"/>
                </a:solidFill>
                <a:uFillTx/>
                <a:latin typeface="Arial"/>
              </a:rPr>
              <a:t>العدد الاصغر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من بين تلك الاعداد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295280" y="1790280"/>
            <a:ext cx="7010640" cy="8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(أ) قم بكتابة هذا البرنامج بإستخدام حلقة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do-</a:t>
            </a:r>
            <a:r>
              <a:rPr b="1" lang="en-US" sz="2700" spc="-1" strike="noStrike">
                <a:solidFill>
                  <a:srgbClr val="00007d"/>
                </a:solidFill>
                <a:latin typeface="Arial"/>
              </a:rPr>
              <a:t>while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371600" y="2323800"/>
            <a:ext cx="7010280" cy="8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(ب) قم بكتابة هذا البرنامج بإستخدام حلقة </a:t>
            </a:r>
            <a:r>
              <a:rPr b="1" lang="en-US" sz="2700" spc="-1" strike="noStrike">
                <a:solidFill>
                  <a:srgbClr val="00007d"/>
                </a:solidFill>
                <a:latin typeface="Arial"/>
              </a:rPr>
              <a:t>whi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9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2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5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8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3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2971800" y="5410080"/>
            <a:ext cx="2438280" cy="609840"/>
          </a:xfrm>
          <a:prstGeom prst="flowChartDecision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!=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-1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4038480" y="6019920"/>
            <a:ext cx="304560" cy="533160"/>
            <a:chOff x="4038480" y="6019920"/>
            <a:chExt cx="304560" cy="533160"/>
          </a:xfrm>
        </p:grpSpPr>
        <p:sp>
          <p:nvSpPr>
            <p:cNvPr id="554" name=""/>
            <p:cNvSpPr/>
            <p:nvPr/>
          </p:nvSpPr>
          <p:spPr>
            <a:xfrm>
              <a:off x="4038480" y="6286680"/>
              <a:ext cx="304560" cy="266400"/>
            </a:xfrm>
            <a:prstGeom prst="flowChartConnector">
              <a:avLst/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190760" y="60199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685080" y="2590920"/>
            <a:ext cx="3429000" cy="3124080"/>
            <a:chOff x="685080" y="2590920"/>
            <a:chExt cx="3429000" cy="3124080"/>
          </a:xfrm>
        </p:grpSpPr>
        <p:grpSp>
          <p:nvGrpSpPr>
            <p:cNvPr id="557" name=""/>
            <p:cNvGrpSpPr/>
            <p:nvPr/>
          </p:nvGrpSpPr>
          <p:grpSpPr>
            <a:xfrm>
              <a:off x="685440" y="2590920"/>
              <a:ext cx="2255400" cy="3124080"/>
              <a:chOff x="685440" y="2590920"/>
              <a:chExt cx="2255400" cy="3124080"/>
            </a:xfrm>
          </p:grpSpPr>
          <p:sp>
            <p:nvSpPr>
              <p:cNvPr id="558" name=""/>
              <p:cNvSpPr/>
              <p:nvPr/>
            </p:nvSpPr>
            <p:spPr>
              <a:xfrm flipH="1">
                <a:off x="685440" y="5715000"/>
                <a:ext cx="2255400" cy="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flipV="1">
                <a:off x="685800" y="2590920"/>
                <a:ext cx="0" cy="3124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0" name=""/>
            <p:cNvSpPr/>
            <p:nvPr/>
          </p:nvSpPr>
          <p:spPr>
            <a:xfrm>
              <a:off x="685080" y="2590920"/>
              <a:ext cx="3429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"/>
          <p:cNvSpPr/>
          <p:nvPr/>
        </p:nvSpPr>
        <p:spPr>
          <a:xfrm>
            <a:off x="4191120" y="16765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838080"/>
            <a:ext cx="4876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7d"/>
                </a:solidFill>
                <a:latin typeface="Arial"/>
              </a:rPr>
              <a:t>System.out.prin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“Enter number: ”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191120" y="24382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286000" y="12193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x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scanner.nextInt(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286000" y="762120"/>
            <a:ext cx="4952880" cy="914400"/>
          </a:xfrm>
          <a:prstGeom prst="rect">
            <a:avLst/>
          </a:prstGeom>
          <a:noFill/>
          <a:ln w="22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ss Work           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895480" y="2819520"/>
            <a:ext cx="2667240" cy="761760"/>
          </a:xfrm>
          <a:prstGeom prst="flowChartDecision">
            <a:avLst/>
          </a:prstGeom>
          <a:solidFill>
            <a:srgbClr val="00007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if 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x &lt; mi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143000" y="3581280"/>
            <a:ext cx="1828800" cy="457200"/>
          </a:xfrm>
          <a:prstGeom prst="rect">
            <a:avLst/>
          </a:prstGeom>
          <a:solidFill>
            <a:srgbClr val="00007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in = x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2058840" y="2895480"/>
            <a:ext cx="836640" cy="685440"/>
            <a:chOff x="2058840" y="2895480"/>
            <a:chExt cx="836640" cy="685440"/>
          </a:xfrm>
        </p:grpSpPr>
        <p:sp>
          <p:nvSpPr>
            <p:cNvPr id="570" name=""/>
            <p:cNvSpPr/>
            <p:nvPr/>
          </p:nvSpPr>
          <p:spPr>
            <a:xfrm>
              <a:off x="2058840" y="3206880"/>
              <a:ext cx="0" cy="37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058840" y="2895480"/>
              <a:ext cx="762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Arial"/>
                </a:rPr>
                <a:t>tr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058840" y="3206880"/>
              <a:ext cx="836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5423040" y="2819520"/>
            <a:ext cx="2120760" cy="1904760"/>
            <a:chOff x="5423040" y="2819520"/>
            <a:chExt cx="2120760" cy="1904760"/>
          </a:xfrm>
        </p:grpSpPr>
        <p:grpSp>
          <p:nvGrpSpPr>
            <p:cNvPr id="574" name=""/>
            <p:cNvGrpSpPr/>
            <p:nvPr/>
          </p:nvGrpSpPr>
          <p:grpSpPr>
            <a:xfrm>
              <a:off x="5562720" y="3200400"/>
              <a:ext cx="1981080" cy="1523880"/>
              <a:chOff x="5562720" y="3200400"/>
              <a:chExt cx="1981080" cy="1523880"/>
            </a:xfrm>
          </p:grpSpPr>
          <p:sp>
            <p:nvSpPr>
              <p:cNvPr id="575" name=""/>
              <p:cNvSpPr/>
              <p:nvPr/>
            </p:nvSpPr>
            <p:spPr>
              <a:xfrm>
                <a:off x="5562720" y="3200400"/>
                <a:ext cx="1981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543800" y="3200400"/>
                <a:ext cx="0" cy="1523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7162920" y="472428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8" name=""/>
            <p:cNvSpPr/>
            <p:nvPr/>
          </p:nvSpPr>
          <p:spPr>
            <a:xfrm>
              <a:off x="5423040" y="2819520"/>
              <a:ext cx="977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fal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1981080" y="4038480"/>
            <a:ext cx="2133720" cy="304560"/>
            <a:chOff x="1981080" y="4038480"/>
            <a:chExt cx="2133720" cy="304560"/>
          </a:xfrm>
        </p:grpSpPr>
        <p:sp>
          <p:nvSpPr>
            <p:cNvPr id="580" name=""/>
            <p:cNvSpPr/>
            <p:nvPr/>
          </p:nvSpPr>
          <p:spPr>
            <a:xfrm>
              <a:off x="1981080" y="403848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4190760"/>
              <a:ext cx="2133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114800" y="419076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4191120" y="51055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114800" y="5958000"/>
            <a:ext cx="11430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fal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209680" y="5348160"/>
            <a:ext cx="7621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tru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276720" y="1981080"/>
            <a:ext cx="18288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mi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x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209680" y="434340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7d"/>
                </a:solidFill>
                <a:latin typeface="Arial"/>
              </a:rPr>
              <a:t>System.out.prin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“Enter number: ”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209680" y="46483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x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scanner.nextInt(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209680" y="4343400"/>
            <a:ext cx="4953240" cy="762120"/>
          </a:xfrm>
          <a:prstGeom prst="rect">
            <a:avLst/>
          </a:prstGeom>
          <a:noFill/>
          <a:ln w="22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4" dur="indefinite" restart="never" nodeType="tmRoot">
          <p:childTnLst>
            <p:seq>
              <p:cTn id="1095" dur="indefinite" nodeType="mainSeq">
                <p:childTnLst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3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6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1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9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2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7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5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0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3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6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1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6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9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4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7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2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0" name=""/>
          <p:cNvGrpSpPr/>
          <p:nvPr/>
        </p:nvGrpSpPr>
        <p:grpSpPr>
          <a:xfrm>
            <a:off x="457200" y="762120"/>
            <a:ext cx="8457840" cy="5943240"/>
            <a:chOff x="457200" y="762120"/>
            <a:chExt cx="8457840" cy="5943240"/>
          </a:xfrm>
        </p:grpSpPr>
        <p:sp>
          <p:nvSpPr>
            <p:cNvPr id="591" name=""/>
            <p:cNvSpPr/>
            <p:nvPr/>
          </p:nvSpPr>
          <p:spPr>
            <a:xfrm>
              <a:off x="457200" y="1147680"/>
              <a:ext cx="8457840" cy="555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57200" y="762120"/>
              <a:ext cx="8457840" cy="38556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etMin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685800" y="160020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GetMin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914400" y="205740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4. The do-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whil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loop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914400" y="3124080"/>
            <a:ext cx="5334120" cy="8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“Enter number:”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914400" y="36576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scanner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xtInt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57200" y="1142640"/>
            <a:ext cx="8458200" cy="427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impor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java.util.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//Scanner </a:t>
            </a:r>
            <a:r>
              <a:rPr b="1" lang="ar-SA" sz="2200" spc="-1" strike="noStrike">
                <a:solidFill>
                  <a:srgbClr val="4d4d4d"/>
                </a:solidFill>
                <a:latin typeface="Arial"/>
              </a:rPr>
              <a:t>تحديد مكان وجود الـ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914400" y="2590560"/>
            <a:ext cx="670572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canner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w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ystem.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914400" y="419112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m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x;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 </a:t>
            </a:r>
            <a:r>
              <a:rPr b="1" lang="ar-SA" sz="2000" spc="-1" strike="noStrike">
                <a:solidFill>
                  <a:srgbClr val="4d4d4d"/>
                </a:solidFill>
                <a:latin typeface="Arial"/>
              </a:rPr>
              <a:t>بأول عدد تتم قرائته من المستخدم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min</a:t>
            </a:r>
            <a:r>
              <a:rPr b="1" lang="ar-SA" sz="2000" spc="-1" strike="noStrike">
                <a:solidFill>
                  <a:srgbClr val="4d4d4d"/>
                </a:solidFill>
                <a:latin typeface="Arial"/>
              </a:rPr>
              <a:t>تحديد القيمة الابتدائية للمتغير</a:t>
            </a:r>
            <a:r>
              <a:rPr b="1" lang="ar-SA" sz="20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914400" y="4692600"/>
            <a:ext cx="40384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do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start of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828800" y="5257800"/>
            <a:ext cx="701028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if 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(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min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min </a:t>
            </a:r>
            <a:r>
              <a:rPr b="1" i="1" lang="ar-SA" sz="2000" spc="-1" strike="noStrike">
                <a:solidFill>
                  <a:srgbClr val="4d4d4d"/>
                </a:solidFill>
                <a:latin typeface="Arial"/>
              </a:rPr>
              <a:t>مقارنة العدد مع القيمة المخزنة بالمتغي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438280" y="5867280"/>
            <a:ext cx="3276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min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= 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6" dur="indefinite" restart="never" nodeType="tmRoot">
          <p:childTnLst>
            <p:seq>
              <p:cTn id="1177" dur="indefinite" nodeType="mainSeq">
                <p:childTnLst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2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7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2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7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2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7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7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0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920" y="22860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4. The 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whil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914400"/>
            <a:ext cx="7296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syntax of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do-</a:t>
            </a:r>
            <a:r>
              <a:rPr b="1" lang="en-US" sz="2700" spc="-1" strike="noStrike">
                <a:solidFill>
                  <a:srgbClr val="00007d"/>
                </a:solidFill>
                <a:latin typeface="Arial"/>
              </a:rPr>
              <a:t>while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oop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4878360"/>
            <a:ext cx="9907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while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609480" y="2209680"/>
            <a:ext cx="1828800" cy="702360"/>
            <a:chOff x="609480" y="2209680"/>
            <a:chExt cx="1828800" cy="702360"/>
          </a:xfrm>
        </p:grpSpPr>
        <p:sp>
          <p:nvSpPr>
            <p:cNvPr id="114" name=""/>
            <p:cNvSpPr/>
            <p:nvPr/>
          </p:nvSpPr>
          <p:spPr>
            <a:xfrm flipH="1">
              <a:off x="990360" y="2590560"/>
              <a:ext cx="228600" cy="30636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2120" y="2209680"/>
              <a:ext cx="167616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الكلمة المحجوز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9480" y="2276280"/>
              <a:ext cx="228600" cy="239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4723920" y="5335560"/>
            <a:ext cx="3048480" cy="991080"/>
            <a:chOff x="4723920" y="5335560"/>
            <a:chExt cx="3048480" cy="991080"/>
          </a:xfrm>
        </p:grpSpPr>
        <p:sp>
          <p:nvSpPr>
            <p:cNvPr id="118" name=""/>
            <p:cNvSpPr/>
            <p:nvPr/>
          </p:nvSpPr>
          <p:spPr>
            <a:xfrm flipH="1" flipV="1">
              <a:off x="4723920" y="5335560"/>
              <a:ext cx="381240" cy="38088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952880" y="5624280"/>
              <a:ext cx="28195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شرط تنفيذ الحلقة التكراري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05520" y="5624280"/>
              <a:ext cx="22860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600200" y="2576520"/>
            <a:ext cx="3429000" cy="549360"/>
            <a:chOff x="1600200" y="2576520"/>
            <a:chExt cx="3429000" cy="549360"/>
          </a:xfrm>
        </p:grpSpPr>
        <p:sp>
          <p:nvSpPr>
            <p:cNvPr id="122" name=""/>
            <p:cNvSpPr/>
            <p:nvPr/>
          </p:nvSpPr>
          <p:spPr>
            <a:xfrm flipH="1">
              <a:off x="1600200" y="2820960"/>
              <a:ext cx="990720" cy="30492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666880" y="2576520"/>
              <a:ext cx="2362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art loop blo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514600" y="2592360"/>
              <a:ext cx="22860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1143000" y="3354120"/>
            <a:ext cx="7772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4d4d4d"/>
                </a:solidFill>
                <a:latin typeface="Arial"/>
              </a:rPr>
              <a:t>// Loop bod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3597840"/>
            <a:ext cx="80773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tement(s);  //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التعليمات المراد تنفيذها عند تحقق شرط تنفيذ الحلقة التكرارية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7772040" y="2895480"/>
            <a:ext cx="304920" cy="990720"/>
            <a:chOff x="7772040" y="2895480"/>
            <a:chExt cx="304920" cy="990720"/>
          </a:xfrm>
        </p:grpSpPr>
        <p:sp>
          <p:nvSpPr>
            <p:cNvPr id="128" name=""/>
            <p:cNvSpPr/>
            <p:nvPr/>
          </p:nvSpPr>
          <p:spPr>
            <a:xfrm flipH="1">
              <a:off x="7772040" y="3200400"/>
              <a:ext cx="152280" cy="68580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848360" y="2895480"/>
              <a:ext cx="22860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838080" y="4862520"/>
            <a:ext cx="38124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57400" y="4863600"/>
            <a:ext cx="510552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loop- continuation-condition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95280" y="2863800"/>
            <a:ext cx="45720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1616040"/>
            <a:ext cx="1904760" cy="412560"/>
          </a:xfrm>
          <a:prstGeom prst="rect">
            <a:avLst/>
          </a:prstGeom>
          <a:noFill/>
          <a:ln w="316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nitial-action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666520" y="1639800"/>
            <a:ext cx="4800600" cy="702360"/>
            <a:chOff x="2666520" y="1639800"/>
            <a:chExt cx="4800600" cy="702360"/>
          </a:xfrm>
        </p:grpSpPr>
        <p:sp>
          <p:nvSpPr>
            <p:cNvPr id="135" name=""/>
            <p:cNvSpPr/>
            <p:nvPr/>
          </p:nvSpPr>
          <p:spPr>
            <a:xfrm>
              <a:off x="3453840" y="1639800"/>
              <a:ext cx="4013280" cy="7023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ar-SA" sz="2000" spc="-1" strike="noStrike">
                  <a:solidFill>
                    <a:srgbClr val="ffffff"/>
                  </a:solidFill>
                  <a:latin typeface="Arial"/>
                </a:rPr>
                <a:t>القيمة الابتدائية لبداية لتنفيذ الحلقة التكراري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2666520" y="1807920"/>
              <a:ext cx="86580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1066680" y="4360320"/>
            <a:ext cx="3353040" cy="397440"/>
          </a:xfrm>
          <a:prstGeom prst="rect">
            <a:avLst/>
          </a:prstGeom>
          <a:noFill/>
          <a:ln w="316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action-after-each-it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419360" y="4343400"/>
            <a:ext cx="4572360" cy="702360"/>
            <a:chOff x="4419360" y="4343400"/>
            <a:chExt cx="4572360" cy="702360"/>
          </a:xfrm>
        </p:grpSpPr>
        <p:sp>
          <p:nvSpPr>
            <p:cNvPr id="139" name=""/>
            <p:cNvSpPr/>
            <p:nvPr/>
          </p:nvSpPr>
          <p:spPr>
            <a:xfrm>
              <a:off x="4727520" y="4343400"/>
              <a:ext cx="4264200" cy="7023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ar-SA" sz="2000" spc="-1" strike="noStrike">
                  <a:solidFill>
                    <a:srgbClr val="ffffff"/>
                  </a:solidFill>
                  <a:latin typeface="Arial"/>
                </a:rPr>
                <a:t>معدل الزيادة أو النقصان لمواصلة التنفيذ للحلق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419360" y="4495680"/>
              <a:ext cx="31572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762120" y="2879640"/>
            <a:ext cx="7617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do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380880" y="5335560"/>
            <a:ext cx="1447920" cy="930960"/>
            <a:chOff x="380880" y="5335560"/>
            <a:chExt cx="1447920" cy="930960"/>
          </a:xfrm>
        </p:grpSpPr>
        <p:sp>
          <p:nvSpPr>
            <p:cNvPr id="143" name=""/>
            <p:cNvSpPr/>
            <p:nvPr/>
          </p:nvSpPr>
          <p:spPr>
            <a:xfrm flipV="1">
              <a:off x="533160" y="5335560"/>
              <a:ext cx="457200" cy="38088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3160" y="5564160"/>
              <a:ext cx="129564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nd loop blo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0880" y="5640120"/>
              <a:ext cx="22860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904760" y="5335560"/>
            <a:ext cx="2361960" cy="915120"/>
            <a:chOff x="1904760" y="5335560"/>
            <a:chExt cx="2361960" cy="915120"/>
          </a:xfrm>
        </p:grpSpPr>
        <p:sp>
          <p:nvSpPr>
            <p:cNvPr id="147" name=""/>
            <p:cNvSpPr/>
            <p:nvPr/>
          </p:nvSpPr>
          <p:spPr>
            <a:xfrm flipH="1" flipV="1">
              <a:off x="1904760" y="5335560"/>
              <a:ext cx="533160" cy="30456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90560" y="5548320"/>
              <a:ext cx="167616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الكلمة المحجوز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361960" y="5564160"/>
              <a:ext cx="30456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457200" y="952560"/>
            <a:ext cx="8458200" cy="491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57200" y="838080"/>
            <a:ext cx="8458200" cy="38124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tMin.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85800" y="4829040"/>
            <a:ext cx="716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57200" y="5348160"/>
            <a:ext cx="716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762120" y="4114800"/>
            <a:ext cx="7848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“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he min number 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 + min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676520" y="3657600"/>
            <a:ext cx="655308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طباعة العدد الأصغر من بين الاعداد التى تم ادخالها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62120" y="3016080"/>
            <a:ext cx="45720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066680" y="2971800"/>
            <a:ext cx="320040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x 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!=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-1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4. The do-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whil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loop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371600" y="1828800"/>
            <a:ext cx="5334120" cy="8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“Enter number:”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295280" y="23623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scanner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xtInt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876920" y="1371600"/>
            <a:ext cx="3429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200" spc="-1" strike="noStrike">
                <a:solidFill>
                  <a:srgbClr val="4d4d4d"/>
                </a:solidFill>
                <a:latin typeface="Arial"/>
              </a:rPr>
              <a:t> قراءة عدد جديد لمواصلة التنفي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1" dur="indefinite" restart="never" nodeType="tmRoot">
          <p:childTnLst>
            <p:seq>
              <p:cTn id="1222" dur="indefinite" nodeType="mainSeq">
                <p:childTnLst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2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5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0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3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8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1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9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76320" y="762120"/>
            <a:ext cx="9144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do-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</a:rPr>
              <a:t>while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oop flow chart:(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do-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whil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تسلسل تنفيذ الحلقة التكرارية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24080" y="3657600"/>
            <a:ext cx="2590920" cy="1600200"/>
          </a:xfrm>
          <a:prstGeom prst="flowChartDecision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Loo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Condition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267080" y="5257800"/>
            <a:ext cx="304560" cy="1066680"/>
            <a:chOff x="4267080" y="5257800"/>
            <a:chExt cx="304560" cy="1066680"/>
          </a:xfrm>
        </p:grpSpPr>
        <p:sp>
          <p:nvSpPr>
            <p:cNvPr id="153" name=""/>
            <p:cNvSpPr/>
            <p:nvPr/>
          </p:nvSpPr>
          <p:spPr>
            <a:xfrm>
              <a:off x="4267080" y="6019920"/>
              <a:ext cx="304560" cy="304560"/>
            </a:xfrm>
            <a:prstGeom prst="flowChartConnector">
              <a:avLst/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419360" y="5257800"/>
              <a:ext cx="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4267080" y="1447920"/>
            <a:ext cx="304560" cy="914400"/>
            <a:chOff x="4267080" y="1447920"/>
            <a:chExt cx="304560" cy="914400"/>
          </a:xfrm>
        </p:grpSpPr>
        <p:sp>
          <p:nvSpPr>
            <p:cNvPr id="156" name=""/>
            <p:cNvSpPr/>
            <p:nvPr/>
          </p:nvSpPr>
          <p:spPr>
            <a:xfrm>
              <a:off x="4419360" y="175248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267080" y="1447920"/>
              <a:ext cx="304560" cy="304560"/>
            </a:xfrm>
            <a:prstGeom prst="flowChartConnector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3124080" y="2362320"/>
            <a:ext cx="2743200" cy="761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(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loop body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7d"/>
                </a:solidFill>
                <a:latin typeface="Arial"/>
              </a:rPr>
              <a:t>Statement(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419720" y="31240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14600" y="3962520"/>
            <a:ext cx="7621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tru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41600" y="5424480"/>
            <a:ext cx="9781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Fal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2437920" y="1980720"/>
            <a:ext cx="1981800" cy="2514960"/>
            <a:chOff x="2437920" y="1980720"/>
            <a:chExt cx="1981800" cy="2514960"/>
          </a:xfrm>
        </p:grpSpPr>
        <p:grpSp>
          <p:nvGrpSpPr>
            <p:cNvPr id="163" name=""/>
            <p:cNvGrpSpPr/>
            <p:nvPr/>
          </p:nvGrpSpPr>
          <p:grpSpPr>
            <a:xfrm>
              <a:off x="2437920" y="1980720"/>
              <a:ext cx="762120" cy="2514960"/>
              <a:chOff x="2437920" y="1980720"/>
              <a:chExt cx="762120" cy="2514960"/>
            </a:xfrm>
          </p:grpSpPr>
          <p:sp>
            <p:nvSpPr>
              <p:cNvPr id="164" name=""/>
              <p:cNvSpPr/>
              <p:nvPr/>
            </p:nvSpPr>
            <p:spPr>
              <a:xfrm flipH="1">
                <a:off x="2437920" y="4495680"/>
                <a:ext cx="762120" cy="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V="1">
                <a:off x="2438280" y="1980720"/>
                <a:ext cx="0" cy="25146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2438280" y="1981080"/>
              <a:ext cx="19814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4952880" y="5181480"/>
            <a:ext cx="2514600" cy="131220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فى حالة القيم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al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تم انهاء تنفيذ للحلقة التكرار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5409720" y="3336840"/>
            <a:ext cx="3505320" cy="1073520"/>
            <a:chOff x="5409720" y="3336840"/>
            <a:chExt cx="3505320" cy="1073520"/>
          </a:xfrm>
        </p:grpSpPr>
        <p:grpSp>
          <p:nvGrpSpPr>
            <p:cNvPr id="169" name=""/>
            <p:cNvGrpSpPr/>
            <p:nvPr/>
          </p:nvGrpSpPr>
          <p:grpSpPr>
            <a:xfrm>
              <a:off x="5907240" y="3336840"/>
              <a:ext cx="3007800" cy="1073520"/>
              <a:chOff x="5907240" y="3336840"/>
              <a:chExt cx="3007800" cy="1073520"/>
            </a:xfrm>
          </p:grpSpPr>
          <p:sp>
            <p:nvSpPr>
              <p:cNvPr id="170" name=""/>
              <p:cNvSpPr/>
              <p:nvPr/>
            </p:nvSpPr>
            <p:spPr>
              <a:xfrm>
                <a:off x="6000840" y="3336840"/>
                <a:ext cx="2819880" cy="930240"/>
              </a:xfrm>
              <a:prstGeom prst="flowChartDocumen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907240" y="3403080"/>
                <a:ext cx="3007800" cy="100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7d"/>
                    </a:solidFill>
                    <a:latin typeface="Arial"/>
                  </a:rPr>
                  <a:t>اختبار شرط تنفيذ الحلقة التكرارية 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true</a:t>
                </a:r>
                <a:r>
                  <a:rPr b="1" lang="en-US" sz="2000" spc="-1" strike="noStrike">
                    <a:solidFill>
                      <a:srgbClr val="00007d"/>
                    </a:solidFill>
                    <a:latin typeface="Arial"/>
                  </a:rPr>
                  <a:t> or 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fals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 flipH="1">
              <a:off x="5409720" y="3962520"/>
              <a:ext cx="568440" cy="22860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152280" y="2711520"/>
            <a:ext cx="2210040" cy="131220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فى حالة القيم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تم الرجوع لمواصلة التنفيذ للحلقة التكرار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22860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4. The 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whil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5714640" y="1447920"/>
            <a:ext cx="3048480" cy="1433160"/>
            <a:chOff x="5714640" y="1447920"/>
            <a:chExt cx="3048480" cy="1433160"/>
          </a:xfrm>
        </p:grpSpPr>
        <p:sp>
          <p:nvSpPr>
            <p:cNvPr id="176" name=""/>
            <p:cNvSpPr/>
            <p:nvPr/>
          </p:nvSpPr>
          <p:spPr>
            <a:xfrm>
              <a:off x="6019920" y="1447920"/>
              <a:ext cx="2743200" cy="1433160"/>
            </a:xfrm>
            <a:prstGeom prst="rect">
              <a:avLst/>
            </a:prstGeom>
            <a:solidFill>
              <a:srgbClr val="00007d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 rtl="1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ffffff"/>
                  </a:solidFill>
                  <a:latin typeface="Arial"/>
                </a:rPr>
                <a:t>يتم البدء بتنفيذ التعليمات قبل اختبار شرط تنفيذ الحلقة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5714640" y="1828800"/>
              <a:ext cx="304920" cy="4568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28600" y="1219320"/>
            <a:ext cx="8458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do-wh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oop </a:t>
            </a:r>
            <a:r>
              <a:rPr b="1" i="1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executes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the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loop body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fir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nd then </a:t>
            </a:r>
            <a:r>
              <a:rPr b="1" i="1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checks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loop-continuation-condi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determine whether to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ontinu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ermin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loo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2666880"/>
            <a:ext cx="85345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تقوم حلقة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o-while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SA" sz="2500" spc="-1" strike="noStrike" u="sng">
                <a:solidFill>
                  <a:srgbClr val="00007d"/>
                </a:solidFill>
                <a:uFillTx/>
                <a:latin typeface="Arial"/>
              </a:rPr>
              <a:t>ببدء</a:t>
            </a:r>
            <a:r>
              <a:rPr b="1" lang="ar-SA" sz="25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ar-SA" sz="2500" spc="-1" strike="noStrike" u="sng">
                <a:solidFill>
                  <a:srgbClr val="00007d"/>
                </a:solidFill>
                <a:uFillTx/>
                <a:latin typeface="Arial"/>
              </a:rPr>
              <a:t>تنفيذ التعليمات الموجودة </a:t>
            </a:r>
            <a:r>
              <a:rPr b="1" lang="ar-SA" sz="2500" spc="-1" strike="noStrike" u="sng">
                <a:solidFill>
                  <a:srgbClr val="ff0000"/>
                </a:solidFill>
                <a:uFillTx/>
                <a:latin typeface="Arial"/>
              </a:rPr>
              <a:t>بجسم الحلقة</a:t>
            </a:r>
            <a:r>
              <a:rPr b="1" lang="ar-SA" sz="2500" spc="-1" strike="noStrike" u="sng">
                <a:solidFill>
                  <a:srgbClr val="00007d"/>
                </a:solidFill>
                <a:uFillTx/>
                <a:latin typeface="Arial"/>
              </a:rPr>
              <a:t> </a:t>
            </a:r>
            <a:r>
              <a:rPr b="1" lang="ar-SA" sz="2500" spc="-1" strike="noStrike" u="sng">
                <a:solidFill>
                  <a:srgbClr val="0000ff"/>
                </a:solidFill>
                <a:uFillTx/>
                <a:latin typeface="Arial"/>
              </a:rPr>
              <a:t>أولاً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، 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ثم بعد ذلك تقوم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ar-SA" sz="2500" spc="-1" strike="noStrike" u="sng">
                <a:solidFill>
                  <a:srgbClr val="00007d"/>
                </a:solidFill>
                <a:uFillTx/>
                <a:latin typeface="Arial"/>
              </a:rPr>
              <a:t>بإختبار </a:t>
            </a:r>
            <a:r>
              <a:rPr b="1" lang="ar-SA" sz="2500" spc="-1" strike="noStrike" u="sng">
                <a:solidFill>
                  <a:srgbClr val="ff0000"/>
                </a:solidFill>
                <a:uFillTx/>
                <a:latin typeface="Arial"/>
              </a:rPr>
              <a:t>شرط تنفيذ تكرار الحلقة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،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ففى حالة الحصول على القيمة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true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يتم المواصلة فى التنفيذ، أما فى حالة الحصول على </a:t>
            </a:r>
            <a:r>
              <a:rPr b="1" lang="en-US" sz="2500" spc="-1" strike="noStrike">
                <a:solidFill>
                  <a:srgbClr val="cc0000"/>
                </a:solidFill>
                <a:latin typeface="Arial"/>
              </a:rPr>
              <a:t>false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500" spc="-1" strike="noStrike">
                <a:solidFill>
                  <a:srgbClr val="ff0000"/>
                </a:solidFill>
                <a:latin typeface="Arial"/>
              </a:rPr>
              <a:t>يتم مباشرة انهاء تنفيذ الحلقة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3808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4. The 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whil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76320" y="990720"/>
            <a:ext cx="9067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major differe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etween a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oop an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o-wh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oop is th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r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which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op-continuation-condi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evaluated and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op body execut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209680"/>
            <a:ext cx="8534520" cy="838440"/>
          </a:xfrm>
          <a:prstGeom prst="rect">
            <a:avLst/>
          </a:prstGeom>
          <a:noFill/>
          <a:ln w="22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نجد أن الاختلاف الأساسى بين حلقة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while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o-while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يكون فى ترتيب(تسلسل) التنفيذ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لشرط الحلقة التكراري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وتنفيذ 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التعليمات الموجودة بجسم الحلق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4. The 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whil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&amp;  while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" y="3276720"/>
            <a:ext cx="86104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27144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ففى تنفيذ حلقة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o-while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، يتم البدء 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بتنفيذ التعليمات الموجودة </a:t>
            </a:r>
            <a:r>
              <a:rPr b="1" lang="ar-SA" sz="2500" spc="-1" strike="noStrike">
                <a:solidFill>
                  <a:srgbClr val="ff0000"/>
                </a:solidFill>
                <a:latin typeface="Arial"/>
              </a:rPr>
              <a:t>بجسم الحلقة</a:t>
            </a:r>
            <a:r>
              <a:rPr b="1" lang="ar-SA" sz="2500" spc="-1" strike="noStrike" u="sng">
                <a:solidFill>
                  <a:srgbClr val="00007d"/>
                </a:solidFill>
                <a:uFillTx/>
                <a:latin typeface="Arial"/>
              </a:rPr>
              <a:t> </a:t>
            </a:r>
            <a:r>
              <a:rPr b="1" lang="ar-SA" sz="2600" spc="-1" strike="noStrike" u="sng">
                <a:solidFill>
                  <a:srgbClr val="0000ff"/>
                </a:solidFill>
                <a:uFillTx/>
                <a:latin typeface="Arial"/>
              </a:rPr>
              <a:t>أولاً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، 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ثم بعد ذلك يتم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ar-SA" sz="2500" spc="-1" strike="noStrike" u="sng">
                <a:solidFill>
                  <a:srgbClr val="00007d"/>
                </a:solidFill>
                <a:uFillTx/>
                <a:latin typeface="Arial"/>
              </a:rPr>
              <a:t>إختبار </a:t>
            </a:r>
            <a:r>
              <a:rPr b="1" lang="ar-SA" sz="2500" spc="-1" strike="noStrike" u="sng">
                <a:solidFill>
                  <a:srgbClr val="ff0000"/>
                </a:solidFill>
                <a:uFillTx/>
                <a:latin typeface="Arial"/>
              </a:rPr>
              <a:t>شرط تنفيذ تكرار الحلقة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27144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  (لذلك نلاحظ أن حلقة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do-while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تُنفذ عباراتها(أى التعليمات بجسم الحلقة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27144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1" lang="ar-SA" sz="2500" spc="-1" strike="noStrike" u="sng">
                <a:solidFill>
                  <a:srgbClr val="00007d"/>
                </a:solidFill>
                <a:uFillTx/>
                <a:latin typeface="Arial"/>
              </a:rPr>
              <a:t>مرة واحدة على الأقل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وذلك لأنها </a:t>
            </a:r>
            <a:r>
              <a:rPr b="1" lang="ar-SA" sz="2500" spc="-1" strike="noStrike">
                <a:solidFill>
                  <a:srgbClr val="ff0000"/>
                </a:solidFill>
                <a:latin typeface="Arial"/>
              </a:rPr>
              <a:t>تٌنفذ أولا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ثم بعد ذلك </a:t>
            </a:r>
            <a:r>
              <a:rPr b="1" lang="ar-SA" sz="2500" spc="-1" strike="noStrike">
                <a:solidFill>
                  <a:srgbClr val="ff0000"/>
                </a:solidFill>
                <a:latin typeface="Arial"/>
              </a:rPr>
              <a:t>تختبر شرط التنفيذ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5105520"/>
            <a:ext cx="86104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أما عند تنفيذ حلقة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hile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SA" sz="2500" spc="-1" strike="noStrike" u="sng">
                <a:solidFill>
                  <a:srgbClr val="000000"/>
                </a:solidFill>
                <a:uFillTx/>
                <a:latin typeface="Arial"/>
              </a:rPr>
              <a:t>يتم البدء</a:t>
            </a:r>
            <a:r>
              <a:rPr b="1" lang="ar-SA" sz="2500" spc="-1" strike="noStrike" u="sng">
                <a:solidFill>
                  <a:srgbClr val="0000ff"/>
                </a:solidFill>
                <a:uFillTx/>
                <a:latin typeface="Arial"/>
              </a:rPr>
              <a:t> أولا</a:t>
            </a:r>
            <a:r>
              <a:rPr b="1" lang="ar-SA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بإختبار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ar-SA" sz="2500" spc="-1" strike="noStrike">
                <a:solidFill>
                  <a:srgbClr val="ff0000"/>
                </a:solidFill>
                <a:latin typeface="Arial"/>
              </a:rPr>
              <a:t>شرط تنفيذ تكرارالحلقة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، وفى حالة تحقق الشرط بالقيمة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rue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يتم مباشرةً تنفيذ التعليمات الموجودة بجسم الحلقة(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loop body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09480" y="1066680"/>
            <a:ext cx="8077320" cy="1600200"/>
          </a:xfrm>
          <a:prstGeom prst="rect">
            <a:avLst/>
          </a:prstGeom>
          <a:noFill/>
          <a:ln w="22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2120" y="2743200"/>
            <a:ext cx="7848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ناتج تنفيذ البرنامج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welcome to jav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welcome to jav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.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.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..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welcome to jav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welcome to jav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welcome to jav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11430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بإستخدام حلقة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do-while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، اكتب برنامج يقوم بطباعة الرسالة ”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welcome to java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“ بحيث يكون عدد مرات طباعة هذه الرسالة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مرة على شاشة التنفي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04920" y="3808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4. The do-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whil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loop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1932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تسلسل تنفيذ البرنامج لطباعة الرسالة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مرة بالتنفيذ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95480" y="3962520"/>
            <a:ext cx="2438640" cy="1447560"/>
          </a:xfrm>
          <a:prstGeom prst="flowChartDecision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( </a:t>
            </a:r>
            <a:r>
              <a:rPr b="1" lang="en-US" sz="2100" spc="-1" strike="noStrike">
                <a:solidFill>
                  <a:srgbClr val="00007d"/>
                </a:solidFill>
                <a:latin typeface="Arial"/>
              </a:rPr>
              <a:t>count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 &lt; 100 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3962520" y="5410080"/>
            <a:ext cx="304560" cy="914400"/>
            <a:chOff x="3962520" y="5410080"/>
            <a:chExt cx="304560" cy="914400"/>
          </a:xfrm>
        </p:grpSpPr>
        <p:sp>
          <p:nvSpPr>
            <p:cNvPr id="193" name=""/>
            <p:cNvSpPr/>
            <p:nvPr/>
          </p:nvSpPr>
          <p:spPr>
            <a:xfrm>
              <a:off x="3962520" y="6019560"/>
              <a:ext cx="304560" cy="304920"/>
            </a:xfrm>
            <a:prstGeom prst="flowChartConnector">
              <a:avLst/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114800" y="541008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600200" y="2362320"/>
            <a:ext cx="5105520" cy="761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100" spc="-1" strike="noStrike">
                <a:solidFill>
                  <a:srgbClr val="00007d"/>
                </a:solidFill>
                <a:latin typeface="Arial"/>
              </a:rPr>
              <a:t>(“welcome to java”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7d"/>
                </a:solidFill>
                <a:latin typeface="Arial"/>
              </a:rPr>
              <a:t>count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++</a:t>
            </a:r>
            <a:r>
              <a:rPr b="1" lang="en-US" sz="21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14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133720" y="4205160"/>
            <a:ext cx="7617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tru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051440" y="5334120"/>
            <a:ext cx="9777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fal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685080" y="2057040"/>
            <a:ext cx="3429000" cy="2591280"/>
            <a:chOff x="685080" y="2057040"/>
            <a:chExt cx="3429000" cy="2591280"/>
          </a:xfrm>
        </p:grpSpPr>
        <p:grpSp>
          <p:nvGrpSpPr>
            <p:cNvPr id="200" name=""/>
            <p:cNvGrpSpPr/>
            <p:nvPr/>
          </p:nvGrpSpPr>
          <p:grpSpPr>
            <a:xfrm>
              <a:off x="685440" y="2057040"/>
              <a:ext cx="2209320" cy="2591280"/>
              <a:chOff x="685440" y="2057040"/>
              <a:chExt cx="2209320" cy="2591280"/>
            </a:xfrm>
          </p:grpSpPr>
          <p:sp>
            <p:nvSpPr>
              <p:cNvPr id="201" name=""/>
              <p:cNvSpPr/>
              <p:nvPr/>
            </p:nvSpPr>
            <p:spPr>
              <a:xfrm flipH="1">
                <a:off x="685440" y="4648320"/>
                <a:ext cx="2209320" cy="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685800" y="2057040"/>
                <a:ext cx="0" cy="2590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>
              <a:off x="685080" y="2057400"/>
              <a:ext cx="3429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5029200" y="5334120"/>
            <a:ext cx="2057400" cy="94608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فى حالة القيم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al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تم انهاء التنفيذ للحلق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3429000"/>
            <a:ext cx="3199680" cy="1234800"/>
            <a:chOff x="5029200" y="3429000"/>
            <a:chExt cx="3199680" cy="1234800"/>
          </a:xfrm>
        </p:grpSpPr>
        <p:grpSp>
          <p:nvGrpSpPr>
            <p:cNvPr id="206" name=""/>
            <p:cNvGrpSpPr/>
            <p:nvPr/>
          </p:nvGrpSpPr>
          <p:grpSpPr>
            <a:xfrm>
              <a:off x="5541120" y="3429000"/>
              <a:ext cx="2687760" cy="930240"/>
              <a:chOff x="5541120" y="3429000"/>
              <a:chExt cx="2687760" cy="930240"/>
            </a:xfrm>
          </p:grpSpPr>
          <p:sp>
            <p:nvSpPr>
              <p:cNvPr id="207" name=""/>
              <p:cNvSpPr/>
              <p:nvPr/>
            </p:nvSpPr>
            <p:spPr>
              <a:xfrm>
                <a:off x="5624640" y="3429000"/>
                <a:ext cx="2520000" cy="930240"/>
              </a:xfrm>
              <a:prstGeom prst="flowChartDocumen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541120" y="3495240"/>
                <a:ext cx="268776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Loop Continu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Condition?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 flipH="1">
              <a:off x="5029200" y="4206600"/>
              <a:ext cx="576000" cy="4572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685800" y="4724280"/>
            <a:ext cx="1981080" cy="122004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فى حالة القيمة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true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تم مواصلة التنفيذ للحلقة التكرار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1295280"/>
            <a:ext cx="2057400" cy="533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count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114800" y="18288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57200" y="914400"/>
            <a:ext cx="2666880" cy="1007280"/>
            <a:chOff x="457200" y="914400"/>
            <a:chExt cx="2666880" cy="1007280"/>
          </a:xfrm>
        </p:grpSpPr>
        <p:sp>
          <p:nvSpPr>
            <p:cNvPr id="214" name=""/>
            <p:cNvSpPr/>
            <p:nvPr/>
          </p:nvSpPr>
          <p:spPr>
            <a:xfrm>
              <a:off x="457200" y="914400"/>
              <a:ext cx="2009880" cy="1007280"/>
            </a:xfrm>
            <a:prstGeom prst="rect">
              <a:avLst/>
            </a:prstGeom>
            <a:solidFill>
              <a:srgbClr val="00007d"/>
            </a:solidFill>
            <a:ln w="158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Arial"/>
                </a:rPr>
                <a:t>القيمة الابتدائية لبداية تنفيذ الحلق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413080" y="1295280"/>
              <a:ext cx="711000" cy="3049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1295280" y="3047760"/>
            <a:ext cx="1676520" cy="1494720"/>
            <a:chOff x="1295280" y="3047760"/>
            <a:chExt cx="1676520" cy="1494720"/>
          </a:xfrm>
        </p:grpSpPr>
        <p:sp>
          <p:nvSpPr>
            <p:cNvPr id="217" name=""/>
            <p:cNvSpPr/>
            <p:nvPr/>
          </p:nvSpPr>
          <p:spPr>
            <a:xfrm>
              <a:off x="1295280" y="3352680"/>
              <a:ext cx="1676520" cy="1189800"/>
            </a:xfrm>
            <a:prstGeom prst="rect">
              <a:avLst/>
            </a:prstGeom>
            <a:solidFill>
              <a:srgbClr val="00007d"/>
            </a:solidFill>
            <a:ln w="158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ffff"/>
                  </a:solidFill>
                  <a:latin typeface="Arial"/>
                </a:rPr>
                <a:t>زيادة قيمة المتغير بعد كل تكرار للحلق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2057400" y="3047760"/>
              <a:ext cx="228600" cy="22860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4. The do-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whil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loop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"/>
          <p:cNvGrpSpPr/>
          <p:nvPr/>
        </p:nvGrpSpPr>
        <p:grpSpPr>
          <a:xfrm>
            <a:off x="380880" y="838080"/>
            <a:ext cx="8305560" cy="5638680"/>
            <a:chOff x="380880" y="838080"/>
            <a:chExt cx="8305560" cy="5638680"/>
          </a:xfrm>
        </p:grpSpPr>
        <p:sp>
          <p:nvSpPr>
            <p:cNvPr id="221" name=""/>
            <p:cNvSpPr/>
            <p:nvPr/>
          </p:nvSpPr>
          <p:spPr>
            <a:xfrm>
              <a:off x="380880" y="1203840"/>
              <a:ext cx="8305560" cy="527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80880" y="838080"/>
              <a:ext cx="8305560" cy="36576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splayText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762120" y="121932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DisplayText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38080" y="175248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990720" y="2895480"/>
            <a:ext cx="69339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do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start loop 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95280" y="3505320"/>
            <a:ext cx="6934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”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welcome to 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90720" y="4632480"/>
            <a:ext cx="4572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5410080"/>
            <a:ext cx="716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14400" y="2819520"/>
            <a:ext cx="6934320" cy="2514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14400" y="2286000"/>
            <a:ext cx="6934320" cy="473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int  count = 0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0880" y="5881680"/>
            <a:ext cx="716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371600" y="4038480"/>
            <a:ext cx="1676520" cy="5040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cou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+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4. The do-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whil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loop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295280" y="4616280"/>
            <a:ext cx="693432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ount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100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9T13:40:41Z</dcterms:created>
  <dc:creator>SUST</dc:creator>
  <dc:description/>
  <dc:language>en-US</dc:language>
  <cp:lastModifiedBy>Yahia</cp:lastModifiedBy>
  <dcterms:modified xsi:type="dcterms:W3CDTF">2011-06-06T00:19:33Z</dcterms:modified>
  <cp:revision>2014</cp:revision>
  <dc:subject>Programming Fundamentals</dc:subject>
  <dc:title>Primitive Data Type</dc:title>
</cp:coreProperties>
</file>