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00F8-AA4C-44C2-AB8C-B72FE0199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5110-32E4-4ED4-8F0D-7A59E74E31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D84F-4D77-453E-8B15-3EDC77436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5897-92FD-4D41-9C4D-4E3CE7EEB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3926-1ABB-4A58-8F1D-99BDED68E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DB21-9D19-4144-A5F5-29489B1B5F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00A1-2AEE-438A-A690-725CEEE82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AF36-E238-4ACD-8B0F-C76D27C22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6FD0-4DE1-46FC-A4BC-F26A0526F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89AC-A694-4CE0-88FA-018914BA16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C3F0-15A6-49E1-841D-36E6002AF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8E0F-EB82-426F-8FE8-C763E2F3D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162-CDC2-4C7F-B462-83C6EB9D363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86200" y="5791320"/>
            <a:ext cx="304560" cy="609480"/>
            <a:chOff x="3886200" y="5791320"/>
            <a:chExt cx="304560" cy="609480"/>
          </a:xfrm>
        </p:grpSpPr>
        <p:sp>
          <p:nvSpPr>
            <p:cNvPr id="239" name=""/>
            <p:cNvSpPr/>
            <p:nvPr/>
          </p:nvSpPr>
          <p:spPr>
            <a:xfrm>
              <a:off x="3886200" y="609624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8480" y="5791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362320" y="4267080"/>
            <a:ext cx="426708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num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243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038120" y="3048120"/>
            <a:ext cx="2819520" cy="2742840"/>
            <a:chOff x="4038120" y="3048120"/>
            <a:chExt cx="2819520" cy="2742840"/>
          </a:xfrm>
        </p:grpSpPr>
        <p:sp>
          <p:nvSpPr>
            <p:cNvPr id="246" name=""/>
            <p:cNvSpPr/>
            <p:nvPr/>
          </p:nvSpPr>
          <p:spPr>
            <a:xfrm>
              <a:off x="5398920" y="3048120"/>
              <a:ext cx="145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7640" y="3048120"/>
              <a:ext cx="0" cy="27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038120" y="5790960"/>
              <a:ext cx="28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5080" y="2057400"/>
            <a:ext cx="3429000" cy="2666880"/>
            <a:chOff x="685080" y="2057400"/>
            <a:chExt cx="3429000" cy="2666880"/>
          </a:xfrm>
        </p:grpSpPr>
        <p:grpSp>
          <p:nvGrpSpPr>
            <p:cNvPr id="251" name=""/>
            <p:cNvGrpSpPr/>
            <p:nvPr/>
          </p:nvGrpSpPr>
          <p:grpSpPr>
            <a:xfrm>
              <a:off x="685800" y="2057400"/>
              <a:ext cx="1645920" cy="2666880"/>
              <a:chOff x="685800" y="2057400"/>
              <a:chExt cx="1645920" cy="266688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685800" y="4724280"/>
                <a:ext cx="16459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85800" y="2057400"/>
                <a:ext cx="0" cy="26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00240" y="1660680"/>
            <a:ext cx="3962160" cy="1234800"/>
            <a:chOff x="4800240" y="1660680"/>
            <a:chExt cx="3962160" cy="1234800"/>
          </a:xfrm>
        </p:grpSpPr>
        <p:grpSp>
          <p:nvGrpSpPr>
            <p:cNvPr id="256" name=""/>
            <p:cNvGrpSpPr/>
            <p:nvPr/>
          </p:nvGrpSpPr>
          <p:grpSpPr>
            <a:xfrm>
              <a:off x="5434200" y="1660680"/>
              <a:ext cx="3328200" cy="1073520"/>
              <a:chOff x="5434200" y="1660680"/>
              <a:chExt cx="3328200" cy="1073520"/>
            </a:xfrm>
          </p:grpSpPr>
          <p:sp>
            <p:nvSpPr>
              <p:cNvPr id="257" name=""/>
              <p:cNvSpPr/>
              <p:nvPr/>
            </p:nvSpPr>
            <p:spPr>
              <a:xfrm>
                <a:off x="5537880" y="1660680"/>
                <a:ext cx="312048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34200" y="1726920"/>
                <a:ext cx="332820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u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4800240" y="2438280"/>
              <a:ext cx="71316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64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5117760"/>
            <a:ext cx="2362320" cy="1572840"/>
            <a:chOff x="685800" y="5117760"/>
            <a:chExt cx="2362320" cy="1572840"/>
          </a:xfrm>
        </p:grpSpPr>
        <p:sp>
          <p:nvSpPr>
            <p:cNvPr id="267" name=""/>
            <p:cNvSpPr/>
            <p:nvPr/>
          </p:nvSpPr>
          <p:spPr>
            <a:xfrm>
              <a:off x="685800" y="5378400"/>
              <a:ext cx="236232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m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بواحد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133720" y="51177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75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m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5403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181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819520"/>
            <a:ext cx="731520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num 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715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88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الفردية المحصورة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(</a:t>
              </a:r>
              <a:r>
                <a:rPr b="1" lang="ar-SA" sz="2600" spc="-1" strike="noStrike" u="sng">
                  <a:solidFill>
                    <a:srgbClr val="ff0000"/>
                  </a:solidFill>
                  <a:uFillTx/>
                  <a:latin typeface="Arial"/>
                </a:rPr>
                <a:t>ترتيبا تنازلياً</a:t>
              </a:r>
              <a:r>
                <a:rPr b="1" lang="ar-SA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)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25146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odd number between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الاعداد الفرد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ترتيبا تنازليا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2286000"/>
            <a:ext cx="2590560" cy="8380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2520" y="6172200"/>
            <a:ext cx="304560" cy="533160"/>
            <a:chOff x="3962520" y="6172200"/>
            <a:chExt cx="304560" cy="533160"/>
          </a:xfrm>
        </p:grpSpPr>
        <p:sp>
          <p:nvSpPr>
            <p:cNvPr id="295" name=""/>
            <p:cNvSpPr/>
            <p:nvPr/>
          </p:nvSpPr>
          <p:spPr>
            <a:xfrm>
              <a:off x="3962520" y="64389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4800" y="61722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6720" y="3048120"/>
            <a:ext cx="838080" cy="442800"/>
            <a:chOff x="3276720" y="3048120"/>
            <a:chExt cx="838080" cy="442800"/>
          </a:xfrm>
        </p:grpSpPr>
        <p:sp>
          <p:nvSpPr>
            <p:cNvPr id="298" name=""/>
            <p:cNvSpPr/>
            <p:nvPr/>
          </p:nvSpPr>
          <p:spPr>
            <a:xfrm>
              <a:off x="4114800" y="31096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720" y="30481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114800" y="2666880"/>
            <a:ext cx="2935440" cy="3505320"/>
            <a:chOff x="4114800" y="2666880"/>
            <a:chExt cx="2935440" cy="3505320"/>
          </a:xfrm>
        </p:grpSpPr>
        <p:sp>
          <p:nvSpPr>
            <p:cNvPr id="301" name=""/>
            <p:cNvSpPr/>
            <p:nvPr/>
          </p:nvSpPr>
          <p:spPr>
            <a:xfrm>
              <a:off x="5334120" y="2666880"/>
              <a:ext cx="171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5200" y="2666880"/>
              <a:ext cx="5040" cy="350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114800" y="6172200"/>
              <a:ext cx="293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70640" y="22860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080" y="2057400"/>
            <a:ext cx="3429000" cy="3733200"/>
            <a:chOff x="685080" y="2057400"/>
            <a:chExt cx="3429000" cy="3733200"/>
          </a:xfrm>
        </p:grpSpPr>
        <p:grpSp>
          <p:nvGrpSpPr>
            <p:cNvPr id="306" name=""/>
            <p:cNvGrpSpPr/>
            <p:nvPr/>
          </p:nvGrpSpPr>
          <p:grpSpPr>
            <a:xfrm>
              <a:off x="685800" y="2057400"/>
              <a:ext cx="2742480" cy="3733200"/>
              <a:chOff x="685800" y="2057400"/>
              <a:chExt cx="2742480" cy="373320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85800" y="57906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85800" y="2057400"/>
                <a:ext cx="0" cy="37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311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312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كبر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319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55627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3490920"/>
            <a:ext cx="281952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% 2 !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4495680"/>
            <a:ext cx="289584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stem.out.print (x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876560" y="4038480"/>
            <a:ext cx="1447920" cy="1752840"/>
            <a:chOff x="4876560" y="4038480"/>
            <a:chExt cx="1447920" cy="1752840"/>
          </a:xfrm>
        </p:grpSpPr>
        <p:sp>
          <p:nvSpPr>
            <p:cNvPr id="328" name=""/>
            <p:cNvSpPr/>
            <p:nvPr/>
          </p:nvSpPr>
          <p:spPr>
            <a:xfrm>
              <a:off x="548640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3040" y="4038480"/>
              <a:ext cx="144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876560" y="579132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23040" y="365760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981080" y="3657600"/>
            <a:ext cx="836640" cy="838080"/>
            <a:chOff x="1981080" y="3657600"/>
            <a:chExt cx="836640" cy="838080"/>
          </a:xfrm>
        </p:grpSpPr>
        <p:sp>
          <p:nvSpPr>
            <p:cNvPr id="333" name="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3657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81080" y="4952880"/>
            <a:ext cx="2133720" cy="609840"/>
            <a:chOff x="1981080" y="4952880"/>
            <a:chExt cx="2133720" cy="609840"/>
          </a:xfrm>
        </p:grpSpPr>
        <p:sp>
          <p:nvSpPr>
            <p:cNvPr id="337" name=""/>
            <p:cNvSpPr/>
            <p:nvPr/>
          </p:nvSpPr>
          <p:spPr>
            <a:xfrm>
              <a:off x="198108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1080" y="525780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5257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028840" y="2743200"/>
            <a:ext cx="3962520" cy="1387440"/>
            <a:chOff x="5028840" y="2743200"/>
            <a:chExt cx="3962520" cy="1387440"/>
          </a:xfrm>
        </p:grpSpPr>
        <p:grpSp>
          <p:nvGrpSpPr>
            <p:cNvPr id="341" name=""/>
            <p:cNvGrpSpPr/>
            <p:nvPr/>
          </p:nvGrpSpPr>
          <p:grpSpPr>
            <a:xfrm>
              <a:off x="6046920" y="2743200"/>
              <a:ext cx="2944440" cy="1387440"/>
              <a:chOff x="6046920" y="2743200"/>
              <a:chExt cx="2944440" cy="1387440"/>
            </a:xfrm>
          </p:grpSpPr>
          <p:sp>
            <p:nvSpPr>
              <p:cNvPr id="342" name=""/>
              <p:cNvSpPr/>
              <p:nvPr/>
            </p:nvSpPr>
            <p:spPr>
              <a:xfrm>
                <a:off x="6138360" y="274320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46920" y="281844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فرد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28840" y="3429000"/>
              <a:ext cx="1066680" cy="355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57200" y="838080"/>
            <a:ext cx="8457840" cy="5790960"/>
            <a:chOff x="457200" y="838080"/>
            <a:chExt cx="8457840" cy="5790960"/>
          </a:xfrm>
        </p:grpSpPr>
        <p:sp>
          <p:nvSpPr>
            <p:cNvPr id="347" name=""/>
            <p:cNvSpPr/>
            <p:nvPr/>
          </p:nvSpPr>
          <p:spPr>
            <a:xfrm>
              <a:off x="457200" y="1213920"/>
              <a:ext cx="845784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" y="838080"/>
              <a:ext cx="845784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Odd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335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Od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316872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g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2261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57913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3200400"/>
            <a:ext cx="731520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2209680"/>
            <a:ext cx="18288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62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365760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4114800"/>
            <a:ext cx="3429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666880"/>
            <a:ext cx="830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odd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724280"/>
            <a:ext cx="83808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0920" y="220968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762120"/>
            <a:ext cx="8077320" cy="35812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114300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778040"/>
            <a:ext cx="7315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start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ystem.out.printl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6483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لن يتم طباعة أى محتوى عند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press any key to continu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762120"/>
            <a:ext cx="8077320" cy="31240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99072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523880"/>
            <a:ext cx="7315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start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ystem.out.printl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9625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838080"/>
            <a:ext cx="8077320" cy="312444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اكتب برنامج يقوم بطباعة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جوائز المسابق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لترتيب الفائزين فى المدى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 ل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03848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حيث يكون تنفيذ البرنامج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rizes of the winner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177480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38464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299412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جوائز المسابقة فى المدى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286000"/>
            <a:ext cx="243864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886200" y="5943600"/>
            <a:ext cx="304560" cy="533160"/>
            <a:chOff x="3886200" y="5943600"/>
            <a:chExt cx="304560" cy="533160"/>
          </a:xfrm>
        </p:grpSpPr>
        <p:sp>
          <p:nvSpPr>
            <p:cNvPr id="385" name=""/>
            <p:cNvSpPr/>
            <p:nvPr/>
          </p:nvSpPr>
          <p:spPr>
            <a:xfrm>
              <a:off x="3886200" y="62103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38480" y="5943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76720" y="2819520"/>
            <a:ext cx="838080" cy="442800"/>
            <a:chOff x="3276720" y="2819520"/>
            <a:chExt cx="838080" cy="442800"/>
          </a:xfrm>
        </p:grpSpPr>
        <p:sp>
          <p:nvSpPr>
            <p:cNvPr id="388" name=""/>
            <p:cNvSpPr/>
            <p:nvPr/>
          </p:nvSpPr>
          <p:spPr>
            <a:xfrm>
              <a:off x="4114800" y="28810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28195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38480" y="2590920"/>
            <a:ext cx="4724640" cy="3352680"/>
            <a:chOff x="4038480" y="2590920"/>
            <a:chExt cx="4724640" cy="3352680"/>
          </a:xfrm>
        </p:grpSpPr>
        <p:sp>
          <p:nvSpPr>
            <p:cNvPr id="391" name=""/>
            <p:cNvSpPr/>
            <p:nvPr/>
          </p:nvSpPr>
          <p:spPr>
            <a:xfrm>
              <a:off x="5334120" y="2590920"/>
              <a:ext cx="34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58080" y="2590920"/>
              <a:ext cx="5040" cy="335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038480" y="594360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570640" y="22096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5080" y="2057040"/>
            <a:ext cx="3429000" cy="3504960"/>
            <a:chOff x="685080" y="2057040"/>
            <a:chExt cx="3429000" cy="3504960"/>
          </a:xfrm>
        </p:grpSpPr>
        <p:grpSp>
          <p:nvGrpSpPr>
            <p:cNvPr id="396" name=""/>
            <p:cNvGrpSpPr/>
            <p:nvPr/>
          </p:nvGrpSpPr>
          <p:grpSpPr>
            <a:xfrm>
              <a:off x="685800" y="2057040"/>
              <a:ext cx="2742480" cy="3504960"/>
              <a:chOff x="685800" y="2057040"/>
              <a:chExt cx="2742480" cy="350496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685800" y="55620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85800" y="2057040"/>
                <a:ext cx="0" cy="350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401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402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409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429000" y="53341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3276720"/>
            <a:ext cx="5790960" cy="17524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itch(x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Gold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Silver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3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Bronze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33760" y="2700360"/>
            <a:ext cx="3402000" cy="1387440"/>
            <a:chOff x="5333760" y="2700360"/>
            <a:chExt cx="3402000" cy="1387440"/>
          </a:xfrm>
        </p:grpSpPr>
        <p:grpSp>
          <p:nvGrpSpPr>
            <p:cNvPr id="417" name=""/>
            <p:cNvGrpSpPr/>
            <p:nvPr/>
          </p:nvGrpSpPr>
          <p:grpSpPr>
            <a:xfrm>
              <a:off x="5791320" y="2700360"/>
              <a:ext cx="2944440" cy="1387440"/>
              <a:chOff x="5791320" y="2700360"/>
              <a:chExt cx="2944440" cy="1387440"/>
            </a:xfrm>
          </p:grpSpPr>
          <p:sp>
            <p:nvSpPr>
              <p:cNvPr id="418" name=""/>
              <p:cNvSpPr/>
              <p:nvPr/>
            </p:nvSpPr>
            <p:spPr>
              <a:xfrm>
                <a:off x="5882760" y="270036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91320" y="277560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witch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تحديد الجائزة وفقا لرقم الفائ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H="1">
              <a:off x="5333760" y="342900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14800" y="5029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457200" y="609480"/>
            <a:ext cx="8457840" cy="5943240"/>
            <a:chOff x="457200" y="609480"/>
            <a:chExt cx="8457840" cy="5943240"/>
          </a:xfrm>
        </p:grpSpPr>
        <p:sp>
          <p:nvSpPr>
            <p:cNvPr id="424" name=""/>
            <p:cNvSpPr/>
            <p:nvPr/>
          </p:nvSpPr>
          <p:spPr>
            <a:xfrm>
              <a:off x="457200" y="99504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" y="60948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Priz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3520" y="9144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Prize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12952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603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6095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3048120"/>
            <a:ext cx="723888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752480"/>
            <a:ext cx="18288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060720"/>
            <a:ext cx="6933960" cy="4428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witch ( x ) {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54960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1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23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Prizes of winner 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175248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997520"/>
            <a:ext cx="693396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 end of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3549600"/>
            <a:ext cx="1295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405144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2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4083120"/>
            <a:ext cx="129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458460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4572000"/>
            <a:ext cx="1295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5638680"/>
            <a:ext cx="99072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1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2. The  for  Loop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57200" y="952560"/>
            <a:ext cx="8458200" cy="16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Priz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14000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8432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09480" y="838080"/>
            <a:ext cx="8077320" cy="25146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درجات طالب فى خمس مواد (من النوع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يقوم البرنامج بحساب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متوسط درجات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باعة النتيجة على الشاشة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42900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حيث يكون تنفيذ البرنامج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he Average i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52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1942920"/>
            <a:ext cx="7010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أ) قم بكتابة هذا البرنامج بإستخدام حلقة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2476080"/>
            <a:ext cx="7010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ب) قم بكتابة هذا البرنامج بإستخدام حلقة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دخال درجات الطالب فى خمس مواد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2286000"/>
            <a:ext cx="243864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886200" y="5943600"/>
            <a:ext cx="304560" cy="533160"/>
            <a:chOff x="3886200" y="5943600"/>
            <a:chExt cx="304560" cy="533160"/>
          </a:xfrm>
        </p:grpSpPr>
        <p:sp>
          <p:nvSpPr>
            <p:cNvPr id="458" name=""/>
            <p:cNvSpPr/>
            <p:nvPr/>
          </p:nvSpPr>
          <p:spPr>
            <a:xfrm>
              <a:off x="3886200" y="62103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38480" y="5943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76720" y="2819520"/>
            <a:ext cx="838080" cy="456840"/>
            <a:chOff x="3276720" y="2819520"/>
            <a:chExt cx="838080" cy="456840"/>
          </a:xfrm>
        </p:grpSpPr>
        <p:sp>
          <p:nvSpPr>
            <p:cNvPr id="461" name=""/>
            <p:cNvSpPr/>
            <p:nvPr/>
          </p:nvSpPr>
          <p:spPr>
            <a:xfrm>
              <a:off x="4114800" y="2883240"/>
              <a:ext cx="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720" y="28195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38480" y="2590920"/>
            <a:ext cx="4724640" cy="3352680"/>
            <a:chOff x="4038480" y="2590920"/>
            <a:chExt cx="4724640" cy="3352680"/>
          </a:xfrm>
        </p:grpSpPr>
        <p:sp>
          <p:nvSpPr>
            <p:cNvPr id="464" name=""/>
            <p:cNvSpPr/>
            <p:nvPr/>
          </p:nvSpPr>
          <p:spPr>
            <a:xfrm>
              <a:off x="5334120" y="2590920"/>
              <a:ext cx="34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58080" y="2590920"/>
              <a:ext cx="5040" cy="335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8480" y="594360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570640" y="22096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85080" y="2057400"/>
            <a:ext cx="3429000" cy="3124080"/>
            <a:chOff x="685080" y="2057400"/>
            <a:chExt cx="3429000" cy="3124080"/>
          </a:xfrm>
        </p:grpSpPr>
        <p:grpSp>
          <p:nvGrpSpPr>
            <p:cNvPr id="469" name=""/>
            <p:cNvGrpSpPr/>
            <p:nvPr/>
          </p:nvGrpSpPr>
          <p:grpSpPr>
            <a:xfrm>
              <a:off x="685800" y="2057400"/>
              <a:ext cx="2742480" cy="3124080"/>
              <a:chOff x="685800" y="2057400"/>
              <a:chExt cx="2742480" cy="312408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685800" y="518148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858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474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838080" y="2406600"/>
            <a:ext cx="1600200" cy="702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1219320"/>
            <a:ext cx="34290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0880" y="838080"/>
            <a:ext cx="1981080" cy="1312200"/>
            <a:chOff x="380880" y="838080"/>
            <a:chExt cx="1981080" cy="1312200"/>
          </a:xfrm>
        </p:grpSpPr>
        <p:sp>
          <p:nvSpPr>
            <p:cNvPr id="482" name=""/>
            <p:cNvSpPr/>
            <p:nvPr/>
          </p:nvSpPr>
          <p:spPr>
            <a:xfrm>
              <a:off x="380880" y="838080"/>
              <a:ext cx="14716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تكرار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52560" y="12189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429000" y="495288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914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51814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52480" y="33526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Grade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464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3733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4191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3276720"/>
            <a:ext cx="4724640" cy="13716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257800" y="3733920"/>
            <a:ext cx="3352320" cy="1936440"/>
            <a:chOff x="5257800" y="3733920"/>
            <a:chExt cx="3352320" cy="1936440"/>
          </a:xfrm>
        </p:grpSpPr>
        <p:sp>
          <p:nvSpPr>
            <p:cNvPr id="494" name=""/>
            <p:cNvSpPr/>
            <p:nvPr/>
          </p:nvSpPr>
          <p:spPr>
            <a:xfrm flipH="1" flipV="1">
              <a:off x="6400800" y="3733920"/>
              <a:ext cx="533520" cy="45720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257800" y="4267080"/>
              <a:ext cx="3352320" cy="1403280"/>
              <a:chOff x="5257800" y="4267080"/>
              <a:chExt cx="3352320" cy="1403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362200" y="4267080"/>
                <a:ext cx="3143160" cy="12524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57800" y="4358160"/>
                <a:ext cx="335232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ع كل تكرار يتم قراءة الدرجة من المستخدم واضافتها لمجموع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درجات بالمتغي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457200" y="685800"/>
            <a:ext cx="8457840" cy="5943240"/>
            <a:chOff x="457200" y="685800"/>
            <a:chExt cx="8457840" cy="5943240"/>
          </a:xfrm>
        </p:grpSpPr>
        <p:sp>
          <p:nvSpPr>
            <p:cNvPr id="500" name=""/>
            <p:cNvSpPr/>
            <p:nvPr/>
          </p:nvSpPr>
          <p:spPr>
            <a:xfrm>
              <a:off x="457200" y="107136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" y="68580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85800" y="14479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Avg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37339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6095880"/>
            <a:ext cx="4190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4267080"/>
            <a:ext cx="563868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2286000"/>
            <a:ext cx="1828800" cy="450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228600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5745240"/>
            <a:ext cx="99072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74320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42670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89892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327636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51814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m = sum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7242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" y="952560"/>
            <a:ext cx="845820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Avg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2288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3672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2514600"/>
            <a:ext cx="678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Averag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avg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1859040"/>
            <a:ext cx="44960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v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144792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حساب المتوسط الحسابى لدرجات الطالب فى خمس موا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914400"/>
            <a:ext cx="7296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276720"/>
            <a:ext cx="990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2301840"/>
            <a:ext cx="1828800" cy="1006560"/>
            <a:chOff x="533520" y="2301840"/>
            <a:chExt cx="1828800" cy="1006560"/>
          </a:xfrm>
        </p:grpSpPr>
        <p:sp>
          <p:nvSpPr>
            <p:cNvPr id="113" name=""/>
            <p:cNvSpPr/>
            <p:nvPr/>
          </p:nvSpPr>
          <p:spPr>
            <a:xfrm>
              <a:off x="838080" y="2698920"/>
              <a:ext cx="76212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2301840"/>
              <a:ext cx="1676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2301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3200" y="2286000"/>
            <a:ext cx="2819520" cy="1006560"/>
            <a:chOff x="2743200" y="2286000"/>
            <a:chExt cx="2819520" cy="1006560"/>
          </a:xfrm>
        </p:grpSpPr>
        <p:sp>
          <p:nvSpPr>
            <p:cNvPr id="117" name=""/>
            <p:cNvSpPr/>
            <p:nvPr/>
          </p:nvSpPr>
          <p:spPr>
            <a:xfrm flipH="1">
              <a:off x="3733560" y="260676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286000"/>
              <a:ext cx="2819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22860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91320" y="2301840"/>
            <a:ext cx="2819160" cy="1006560"/>
            <a:chOff x="5791320" y="2301840"/>
            <a:chExt cx="2819160" cy="1006560"/>
          </a:xfrm>
        </p:grpSpPr>
        <p:sp>
          <p:nvSpPr>
            <p:cNvPr id="121" name=""/>
            <p:cNvSpPr/>
            <p:nvPr/>
          </p:nvSpPr>
          <p:spPr>
            <a:xfrm flipH="1">
              <a:off x="6781680" y="2622600"/>
              <a:ext cx="15264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1320" y="2301840"/>
              <a:ext cx="281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2301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066680" y="382572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129560"/>
            <a:ext cx="8076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تنفيذ ا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000640" y="3429000"/>
            <a:ext cx="304920" cy="990720"/>
            <a:chOff x="8000640" y="3429000"/>
            <a:chExt cx="304920" cy="990720"/>
          </a:xfrm>
        </p:grpSpPr>
        <p:sp>
          <p:nvSpPr>
            <p:cNvPr id="127" name=""/>
            <p:cNvSpPr/>
            <p:nvPr/>
          </p:nvSpPr>
          <p:spPr>
            <a:xfrm flipH="1">
              <a:off x="8000640" y="373392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6960" y="34290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2120" y="54097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// end of loop blo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27672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- continuation-conditi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2778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240" y="5486400"/>
            <a:ext cx="991080" cy="304560"/>
            <a:chOff x="3657240" y="5486400"/>
            <a:chExt cx="991080" cy="304560"/>
          </a:xfrm>
        </p:grpSpPr>
        <p:sp>
          <p:nvSpPr>
            <p:cNvPr id="133" name=""/>
            <p:cNvSpPr/>
            <p:nvPr/>
          </p:nvSpPr>
          <p:spPr>
            <a:xfrm flipH="1">
              <a:off x="3657240" y="5638680"/>
              <a:ext cx="8384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548640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62120" y="1704960"/>
            <a:ext cx="1904760" cy="412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-actio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66520" y="1728720"/>
            <a:ext cx="4800600" cy="702360"/>
            <a:chOff x="2666520" y="1728720"/>
            <a:chExt cx="4800600" cy="702360"/>
          </a:xfrm>
        </p:grpSpPr>
        <p:sp>
          <p:nvSpPr>
            <p:cNvPr id="137" name=""/>
            <p:cNvSpPr/>
            <p:nvPr/>
          </p:nvSpPr>
          <p:spPr>
            <a:xfrm>
              <a:off x="3453840" y="1728720"/>
              <a:ext cx="401328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666520" y="1896840"/>
              <a:ext cx="865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2120" y="4920840"/>
            <a:ext cx="3352680" cy="39744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ction-after-each-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90760" y="4952880"/>
            <a:ext cx="4572360" cy="702360"/>
            <a:chOff x="4190760" y="4952880"/>
            <a:chExt cx="4572360" cy="702360"/>
          </a:xfrm>
        </p:grpSpPr>
        <p:sp>
          <p:nvSpPr>
            <p:cNvPr id="141" name=""/>
            <p:cNvSpPr/>
            <p:nvPr/>
          </p:nvSpPr>
          <p:spPr>
            <a:xfrm>
              <a:off x="4498920" y="4952880"/>
              <a:ext cx="426420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190760" y="5105520"/>
              <a:ext cx="315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380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362320"/>
            <a:ext cx="2590560" cy="1752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di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62520" y="5791320"/>
            <a:ext cx="304560" cy="685800"/>
            <a:chOff x="3962520" y="5791320"/>
            <a:chExt cx="304560" cy="685800"/>
          </a:xfrm>
        </p:grpSpPr>
        <p:sp>
          <p:nvSpPr>
            <p:cNvPr id="147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440" y="5791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62520" y="1447920"/>
            <a:ext cx="304560" cy="914400"/>
            <a:chOff x="3962520" y="1447920"/>
            <a:chExt cx="304560" cy="914400"/>
          </a:xfrm>
        </p:grpSpPr>
        <p:sp>
          <p:nvSpPr>
            <p:cNvPr id="150" name=""/>
            <p:cNvSpPr/>
            <p:nvPr/>
          </p:nvSpPr>
          <p:spPr>
            <a:xfrm>
              <a:off x="411480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144792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9520" y="4648320"/>
            <a:ext cx="27432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4114800"/>
            <a:ext cx="838080" cy="533520"/>
            <a:chOff x="3276720" y="4114800"/>
            <a:chExt cx="838080" cy="533520"/>
          </a:xfrm>
        </p:grpSpPr>
        <p:sp>
          <p:nvSpPr>
            <p:cNvPr id="154" name=""/>
            <p:cNvSpPr/>
            <p:nvPr/>
          </p:nvSpPr>
          <p:spPr>
            <a:xfrm>
              <a:off x="4114800" y="4114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411480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3259080"/>
            <a:ext cx="2514240" cy="2532240"/>
            <a:chOff x="4114800" y="3259080"/>
            <a:chExt cx="2514240" cy="2532240"/>
          </a:xfrm>
        </p:grpSpPr>
        <p:sp>
          <p:nvSpPr>
            <p:cNvPr id="157" name=""/>
            <p:cNvSpPr/>
            <p:nvPr/>
          </p:nvSpPr>
          <p:spPr>
            <a:xfrm>
              <a:off x="5328360" y="3259080"/>
              <a:ext cx="130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040" y="3259080"/>
              <a:ext cx="0" cy="253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14800" y="579132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570640" y="2743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37560" y="1980720"/>
            <a:ext cx="1676520" cy="3048480"/>
            <a:chOff x="2437560" y="1980720"/>
            <a:chExt cx="1676520" cy="3048480"/>
          </a:xfrm>
        </p:grpSpPr>
        <p:grpSp>
          <p:nvGrpSpPr>
            <p:cNvPr id="162" name=""/>
            <p:cNvGrpSpPr/>
            <p:nvPr/>
          </p:nvGrpSpPr>
          <p:grpSpPr>
            <a:xfrm>
              <a:off x="2437920" y="1980720"/>
              <a:ext cx="381240" cy="3048480"/>
              <a:chOff x="2437920" y="1980720"/>
              <a:chExt cx="381240" cy="304848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2437920" y="5029200"/>
                <a:ext cx="381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438280" y="1980720"/>
                <a:ext cx="0" cy="3048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7560" y="1981080"/>
              <a:ext cx="16765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705720" y="3701880"/>
            <a:ext cx="220968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7960" y="1432080"/>
            <a:ext cx="3809880" cy="1234800"/>
            <a:chOff x="4647960" y="1432080"/>
            <a:chExt cx="3809880" cy="1234800"/>
          </a:xfrm>
        </p:grpSpPr>
        <p:grpSp>
          <p:nvGrpSpPr>
            <p:cNvPr id="168" name=""/>
            <p:cNvGrpSpPr/>
            <p:nvPr/>
          </p:nvGrpSpPr>
          <p:grpSpPr>
            <a:xfrm>
              <a:off x="5257800" y="1432080"/>
              <a:ext cx="3200040" cy="1073520"/>
              <a:chOff x="5257800" y="1432080"/>
              <a:chExt cx="3200040" cy="1073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57160" y="1432080"/>
                <a:ext cx="30002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800" y="1498320"/>
                <a:ext cx="3200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شرط تنفيذ الحلقة التكرارية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4647960" y="2209680"/>
              <a:ext cx="6858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320" y="2819520"/>
            <a:ext cx="220968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4572000"/>
            <a:ext cx="920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t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tains the statements to b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peated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4100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ذى يحتوى على التعليمات المراد تكرار تنفيذها بالحلقة التكرارية يُسمى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 bod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38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oop contai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op-continuation 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oolean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trols the execution of the body. It is always evaluated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oop body is execu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جد أن كل حلقة تحتوى على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شرط لمواصلة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هو عبارة عن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تعبير منطق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تحكم فى تنفيذ للحلقة التكرارية، حيث يتم تنفيذ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ول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قبل البدء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تنفيذ التعليمات الموجودة بجسم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الحصول على الق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أما فى حالة الحصول على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يتم مباشرة انهاء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الانتقال لتنفيذ التعليمات التابعة للبرنامج والمكتوبة بعد نهاية الحلقة التكرار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106668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7432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طباعة الرسالة ”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elcome to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 بحيث يكون عدد مرات طباعة هذه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رة على شاشة التنفي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nt &lt; 100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5562720"/>
            <a:ext cx="304560" cy="914400"/>
            <a:chOff x="3962520" y="5562720"/>
            <a:chExt cx="304560" cy="914400"/>
          </a:xfrm>
        </p:grpSpPr>
        <p:sp>
          <p:nvSpPr>
            <p:cNvPr id="185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55627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600200" y="4267080"/>
            <a:ext cx="487692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189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14800" y="3048120"/>
            <a:ext cx="2590560" cy="2531880"/>
            <a:chOff x="4114800" y="3048120"/>
            <a:chExt cx="2590560" cy="2531880"/>
          </a:xfrm>
        </p:grpSpPr>
        <p:sp>
          <p:nvSpPr>
            <p:cNvPr id="192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360" y="3048120"/>
              <a:ext cx="0" cy="25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14800" y="558000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080" y="2057040"/>
            <a:ext cx="3429000" cy="2591280"/>
            <a:chOff x="685080" y="2057040"/>
            <a:chExt cx="3429000" cy="2591280"/>
          </a:xfrm>
        </p:grpSpPr>
        <p:grpSp>
          <p:nvGrpSpPr>
            <p:cNvPr id="197" name=""/>
            <p:cNvGrpSpPr/>
            <p:nvPr/>
          </p:nvGrpSpPr>
          <p:grpSpPr>
            <a:xfrm>
              <a:off x="685800" y="2057040"/>
              <a:ext cx="914400" cy="2591280"/>
              <a:chOff x="685800" y="2057040"/>
              <a:chExt cx="914400" cy="259128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685800" y="4648320"/>
                <a:ext cx="9144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8580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1680" y="3124080"/>
            <a:ext cx="221004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029200" y="1584360"/>
            <a:ext cx="3199680" cy="1234800"/>
            <a:chOff x="5029200" y="1584360"/>
            <a:chExt cx="3199680" cy="1234800"/>
          </a:xfrm>
        </p:grpSpPr>
        <p:grpSp>
          <p:nvGrpSpPr>
            <p:cNvPr id="203" name=""/>
            <p:cNvGrpSpPr/>
            <p:nvPr/>
          </p:nvGrpSpPr>
          <p:grpSpPr>
            <a:xfrm>
              <a:off x="5541120" y="1584360"/>
              <a:ext cx="2687760" cy="930240"/>
              <a:chOff x="5541120" y="1584360"/>
              <a:chExt cx="2687760" cy="9302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24640" y="158436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41120" y="1650600"/>
                <a:ext cx="2687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op Continu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ndition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H="1">
              <a:off x="5029200" y="236196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838080" y="2496960"/>
            <a:ext cx="1981440" cy="18291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يتم الرجوع لمواصلة التنفيذ للحلقة التكرار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12" name=""/>
            <p:cNvSpPr/>
            <p:nvPr/>
          </p:nvSpPr>
          <p:spPr>
            <a:xfrm>
              <a:off x="457200" y="914400"/>
              <a:ext cx="20098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3080" y="1295280"/>
              <a:ext cx="7110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880" y="4952880"/>
            <a:ext cx="1981440" cy="1540800"/>
            <a:chOff x="380880" y="4952880"/>
            <a:chExt cx="1981440" cy="1540800"/>
          </a:xfrm>
        </p:grpSpPr>
        <p:sp>
          <p:nvSpPr>
            <p:cNvPr id="215" name=""/>
            <p:cNvSpPr/>
            <p:nvPr/>
          </p:nvSpPr>
          <p:spPr>
            <a:xfrm>
              <a:off x="380880" y="5486400"/>
              <a:ext cx="1981440" cy="10072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676520" y="4952880"/>
              <a:ext cx="380880" cy="4572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19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unt &lt;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45403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181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819520"/>
            <a:ext cx="731520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count 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715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32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24T18:57:27Z</dcterms:modified>
  <cp:revision>1664</cp:revision>
  <dc:subject>Programming Fundamentals</dc:subject>
  <dc:title>Primitive Data Type</dc:title>
</cp:coreProperties>
</file>