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8475-3300-47DE-A384-489F43DD9A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8A18-CF2F-4F47-9878-39BE8B30D4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1947-F17E-4127-B877-DED89B3086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4016-E404-4C2D-9932-76D7B98D72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E0A3-84D0-4C9F-83DE-09AC5717BA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93FA-F0E8-4783-BBB4-3D9C843463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2D41-5A98-4AE6-96A2-B8EF8344B4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1946-1CA6-4560-BFBC-D39833D817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70CC-B85E-47DD-A3A1-E81DE6B741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3D94-E7B6-445A-9643-5ED93FBFFB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F383-3C91-492E-8287-E8E713DC6A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3780-6EBE-4871-86D5-8E7DAFFFB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E6D4-132B-4E2B-A05C-2BD35E0B1CD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6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762120"/>
            <a:ext cx="8458200" cy="586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167616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9, 6, 3, 5 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6761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3429000"/>
            <a:ext cx="2666880" cy="24382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8095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42667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32457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776160"/>
            <a:ext cx="6629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1219320"/>
            <a:ext cx="7162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2201760"/>
            <a:ext cx="7238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swap()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نداء الدالة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657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751120"/>
            <a:ext cx="7925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320832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4114800"/>
            <a:ext cx="5791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wap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[ ]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594360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52448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temp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0 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504360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0 ] =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1 ]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557676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1 ]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47239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51811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4114800"/>
            <a:ext cx="5181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762120"/>
            <a:ext cx="8534520" cy="586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167616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9, 6, 3, 5 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16761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762120"/>
            <a:ext cx="6629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219320"/>
            <a:ext cx="7162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193840"/>
            <a:ext cx="7238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swap()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نداء الدالة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3657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743200"/>
            <a:ext cx="7925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320040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191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wap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x,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601992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464832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temp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510552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x = y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563868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 = temp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3276720"/>
            <a:ext cx="2667240" cy="24382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36572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41144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0934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45716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50288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4191120"/>
            <a:ext cx="54100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762120"/>
            <a:ext cx="8534520" cy="586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99036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20, 40, 60, 80 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9903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495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3214800"/>
            <a:ext cx="792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73392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3276720"/>
            <a:ext cx="2667240" cy="24382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36572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41144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30934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45716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50288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1432080"/>
            <a:ext cx="72392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حجز مساحة من الذاكرة بحيث تشترك فيها المصفوفت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159984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2255040"/>
            <a:ext cx="69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0]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ناد القيمة لأول عنصر فى 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0880" y="762120"/>
            <a:ext cx="8534520" cy="586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99036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98280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81952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“ x  is : ”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4114800"/>
            <a:ext cx="5181840" cy="190512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45716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 i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29400" y="39315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1592280"/>
            <a:ext cx="6705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ber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[ x ];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159228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 [ 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27808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3352680"/>
            <a:ext cx="861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“size of numbers is</a:t>
            </a: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numbe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52680" y="5105160"/>
            <a:ext cx="381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ze of numbers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880" y="533520"/>
            <a:ext cx="8458200" cy="609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52280"/>
            <a:ext cx="8762760" cy="38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144756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1, 2, 3, 4, 5 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14475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47560"/>
            <a:ext cx="6629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990720"/>
            <a:ext cx="7162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1973160"/>
            <a:ext cx="7239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 reve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نداء الدالة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3352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2522520"/>
            <a:ext cx="7925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289548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3886200"/>
            <a:ext cx="5791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[ ]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verse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[ ]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608004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272200"/>
            <a:ext cx="4952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- 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3886200"/>
            <a:ext cx="541008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4815000"/>
            <a:ext cx="792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43434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[ ]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int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5 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53080" y="1371600"/>
            <a:ext cx="1981440" cy="22096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81680" y="1661760"/>
            <a:ext cx="1828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1188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2120" y="57150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return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0880" y="533520"/>
            <a:ext cx="8458200" cy="586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152280"/>
            <a:ext cx="8762760" cy="38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تابعة التنفيذ عند نداء الدالة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609480"/>
            <a:ext cx="5791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[ ]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verse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[ ]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287964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19320" y="1995480"/>
            <a:ext cx="4952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1) -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609480"/>
            <a:ext cx="609588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1538280"/>
            <a:ext cx="792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0666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[ ]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int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5 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438280" y="3932280"/>
            <a:ext cx="1143000" cy="2285280"/>
            <a:chOff x="2438280" y="3932280"/>
            <a:chExt cx="1143000" cy="2285280"/>
          </a:xfrm>
        </p:grpSpPr>
        <p:sp>
          <p:nvSpPr>
            <p:cNvPr id="339" name=""/>
            <p:cNvSpPr/>
            <p:nvPr/>
          </p:nvSpPr>
          <p:spPr>
            <a:xfrm flipV="1">
              <a:off x="2438280" y="393228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438280" y="4384080"/>
              <a:ext cx="1143000" cy="4755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438280" y="483696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438280" y="528948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438280" y="5741640"/>
              <a:ext cx="1143000" cy="4755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480" y="3505320"/>
            <a:ext cx="1219320" cy="427680"/>
            <a:chOff x="609480" y="3505320"/>
            <a:chExt cx="1219320" cy="427680"/>
          </a:xfrm>
        </p:grpSpPr>
        <p:sp>
          <p:nvSpPr>
            <p:cNvPr id="345" name=""/>
            <p:cNvSpPr/>
            <p:nvPr/>
          </p:nvSpPr>
          <p:spPr>
            <a:xfrm>
              <a:off x="609480" y="3505320"/>
              <a:ext cx="76212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71600" y="3733920"/>
              <a:ext cx="4572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095880" y="3886200"/>
            <a:ext cx="1143000" cy="2285280"/>
            <a:chOff x="6095880" y="3886200"/>
            <a:chExt cx="1143000" cy="2285280"/>
          </a:xfrm>
        </p:grpSpPr>
        <p:sp>
          <p:nvSpPr>
            <p:cNvPr id="348" name=""/>
            <p:cNvSpPr/>
            <p:nvPr/>
          </p:nvSpPr>
          <p:spPr>
            <a:xfrm flipV="1">
              <a:off x="6095880" y="388620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095880" y="4338000"/>
              <a:ext cx="1143000" cy="4755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095880" y="479088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095880" y="524340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095880" y="5695560"/>
              <a:ext cx="1143000" cy="4755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315200" y="3657600"/>
            <a:ext cx="1143000" cy="427680"/>
            <a:chOff x="7315200" y="3657600"/>
            <a:chExt cx="1143000" cy="427680"/>
          </a:xfrm>
        </p:grpSpPr>
        <p:sp>
          <p:nvSpPr>
            <p:cNvPr id="354" name=""/>
            <p:cNvSpPr/>
            <p:nvPr/>
          </p:nvSpPr>
          <p:spPr>
            <a:xfrm>
              <a:off x="7696080" y="3657600"/>
              <a:ext cx="76212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315200" y="38862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105520" y="388620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[ 0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432756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[ 1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478476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[ 2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524196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[ 3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569916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[ 4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4120" y="3429000"/>
            <a:ext cx="609480" cy="427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9000" y="393228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 0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437364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 1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484668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 2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528804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 3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576108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 4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095880" y="3866400"/>
            <a:ext cx="1143000" cy="4762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14400" y="5745240"/>
            <a:ext cx="1752480" cy="397440"/>
            <a:chOff x="914400" y="5745240"/>
            <a:chExt cx="1752480" cy="397440"/>
          </a:xfrm>
        </p:grpSpPr>
        <p:sp>
          <p:nvSpPr>
            <p:cNvPr id="369" name=""/>
            <p:cNvSpPr/>
            <p:nvPr/>
          </p:nvSpPr>
          <p:spPr>
            <a:xfrm>
              <a:off x="914400" y="5745240"/>
              <a:ext cx="15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(5-1)-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362320" y="5989680"/>
              <a:ext cx="3045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914400" y="5303880"/>
            <a:ext cx="1752480" cy="397440"/>
            <a:chOff x="914400" y="5303880"/>
            <a:chExt cx="1752480" cy="397440"/>
          </a:xfrm>
        </p:grpSpPr>
        <p:sp>
          <p:nvSpPr>
            <p:cNvPr id="372" name=""/>
            <p:cNvSpPr/>
            <p:nvPr/>
          </p:nvSpPr>
          <p:spPr>
            <a:xfrm>
              <a:off x="914400" y="5303880"/>
              <a:ext cx="15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(5-1)-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362320" y="5532480"/>
              <a:ext cx="3045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914400" y="3932280"/>
            <a:ext cx="1752480" cy="397440"/>
            <a:chOff x="914400" y="3932280"/>
            <a:chExt cx="1752480" cy="397440"/>
          </a:xfrm>
        </p:grpSpPr>
        <p:sp>
          <p:nvSpPr>
            <p:cNvPr id="375" name=""/>
            <p:cNvSpPr/>
            <p:nvPr/>
          </p:nvSpPr>
          <p:spPr>
            <a:xfrm>
              <a:off x="914400" y="3932280"/>
              <a:ext cx="15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(5-1)-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362320" y="4160880"/>
              <a:ext cx="3045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914400" y="4389480"/>
            <a:ext cx="1752480" cy="397440"/>
            <a:chOff x="914400" y="4389480"/>
            <a:chExt cx="1752480" cy="397440"/>
          </a:xfrm>
        </p:grpSpPr>
        <p:sp>
          <p:nvSpPr>
            <p:cNvPr id="378" name=""/>
            <p:cNvSpPr/>
            <p:nvPr/>
          </p:nvSpPr>
          <p:spPr>
            <a:xfrm>
              <a:off x="914400" y="4389480"/>
              <a:ext cx="15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(5-1)-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362320" y="4618080"/>
              <a:ext cx="3045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14400" y="4846680"/>
            <a:ext cx="1752480" cy="397440"/>
            <a:chOff x="914400" y="4846680"/>
            <a:chExt cx="1752480" cy="397440"/>
          </a:xfrm>
        </p:grpSpPr>
        <p:sp>
          <p:nvSpPr>
            <p:cNvPr id="381" name=""/>
            <p:cNvSpPr/>
            <p:nvPr/>
          </p:nvSpPr>
          <p:spPr>
            <a:xfrm>
              <a:off x="914400" y="4846680"/>
              <a:ext cx="15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(5-1)-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362320" y="5075280"/>
              <a:ext cx="3045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 flipV="1">
            <a:off x="6095880" y="4323600"/>
            <a:ext cx="1143000" cy="4762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6095880" y="4799880"/>
            <a:ext cx="1143000" cy="4762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095880" y="5257080"/>
            <a:ext cx="1143000" cy="4762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095880" y="5695200"/>
            <a:ext cx="1143000" cy="4762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5146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return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95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6.4.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ssing Arrays to methods (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ec 6.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ec 6.5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07180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914400"/>
            <a:ext cx="8458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838080"/>
            <a:ext cx="8305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عدد صحيح من النو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تعريف المصفوف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تى تحتوى على </a:t>
            </a:r>
            <a:r>
              <a:rPr b="1" lang="en-US" sz="2500" spc="-1" strike="noStrike" u="sng">
                <a:solidFill>
                  <a:srgbClr val="00007d"/>
                </a:solidFill>
                <a:uFillTx/>
                <a:latin typeface="Arial"/>
              </a:rPr>
              <a:t>10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عناص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كما يل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y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, 5, 7, 9, 11, 4 ,30, 26, 70, 55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038480"/>
            <a:ext cx="4572000" cy="23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19112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648320"/>
            <a:ext cx="4952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ber found in index :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3182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5851440"/>
            <a:ext cx="4952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Number not found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0574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Arial"/>
              </a:rPr>
              <a:t>المطلوب:</a:t>
            </a: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كتابة الدال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earch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لتى تقوم بإستقبال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المصفوفة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Ar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والرقم المُدخل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ثم تقوم الدالة بالبحث عن هذا الرقم داخل المصفوفة، وفى حالة وجود العدد تقوم الدال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بإرجاع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رقم المؤشر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لمكان وجود العدد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داخل المصفوفة، أما فى حال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عدم وجوده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تقوم الدال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بإرجاع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لقيم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إسناد القيم ل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67616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عدد من المستخ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1330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كتابة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arc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ستقبل المصفوفة والعدد، وتقوم بالبحث عن العدد داخل 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123720"/>
            <a:ext cx="83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74600"/>
            <a:ext cx="8458200" cy="18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65724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3, 5, 7, 9, 11, 4 ,30, 26, 70, 55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65760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4266720"/>
            <a:ext cx="1143000" cy="1219320"/>
            <a:chOff x="533520" y="4266720"/>
            <a:chExt cx="1143000" cy="1219320"/>
          </a:xfrm>
        </p:grpSpPr>
        <p:sp>
          <p:nvSpPr>
            <p:cNvPr id="125" name=""/>
            <p:cNvSpPr/>
            <p:nvPr/>
          </p:nvSpPr>
          <p:spPr>
            <a:xfrm flipV="1">
              <a:off x="533520" y="426636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3520" y="4508280"/>
              <a:ext cx="1143000" cy="2534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33520" y="474876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33520" y="499032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33520" y="5232600"/>
              <a:ext cx="1143000" cy="2534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76520" y="4267080"/>
            <a:ext cx="1981080" cy="732600"/>
            <a:chOff x="1676520" y="4267080"/>
            <a:chExt cx="1981080" cy="732600"/>
          </a:xfrm>
        </p:grpSpPr>
        <p:sp>
          <p:nvSpPr>
            <p:cNvPr id="131" name=""/>
            <p:cNvSpPr/>
            <p:nvPr/>
          </p:nvSpPr>
          <p:spPr>
            <a:xfrm>
              <a:off x="2438280" y="4572000"/>
              <a:ext cx="121932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yAr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1676520" y="4267080"/>
              <a:ext cx="76176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5486040"/>
            <a:ext cx="1143000" cy="1219320"/>
            <a:chOff x="533520" y="5486040"/>
            <a:chExt cx="1143000" cy="1219320"/>
          </a:xfrm>
        </p:grpSpPr>
        <p:sp>
          <p:nvSpPr>
            <p:cNvPr id="135" name=""/>
            <p:cNvSpPr/>
            <p:nvPr/>
          </p:nvSpPr>
          <p:spPr>
            <a:xfrm flipV="1">
              <a:off x="533520" y="548568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33520" y="5727600"/>
              <a:ext cx="1143000" cy="2534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33520" y="596808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33520" y="620964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33520" y="6451920"/>
              <a:ext cx="1143000" cy="2534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68544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عدد من المستخد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14300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60020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28528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كتابة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arc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ستقبل المصفوفة والعدد، وتقوم بالبحث عن العدد داخل 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3429000"/>
            <a:ext cx="7391520" cy="2819520"/>
            <a:chOff x="457200" y="3429000"/>
            <a:chExt cx="7391520" cy="2819520"/>
          </a:xfrm>
        </p:grpSpPr>
        <p:sp>
          <p:nvSpPr>
            <p:cNvPr id="146" name=""/>
            <p:cNvSpPr/>
            <p:nvPr/>
          </p:nvSpPr>
          <p:spPr>
            <a:xfrm>
              <a:off x="609480" y="3429000"/>
              <a:ext cx="2057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public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stati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8280" y="342900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800" y="3429000"/>
              <a:ext cx="16765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2520" y="3429000"/>
              <a:ext cx="3886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( 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int [ ]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arr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int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um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) {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5699160"/>
              <a:ext cx="3886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method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3962520"/>
              <a:ext cx="6324840" cy="21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المرور على جميع عناصر المصفوفة ومقارنة العدد مع كل عنصر، </a:t>
              </a:r>
              <a:r>
                <a:rPr b="1" lang="ar-SA" sz="2300" spc="-1" strike="noStrike">
                  <a:solidFill>
                    <a:srgbClr val="00007d"/>
                  </a:solidFill>
                  <a:latin typeface="Arial"/>
                </a:rPr>
                <a:t>ففى حالة وجود العدد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</a:t>
              </a:r>
              <a:r>
                <a:rPr b="1" lang="ar-SA" sz="2300" spc="-1" strike="noStrike">
                  <a:solidFill>
                    <a:srgbClr val="0000ff"/>
                  </a:solidFill>
                  <a:latin typeface="Arial"/>
                </a:rPr>
                <a:t>ارجاع رقم المؤشر الذى يُحدد مكان وجود العنصر فى المصفوفة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، أما فى حالة عدم وجود العدد يتم </a:t>
              </a:r>
              <a:r>
                <a:rPr b="1" lang="ar-SA" sz="2300" spc="-1" strike="noStrike">
                  <a:solidFill>
                    <a:srgbClr val="ff0000"/>
                  </a:solidFill>
                  <a:latin typeface="Arial"/>
                </a:rPr>
                <a:t>إرجاع القيمة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3429000"/>
              <a:ext cx="6781680" cy="281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620120" y="3428640"/>
            <a:ext cx="1143000" cy="1371600"/>
            <a:chOff x="7620120" y="3428640"/>
            <a:chExt cx="1143000" cy="1371600"/>
          </a:xfrm>
        </p:grpSpPr>
        <p:sp>
          <p:nvSpPr>
            <p:cNvPr id="154" name=""/>
            <p:cNvSpPr/>
            <p:nvPr/>
          </p:nvSpPr>
          <p:spPr>
            <a:xfrm flipV="1">
              <a:off x="7620120" y="342828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620120" y="3700440"/>
              <a:ext cx="1143000" cy="2851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620120" y="397116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620120" y="424260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620120" y="4515120"/>
              <a:ext cx="1143000" cy="2851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620120" y="4800240"/>
            <a:ext cx="1143000" cy="1371600"/>
            <a:chOff x="7620120" y="4800240"/>
            <a:chExt cx="1143000" cy="1371600"/>
          </a:xfrm>
        </p:grpSpPr>
        <p:sp>
          <p:nvSpPr>
            <p:cNvPr id="160" name=""/>
            <p:cNvSpPr/>
            <p:nvPr/>
          </p:nvSpPr>
          <p:spPr>
            <a:xfrm flipV="1">
              <a:off x="7620120" y="479988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620120" y="5072040"/>
              <a:ext cx="1143000" cy="2851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20120" y="534276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620120" y="561420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20120" y="5886720"/>
              <a:ext cx="1143000" cy="2851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57913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7614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كتابة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arc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ستقبل المصفوفة والعدد، وتقوم بالبحث عن العدد داخل 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65104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197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5238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15238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152388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523880"/>
            <a:ext cx="3886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 [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63868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523880"/>
            <a:ext cx="74674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20040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num =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) 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057400"/>
            <a:ext cx="5181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inde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القيمة الابتدائية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94040"/>
            <a:ext cx="60199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inde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إرجاع رقم المؤشر لمكان وجود العدد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01336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ind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077320" y="1981080"/>
            <a:ext cx="838080" cy="4189680"/>
            <a:chOff x="8077320" y="1981080"/>
            <a:chExt cx="838080" cy="4189680"/>
          </a:xfrm>
        </p:grpSpPr>
        <p:grpSp>
          <p:nvGrpSpPr>
            <p:cNvPr id="181" name=""/>
            <p:cNvGrpSpPr/>
            <p:nvPr/>
          </p:nvGrpSpPr>
          <p:grpSpPr>
            <a:xfrm>
              <a:off x="8077320" y="1981080"/>
              <a:ext cx="838080" cy="2094480"/>
              <a:chOff x="8077320" y="1981080"/>
              <a:chExt cx="838080" cy="209448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8077320" y="198108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8077320" y="2395080"/>
                <a:ext cx="838080" cy="43596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8077320" y="281016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8077320" y="322524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8077320" y="3639240"/>
                <a:ext cx="838080" cy="43596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8077320" y="4076280"/>
              <a:ext cx="838080" cy="2094480"/>
              <a:chOff x="8077320" y="4076280"/>
              <a:chExt cx="838080" cy="209448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8077320" y="407628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8077320" y="4490280"/>
                <a:ext cx="838080" cy="43596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8077320" y="490536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8077320" y="532044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8077320" y="5734440"/>
                <a:ext cx="838080" cy="43596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5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7772400" y="55627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195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N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5257800"/>
            <a:ext cx="7238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s =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ear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380988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26708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266652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318420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3, 5, 7, 9, 11, 4 ,30, 26, 70, 55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318456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80060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earch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ن خلال إرسال المصفوفة والعدد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5257800"/>
            <a:ext cx="3657600" cy="6094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210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85800" y="43275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196524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pos != -1 ) 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498760"/>
            <a:ext cx="77724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ber found in index 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386000"/>
            <a:ext cx="82296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بعد نداء الدالة يتم ارجاع ناتج التنفيذ واختبار القيمة التى تم إرجاعها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3228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356544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number not found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220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33520" y="1143000"/>
            <a:ext cx="8229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earch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265104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42670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5238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15238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152388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1523880"/>
            <a:ext cx="3886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 [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25780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20040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num =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) 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057400"/>
            <a:ext cx="5181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inde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القيمة الابتدائية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3794040"/>
            <a:ext cx="60199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inde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إرجاع رقم المؤشر لمكان وجود العدد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480060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ind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00408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clas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7-06T10:14:06Z</dcterms:modified>
  <cp:revision>3330</cp:revision>
  <dc:subject>Programming Fundamentals</dc:subject>
  <dc:title>Chapter5: Methods</dc:title>
</cp:coreProperties>
</file>