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B4AA-362D-4883-B3A0-87661BDB63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1933-9F5C-4777-B28E-DC4AB43CB6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F2ED2-CD67-4F28-BB61-C088DE5B40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93A5-CD90-46A7-B88C-40A1805DEB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AC8FE-187F-4CB2-B2BA-43F0020485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D779-2851-4B66-9276-000BD3B18F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928C-8A0B-465D-AAD2-83FD424F6B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B9DD5-43F3-4D74-8287-1130C14964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50ED-F299-45C0-B433-2E58F38649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EC01A-B929-400C-B979-477791DF27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DA404-870E-4F70-9F5A-D2A85280D0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5532-832B-4CBA-81C2-5303E7445D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EF55-F27A-4ECD-85A4-5D1080F5C09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3048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ntrol Struc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Loop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(4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9480" y="838080"/>
            <a:ext cx="8077320" cy="1218960"/>
            <a:chOff x="609480" y="838080"/>
            <a:chExt cx="8077320" cy="1218960"/>
          </a:xfrm>
        </p:grpSpPr>
        <p:sp>
          <p:nvSpPr>
            <p:cNvPr id="261" name=""/>
            <p:cNvSpPr/>
            <p:nvPr/>
          </p:nvSpPr>
          <p:spPr>
            <a:xfrm>
              <a:off x="609480" y="83808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2120" y="91404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اكتب برنامج يقوم بطباعة الرسالة ”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welcome to java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“ بحيث يكون عدد مرات طباعة هذه الرسالة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مرة على شاشة التنفي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62120" y="2209680"/>
            <a:ext cx="78483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البرنامج لطباعة الرسا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رة ب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2286000"/>
            <a:ext cx="259056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10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962520" y="5943600"/>
            <a:ext cx="304560" cy="609480"/>
            <a:chOff x="3962520" y="5943600"/>
            <a:chExt cx="304560" cy="609480"/>
          </a:xfrm>
        </p:grpSpPr>
        <p:sp>
          <p:nvSpPr>
            <p:cNvPr id="269" name=""/>
            <p:cNvSpPr/>
            <p:nvPr/>
          </p:nvSpPr>
          <p:spPr>
            <a:xfrm>
              <a:off x="3962520" y="6248520"/>
              <a:ext cx="30456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1480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600200" y="4267080"/>
            <a:ext cx="487692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(“welcome to java”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276720" y="3733920"/>
            <a:ext cx="838080" cy="533160"/>
            <a:chOff x="3276720" y="3733920"/>
            <a:chExt cx="838080" cy="533160"/>
          </a:xfrm>
        </p:grpSpPr>
        <p:sp>
          <p:nvSpPr>
            <p:cNvPr id="273" name=""/>
            <p:cNvSpPr/>
            <p:nvPr/>
          </p:nvSpPr>
          <p:spPr>
            <a:xfrm>
              <a:off x="4114800" y="37339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76720" y="37339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14800" y="3048120"/>
            <a:ext cx="2590560" cy="2895120"/>
            <a:chOff x="4114800" y="3048120"/>
            <a:chExt cx="2590560" cy="2895120"/>
          </a:xfrm>
        </p:grpSpPr>
        <p:sp>
          <p:nvSpPr>
            <p:cNvPr id="276" name=""/>
            <p:cNvSpPr/>
            <p:nvPr/>
          </p:nvSpPr>
          <p:spPr>
            <a:xfrm>
              <a:off x="5365080" y="3048120"/>
              <a:ext cx="134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5360" y="3048120"/>
              <a:ext cx="0" cy="28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114800" y="5943240"/>
              <a:ext cx="259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570640" y="266688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85080" y="2057400"/>
            <a:ext cx="3429000" cy="3352320"/>
            <a:chOff x="685080" y="2057400"/>
            <a:chExt cx="3429000" cy="3352320"/>
          </a:xfrm>
        </p:grpSpPr>
        <p:grpSp>
          <p:nvGrpSpPr>
            <p:cNvPr id="281" name=""/>
            <p:cNvGrpSpPr/>
            <p:nvPr/>
          </p:nvGrpSpPr>
          <p:grpSpPr>
            <a:xfrm>
              <a:off x="685800" y="2057400"/>
              <a:ext cx="2742480" cy="3352320"/>
              <a:chOff x="685800" y="2057400"/>
              <a:chExt cx="2742480" cy="3352320"/>
            </a:xfrm>
          </p:grpSpPr>
          <p:sp>
            <p:nvSpPr>
              <p:cNvPr id="282" name=""/>
              <p:cNvSpPr/>
              <p:nvPr/>
            </p:nvSpPr>
            <p:spPr>
              <a:xfrm flipH="1">
                <a:off x="685800" y="5409720"/>
                <a:ext cx="27424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685800" y="2057400"/>
                <a:ext cx="0" cy="335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781680" y="3124080"/>
            <a:ext cx="2210040" cy="1007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انهاء التنفيذ لحلق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29200" y="1584360"/>
            <a:ext cx="3199680" cy="1234800"/>
            <a:chOff x="5029200" y="1584360"/>
            <a:chExt cx="3199680" cy="1234800"/>
          </a:xfrm>
        </p:grpSpPr>
        <p:grpSp>
          <p:nvGrpSpPr>
            <p:cNvPr id="287" name=""/>
            <p:cNvGrpSpPr/>
            <p:nvPr/>
          </p:nvGrpSpPr>
          <p:grpSpPr>
            <a:xfrm>
              <a:off x="5541120" y="1584360"/>
              <a:ext cx="2687760" cy="1073520"/>
              <a:chOff x="5541120" y="1584360"/>
              <a:chExt cx="2687760" cy="1073520"/>
            </a:xfrm>
          </p:grpSpPr>
          <p:sp>
            <p:nvSpPr>
              <p:cNvPr id="288" name=""/>
              <p:cNvSpPr/>
              <p:nvPr/>
            </p:nvSpPr>
            <p:spPr>
              <a:xfrm>
                <a:off x="5624640" y="1584360"/>
                <a:ext cx="252000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41120" y="1650600"/>
                <a:ext cx="268776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التنفيذ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أقل من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00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5029200" y="2361960"/>
              <a:ext cx="576000" cy="457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838080" y="2496960"/>
            <a:ext cx="1981440" cy="182916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يتم الرجوع لمواصلة التنفيذ للحلقة التكرار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1295280"/>
            <a:ext cx="20574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57200" y="914400"/>
            <a:ext cx="2666880" cy="1312200"/>
            <a:chOff x="457200" y="914400"/>
            <a:chExt cx="2666880" cy="1312200"/>
          </a:xfrm>
        </p:grpSpPr>
        <p:sp>
          <p:nvSpPr>
            <p:cNvPr id="295" name=""/>
            <p:cNvSpPr/>
            <p:nvPr/>
          </p:nvSpPr>
          <p:spPr>
            <a:xfrm>
              <a:off x="457200" y="914400"/>
              <a:ext cx="1981080" cy="13122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 لبداية تنفيذ حلقة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38280" y="1295280"/>
              <a:ext cx="6858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57200" y="5607000"/>
            <a:ext cx="2971800" cy="1312200"/>
            <a:chOff x="457200" y="5607000"/>
            <a:chExt cx="2971800" cy="1312200"/>
          </a:xfrm>
        </p:grpSpPr>
        <p:sp>
          <p:nvSpPr>
            <p:cNvPr id="298" name=""/>
            <p:cNvSpPr/>
            <p:nvPr/>
          </p:nvSpPr>
          <p:spPr>
            <a:xfrm>
              <a:off x="457200" y="5607000"/>
              <a:ext cx="2362320" cy="13122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زيادة قيمة المتغير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ff"/>
                  </a:solidFill>
                  <a:latin typeface="Arial"/>
                </a:rPr>
                <a:t>بواحد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بعد كل تكرار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819520" y="5682960"/>
              <a:ext cx="609480" cy="26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429000" y="5181480"/>
            <a:ext cx="144792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4876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668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2362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95480" y="5943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457200" y="838080"/>
            <a:ext cx="8305560" cy="5790960"/>
            <a:chOff x="457200" y="838080"/>
            <a:chExt cx="8305560" cy="5790960"/>
          </a:xfrm>
        </p:grpSpPr>
        <p:sp>
          <p:nvSpPr>
            <p:cNvPr id="306" name=""/>
            <p:cNvSpPr/>
            <p:nvPr/>
          </p:nvSpPr>
          <p:spPr>
            <a:xfrm>
              <a:off x="457200" y="1213920"/>
              <a:ext cx="8305560" cy="54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200" y="838080"/>
              <a:ext cx="8305560" cy="375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Text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838080" y="12952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Text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1828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320040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&lt;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;   i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371600" y="388620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”welcome to java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449568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53341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3048120"/>
            <a:ext cx="7315200" cy="19810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236232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58672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609480" y="1143000"/>
            <a:ext cx="8077320" cy="1218960"/>
            <a:chOff x="609480" y="1143000"/>
            <a:chExt cx="8077320" cy="1218960"/>
          </a:xfrm>
        </p:grpSpPr>
        <p:sp>
          <p:nvSpPr>
            <p:cNvPr id="319" name=""/>
            <p:cNvSpPr/>
            <p:nvPr/>
          </p:nvSpPr>
          <p:spPr>
            <a:xfrm>
              <a:off x="609480" y="11430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2120" y="12189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اكتب برنامج يقوم بطباعة الأعداد فى المدى من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بحيث يكون ناتج تنفيذ البرنامج  كالآتى 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09480" y="27432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numbers from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-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6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7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8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9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البرنامج لطباعة الأعداد م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286000"/>
            <a:ext cx="259056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962520" y="5943600"/>
            <a:ext cx="304560" cy="609480"/>
            <a:chOff x="3962520" y="5943600"/>
            <a:chExt cx="304560" cy="609480"/>
          </a:xfrm>
        </p:grpSpPr>
        <p:sp>
          <p:nvSpPr>
            <p:cNvPr id="327" name=""/>
            <p:cNvSpPr/>
            <p:nvPr/>
          </p:nvSpPr>
          <p:spPr>
            <a:xfrm>
              <a:off x="3962520" y="6248520"/>
              <a:ext cx="30456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1480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362320" y="4267080"/>
            <a:ext cx="3886200" cy="838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 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i  +  “-”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276720" y="3733920"/>
            <a:ext cx="838080" cy="533160"/>
            <a:chOff x="3276720" y="3733920"/>
            <a:chExt cx="838080" cy="533160"/>
          </a:xfrm>
        </p:grpSpPr>
        <p:sp>
          <p:nvSpPr>
            <p:cNvPr id="331" name=""/>
            <p:cNvSpPr/>
            <p:nvPr/>
          </p:nvSpPr>
          <p:spPr>
            <a:xfrm>
              <a:off x="4114800" y="37339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76720" y="37339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114800" y="3048120"/>
            <a:ext cx="2590560" cy="2895120"/>
            <a:chOff x="4114800" y="3048120"/>
            <a:chExt cx="2590560" cy="2895120"/>
          </a:xfrm>
        </p:grpSpPr>
        <p:sp>
          <p:nvSpPr>
            <p:cNvPr id="334" name=""/>
            <p:cNvSpPr/>
            <p:nvPr/>
          </p:nvSpPr>
          <p:spPr>
            <a:xfrm>
              <a:off x="5365080" y="3048120"/>
              <a:ext cx="134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05360" y="3048120"/>
              <a:ext cx="0" cy="28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114800" y="5943240"/>
              <a:ext cx="259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5570640" y="266688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61400" y="2057400"/>
            <a:ext cx="3352680" cy="2743200"/>
            <a:chOff x="761400" y="2057400"/>
            <a:chExt cx="3352680" cy="2743200"/>
          </a:xfrm>
        </p:grpSpPr>
        <p:grpSp>
          <p:nvGrpSpPr>
            <p:cNvPr id="339" name=""/>
            <p:cNvGrpSpPr/>
            <p:nvPr/>
          </p:nvGrpSpPr>
          <p:grpSpPr>
            <a:xfrm>
              <a:off x="762120" y="2057400"/>
              <a:ext cx="1584000" cy="2743200"/>
              <a:chOff x="762120" y="2057400"/>
              <a:chExt cx="1584000" cy="274320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762120" y="4800600"/>
                <a:ext cx="158400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762120" y="205740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761400" y="205740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952880" y="1523880"/>
            <a:ext cx="3504600" cy="1234800"/>
            <a:chOff x="4952880" y="1523880"/>
            <a:chExt cx="3504600" cy="1234800"/>
          </a:xfrm>
        </p:grpSpPr>
        <p:grpSp>
          <p:nvGrpSpPr>
            <p:cNvPr id="344" name=""/>
            <p:cNvGrpSpPr/>
            <p:nvPr/>
          </p:nvGrpSpPr>
          <p:grpSpPr>
            <a:xfrm>
              <a:off x="5513400" y="1523880"/>
              <a:ext cx="2944080" cy="1073520"/>
              <a:chOff x="5513400" y="1523880"/>
              <a:chExt cx="2944080" cy="1073520"/>
            </a:xfrm>
          </p:grpSpPr>
          <p:sp>
            <p:nvSpPr>
              <p:cNvPr id="345" name=""/>
              <p:cNvSpPr/>
              <p:nvPr/>
            </p:nvSpPr>
            <p:spPr>
              <a:xfrm>
                <a:off x="5604840" y="1523880"/>
                <a:ext cx="276012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513400" y="1590120"/>
                <a:ext cx="294408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تنفيذ الحلقة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أقل من أو تساوى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flipH="1">
              <a:off x="4952880" y="2301480"/>
              <a:ext cx="630720" cy="457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838080" y="2971800"/>
            <a:ext cx="1600200" cy="13122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واصلة التنفيذ لحلق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1295280"/>
            <a:ext cx="20574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7200" y="914400"/>
            <a:ext cx="2666880" cy="1312200"/>
            <a:chOff x="457200" y="914400"/>
            <a:chExt cx="2666880" cy="1312200"/>
          </a:xfrm>
        </p:grpSpPr>
        <p:sp>
          <p:nvSpPr>
            <p:cNvPr id="352" name=""/>
            <p:cNvSpPr/>
            <p:nvPr/>
          </p:nvSpPr>
          <p:spPr>
            <a:xfrm>
              <a:off x="457200" y="914400"/>
              <a:ext cx="1981080" cy="13122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الابتدائية لبداية تنفيذ حلقة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hil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38280" y="1295280"/>
              <a:ext cx="6858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57200" y="4952520"/>
            <a:ext cx="2362320" cy="1617480"/>
            <a:chOff x="457200" y="4952520"/>
            <a:chExt cx="2362320" cy="1617480"/>
          </a:xfrm>
        </p:grpSpPr>
        <p:sp>
          <p:nvSpPr>
            <p:cNvPr id="355" name=""/>
            <p:cNvSpPr/>
            <p:nvPr/>
          </p:nvSpPr>
          <p:spPr>
            <a:xfrm>
              <a:off x="457200" y="5257800"/>
              <a:ext cx="2362320" cy="13122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زيادة قيمة المتغير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 بواحد بعد كل تكرار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286000" y="4952520"/>
              <a:ext cx="457200" cy="3049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2895480" y="5410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14600" y="990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2209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457200" y="838080"/>
            <a:ext cx="8305560" cy="5790960"/>
            <a:chOff x="457200" y="838080"/>
            <a:chExt cx="8305560" cy="5790960"/>
          </a:xfrm>
        </p:grpSpPr>
        <p:sp>
          <p:nvSpPr>
            <p:cNvPr id="361" name=""/>
            <p:cNvSpPr/>
            <p:nvPr/>
          </p:nvSpPr>
          <p:spPr>
            <a:xfrm>
              <a:off x="457200" y="1213920"/>
              <a:ext cx="8305560" cy="54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7200" y="838080"/>
              <a:ext cx="8305560" cy="375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838080" y="12952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66680" y="320040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&l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71600" y="388620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i + “ - 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449568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53341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3048120"/>
            <a:ext cx="7315200" cy="19810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90720" y="236232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58672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609480" y="1143000"/>
            <a:ext cx="8077320" cy="1218960"/>
            <a:chOff x="609480" y="1143000"/>
            <a:chExt cx="8077320" cy="1218960"/>
          </a:xfrm>
        </p:grpSpPr>
        <p:sp>
          <p:nvSpPr>
            <p:cNvPr id="374" name=""/>
            <p:cNvSpPr/>
            <p:nvPr/>
          </p:nvSpPr>
          <p:spPr>
            <a:xfrm>
              <a:off x="609480" y="11430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2120" y="12189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اكتب برنامج يقوم بطباعة الأعداد فى المدى من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ar-SA" sz="2700" spc="-1" strike="noStrike" u="sng">
                  <a:solidFill>
                    <a:srgbClr val="ff0000"/>
                  </a:solidFill>
                  <a:uFillTx/>
                  <a:latin typeface="Arial"/>
                </a:rPr>
                <a:t>ترتيباً تنازلياً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بحيث يكون ناتج تنفيذ البرنامج  كالآتى 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609480" y="27432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numbers from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-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9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8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7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6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البرنامج لطباعة الأعداد م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تنازليا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2286000"/>
            <a:ext cx="259056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962520" y="5943600"/>
            <a:ext cx="304560" cy="609480"/>
            <a:chOff x="3962520" y="5943600"/>
            <a:chExt cx="304560" cy="609480"/>
          </a:xfrm>
        </p:grpSpPr>
        <p:sp>
          <p:nvSpPr>
            <p:cNvPr id="382" name=""/>
            <p:cNvSpPr/>
            <p:nvPr/>
          </p:nvSpPr>
          <p:spPr>
            <a:xfrm>
              <a:off x="3962520" y="6248520"/>
              <a:ext cx="30456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1480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362320" y="4267080"/>
            <a:ext cx="388620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 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i  +  “-”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276720" y="3733920"/>
            <a:ext cx="838080" cy="533160"/>
            <a:chOff x="3276720" y="3733920"/>
            <a:chExt cx="838080" cy="533160"/>
          </a:xfrm>
        </p:grpSpPr>
        <p:sp>
          <p:nvSpPr>
            <p:cNvPr id="386" name=""/>
            <p:cNvSpPr/>
            <p:nvPr/>
          </p:nvSpPr>
          <p:spPr>
            <a:xfrm>
              <a:off x="4114800" y="37339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76720" y="37339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114800" y="3048120"/>
            <a:ext cx="2590560" cy="2895120"/>
            <a:chOff x="4114800" y="3048120"/>
            <a:chExt cx="2590560" cy="2895120"/>
          </a:xfrm>
        </p:grpSpPr>
        <p:sp>
          <p:nvSpPr>
            <p:cNvPr id="389" name=""/>
            <p:cNvSpPr/>
            <p:nvPr/>
          </p:nvSpPr>
          <p:spPr>
            <a:xfrm>
              <a:off x="5365080" y="3048120"/>
              <a:ext cx="134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05360" y="3048120"/>
              <a:ext cx="0" cy="28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4114800" y="5943240"/>
              <a:ext cx="259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570640" y="266688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85080" y="2057400"/>
            <a:ext cx="3429000" cy="3352320"/>
            <a:chOff x="685080" y="2057400"/>
            <a:chExt cx="3429000" cy="3352320"/>
          </a:xfrm>
        </p:grpSpPr>
        <p:grpSp>
          <p:nvGrpSpPr>
            <p:cNvPr id="394" name=""/>
            <p:cNvGrpSpPr/>
            <p:nvPr/>
          </p:nvGrpSpPr>
          <p:grpSpPr>
            <a:xfrm>
              <a:off x="685800" y="2057400"/>
              <a:ext cx="2742480" cy="3352320"/>
              <a:chOff x="685800" y="2057400"/>
              <a:chExt cx="2742480" cy="335232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685800" y="5409720"/>
                <a:ext cx="27424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685800" y="2057400"/>
                <a:ext cx="0" cy="335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029200" y="1447920"/>
            <a:ext cx="3504600" cy="1371240"/>
            <a:chOff x="5029200" y="1447920"/>
            <a:chExt cx="3504600" cy="1371240"/>
          </a:xfrm>
        </p:grpSpPr>
        <p:grpSp>
          <p:nvGrpSpPr>
            <p:cNvPr id="399" name=""/>
            <p:cNvGrpSpPr/>
            <p:nvPr/>
          </p:nvGrpSpPr>
          <p:grpSpPr>
            <a:xfrm>
              <a:off x="5589720" y="1447920"/>
              <a:ext cx="2944080" cy="1082520"/>
              <a:chOff x="5589720" y="1447920"/>
              <a:chExt cx="2944080" cy="1082520"/>
            </a:xfrm>
          </p:grpSpPr>
          <p:sp>
            <p:nvSpPr>
              <p:cNvPr id="400" name=""/>
              <p:cNvSpPr/>
              <p:nvPr/>
            </p:nvSpPr>
            <p:spPr>
              <a:xfrm>
                <a:off x="5681160" y="1447920"/>
                <a:ext cx="2760120" cy="103320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589720" y="1523160"/>
                <a:ext cx="294408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تنفيذ الحلقة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أكبر من أو تساوى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 flipH="1">
              <a:off x="5029200" y="2311560"/>
              <a:ext cx="630720" cy="507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838080" y="2330280"/>
            <a:ext cx="1600200" cy="1007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واصلة التنفيذ لحلق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1295280"/>
            <a:ext cx="20574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57200" y="1111320"/>
            <a:ext cx="2666880" cy="1312200"/>
            <a:chOff x="457200" y="1111320"/>
            <a:chExt cx="2666880" cy="1312200"/>
          </a:xfrm>
        </p:grpSpPr>
        <p:sp>
          <p:nvSpPr>
            <p:cNvPr id="407" name=""/>
            <p:cNvSpPr/>
            <p:nvPr/>
          </p:nvSpPr>
          <p:spPr>
            <a:xfrm>
              <a:off x="457200" y="1111320"/>
              <a:ext cx="1981080" cy="13122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 لبداية تنفيذ حلقة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38280" y="1492200"/>
              <a:ext cx="6858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57200" y="5607000"/>
            <a:ext cx="2971800" cy="1312200"/>
            <a:chOff x="457200" y="5607000"/>
            <a:chExt cx="2971800" cy="1312200"/>
          </a:xfrm>
        </p:grpSpPr>
        <p:sp>
          <p:nvSpPr>
            <p:cNvPr id="410" name=""/>
            <p:cNvSpPr/>
            <p:nvPr/>
          </p:nvSpPr>
          <p:spPr>
            <a:xfrm>
              <a:off x="457200" y="5607000"/>
              <a:ext cx="2362320" cy="13122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نقاص قيمة المتغير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ff"/>
                  </a:solidFill>
                  <a:latin typeface="Arial"/>
                </a:rPr>
                <a:t>بواحد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بعد كل تكرار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819520" y="5682960"/>
              <a:ext cx="609480" cy="26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429000" y="5181480"/>
            <a:ext cx="144792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114800" y="4876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66880" y="1295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2362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895480" y="5943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457200" y="838080"/>
            <a:ext cx="8305560" cy="5790960"/>
            <a:chOff x="457200" y="838080"/>
            <a:chExt cx="8305560" cy="5790960"/>
          </a:xfrm>
        </p:grpSpPr>
        <p:sp>
          <p:nvSpPr>
            <p:cNvPr id="418" name=""/>
            <p:cNvSpPr/>
            <p:nvPr/>
          </p:nvSpPr>
          <p:spPr>
            <a:xfrm>
              <a:off x="457200" y="1213920"/>
              <a:ext cx="8305560" cy="54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838080"/>
              <a:ext cx="8305560" cy="375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838080" y="12952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Num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14400" y="1828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066680" y="3200400"/>
            <a:ext cx="6934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&g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--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371600" y="388620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i + “ - 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6680" y="449568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3341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90720" y="3048120"/>
            <a:ext cx="7315200" cy="19810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90720" y="236232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" y="58672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609480" y="1143000"/>
            <a:ext cx="8077320" cy="1218960"/>
            <a:chOff x="609480" y="1143000"/>
            <a:chExt cx="8077320" cy="1218960"/>
          </a:xfrm>
        </p:grpSpPr>
        <p:sp>
          <p:nvSpPr>
            <p:cNvPr id="431" name=""/>
            <p:cNvSpPr/>
            <p:nvPr/>
          </p:nvSpPr>
          <p:spPr>
            <a:xfrm>
              <a:off x="609480" y="11430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2120" y="12189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اكتب برنامج يقوم بطباعة مجموع الأعداد فى المدى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بحيث يكون ناتج تنفيذ البرنامج  كالآتى 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609480" y="27432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Summation from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s: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2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1430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Introdu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90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The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Loop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3526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The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do-whi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Loop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1148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which Loop to use?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5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876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6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Nested Loop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6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5627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7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Minimizing Numerical Error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7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8288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The 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fo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Loop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البرنامج لطباعة مجموع الأعداد م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19520" y="2286000"/>
            <a:ext cx="2590560" cy="106668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5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962520" y="6019920"/>
            <a:ext cx="304560" cy="609480"/>
            <a:chOff x="3962520" y="6019920"/>
            <a:chExt cx="304560" cy="609480"/>
          </a:xfrm>
        </p:grpSpPr>
        <p:sp>
          <p:nvSpPr>
            <p:cNvPr id="439" name=""/>
            <p:cNvSpPr/>
            <p:nvPr/>
          </p:nvSpPr>
          <p:spPr>
            <a:xfrm>
              <a:off x="3962520" y="6324840"/>
              <a:ext cx="30456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60199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666880" y="3733920"/>
            <a:ext cx="289584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+  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276720" y="3290760"/>
            <a:ext cx="838080" cy="443160"/>
            <a:chOff x="3276720" y="3290760"/>
            <a:chExt cx="838080" cy="443160"/>
          </a:xfrm>
        </p:grpSpPr>
        <p:sp>
          <p:nvSpPr>
            <p:cNvPr id="443" name=""/>
            <p:cNvSpPr/>
            <p:nvPr/>
          </p:nvSpPr>
          <p:spPr>
            <a:xfrm>
              <a:off x="4114800" y="33526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6720" y="329076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370480" y="2819520"/>
            <a:ext cx="1792440" cy="2971800"/>
            <a:chOff x="5370480" y="2819520"/>
            <a:chExt cx="1792440" cy="2971800"/>
          </a:xfrm>
        </p:grpSpPr>
        <p:sp>
          <p:nvSpPr>
            <p:cNvPr id="446" name=""/>
            <p:cNvSpPr/>
            <p:nvPr/>
          </p:nvSpPr>
          <p:spPr>
            <a:xfrm>
              <a:off x="5370480" y="2819520"/>
              <a:ext cx="178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57880" y="2819520"/>
              <a:ext cx="5040" cy="297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248520" y="579132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5570640" y="243828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85080" y="2057040"/>
            <a:ext cx="3429000" cy="2895840"/>
            <a:chOff x="685080" y="2057040"/>
            <a:chExt cx="3429000" cy="2895840"/>
          </a:xfrm>
        </p:grpSpPr>
        <p:grpSp>
          <p:nvGrpSpPr>
            <p:cNvPr id="451" name=""/>
            <p:cNvGrpSpPr/>
            <p:nvPr/>
          </p:nvGrpSpPr>
          <p:grpSpPr>
            <a:xfrm>
              <a:off x="685800" y="2057040"/>
              <a:ext cx="2742480" cy="2895840"/>
              <a:chOff x="685800" y="2057040"/>
              <a:chExt cx="2742480" cy="2895840"/>
            </a:xfrm>
          </p:grpSpPr>
          <p:sp>
            <p:nvSpPr>
              <p:cNvPr id="452" name=""/>
              <p:cNvSpPr/>
              <p:nvPr/>
            </p:nvSpPr>
            <p:spPr>
              <a:xfrm flipH="1">
                <a:off x="685800" y="4952880"/>
                <a:ext cx="27424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85800" y="2057040"/>
                <a:ext cx="0" cy="289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5029200" y="1295280"/>
            <a:ext cx="3504600" cy="1371240"/>
            <a:chOff x="5029200" y="1295280"/>
            <a:chExt cx="3504600" cy="1371240"/>
          </a:xfrm>
        </p:grpSpPr>
        <p:grpSp>
          <p:nvGrpSpPr>
            <p:cNvPr id="456" name=""/>
            <p:cNvGrpSpPr/>
            <p:nvPr/>
          </p:nvGrpSpPr>
          <p:grpSpPr>
            <a:xfrm>
              <a:off x="5589720" y="1295280"/>
              <a:ext cx="2944080" cy="1082520"/>
              <a:chOff x="5589720" y="1295280"/>
              <a:chExt cx="2944080" cy="1082520"/>
            </a:xfrm>
          </p:grpSpPr>
          <p:sp>
            <p:nvSpPr>
              <p:cNvPr id="457" name=""/>
              <p:cNvSpPr/>
              <p:nvPr/>
            </p:nvSpPr>
            <p:spPr>
              <a:xfrm>
                <a:off x="5681160" y="1295280"/>
                <a:ext cx="2760120" cy="103320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589720" y="1370520"/>
                <a:ext cx="294408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تنفيذ الحلقة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أقل من أو تساوى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 flipH="1">
              <a:off x="5029200" y="2158920"/>
              <a:ext cx="630720" cy="507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838080" y="2330280"/>
            <a:ext cx="1600200" cy="1007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واصلة التنفيذ لحلق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1295280"/>
            <a:ext cx="22860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,  sum =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066680" y="1066680"/>
            <a:ext cx="1981080" cy="702360"/>
            <a:chOff x="1066680" y="1066680"/>
            <a:chExt cx="1981080" cy="702360"/>
          </a:xfrm>
        </p:grpSpPr>
        <p:sp>
          <p:nvSpPr>
            <p:cNvPr id="464" name=""/>
            <p:cNvSpPr/>
            <p:nvPr/>
          </p:nvSpPr>
          <p:spPr>
            <a:xfrm>
              <a:off x="1066680" y="1066680"/>
              <a:ext cx="1471680" cy="70236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38360" y="1447560"/>
              <a:ext cx="5094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57200" y="5073480"/>
            <a:ext cx="2971800" cy="1312200"/>
            <a:chOff x="457200" y="5073480"/>
            <a:chExt cx="2971800" cy="1312200"/>
          </a:xfrm>
        </p:grpSpPr>
        <p:sp>
          <p:nvSpPr>
            <p:cNvPr id="467" name=""/>
            <p:cNvSpPr/>
            <p:nvPr/>
          </p:nvSpPr>
          <p:spPr>
            <a:xfrm>
              <a:off x="457200" y="5073480"/>
              <a:ext cx="2362320" cy="13122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زيادة قيمة المتغير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ff"/>
                  </a:solidFill>
                  <a:latin typeface="Arial"/>
                </a:rPr>
                <a:t>بواحد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بعد كل تكرار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819520" y="5149440"/>
              <a:ext cx="609480" cy="26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429000" y="4648320"/>
            <a:ext cx="144792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4343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11430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2362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95480" y="5029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48120" y="5562720"/>
            <a:ext cx="32004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 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457200" y="838080"/>
            <a:ext cx="8305560" cy="5790960"/>
            <a:chOff x="457200" y="838080"/>
            <a:chExt cx="8305560" cy="5790960"/>
          </a:xfrm>
        </p:grpSpPr>
        <p:sp>
          <p:nvSpPr>
            <p:cNvPr id="476" name=""/>
            <p:cNvSpPr/>
            <p:nvPr/>
          </p:nvSpPr>
          <p:spPr>
            <a:xfrm>
              <a:off x="457200" y="1213920"/>
              <a:ext cx="8305560" cy="54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7200" y="838080"/>
              <a:ext cx="8305560" cy="375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S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838080" y="12952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Sum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914400" y="1828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066680" y="2971800"/>
            <a:ext cx="6934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&l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5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++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066680" y="408312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" y="57913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90720" y="2971800"/>
            <a:ext cx="7315200" cy="17524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90720" y="236232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, sum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" y="61722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14400" y="4876920"/>
            <a:ext cx="784872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The summation from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i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”+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3565440"/>
            <a:ext cx="5029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um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sum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609480" y="914400"/>
            <a:ext cx="8077320" cy="1218960"/>
            <a:chOff x="609480" y="914400"/>
            <a:chExt cx="8077320" cy="1218960"/>
          </a:xfrm>
        </p:grpSpPr>
        <p:sp>
          <p:nvSpPr>
            <p:cNvPr id="490" name=""/>
            <p:cNvSpPr/>
            <p:nvPr/>
          </p:nvSpPr>
          <p:spPr>
            <a:xfrm>
              <a:off x="609480" y="9144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120" y="9903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اكتب برنامج يقوم بطباعة الأعداد الزوجية المحصورة بين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بحيث يكون ناتج تنفيذ البرنامج  كالآتى 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60948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even number between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2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5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برنامج طباعة الاعداد الزوجية بي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19520" y="2286000"/>
            <a:ext cx="2590560" cy="83808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5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962520" y="6172200"/>
            <a:ext cx="304560" cy="533160"/>
            <a:chOff x="3962520" y="6172200"/>
            <a:chExt cx="304560" cy="533160"/>
          </a:xfrm>
        </p:grpSpPr>
        <p:sp>
          <p:nvSpPr>
            <p:cNvPr id="498" name=""/>
            <p:cNvSpPr/>
            <p:nvPr/>
          </p:nvSpPr>
          <p:spPr>
            <a:xfrm>
              <a:off x="3962520" y="6438960"/>
              <a:ext cx="304560" cy="26640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14800" y="61722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3276720" y="3048120"/>
            <a:ext cx="838080" cy="442800"/>
            <a:chOff x="3276720" y="3048120"/>
            <a:chExt cx="838080" cy="442800"/>
          </a:xfrm>
        </p:grpSpPr>
        <p:sp>
          <p:nvSpPr>
            <p:cNvPr id="501" name=""/>
            <p:cNvSpPr/>
            <p:nvPr/>
          </p:nvSpPr>
          <p:spPr>
            <a:xfrm>
              <a:off x="4114800" y="31096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76720" y="30481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114800" y="2666880"/>
            <a:ext cx="2935440" cy="3505320"/>
            <a:chOff x="4114800" y="2666880"/>
            <a:chExt cx="2935440" cy="3505320"/>
          </a:xfrm>
        </p:grpSpPr>
        <p:sp>
          <p:nvSpPr>
            <p:cNvPr id="504" name=""/>
            <p:cNvSpPr/>
            <p:nvPr/>
          </p:nvSpPr>
          <p:spPr>
            <a:xfrm>
              <a:off x="5334120" y="2666880"/>
              <a:ext cx="171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45200" y="2666880"/>
              <a:ext cx="5040" cy="350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114800" y="6172200"/>
              <a:ext cx="293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5570640" y="228600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685080" y="2057400"/>
            <a:ext cx="3429000" cy="3733200"/>
            <a:chOff x="685080" y="2057400"/>
            <a:chExt cx="3429000" cy="3733200"/>
          </a:xfrm>
        </p:grpSpPr>
        <p:grpSp>
          <p:nvGrpSpPr>
            <p:cNvPr id="509" name=""/>
            <p:cNvGrpSpPr/>
            <p:nvPr/>
          </p:nvGrpSpPr>
          <p:grpSpPr>
            <a:xfrm>
              <a:off x="685800" y="2057400"/>
              <a:ext cx="2742480" cy="3733200"/>
              <a:chOff x="685800" y="2057400"/>
              <a:chExt cx="2742480" cy="3733200"/>
            </a:xfrm>
          </p:grpSpPr>
          <p:sp>
            <p:nvSpPr>
              <p:cNvPr id="510" name=""/>
              <p:cNvSpPr/>
              <p:nvPr/>
            </p:nvSpPr>
            <p:spPr>
              <a:xfrm flipH="1">
                <a:off x="685800" y="5790600"/>
                <a:ext cx="27424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685800" y="2057400"/>
                <a:ext cx="0" cy="37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029200" y="1219320"/>
            <a:ext cx="3504600" cy="1371240"/>
            <a:chOff x="5029200" y="1219320"/>
            <a:chExt cx="3504600" cy="1371240"/>
          </a:xfrm>
        </p:grpSpPr>
        <p:grpSp>
          <p:nvGrpSpPr>
            <p:cNvPr id="514" name=""/>
            <p:cNvGrpSpPr/>
            <p:nvPr/>
          </p:nvGrpSpPr>
          <p:grpSpPr>
            <a:xfrm>
              <a:off x="5589720" y="1219320"/>
              <a:ext cx="2944080" cy="1082520"/>
              <a:chOff x="5589720" y="1219320"/>
              <a:chExt cx="2944080" cy="1082520"/>
            </a:xfrm>
          </p:grpSpPr>
          <p:sp>
            <p:nvSpPr>
              <p:cNvPr id="515" name=""/>
              <p:cNvSpPr/>
              <p:nvPr/>
            </p:nvSpPr>
            <p:spPr>
              <a:xfrm>
                <a:off x="5681160" y="1219320"/>
                <a:ext cx="2760120" cy="103320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589720" y="1294560"/>
                <a:ext cx="294408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تنفيذ الحلقة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أقل من أو تساوى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 flipH="1">
              <a:off x="5029200" y="2082960"/>
              <a:ext cx="630720" cy="507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838080" y="2330280"/>
            <a:ext cx="1600200" cy="1007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واصلة التنفيذ لحلق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1295280"/>
            <a:ext cx="22860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0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066680" y="1066680"/>
            <a:ext cx="1981080" cy="702360"/>
            <a:chOff x="1066680" y="1066680"/>
            <a:chExt cx="1981080" cy="702360"/>
          </a:xfrm>
        </p:grpSpPr>
        <p:sp>
          <p:nvSpPr>
            <p:cNvPr id="522" name=""/>
            <p:cNvSpPr/>
            <p:nvPr/>
          </p:nvSpPr>
          <p:spPr>
            <a:xfrm>
              <a:off x="1066680" y="1066680"/>
              <a:ext cx="1471680" cy="70236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38360" y="1447560"/>
              <a:ext cx="5094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3429000" y="5562720"/>
            <a:ext cx="14479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666880" y="11430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2133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52680" y="5562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743200" y="3490920"/>
            <a:ext cx="2819520" cy="1066680"/>
          </a:xfrm>
          <a:prstGeom prst="flowChartDecision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f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 % 2 =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38080" y="4495680"/>
            <a:ext cx="2895840" cy="45720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ystem.out.print (i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876560" y="4038480"/>
            <a:ext cx="1447920" cy="1752840"/>
            <a:chOff x="4876560" y="4038480"/>
            <a:chExt cx="1447920" cy="1752840"/>
          </a:xfrm>
        </p:grpSpPr>
        <p:sp>
          <p:nvSpPr>
            <p:cNvPr id="531" name=""/>
            <p:cNvSpPr/>
            <p:nvPr/>
          </p:nvSpPr>
          <p:spPr>
            <a:xfrm>
              <a:off x="5486400" y="4038480"/>
              <a:ext cx="83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3040" y="4038480"/>
              <a:ext cx="1440" cy="175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876560" y="579132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423040" y="3657600"/>
            <a:ext cx="97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981080" y="3657600"/>
            <a:ext cx="836640" cy="838080"/>
            <a:chOff x="1981080" y="3657600"/>
            <a:chExt cx="836640" cy="838080"/>
          </a:xfrm>
        </p:grpSpPr>
        <p:sp>
          <p:nvSpPr>
            <p:cNvPr id="536" name=""/>
            <p:cNvSpPr/>
            <p:nvPr/>
          </p:nvSpPr>
          <p:spPr>
            <a:xfrm>
              <a:off x="1981080" y="40384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1080" y="365760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81080" y="4038480"/>
              <a:ext cx="83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981080" y="4952880"/>
            <a:ext cx="2133720" cy="609840"/>
            <a:chOff x="1981080" y="4952880"/>
            <a:chExt cx="2133720" cy="609840"/>
          </a:xfrm>
        </p:grpSpPr>
        <p:sp>
          <p:nvSpPr>
            <p:cNvPr id="540" name=""/>
            <p:cNvSpPr/>
            <p:nvPr/>
          </p:nvSpPr>
          <p:spPr>
            <a:xfrm>
              <a:off x="1981080" y="4952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81080" y="525780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14800" y="52578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5028840" y="2743200"/>
            <a:ext cx="3962520" cy="1387440"/>
            <a:chOff x="5028840" y="2743200"/>
            <a:chExt cx="3962520" cy="1387440"/>
          </a:xfrm>
        </p:grpSpPr>
        <p:grpSp>
          <p:nvGrpSpPr>
            <p:cNvPr id="544" name=""/>
            <p:cNvGrpSpPr/>
            <p:nvPr/>
          </p:nvGrpSpPr>
          <p:grpSpPr>
            <a:xfrm>
              <a:off x="6046920" y="2743200"/>
              <a:ext cx="2944440" cy="1387440"/>
              <a:chOff x="6046920" y="2743200"/>
              <a:chExt cx="2944440" cy="1387440"/>
            </a:xfrm>
          </p:grpSpPr>
          <p:sp>
            <p:nvSpPr>
              <p:cNvPr id="545" name=""/>
              <p:cNvSpPr/>
              <p:nvPr/>
            </p:nvSpPr>
            <p:spPr>
              <a:xfrm>
                <a:off x="6138360" y="2743200"/>
                <a:ext cx="2760480" cy="103356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46920" y="2818440"/>
                <a:ext cx="294444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باستخدام عبارة الاختيار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f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يتم اختبار العدد اذا كان زوجى أو ل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 flipH="1">
              <a:off x="5028840" y="3429000"/>
              <a:ext cx="1066680" cy="3556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457200" y="838080"/>
            <a:ext cx="8457840" cy="5790960"/>
            <a:chOff x="457200" y="838080"/>
            <a:chExt cx="8457840" cy="5790960"/>
          </a:xfrm>
        </p:grpSpPr>
        <p:sp>
          <p:nvSpPr>
            <p:cNvPr id="549" name=""/>
            <p:cNvSpPr/>
            <p:nvPr/>
          </p:nvSpPr>
          <p:spPr>
            <a:xfrm>
              <a:off x="457200" y="1213920"/>
              <a:ext cx="8457840" cy="54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7200" y="838080"/>
              <a:ext cx="8457840" cy="375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Even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33520" y="12952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Even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94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66680" y="3321000"/>
            <a:ext cx="6934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&l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5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++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484488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56530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990720" y="3352680"/>
            <a:ext cx="7315200" cy="20574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220968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60958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3914640"/>
            <a:ext cx="64767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if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check if num is 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28800" y="4387680"/>
            <a:ext cx="3429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2666880"/>
            <a:ext cx="83059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even number betw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9907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Java provides a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powerful control structur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called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loop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controls how many times an </a:t>
            </a:r>
            <a:r>
              <a:rPr b="1" i="1" lang="en-US" sz="2500" spc="-1" strike="noStrike" u="sng">
                <a:solidFill>
                  <a:srgbClr val="00007d"/>
                </a:solidFill>
                <a:uFillTx/>
                <a:latin typeface="Arial"/>
              </a:rPr>
              <a:t>operatio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or a </a:t>
            </a:r>
            <a:r>
              <a:rPr b="1" i="1" lang="en-US" sz="2500" spc="-1" strike="noStrike" u="sng">
                <a:solidFill>
                  <a:srgbClr val="00007d"/>
                </a:solidFill>
                <a:uFillTx/>
                <a:latin typeface="Arial"/>
              </a:rPr>
              <a:t>sequence of operations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performed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in successio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22408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ليمات التحكم تُسمى (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الحلقات التكرار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وتُستخدم </a:t>
            </a: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للتحكم بعدد مرات التنفيذ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0000ff"/>
                </a:solidFill>
                <a:uFillTx/>
                <a:latin typeface="Arial"/>
              </a:rPr>
              <a:t>للعمليات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1" lang="ar-SA" sz="2600" spc="-1" strike="noStrike" u="sng">
                <a:solidFill>
                  <a:srgbClr val="0000ff"/>
                </a:solidFill>
                <a:uFillTx/>
                <a:latin typeface="Arial"/>
              </a:rPr>
              <a:t>تسلسل التعليمات الموجودة بالبرنام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200400"/>
            <a:ext cx="90676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Loop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re structures that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ontrol repeated execution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of a block of statement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114800"/>
            <a:ext cx="8534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كمثال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: نفترض أننا نريد طباعة العبارة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java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مر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عند التنفيذ، بالتالى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سنحتاج لكتابة العبارة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00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مرة بالبرنامج كمايلى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952880"/>
            <a:ext cx="601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welcome to java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5486400"/>
            <a:ext cx="853452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ولكن من خلال استخدام الحلقات التكرارية يمكننا مباشرةً التحكم وتحديد عدد مرات التنفيذ للعبارة المطلوب تنفيذها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43828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Java provides Three types of loop statement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3200400"/>
            <a:ext cx="8153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تحتوى لغة البرمجة جافا على ثلاثة أنواع من الحلقات التكرارية ه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434340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Loo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502920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do-whi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Loo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3733920"/>
            <a:ext cx="4114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fo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Loo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1066680"/>
            <a:ext cx="920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concept of looping is fundamental to programm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تبر(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الحلقات التكرار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من أهم المفاهيم الأساسية للبرمج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066680"/>
            <a:ext cx="920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yntax of 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op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4796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847960"/>
            <a:ext cx="24382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-ac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2657520"/>
            <a:ext cx="4419720" cy="85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p- continuation-conditio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3353040"/>
            <a:ext cx="3200400" cy="488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-each-iteration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2857320"/>
            <a:ext cx="1218960" cy="458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on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962160"/>
            <a:ext cx="7772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 loop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327920"/>
            <a:ext cx="8076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ement(s);  //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التعليمات المراد تنفيذها عند تحقق شرط التنفيذ للحلقة التكرارية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5029200"/>
            <a:ext cx="77724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// end of loop blo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353040"/>
            <a:ext cx="457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04920" y="2041560"/>
            <a:ext cx="1828800" cy="853920"/>
            <a:chOff x="304920" y="2041560"/>
            <a:chExt cx="1828800" cy="853920"/>
          </a:xfrm>
        </p:grpSpPr>
        <p:sp>
          <p:nvSpPr>
            <p:cNvPr id="139" name=""/>
            <p:cNvSpPr/>
            <p:nvPr/>
          </p:nvSpPr>
          <p:spPr>
            <a:xfrm flipH="1">
              <a:off x="609480" y="2438280"/>
              <a:ext cx="75960" cy="4572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304920" y="2041560"/>
              <a:ext cx="1828800" cy="702360"/>
              <a:chOff x="304920" y="2041560"/>
              <a:chExt cx="1828800" cy="702360"/>
            </a:xfrm>
          </p:grpSpPr>
          <p:sp>
            <p:nvSpPr>
              <p:cNvPr id="141" name=""/>
              <p:cNvSpPr/>
              <p:nvPr/>
            </p:nvSpPr>
            <p:spPr>
              <a:xfrm>
                <a:off x="457200" y="2041560"/>
                <a:ext cx="16765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الكلمة المحجوز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4920" y="2041560"/>
                <a:ext cx="228600" cy="304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4572000" y="1584360"/>
            <a:ext cx="1523880" cy="1387440"/>
            <a:chOff x="4572000" y="1584360"/>
            <a:chExt cx="1523880" cy="1387440"/>
          </a:xfrm>
        </p:grpSpPr>
        <p:sp>
          <p:nvSpPr>
            <p:cNvPr id="144" name=""/>
            <p:cNvSpPr/>
            <p:nvPr/>
          </p:nvSpPr>
          <p:spPr>
            <a:xfrm flipH="1">
              <a:off x="4952880" y="2286000"/>
              <a:ext cx="15264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0" y="1584360"/>
              <a:ext cx="152388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شرط تنفيذ الحلقة التكرار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00600" y="160020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133720" y="1736640"/>
            <a:ext cx="2209320" cy="1312200"/>
            <a:chOff x="2133720" y="1736640"/>
            <a:chExt cx="2209320" cy="1312200"/>
          </a:xfrm>
        </p:grpSpPr>
        <p:sp>
          <p:nvSpPr>
            <p:cNvPr id="148" name=""/>
            <p:cNvSpPr/>
            <p:nvPr/>
          </p:nvSpPr>
          <p:spPr>
            <a:xfrm flipH="1">
              <a:off x="2209680" y="2422440"/>
              <a:ext cx="304560" cy="6253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6000" y="1736640"/>
              <a:ext cx="205704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 لبداية لتنفيذ الحلقة التكرار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720" y="1812600"/>
              <a:ext cx="22824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1889280"/>
            <a:ext cx="2438280" cy="1312200"/>
            <a:chOff x="6400800" y="1889280"/>
            <a:chExt cx="2438280" cy="1312200"/>
          </a:xfrm>
        </p:grpSpPr>
        <p:sp>
          <p:nvSpPr>
            <p:cNvPr id="152" name=""/>
            <p:cNvSpPr/>
            <p:nvPr/>
          </p:nvSpPr>
          <p:spPr>
            <a:xfrm flipH="1">
              <a:off x="7772040" y="2514600"/>
              <a:ext cx="152280" cy="4572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00800" y="1889280"/>
              <a:ext cx="220968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معدل الزيادة أو النقصان لمواصلة التنفيذ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10480" y="1905120"/>
              <a:ext cx="22860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3413160"/>
            <a:ext cx="2819520" cy="397440"/>
            <a:chOff x="5029200" y="3413160"/>
            <a:chExt cx="2819520" cy="397440"/>
          </a:xfrm>
        </p:grpSpPr>
        <p:sp>
          <p:nvSpPr>
            <p:cNvPr id="156" name=""/>
            <p:cNvSpPr/>
            <p:nvPr/>
          </p:nvSpPr>
          <p:spPr>
            <a:xfrm flipH="1">
              <a:off x="5029200" y="3717720"/>
              <a:ext cx="53352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3413160"/>
              <a:ext cx="2819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rt loop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2720" y="3489120"/>
              <a:ext cx="22860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895480" y="4038480"/>
            <a:ext cx="762120" cy="304920"/>
            <a:chOff x="2895480" y="4038480"/>
            <a:chExt cx="762120" cy="304920"/>
          </a:xfrm>
        </p:grpSpPr>
        <p:sp>
          <p:nvSpPr>
            <p:cNvPr id="160" name=""/>
            <p:cNvSpPr/>
            <p:nvPr/>
          </p:nvSpPr>
          <p:spPr>
            <a:xfrm flipH="1">
              <a:off x="2895480" y="4191120"/>
              <a:ext cx="53352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29000" y="403848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809880" y="5181480"/>
            <a:ext cx="685800" cy="304920"/>
            <a:chOff x="3809880" y="5181480"/>
            <a:chExt cx="685800" cy="304920"/>
          </a:xfrm>
        </p:grpSpPr>
        <p:sp>
          <p:nvSpPr>
            <p:cNvPr id="163" name=""/>
            <p:cNvSpPr/>
            <p:nvPr/>
          </p:nvSpPr>
          <p:spPr>
            <a:xfrm flipH="1">
              <a:off x="3809880" y="5334120"/>
              <a:ext cx="53352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67080" y="518148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280" y="685800"/>
            <a:ext cx="920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op flow chart: (for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تسلسل تنفيذ الحلقة التكرار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2743200"/>
            <a:ext cx="2590560" cy="12193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o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ondition?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962520" y="6095880"/>
            <a:ext cx="304560" cy="609840"/>
            <a:chOff x="3962520" y="6095880"/>
            <a:chExt cx="304560" cy="609840"/>
          </a:xfrm>
        </p:grpSpPr>
        <p:sp>
          <p:nvSpPr>
            <p:cNvPr id="168" name=""/>
            <p:cNvSpPr/>
            <p:nvPr/>
          </p:nvSpPr>
          <p:spPr>
            <a:xfrm>
              <a:off x="3962520" y="6400800"/>
              <a:ext cx="304560" cy="30492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14800" y="6095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962520" y="1219320"/>
            <a:ext cx="304560" cy="609480"/>
            <a:chOff x="3962520" y="1219320"/>
            <a:chExt cx="304560" cy="609480"/>
          </a:xfrm>
        </p:grpSpPr>
        <p:sp>
          <p:nvSpPr>
            <p:cNvPr id="171" name=""/>
            <p:cNvSpPr/>
            <p:nvPr/>
          </p:nvSpPr>
          <p:spPr>
            <a:xfrm>
              <a:off x="4114800" y="15242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1219320"/>
              <a:ext cx="304560" cy="30492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971800" y="4343400"/>
            <a:ext cx="23623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loop bod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atemen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276720" y="3886200"/>
            <a:ext cx="838080" cy="471600"/>
            <a:chOff x="3276720" y="3886200"/>
            <a:chExt cx="838080" cy="471600"/>
          </a:xfrm>
        </p:grpSpPr>
        <p:sp>
          <p:nvSpPr>
            <p:cNvPr id="175" name=""/>
            <p:cNvSpPr/>
            <p:nvPr/>
          </p:nvSpPr>
          <p:spPr>
            <a:xfrm>
              <a:off x="4114800" y="39769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6720" y="3886200"/>
              <a:ext cx="7617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114800" y="3352680"/>
            <a:ext cx="2514240" cy="2742840"/>
            <a:chOff x="4114800" y="3352680"/>
            <a:chExt cx="2514240" cy="2742840"/>
          </a:xfrm>
        </p:grpSpPr>
        <p:sp>
          <p:nvSpPr>
            <p:cNvPr id="178" name=""/>
            <p:cNvSpPr/>
            <p:nvPr/>
          </p:nvSpPr>
          <p:spPr>
            <a:xfrm>
              <a:off x="5328360" y="3352680"/>
              <a:ext cx="130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29040" y="3352680"/>
              <a:ext cx="0" cy="27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609552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486400" y="2909880"/>
            <a:ext cx="977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437560" y="2514240"/>
            <a:ext cx="1676520" cy="3124080"/>
            <a:chOff x="2437560" y="2514240"/>
            <a:chExt cx="1676520" cy="3124080"/>
          </a:xfrm>
        </p:grpSpPr>
        <p:grpSp>
          <p:nvGrpSpPr>
            <p:cNvPr id="183" name=""/>
            <p:cNvGrpSpPr/>
            <p:nvPr/>
          </p:nvGrpSpPr>
          <p:grpSpPr>
            <a:xfrm>
              <a:off x="2437920" y="2514240"/>
              <a:ext cx="381240" cy="3124080"/>
              <a:chOff x="2437920" y="2514240"/>
              <a:chExt cx="381240" cy="3124080"/>
            </a:xfrm>
          </p:grpSpPr>
          <p:sp>
            <p:nvSpPr>
              <p:cNvPr id="184" name=""/>
              <p:cNvSpPr/>
              <p:nvPr/>
            </p:nvSpPr>
            <p:spPr>
              <a:xfrm flipH="1">
                <a:off x="2437920" y="5638320"/>
                <a:ext cx="3812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438280" y="2514240"/>
                <a:ext cx="0" cy="3123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2437560" y="2514600"/>
              <a:ext cx="167652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781680" y="3930480"/>
            <a:ext cx="2057400" cy="16171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انهاء التنفيذ للحلقة التكر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723920" y="1812960"/>
            <a:ext cx="3809880" cy="1234800"/>
            <a:chOff x="4723920" y="1812960"/>
            <a:chExt cx="3809880" cy="1234800"/>
          </a:xfrm>
        </p:grpSpPr>
        <p:grpSp>
          <p:nvGrpSpPr>
            <p:cNvPr id="189" name=""/>
            <p:cNvGrpSpPr/>
            <p:nvPr/>
          </p:nvGrpSpPr>
          <p:grpSpPr>
            <a:xfrm>
              <a:off x="5333760" y="1812960"/>
              <a:ext cx="3200040" cy="1073520"/>
              <a:chOff x="5333760" y="1812960"/>
              <a:chExt cx="3200040" cy="1073520"/>
            </a:xfrm>
          </p:grpSpPr>
          <p:sp>
            <p:nvSpPr>
              <p:cNvPr id="190" name=""/>
              <p:cNvSpPr/>
              <p:nvPr/>
            </p:nvSpPr>
            <p:spPr>
              <a:xfrm>
                <a:off x="5433120" y="1812960"/>
                <a:ext cx="300024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3760" y="1879200"/>
                <a:ext cx="320004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اختبار شرط تكرار تنفيذ الحلقة التكرارية</a:t>
                </a:r>
                <a:r>
                  <a:rPr b="1" lang="ar-SA" sz="2000" spc="-1" strike="noStrike">
                    <a:solidFill>
                      <a:srgbClr val="00007d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rue</a:t>
                </a:r>
                <a:r>
                  <a:rPr b="1" lang="en-US" sz="2000" spc="-1" strike="noStrike">
                    <a:solidFill>
                      <a:srgbClr val="00007d"/>
                    </a:solidFill>
                    <a:latin typeface="Arial"/>
                  </a:rPr>
                  <a:t> or 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fal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>
              <a:off x="4723920" y="2590560"/>
              <a:ext cx="685800" cy="457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04920" y="3124080"/>
            <a:ext cx="2057400" cy="19220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الرجوع لمواصلة التنفيذ للحلقة التكر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1828800"/>
            <a:ext cx="19814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nitial-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2286000"/>
            <a:ext cx="0" cy="457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5257800"/>
            <a:ext cx="3048120" cy="60948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-after-each-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4952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3520" y="1279440"/>
            <a:ext cx="2590560" cy="1378440"/>
            <a:chOff x="533520" y="1279440"/>
            <a:chExt cx="2590560" cy="1378440"/>
          </a:xfrm>
        </p:grpSpPr>
        <p:grpSp>
          <p:nvGrpSpPr>
            <p:cNvPr id="200" name=""/>
            <p:cNvGrpSpPr/>
            <p:nvPr/>
          </p:nvGrpSpPr>
          <p:grpSpPr>
            <a:xfrm>
              <a:off x="533520" y="1279440"/>
              <a:ext cx="1752480" cy="1378440"/>
              <a:chOff x="533520" y="1279440"/>
              <a:chExt cx="1752480" cy="1378440"/>
            </a:xfrm>
          </p:grpSpPr>
          <p:sp>
            <p:nvSpPr>
              <p:cNvPr id="201" name=""/>
              <p:cNvSpPr/>
              <p:nvPr/>
            </p:nvSpPr>
            <p:spPr>
              <a:xfrm>
                <a:off x="587880" y="1279440"/>
                <a:ext cx="164304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3520" y="1345680"/>
                <a:ext cx="175248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القيمة الابتدائية لبداية التنفي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2209680" y="1752480"/>
              <a:ext cx="9144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98280" y="5622840"/>
            <a:ext cx="2644920" cy="1073520"/>
            <a:chOff x="98280" y="5622840"/>
            <a:chExt cx="2644920" cy="1073520"/>
          </a:xfrm>
        </p:grpSpPr>
        <p:grpSp>
          <p:nvGrpSpPr>
            <p:cNvPr id="205" name=""/>
            <p:cNvGrpSpPr/>
            <p:nvPr/>
          </p:nvGrpSpPr>
          <p:grpSpPr>
            <a:xfrm>
              <a:off x="98280" y="5622840"/>
              <a:ext cx="2264040" cy="1073520"/>
              <a:chOff x="98280" y="5622840"/>
              <a:chExt cx="2264040" cy="1073520"/>
            </a:xfrm>
          </p:grpSpPr>
          <p:sp>
            <p:nvSpPr>
              <p:cNvPr id="206" name=""/>
              <p:cNvSpPr/>
              <p:nvPr/>
            </p:nvSpPr>
            <p:spPr>
              <a:xfrm>
                <a:off x="168480" y="5622840"/>
                <a:ext cx="212256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98280" y="5689080"/>
                <a:ext cx="226404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معدل الزيادة أو النقصان لمواصلة التنفي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V="1">
              <a:off x="2254320" y="5790960"/>
              <a:ext cx="488880" cy="237960"/>
            </a:xfrm>
            <a:prstGeom prst="line">
              <a:avLst/>
            </a:prstGeom>
            <a:ln w="3492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362320" y="14479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5943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228600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حتوى حلق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على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تغيرات للتحكم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بعدد مرات تنفيذ ال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انهاء التنفيذ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لحلقة التكرارية، حيث تسمى هذه المتغيرات(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متغيرات التحكم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، وتتمثل  فى ثلاثة اجزاء أساسية هى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9907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generally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uses a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ontrol how many times the loop body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is execu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when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op termin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(control variabl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                  fo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لاحظات هامة لإستخدام حل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40384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يُستخدم هذا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المتغير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تحديد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القيمة الابتدائية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لتنفيذ حلق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33520" y="3581280"/>
            <a:ext cx="7848360" cy="380880"/>
            <a:chOff x="533520" y="3581280"/>
            <a:chExt cx="7848360" cy="380880"/>
          </a:xfrm>
        </p:grpSpPr>
        <p:sp>
          <p:nvSpPr>
            <p:cNvPr id="218" name=""/>
            <p:cNvSpPr/>
            <p:nvPr/>
          </p:nvSpPr>
          <p:spPr>
            <a:xfrm>
              <a:off x="838080" y="3581280"/>
              <a:ext cx="7543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initial-ac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often initializes a control vari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520" y="3581280"/>
              <a:ext cx="30456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33520" y="4648320"/>
            <a:ext cx="8001000" cy="838080"/>
            <a:chOff x="533520" y="4648320"/>
            <a:chExt cx="8001000" cy="838080"/>
          </a:xfrm>
        </p:grpSpPr>
        <p:sp>
          <p:nvSpPr>
            <p:cNvPr id="221" name=""/>
            <p:cNvSpPr/>
            <p:nvPr/>
          </p:nvSpPr>
          <p:spPr>
            <a:xfrm>
              <a:off x="838080" y="4648320"/>
              <a:ext cx="76964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loop</a:t>
              </a:r>
              <a:r>
                <a:rPr b="1" lang="ar-SA" sz="2400" spc="-1" strike="noStrike">
                  <a:solidFill>
                    <a:srgbClr val="00007d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continuation</a:t>
              </a:r>
              <a:r>
                <a:rPr b="1" lang="ar-SA" sz="2400" spc="-1" strike="noStrike">
                  <a:solidFill>
                    <a:srgbClr val="00007d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condition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sts whether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trol variable has reached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 termination val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ar-S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520" y="4724640"/>
              <a:ext cx="30456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80880" y="56386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يُستخدم هذا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المتغير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لتأكد من مواصلة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تكرار تنفيذ حلقة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ى حال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انهاء التنفيذ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فى حالة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4920" y="17524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يُستخدم هذا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المتغير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تحديد معدل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الزيادة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أو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النقصان لتكرار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ومواصلة تنفيذ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حلق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33520" y="838080"/>
            <a:ext cx="8305560" cy="685800"/>
            <a:chOff x="533520" y="838080"/>
            <a:chExt cx="8305560" cy="685800"/>
          </a:xfrm>
        </p:grpSpPr>
        <p:sp>
          <p:nvSpPr>
            <p:cNvPr id="226" name=""/>
            <p:cNvSpPr/>
            <p:nvPr/>
          </p:nvSpPr>
          <p:spPr>
            <a:xfrm>
              <a:off x="914400" y="838080"/>
              <a:ext cx="79246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action-after-each-itera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usually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increment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decrement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the control 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3520" y="838080"/>
              <a:ext cx="30456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                  fo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لاحظات هامة لإستخدام حل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27583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7d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hese variables should be enclosed with a pai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enthe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epara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micol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3809520"/>
            <a:ext cx="8534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722160" indent="-72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itial-action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oop-continuation-condi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ction-        after-each-iteration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048120" y="3505320"/>
            <a:ext cx="4647960" cy="761760"/>
            <a:chOff x="3048120" y="3505320"/>
            <a:chExt cx="4647960" cy="761760"/>
          </a:xfrm>
        </p:grpSpPr>
        <p:grpSp>
          <p:nvGrpSpPr>
            <p:cNvPr id="232" name=""/>
            <p:cNvGrpSpPr/>
            <p:nvPr/>
          </p:nvGrpSpPr>
          <p:grpSpPr>
            <a:xfrm>
              <a:off x="3352320" y="3505320"/>
              <a:ext cx="4039200" cy="380880"/>
              <a:chOff x="3352320" y="3505320"/>
              <a:chExt cx="4039200" cy="380880"/>
            </a:xfrm>
          </p:grpSpPr>
          <p:sp>
            <p:nvSpPr>
              <p:cNvPr id="233" name=""/>
              <p:cNvSpPr/>
              <p:nvPr/>
            </p:nvSpPr>
            <p:spPr>
              <a:xfrm flipH="1">
                <a:off x="3352320" y="3505320"/>
                <a:ext cx="342900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81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048120" y="3886200"/>
              <a:ext cx="22860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7480" y="3886200"/>
              <a:ext cx="22860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28480" y="4343400"/>
            <a:ext cx="3509640" cy="1509480"/>
            <a:chOff x="528480" y="4343400"/>
            <a:chExt cx="3509640" cy="1509480"/>
          </a:xfrm>
        </p:grpSpPr>
        <p:grpSp>
          <p:nvGrpSpPr>
            <p:cNvPr id="238" name=""/>
            <p:cNvGrpSpPr/>
            <p:nvPr/>
          </p:nvGrpSpPr>
          <p:grpSpPr>
            <a:xfrm>
              <a:off x="1066680" y="4343400"/>
              <a:ext cx="2971440" cy="1143000"/>
              <a:chOff x="1066680" y="4343400"/>
              <a:chExt cx="2971440" cy="1143000"/>
            </a:xfrm>
          </p:grpSpPr>
          <p:sp>
            <p:nvSpPr>
              <p:cNvPr id="239" name=""/>
              <p:cNvSpPr/>
              <p:nvPr/>
            </p:nvSpPr>
            <p:spPr>
              <a:xfrm>
                <a:off x="1066680" y="4343400"/>
                <a:ext cx="76320" cy="1143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142640" y="4724280"/>
                <a:ext cx="2895480" cy="762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528480" y="5410080"/>
              <a:ext cx="19101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parenthes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                  fo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لاحظات هامة لإستخدام حل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8532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357120">
              <a:buClr>
                <a:srgbClr val="00007d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trol variable must always be declared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ins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trol structure of the for loop or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before the lo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18288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يمكن تعريف متغير التحكم لحلق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داخل الحلقة التكرارية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(وفى هذه الحالة يكون المتغير معرف فقط داخل حدود حلقة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) أو </a:t>
            </a:r>
            <a:r>
              <a:rPr b="1" lang="ar-SA" sz="2500" spc="-1" strike="noStrike" u="sng">
                <a:solidFill>
                  <a:srgbClr val="0000ff"/>
                </a:solidFill>
                <a:uFillTx/>
                <a:latin typeface="Arial"/>
              </a:rPr>
              <a:t>خارج الحلقة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عند بداية البرنامج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(وفى هذه الحالة يكون المتغير معرف على كل مستوى البرنامج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كما يلى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57200" y="3505320"/>
            <a:ext cx="3962520" cy="2514600"/>
            <a:chOff x="457200" y="3505320"/>
            <a:chExt cx="3962520" cy="2514600"/>
          </a:xfrm>
        </p:grpSpPr>
        <p:sp>
          <p:nvSpPr>
            <p:cNvPr id="246" name=""/>
            <p:cNvSpPr/>
            <p:nvPr/>
          </p:nvSpPr>
          <p:spPr>
            <a:xfrm>
              <a:off x="457200" y="3962520"/>
              <a:ext cx="396252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" y="4022640"/>
              <a:ext cx="396252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( 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 =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i &lt;=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;   i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++ )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5029200"/>
              <a:ext cx="2514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tement(s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7200" y="5486400"/>
              <a:ext cx="25146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 end of for lo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8080" y="4572000"/>
              <a:ext cx="2514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 loop bo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" y="3505320"/>
              <a:ext cx="3962520" cy="45720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Arial"/>
                </a:rPr>
                <a:t>التعريف داخل حلقة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00600" y="3505320"/>
            <a:ext cx="3962160" cy="2469600"/>
            <a:chOff x="4800600" y="3505320"/>
            <a:chExt cx="3962160" cy="2469600"/>
          </a:xfrm>
        </p:grpSpPr>
        <p:sp>
          <p:nvSpPr>
            <p:cNvPr id="253" name=""/>
            <p:cNvSpPr/>
            <p:nvPr/>
          </p:nvSpPr>
          <p:spPr>
            <a:xfrm>
              <a:off x="4800600" y="3917880"/>
              <a:ext cx="3962160" cy="205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00600" y="4373280"/>
              <a:ext cx="39621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(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 =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i &lt;=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;   i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++ )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81480" y="5165640"/>
              <a:ext cx="2514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tement(s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00600" y="5410080"/>
              <a:ext cx="25146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 end of for lo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1480" y="4784400"/>
              <a:ext cx="2514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 loop bo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00600" y="3505320"/>
              <a:ext cx="3962160" cy="456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Arial"/>
                </a:rPr>
                <a:t>خارج حلقة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76560" y="3962160"/>
              <a:ext cx="25146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SUST</dc:creator>
  <dc:description/>
  <dc:language>en-US</dc:language>
  <cp:lastModifiedBy>Yahia</cp:lastModifiedBy>
  <dcterms:modified xsi:type="dcterms:W3CDTF">2011-05-21T13:14:59Z</dcterms:modified>
  <cp:revision>1524</cp:revision>
  <dc:subject>Programming Fundamentals</dc:subject>
  <dc:title>Primitive Data Type</dc:title>
</cp:coreProperties>
</file>