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14346-2AA9-4099-90B8-4788F610CD2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A3AA1-B9F0-49F6-954D-861F0B2FEB2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33BB9-FDCF-4AD8-BAD3-5D0DAA9679B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EF347-A224-471B-BC27-5D1F31BC9EE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83680-534F-4AF8-847A-FBA9C8B0DBD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99E2B-337A-474A-8EC8-68BE049E25A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54C2F-4E45-4C86-8E49-DA7C8492B2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2C118-8265-4B96-AA4F-07C397DB80B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B9F42-1ADA-438F-AF23-4F3FFA342B7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FA7C6-AD4A-4D64-BC17-825B53C2E63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1A701-6486-4C26-B350-F7B178C4455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13816-F1CF-4208-BA2A-E5A805AED6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56760" indent="-35676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1520" indent="-361440">
              <a:spcBef>
                <a:spcPts val="2801"/>
              </a:spcBef>
              <a:spcAft>
                <a:spcPts val="700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0556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spcBef>
                <a:spcPts val="2801"/>
              </a:spcBef>
              <a:spcAft>
                <a:spcPts val="700"/>
              </a:spcAft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-20844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51480" indent="-208440">
              <a:spcBef>
                <a:spcPts val="2801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51480" indent="-208440">
              <a:spcBef>
                <a:spcPts val="2801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1066680"/>
            <a:ext cx="2867040" cy="3157560"/>
            <a:chOff x="0" y="1066680"/>
            <a:chExt cx="2867040" cy="3157560"/>
          </a:xfrm>
        </p:grpSpPr>
        <p:sp>
          <p:nvSpPr>
            <p:cNvPr id="51" name=""/>
            <p:cNvSpPr/>
            <p:nvPr/>
          </p:nvSpPr>
          <p:spPr>
            <a:xfrm>
              <a:off x="573120" y="3583080"/>
              <a:ext cx="576360" cy="6411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574560" cy="6429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281320" y="1066680"/>
              <a:ext cx="585720" cy="6350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41560" y="3583080"/>
              <a:ext cx="583920" cy="641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281320" y="1690560"/>
              <a:ext cx="585720" cy="6429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141560" y="2324160"/>
              <a:ext cx="583920" cy="633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2324160"/>
              <a:ext cx="582480" cy="633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16120" y="2324160"/>
              <a:ext cx="574560" cy="633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73120" y="2948040"/>
              <a:ext cx="576360" cy="644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141560" y="2948040"/>
              <a:ext cx="583920" cy="644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AFF04-493D-4B37-A70E-565A4E12F029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114480" algn="ctr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5560" algn="ctr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55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55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743200" y="914400"/>
            <a:ext cx="6095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Arial"/>
              </a:rPr>
              <a:t>أساسيات البرمج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580920" y="3048120"/>
            <a:ext cx="3429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Arrays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62320" y="2133720"/>
            <a:ext cx="5105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hapter(6)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6.2.6 Processing Array    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:                               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447920" y="609480"/>
            <a:ext cx="75438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خطوات حل المثال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85800" y="967680"/>
            <a:ext cx="807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تعريف المصفوفة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: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yChar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من النوع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char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وتحديد طول المصفوفة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219320" y="1493280"/>
            <a:ext cx="754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قراءة الحروف من المستخدم وتخزينها بالمصفوف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2102760"/>
            <a:ext cx="8458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مقارنة القيم المخزنة بعناصر المصفوفة لتحديد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الحرف الأكب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474360"/>
            <a:ext cx="8305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تعريف المصفوفة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: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ychar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من النوع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har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وتحديد طول المصفوفة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1074600"/>
            <a:ext cx="8458200" cy="2430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438280" y="4335120"/>
            <a:ext cx="5105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ycha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]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w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cha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2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];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295280" y="4327560"/>
            <a:ext cx="16002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cha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920" y="2819160"/>
            <a:ext cx="8458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حساب </a:t>
            </a:r>
            <a:r>
              <a:rPr b="1" lang="ar-SA" sz="2400" spc="-1" strike="noStrike" u="sng">
                <a:solidFill>
                  <a:srgbClr val="ff0000"/>
                </a:solidFill>
                <a:uFillTx/>
                <a:latin typeface="Arial"/>
              </a:rPr>
              <a:t>عدد مرات تكرار الحرف الأكبر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بالمصفوف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371600" y="502560"/>
            <a:ext cx="754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قراءة الحروف من المستخدم وتخزينها بالمصفوف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3962520"/>
            <a:ext cx="1143000" cy="30168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6705720" y="4249080"/>
            <a:ext cx="1143000" cy="29988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6705720" y="4534920"/>
            <a:ext cx="1143000" cy="30132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6705720" y="4822200"/>
            <a:ext cx="1143000" cy="29988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6705720" y="5108400"/>
            <a:ext cx="1143000" cy="30168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38080" y="3124080"/>
            <a:ext cx="30481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myChar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] =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ch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33520" y="1143000"/>
            <a:ext cx="7924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(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i =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i &lt;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i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{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0880" y="3733920"/>
            <a:ext cx="2514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for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38080" y="2057400"/>
            <a:ext cx="6096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Enter char :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38080" y="2590920"/>
            <a:ext cx="6019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c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scanner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xt(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charAt[0]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62120" y="1614600"/>
            <a:ext cx="655308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 مع كل تكرار للحلقة يتم قراءة حرف من المستخدم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800600" y="3763440"/>
            <a:ext cx="1600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yCha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6324120" y="411480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800600" y="4068000"/>
            <a:ext cx="1676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yCha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6324120" y="443556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800600" y="4358520"/>
            <a:ext cx="1676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yCha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6324120" y="472608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8320" y="5744520"/>
            <a:ext cx="1752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yCh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324120" y="611172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5791320" y="3276720"/>
            <a:ext cx="533160" cy="655560"/>
            <a:chOff x="5791320" y="3276720"/>
            <a:chExt cx="533160" cy="655560"/>
          </a:xfrm>
        </p:grpSpPr>
        <p:sp>
          <p:nvSpPr>
            <p:cNvPr id="272" name=""/>
            <p:cNvSpPr/>
            <p:nvPr/>
          </p:nvSpPr>
          <p:spPr>
            <a:xfrm>
              <a:off x="5791320" y="3276720"/>
              <a:ext cx="533160" cy="427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019920" y="3703680"/>
              <a:ext cx="0" cy="2286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"/>
          <p:cNvSpPr/>
          <p:nvPr/>
        </p:nvSpPr>
        <p:spPr>
          <a:xfrm flipV="1">
            <a:off x="6705720" y="3962520"/>
            <a:ext cx="1143000" cy="301680"/>
          </a:xfrm>
          <a:prstGeom prst="rect">
            <a:avLst/>
          </a:prstGeom>
          <a:noFill/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6705720" y="4249080"/>
            <a:ext cx="1143000" cy="299880"/>
          </a:xfrm>
          <a:prstGeom prst="rect">
            <a:avLst/>
          </a:prstGeom>
          <a:noFill/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6705720" y="4534920"/>
            <a:ext cx="1143000" cy="301320"/>
          </a:xfrm>
          <a:prstGeom prst="rect">
            <a:avLst/>
          </a:prstGeom>
          <a:noFill/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6705720" y="4822200"/>
            <a:ext cx="1143000" cy="299880"/>
          </a:xfrm>
          <a:prstGeom prst="rect">
            <a:avLst/>
          </a:prstGeom>
          <a:noFill/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6705720" y="5108400"/>
            <a:ext cx="1143000" cy="301680"/>
          </a:xfrm>
          <a:prstGeom prst="rect">
            <a:avLst/>
          </a:prstGeom>
          <a:noFill/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6.2.6 Processing Array    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:                               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705720" y="5410080"/>
            <a:ext cx="1143000" cy="301680"/>
          </a:xfrm>
          <a:prstGeom prst="rect">
            <a:avLst/>
          </a:prstGeom>
          <a:noFill/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6705720" y="5697360"/>
            <a:ext cx="1143000" cy="300240"/>
          </a:xfrm>
          <a:prstGeom prst="rect">
            <a:avLst/>
          </a:prstGeom>
          <a:noFill/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705720" y="5983200"/>
            <a:ext cx="1143000" cy="301680"/>
          </a:xfrm>
          <a:prstGeom prst="rect">
            <a:avLst/>
          </a:prstGeom>
          <a:noFill/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6705720" y="6251400"/>
            <a:ext cx="1143000" cy="301680"/>
          </a:xfrm>
          <a:prstGeom prst="rect">
            <a:avLst/>
          </a:prstGeom>
          <a:noFill/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648320" y="6049440"/>
            <a:ext cx="1676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yCh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6324120" y="641664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6705720" y="5677920"/>
            <a:ext cx="1143000" cy="301320"/>
          </a:xfrm>
          <a:prstGeom prst="rect">
            <a:avLst/>
          </a:prstGeom>
          <a:noFill/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6705720" y="5965200"/>
            <a:ext cx="1143000" cy="299880"/>
          </a:xfrm>
          <a:prstGeom prst="rect">
            <a:avLst/>
          </a:prstGeom>
          <a:noFill/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6705720" y="6251400"/>
            <a:ext cx="1143000" cy="301680"/>
          </a:xfrm>
          <a:prstGeom prst="rect">
            <a:avLst/>
          </a:prstGeom>
          <a:noFill/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52280" y="578520"/>
            <a:ext cx="86868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بعد إسناد القيم بالمصفوفة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myChar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يتم استخدام حلقة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للمرور على كل عناصر المصفوفة </a:t>
            </a:r>
            <a:r>
              <a:rPr b="1" lang="ar-SA" sz="2400" spc="-1" strike="noStrike" u="sng">
                <a:solidFill>
                  <a:srgbClr val="ff0000"/>
                </a:solidFill>
                <a:uFillTx/>
                <a:latin typeface="Arial"/>
              </a:rPr>
              <a:t>لإيجاد الحرف الاكبر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بالمصفوفة كما يلى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2895480"/>
            <a:ext cx="7925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(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i 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i &lt;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yAr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eng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 i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{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57200" y="1676160"/>
            <a:ext cx="5105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 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sum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;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28600" y="152280"/>
            <a:ext cx="876312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6.2.6 Processing Array    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:                             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7543800" y="2133720"/>
            <a:ext cx="1143000" cy="3749400"/>
            <a:chOff x="7543800" y="2133720"/>
            <a:chExt cx="1143000" cy="3749400"/>
          </a:xfrm>
        </p:grpSpPr>
        <p:sp>
          <p:nvSpPr>
            <p:cNvPr id="294" name=""/>
            <p:cNvSpPr/>
            <p:nvPr/>
          </p:nvSpPr>
          <p:spPr>
            <a:xfrm flipV="1">
              <a:off x="7543800" y="2133720"/>
              <a:ext cx="1143000" cy="396720"/>
            </a:xfrm>
            <a:prstGeom prst="rect">
              <a:avLst/>
            </a:prstGeom>
            <a:noFill/>
            <a:ln w="19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7543800" y="2511360"/>
              <a:ext cx="1143000" cy="395280"/>
            </a:xfrm>
            <a:prstGeom prst="rect">
              <a:avLst/>
            </a:prstGeom>
            <a:noFill/>
            <a:ln w="19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7543800" y="2886840"/>
              <a:ext cx="1143000" cy="397080"/>
            </a:xfrm>
            <a:prstGeom prst="rect">
              <a:avLst/>
            </a:prstGeom>
            <a:noFill/>
            <a:ln w="19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7543800" y="3265560"/>
              <a:ext cx="1143000" cy="1077840"/>
            </a:xfrm>
            <a:prstGeom prst="rect">
              <a:avLst/>
            </a:prstGeom>
            <a:noFill/>
            <a:ln w="19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7543800" y="4329000"/>
              <a:ext cx="1143000" cy="395280"/>
            </a:xfrm>
            <a:prstGeom prst="rect">
              <a:avLst/>
            </a:prstGeom>
            <a:noFill/>
            <a:ln w="19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543800" y="4723560"/>
              <a:ext cx="1143000" cy="397080"/>
            </a:xfrm>
            <a:prstGeom prst="rect">
              <a:avLst/>
            </a:prstGeom>
            <a:noFill/>
            <a:ln w="19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7543800" y="5105520"/>
              <a:ext cx="1143000" cy="395280"/>
            </a:xfrm>
            <a:prstGeom prst="rect">
              <a:avLst/>
            </a:prstGeom>
            <a:noFill/>
            <a:ln w="19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7543800" y="5486400"/>
              <a:ext cx="1143000" cy="396720"/>
            </a:xfrm>
            <a:prstGeom prst="rect">
              <a:avLst/>
            </a:prstGeom>
            <a:noFill/>
            <a:ln w="19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1143000" y="3429000"/>
            <a:ext cx="69343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if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yCha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]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&gt;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0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066680" y="4495680"/>
            <a:ext cx="3886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if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447920" y="3962160"/>
            <a:ext cx="4419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max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yCha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09480" y="5105520"/>
            <a:ext cx="3886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for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57200" y="2133000"/>
            <a:ext cx="7162920" cy="7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ha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yCha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;   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000" spc="-1" strike="noStrike">
                <a:solidFill>
                  <a:srgbClr val="4d4d4d"/>
                </a:solidFill>
                <a:latin typeface="Arial"/>
              </a:rPr>
              <a:t>القيمة الابتدائية بأول عنص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152280" y="685080"/>
            <a:ext cx="868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استخدام حلقة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مرة أخرى ل</a:t>
            </a:r>
            <a:r>
              <a:rPr b="1" lang="ar-SA" sz="2400" spc="-1" strike="noStrike" u="sng">
                <a:solidFill>
                  <a:srgbClr val="ff0000"/>
                </a:solidFill>
                <a:uFillTx/>
                <a:latin typeface="Arial"/>
              </a:rPr>
              <a:t>حساب عدد مرات تكرار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الحرف الاكبر بالمصفوفة كما يلى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09480" y="1981080"/>
            <a:ext cx="7925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(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i 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i &lt;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yAr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eng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 i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{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124080" y="1981080"/>
            <a:ext cx="2210040" cy="457200"/>
          </a:xfrm>
          <a:prstGeom prst="rect">
            <a:avLst/>
          </a:prstGeom>
          <a:noFill/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" y="1371240"/>
            <a:ext cx="5105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 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sum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;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28600" y="152280"/>
            <a:ext cx="876312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6.2.6 Processing Array    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:                             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7543800" y="1523880"/>
            <a:ext cx="1143000" cy="3749400"/>
            <a:chOff x="7543800" y="1523880"/>
            <a:chExt cx="1143000" cy="3749400"/>
          </a:xfrm>
        </p:grpSpPr>
        <p:sp>
          <p:nvSpPr>
            <p:cNvPr id="313" name=""/>
            <p:cNvSpPr/>
            <p:nvPr/>
          </p:nvSpPr>
          <p:spPr>
            <a:xfrm flipV="1">
              <a:off x="7543800" y="1523880"/>
              <a:ext cx="1143000" cy="396720"/>
            </a:xfrm>
            <a:prstGeom prst="rect">
              <a:avLst/>
            </a:prstGeom>
            <a:noFill/>
            <a:ln w="19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7543800" y="1901520"/>
              <a:ext cx="1143000" cy="395280"/>
            </a:xfrm>
            <a:prstGeom prst="rect">
              <a:avLst/>
            </a:prstGeom>
            <a:noFill/>
            <a:ln w="19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7543800" y="2277000"/>
              <a:ext cx="1143000" cy="397080"/>
            </a:xfrm>
            <a:prstGeom prst="rect">
              <a:avLst/>
            </a:prstGeom>
            <a:noFill/>
            <a:ln w="19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7543800" y="2655720"/>
              <a:ext cx="1143000" cy="1077840"/>
            </a:xfrm>
            <a:prstGeom prst="rect">
              <a:avLst/>
            </a:prstGeom>
            <a:noFill/>
            <a:ln w="19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7543800" y="3719160"/>
              <a:ext cx="1143000" cy="395280"/>
            </a:xfrm>
            <a:prstGeom prst="rect">
              <a:avLst/>
            </a:prstGeom>
            <a:noFill/>
            <a:ln w="19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7543800" y="4113720"/>
              <a:ext cx="1143000" cy="397080"/>
            </a:xfrm>
            <a:prstGeom prst="rect">
              <a:avLst/>
            </a:prstGeom>
            <a:noFill/>
            <a:ln w="19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7543800" y="4495680"/>
              <a:ext cx="1143000" cy="395280"/>
            </a:xfrm>
            <a:prstGeom prst="rect">
              <a:avLst/>
            </a:prstGeom>
            <a:noFill/>
            <a:ln w="19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7543800" y="4876560"/>
              <a:ext cx="1143000" cy="396720"/>
            </a:xfrm>
            <a:prstGeom prst="rect">
              <a:avLst/>
            </a:prstGeom>
            <a:noFill/>
            <a:ln w="19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1143000" y="2514600"/>
            <a:ext cx="69343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if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yCha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]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=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0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066680" y="3581280"/>
            <a:ext cx="3886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if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447920" y="2895120"/>
            <a:ext cx="5715000" cy="7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um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  sum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 </a:t>
            </a:r>
            <a:r>
              <a:rPr b="1" lang="ar-SA" sz="2000" spc="-1" strike="noStrike">
                <a:solidFill>
                  <a:srgbClr val="4d4d4d"/>
                </a:solidFill>
                <a:latin typeface="Arial"/>
              </a:rPr>
              <a:t>الحرف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4d4d4d"/>
                </a:solidFill>
                <a:latin typeface="Arial"/>
              </a:rPr>
              <a:t>عدد مرات تكرا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09480" y="4191120"/>
            <a:ext cx="3886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for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33520" y="4724280"/>
            <a:ext cx="77724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The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max char is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 ma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33520" y="5241960"/>
            <a:ext cx="77724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char’s  duplication =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sum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"/>
          <p:cNvGrpSpPr/>
          <p:nvPr/>
        </p:nvGrpSpPr>
        <p:grpSpPr>
          <a:xfrm>
            <a:off x="380880" y="838080"/>
            <a:ext cx="8534160" cy="5714640"/>
            <a:chOff x="380880" y="838080"/>
            <a:chExt cx="8534160" cy="5714640"/>
          </a:xfrm>
        </p:grpSpPr>
        <p:sp>
          <p:nvSpPr>
            <p:cNvPr id="328" name=""/>
            <p:cNvSpPr/>
            <p:nvPr/>
          </p:nvSpPr>
          <p:spPr>
            <a:xfrm>
              <a:off x="380880" y="1208880"/>
              <a:ext cx="8534160" cy="5343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80880" y="838080"/>
              <a:ext cx="8534160" cy="37080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etMax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609480" y="1600200"/>
            <a:ext cx="662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class getMax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838080" y="1981080"/>
            <a:ext cx="716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ring[ ] args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143000" y="585144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80880" y="1051560"/>
            <a:ext cx="7620120" cy="762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impor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java.util.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//Scanner </a:t>
            </a:r>
            <a:r>
              <a:rPr b="1" lang="ar-SA" sz="2200" spc="-1" strike="noStrike">
                <a:solidFill>
                  <a:srgbClr val="4d4d4d"/>
                </a:solidFill>
                <a:latin typeface="Arial"/>
              </a:rPr>
              <a:t>تحديد مكان وجود الـ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447920" y="5318280"/>
            <a:ext cx="30477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myChar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] = </a:t>
            </a: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ch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447920" y="4327560"/>
            <a:ext cx="609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Enter char :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900600"/>
            <a:ext cx="655344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 مع كل تكرار للحلقة يتم قراءة الحرف من المستخدم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914400" y="2361960"/>
            <a:ext cx="5791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 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su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ha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ch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905120" y="2819160"/>
            <a:ext cx="4724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ycha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]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cha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[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2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];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066680" y="2796840"/>
            <a:ext cx="1600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ch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52280"/>
            <a:ext cx="876312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6.2.6 Processing Array    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:                             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990720" y="3352680"/>
            <a:ext cx="7924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(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i 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i &lt;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yCha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eng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 i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{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447920" y="4800600"/>
            <a:ext cx="6019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c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scanner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xt(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charAt[0]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0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"/>
          <p:cNvGrpSpPr/>
          <p:nvPr/>
        </p:nvGrpSpPr>
        <p:grpSpPr>
          <a:xfrm>
            <a:off x="380880" y="762120"/>
            <a:ext cx="8534160" cy="5333400"/>
            <a:chOff x="380880" y="762120"/>
            <a:chExt cx="8534160" cy="5333400"/>
          </a:xfrm>
        </p:grpSpPr>
        <p:sp>
          <p:nvSpPr>
            <p:cNvPr id="344" name=""/>
            <p:cNvSpPr/>
            <p:nvPr/>
          </p:nvSpPr>
          <p:spPr>
            <a:xfrm>
              <a:off x="380880" y="1108080"/>
              <a:ext cx="8534160" cy="4987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80880" y="762120"/>
              <a:ext cx="8534160" cy="34596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etMax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2286000" y="1371600"/>
            <a:ext cx="655308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 المرور على القيم المخزنة بالمصفوفة لإيجاد الحرف الأكبر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28600" y="152280"/>
            <a:ext cx="876312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6.2.6 Processing Array    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:                             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62120" y="2590920"/>
            <a:ext cx="7924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(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i 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i &lt;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yCha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eng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 i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{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276720" y="2590920"/>
            <a:ext cx="2361960" cy="457200"/>
          </a:xfrm>
          <a:prstGeom prst="rect">
            <a:avLst/>
          </a:prstGeom>
          <a:noFill/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295280" y="3124080"/>
            <a:ext cx="69343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if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yCha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]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&gt;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0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219320" y="4191120"/>
            <a:ext cx="3886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if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600200" y="3657240"/>
            <a:ext cx="4419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max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yCha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62120" y="4800600"/>
            <a:ext cx="3886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for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09480" y="1752120"/>
            <a:ext cx="7543800" cy="7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ha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yCha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; 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 </a:t>
            </a:r>
            <a:r>
              <a:rPr b="1" lang="ar-SA" sz="2000" spc="-1" strike="noStrike">
                <a:solidFill>
                  <a:srgbClr val="4d4d4d"/>
                </a:solidFill>
                <a:latin typeface="Arial"/>
              </a:rPr>
              <a:t>القيمة الابتدائية بأول عنصر بالمصفوف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4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4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9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2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"/>
          <p:cNvGrpSpPr/>
          <p:nvPr/>
        </p:nvGrpSpPr>
        <p:grpSpPr>
          <a:xfrm>
            <a:off x="380880" y="762120"/>
            <a:ext cx="8534160" cy="5867280"/>
            <a:chOff x="380880" y="762120"/>
            <a:chExt cx="8534160" cy="5867280"/>
          </a:xfrm>
        </p:grpSpPr>
        <p:sp>
          <p:nvSpPr>
            <p:cNvPr id="356" name=""/>
            <p:cNvSpPr/>
            <p:nvPr/>
          </p:nvSpPr>
          <p:spPr>
            <a:xfrm>
              <a:off x="380880" y="1143000"/>
              <a:ext cx="8534160" cy="5486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80880" y="762120"/>
              <a:ext cx="8534160" cy="38088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etMax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2286000" y="1143000"/>
            <a:ext cx="655308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 حساب عدد مرات تكرار الحرف الأكبر بالمصفوفة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28600" y="152280"/>
            <a:ext cx="876312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6.2.6 Processing Array    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:                             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62120" y="1981080"/>
            <a:ext cx="7924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(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i 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i &lt;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yCha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eng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 i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{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276720" y="1981080"/>
            <a:ext cx="2361960" cy="457200"/>
          </a:xfrm>
          <a:prstGeom prst="rect">
            <a:avLst/>
          </a:prstGeom>
          <a:noFill/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295280" y="2514600"/>
            <a:ext cx="69343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if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yCha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]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=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0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219320" y="3505320"/>
            <a:ext cx="3886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if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600200" y="3047760"/>
            <a:ext cx="4419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um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s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+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2120" y="4038480"/>
            <a:ext cx="3886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for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09480" y="1371240"/>
            <a:ext cx="5105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s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838080" y="4572000"/>
            <a:ext cx="77724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The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max char is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 ma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838080" y="5089680"/>
            <a:ext cx="77724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char’s  duplication =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sum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57200" y="609588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85800" y="563868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0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52280" y="571680"/>
            <a:ext cx="868680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ملحوظة هامة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: عندما تكون المصفوفة معرفة من النوع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char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يمكن طباعة محتويات هذه المصفوفة  من خلال </a:t>
            </a:r>
            <a:r>
              <a:rPr b="1" lang="ar-SA" sz="2500" spc="-1" strike="noStrike" u="sng">
                <a:solidFill>
                  <a:srgbClr val="ff0000"/>
                </a:solidFill>
                <a:uFillTx/>
                <a:latin typeface="Arial"/>
              </a:rPr>
              <a:t>عبارة واحدة فقط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 كما يلى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28600" y="152280"/>
            <a:ext cx="876312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6.2.6 Processing Arra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7238880" y="2209680"/>
            <a:ext cx="1143000" cy="2300040"/>
            <a:chOff x="7238880" y="2209680"/>
            <a:chExt cx="1143000" cy="2300040"/>
          </a:xfrm>
        </p:grpSpPr>
        <p:sp>
          <p:nvSpPr>
            <p:cNvPr id="374" name=""/>
            <p:cNvSpPr/>
            <p:nvPr/>
          </p:nvSpPr>
          <p:spPr>
            <a:xfrm flipV="1">
              <a:off x="7238880" y="2209680"/>
              <a:ext cx="1143000" cy="396720"/>
            </a:xfrm>
            <a:prstGeom prst="rect">
              <a:avLst/>
            </a:prstGeom>
            <a:noFill/>
            <a:ln w="19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7238880" y="2587320"/>
              <a:ext cx="1143000" cy="395280"/>
            </a:xfrm>
            <a:prstGeom prst="rect">
              <a:avLst/>
            </a:prstGeom>
            <a:noFill/>
            <a:ln w="19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7238880" y="2962800"/>
              <a:ext cx="1143000" cy="397080"/>
            </a:xfrm>
            <a:prstGeom prst="rect">
              <a:avLst/>
            </a:prstGeom>
            <a:noFill/>
            <a:ln w="19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7238880" y="3352680"/>
              <a:ext cx="1143000" cy="395280"/>
            </a:xfrm>
            <a:prstGeom prst="rect">
              <a:avLst/>
            </a:prstGeom>
            <a:noFill/>
            <a:ln w="19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7238880" y="3733560"/>
              <a:ext cx="1143000" cy="396720"/>
            </a:xfrm>
            <a:prstGeom prst="rect">
              <a:avLst/>
            </a:prstGeom>
            <a:noFill/>
            <a:ln w="19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7238880" y="4114440"/>
              <a:ext cx="1143000" cy="395280"/>
            </a:xfrm>
            <a:prstGeom prst="rect">
              <a:avLst/>
            </a:prstGeom>
            <a:noFill/>
            <a:ln w="19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838080" y="2895480"/>
            <a:ext cx="41148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city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600200" y="2133720"/>
            <a:ext cx="51055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[ ] 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city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= { '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D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', '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a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', '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l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', '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l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', '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a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', '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s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' };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57200" y="2133720"/>
            <a:ext cx="16002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cha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28600" y="4610160"/>
            <a:ext cx="8381880" cy="161604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يمكن إستخدام هذه العبارة عندما تكون المصفوفة معرفة من النوع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char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فقط، </a:t>
            </a:r>
            <a:r>
              <a:rPr b="1" lang="ar-SA" sz="2500" spc="-1" strike="noStrike" u="sng">
                <a:solidFill>
                  <a:srgbClr val="ff0000"/>
                </a:solidFill>
                <a:uFillTx/>
                <a:latin typeface="Arial"/>
              </a:rPr>
              <a:t>ولايتم استخدامها مع أنواع البيانات الأخرى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(حيث يتم طباعة محتويات المصفوفة بإستخدام الحلقة التكرارية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380880" y="762120"/>
            <a:ext cx="8458200" cy="5715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):  ماهو ناتج تنفيذ البرنامج التالى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62120" y="2370240"/>
            <a:ext cx="7924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(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i 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i &lt;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u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eng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 i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{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295280" y="2903400"/>
            <a:ext cx="693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if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u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]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&gt;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n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0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219320" y="4275000"/>
            <a:ext cx="3886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if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600200" y="3436560"/>
            <a:ext cx="4419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62120" y="4732200"/>
            <a:ext cx="3886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for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295280" y="762120"/>
            <a:ext cx="693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u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]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4, 9, 6, 3, 5, 7, 8, 9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62120" y="769680"/>
            <a:ext cx="1600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09480" y="1302840"/>
            <a:ext cx="5105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n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u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0 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09480" y="1836360"/>
            <a:ext cx="5105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index 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600200" y="3893760"/>
            <a:ext cx="4419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u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33520" y="5181480"/>
            <a:ext cx="77724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index =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 inde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33520" y="5699160"/>
            <a:ext cx="77724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num =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num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943600" y="3429000"/>
            <a:ext cx="2666880" cy="129528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867280" y="3626640"/>
            <a:ext cx="182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867280" y="4266720"/>
            <a:ext cx="1828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781680" y="3245760"/>
            <a:ext cx="182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ناتج التنفي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0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5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380880" y="762120"/>
            <a:ext cx="8458200" cy="5715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):  ماهو ناتج تنفيذ البرنامج التالى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62120" y="2370240"/>
            <a:ext cx="7924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(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i 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i &lt;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u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eng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 i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{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295280" y="2903400"/>
            <a:ext cx="4496040" cy="51912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if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u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]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&gt;=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n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0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219320" y="4275000"/>
            <a:ext cx="3886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if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600200" y="3436560"/>
            <a:ext cx="4419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62120" y="4732200"/>
            <a:ext cx="3886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for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295280" y="762120"/>
            <a:ext cx="693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u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]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4, 9, 6, 3, 5, 7, 8, 9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62120" y="769680"/>
            <a:ext cx="1600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09480" y="1302840"/>
            <a:ext cx="5105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n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u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0 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09480" y="1836360"/>
            <a:ext cx="5105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index 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600200" y="3893760"/>
            <a:ext cx="4419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u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33520" y="5181480"/>
            <a:ext cx="77724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index =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 inde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33520" y="5699160"/>
            <a:ext cx="77724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num =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num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943600" y="3429000"/>
            <a:ext cx="2666880" cy="129528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867280" y="3626640"/>
            <a:ext cx="182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867280" y="4266720"/>
            <a:ext cx="1828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781680" y="3245760"/>
            <a:ext cx="182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ناتج التنفي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0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1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9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4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80880" y="533520"/>
            <a:ext cx="8534520" cy="609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ontents:</a:t>
            </a:r>
            <a:r>
              <a:rPr b="1" lang="ar-SA" sz="3400" spc="-1" strike="noStrike">
                <a:solidFill>
                  <a:srgbClr val="ffffff"/>
                </a:solidFill>
                <a:latin typeface="Arial"/>
              </a:rPr>
              <a:t>محتويات المحاضرة</a:t>
            </a:r>
            <a:r>
              <a:rPr b="1" lang="ar-SA" sz="34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1143000"/>
            <a:ext cx="8305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6.3. 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rocessing Array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1828800"/>
            <a:ext cx="7772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Copying Array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sec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6.3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2438280"/>
            <a:ext cx="777240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assing Arrays to Method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sec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6.4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3062160"/>
            <a:ext cx="777240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Returning an Array from a Metho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sec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6.5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3733920"/>
            <a:ext cx="3429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Example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880" y="762120"/>
            <a:ext cx="8458200" cy="1371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57200" y="685800"/>
            <a:ext cx="83059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اكتب برنامج يطلب من المستخدم ادخال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أعداد(من النوع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float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وتخزين هذه الأعداد بالمصفوفة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A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،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ثم يقوم البرنامج بنسخ محتويات المصفوفة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A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وتخزينها بالمصفوفة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B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ثم طباعة محتويات المصفوفة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على شاشة التنفي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):  نسخ عناصر المصفوفة و تخزينها بمصفوفة أُخرى </a:t>
            </a:r>
            <a:r>
              <a:rPr b="1" lang="ar-SA" sz="2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ec 6.3</a:t>
            </a:r>
            <a:r>
              <a:rPr b="1" lang="ar-SA" sz="2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09480" y="2666880"/>
            <a:ext cx="33530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ter num: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1.3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09480" y="2666880"/>
            <a:ext cx="3581640" cy="3124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09480" y="3214800"/>
            <a:ext cx="33530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ter num: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5.4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800600" y="3025440"/>
            <a:ext cx="327672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lements of B are :       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800600" y="3641040"/>
            <a:ext cx="3276720" cy="18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1.3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5.4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6.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8.4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2.5     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638680" y="2666880"/>
            <a:ext cx="32767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ناتج التنفيذ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09480" y="3824280"/>
            <a:ext cx="33530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ter num: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6.0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09480" y="4433760"/>
            <a:ext cx="33530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ter num: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8.4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09480" y="5043600"/>
            <a:ext cx="33530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ter num: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2.5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0" y="2590920"/>
            <a:ext cx="4267080" cy="327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fill="hold">
                      <p:stCondLst>
                        <p:cond delay="0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4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2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5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4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5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1447920" y="609480"/>
            <a:ext cx="75438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خطوات حل المثال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85800" y="967680"/>
            <a:ext cx="807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تعريف المصفوفة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: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من النوع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float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وتحديد طول المصفوفة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219320" y="2102760"/>
            <a:ext cx="754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قراءة الأعداد من المستخدم وتخزينها بالمصفوفة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04920" y="2895120"/>
            <a:ext cx="8458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نسخ محتويات المصفوفة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وتخزينها بالمصفوفة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57200" y="3322080"/>
            <a:ext cx="8305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تعريف المصفوفة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: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من النوع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float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وتحديد طول المصفوفة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04920" y="1074600"/>
            <a:ext cx="8458200" cy="2430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438280" y="4182840"/>
            <a:ext cx="5105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]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w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flo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];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295280" y="4175280"/>
            <a:ext cx="16002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flo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):  نسخ عناصر المصفوفة و تخزينها بمصفوفة أُخر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85800" y="1493280"/>
            <a:ext cx="807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تعريف المصفوفة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: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من النوع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float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وتحديد طول المصفوفة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57200" y="4693680"/>
            <a:ext cx="8305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تعريف المصفوفة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: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من النوع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float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وتحديد طول المصفوفة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438280" y="5554440"/>
            <a:ext cx="5105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]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w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flo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];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5546880"/>
            <a:ext cx="16002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flo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8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3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9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7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0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 flipV="1">
            <a:off x="6705720" y="3962520"/>
            <a:ext cx="1143000" cy="30168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6705720" y="4249080"/>
            <a:ext cx="1143000" cy="29988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6705720" y="4534920"/>
            <a:ext cx="1143000" cy="30132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6705720" y="4822200"/>
            <a:ext cx="1143000" cy="29988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6705720" y="5108400"/>
            <a:ext cx="1143000" cy="30168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838080" y="3413160"/>
            <a:ext cx="30481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] = </a:t>
            </a: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num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33520" y="1219320"/>
            <a:ext cx="7924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(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i =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i &lt;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i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{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80880" y="4114800"/>
            <a:ext cx="2514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for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838080" y="2286000"/>
            <a:ext cx="6096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Enter num :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838080" y="2819520"/>
            <a:ext cx="6019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n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scanner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xtFloat(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62120" y="1766880"/>
            <a:ext cx="655308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 مع كل تكرار للحلقة يتم قراءة العدد من المستخدم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410080" y="390060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6324120" y="411480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410080" y="4205160"/>
            <a:ext cx="167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6324120" y="443556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410080" y="4495680"/>
            <a:ext cx="167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6324120" y="472608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410080" y="4815000"/>
            <a:ext cx="167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6324120" y="504504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410080" y="5119560"/>
            <a:ext cx="167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6324120" y="534996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791320" y="3276720"/>
            <a:ext cx="533160" cy="655560"/>
            <a:chOff x="5791320" y="3276720"/>
            <a:chExt cx="533160" cy="655560"/>
          </a:xfrm>
        </p:grpSpPr>
        <p:sp>
          <p:nvSpPr>
            <p:cNvPr id="468" name=""/>
            <p:cNvSpPr/>
            <p:nvPr/>
          </p:nvSpPr>
          <p:spPr>
            <a:xfrm>
              <a:off x="5791320" y="3276720"/>
              <a:ext cx="533160" cy="427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019920" y="3703680"/>
              <a:ext cx="0" cy="2286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"/>
          <p:cNvSpPr/>
          <p:nvPr/>
        </p:nvSpPr>
        <p:spPr>
          <a:xfrm flipV="1">
            <a:off x="6705720" y="3962520"/>
            <a:ext cx="1143000" cy="301680"/>
          </a:xfrm>
          <a:prstGeom prst="rect">
            <a:avLst/>
          </a:prstGeom>
          <a:noFill/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6705720" y="4249080"/>
            <a:ext cx="1143000" cy="299880"/>
          </a:xfrm>
          <a:prstGeom prst="rect">
            <a:avLst/>
          </a:prstGeom>
          <a:noFill/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5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6705720" y="4534920"/>
            <a:ext cx="1143000" cy="301320"/>
          </a:xfrm>
          <a:prstGeom prst="rect">
            <a:avLst/>
          </a:prstGeom>
          <a:noFill/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6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6705720" y="4822200"/>
            <a:ext cx="1143000" cy="299880"/>
          </a:xfrm>
          <a:prstGeom prst="rect">
            <a:avLst/>
          </a:prstGeom>
          <a:noFill/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8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6705720" y="5108400"/>
            <a:ext cx="1143000" cy="301680"/>
          </a:xfrm>
          <a:prstGeom prst="rect">
            <a:avLst/>
          </a:prstGeom>
          <a:noFill/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):  نسخ عناصر المصفوفة و تخزينها بمصفوفة أُخر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447920" y="502560"/>
            <a:ext cx="754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قراءة الأعداد من المستخدم وتخزينها بالمصفوفة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1" dur="indefinite" restart="never" nodeType="tmRoot">
          <p:childTnLst>
            <p:seq>
              <p:cTn id="902" dur="indefinite" nodeType="mainSeq">
                <p:childTnLst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7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0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5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8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3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6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6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9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2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5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8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1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7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3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6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9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2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5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1295280" y="1828800"/>
            <a:ext cx="30481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] =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A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];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33520" y="2438280"/>
            <a:ext cx="2514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for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):  نسخ عناصر المصفوفة و تخزينها بمصفوفة أُخر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33520" y="685440"/>
            <a:ext cx="8458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نسخ محتويات المصفوفة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وتخزينها بالمصفوفة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2590920" y="3657600"/>
            <a:ext cx="1143000" cy="2056680"/>
            <a:chOff x="2590920" y="3657600"/>
            <a:chExt cx="1143000" cy="2056680"/>
          </a:xfrm>
        </p:grpSpPr>
        <p:sp>
          <p:nvSpPr>
            <p:cNvPr id="482" name=""/>
            <p:cNvSpPr/>
            <p:nvPr/>
          </p:nvSpPr>
          <p:spPr>
            <a:xfrm flipV="1">
              <a:off x="2590920" y="3657600"/>
              <a:ext cx="1143000" cy="42840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.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>
              <a:off x="2590920" y="4064040"/>
              <a:ext cx="1143000" cy="42804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5.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 flipV="1">
              <a:off x="2590920" y="4471920"/>
              <a:ext cx="1143000" cy="42840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6.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 flipV="1">
              <a:off x="2590920" y="4879080"/>
              <a:ext cx="1143000" cy="42840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8.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2590920" y="5285880"/>
              <a:ext cx="1143000" cy="42804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.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762120" y="3505320"/>
            <a:ext cx="1752120" cy="427680"/>
            <a:chOff x="762120" y="3505320"/>
            <a:chExt cx="1752120" cy="427680"/>
          </a:xfrm>
        </p:grpSpPr>
        <p:sp>
          <p:nvSpPr>
            <p:cNvPr id="488" name=""/>
            <p:cNvSpPr/>
            <p:nvPr/>
          </p:nvSpPr>
          <p:spPr>
            <a:xfrm>
              <a:off x="762120" y="3505320"/>
              <a:ext cx="1218960" cy="427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981080" y="3657600"/>
              <a:ext cx="53316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5562720" y="3657600"/>
            <a:ext cx="1143000" cy="2056680"/>
            <a:chOff x="5562720" y="3657600"/>
            <a:chExt cx="1143000" cy="2056680"/>
          </a:xfrm>
        </p:grpSpPr>
        <p:sp>
          <p:nvSpPr>
            <p:cNvPr id="491" name=""/>
            <p:cNvSpPr/>
            <p:nvPr/>
          </p:nvSpPr>
          <p:spPr>
            <a:xfrm flipV="1">
              <a:off x="5562720" y="3657600"/>
              <a:ext cx="1143000" cy="42840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5562720" y="4064040"/>
              <a:ext cx="1143000" cy="42804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V="1">
              <a:off x="5562720" y="4471920"/>
              <a:ext cx="1143000" cy="42840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5562720" y="4879080"/>
              <a:ext cx="1143000" cy="42840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>
              <a:off x="5562720" y="5285880"/>
              <a:ext cx="1143000" cy="42804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6705360" y="3581280"/>
            <a:ext cx="1829160" cy="427680"/>
            <a:chOff x="6705360" y="3581280"/>
            <a:chExt cx="1829160" cy="427680"/>
          </a:xfrm>
        </p:grpSpPr>
        <p:sp>
          <p:nvSpPr>
            <p:cNvPr id="497" name=""/>
            <p:cNvSpPr/>
            <p:nvPr/>
          </p:nvSpPr>
          <p:spPr>
            <a:xfrm>
              <a:off x="7315200" y="3581280"/>
              <a:ext cx="1219320" cy="427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6705360" y="3733920"/>
              <a:ext cx="60948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4648320" y="3641400"/>
            <a:ext cx="1600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648320" y="4038480"/>
            <a:ext cx="1600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648320" y="4327200"/>
            <a:ext cx="10666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648320" y="4876560"/>
            <a:ext cx="1600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648320" y="5257440"/>
            <a:ext cx="1600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5562720" y="3656880"/>
            <a:ext cx="1143000" cy="42876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5562720" y="4064760"/>
            <a:ext cx="1143000" cy="42732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5562720" y="4471200"/>
            <a:ext cx="1143000" cy="42876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5562720" y="4879080"/>
            <a:ext cx="1143000" cy="42732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5562720" y="5285520"/>
            <a:ext cx="1143000" cy="42876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5105520" y="2925720"/>
            <a:ext cx="533160" cy="655560"/>
            <a:chOff x="5105520" y="2925720"/>
            <a:chExt cx="533160" cy="655560"/>
          </a:xfrm>
        </p:grpSpPr>
        <p:sp>
          <p:nvSpPr>
            <p:cNvPr id="510" name=""/>
            <p:cNvSpPr/>
            <p:nvPr/>
          </p:nvSpPr>
          <p:spPr>
            <a:xfrm>
              <a:off x="5105520" y="2925720"/>
              <a:ext cx="533160" cy="427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334120" y="3352680"/>
              <a:ext cx="0" cy="2286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2" name=""/>
          <p:cNvSpPr/>
          <p:nvPr/>
        </p:nvSpPr>
        <p:spPr>
          <a:xfrm>
            <a:off x="4114800" y="373392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114800" y="411480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114800" y="457200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114800" y="495288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4114800" y="541008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33520" y="1219320"/>
            <a:ext cx="79246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or (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i =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  i &lt; 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length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   i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 {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2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5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0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3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6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2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5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1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4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9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4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7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2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5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0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3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1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6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9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533520" y="3124080"/>
            <a:ext cx="2514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for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):  نسخ عناصر المصفوفة و تخزينها بمصفوفة أُخر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33520" y="685440"/>
            <a:ext cx="8458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طباعة محتويات المصفوفة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5562720" y="3657600"/>
            <a:ext cx="1143000" cy="2056680"/>
            <a:chOff x="5562720" y="3657600"/>
            <a:chExt cx="1143000" cy="2056680"/>
          </a:xfrm>
        </p:grpSpPr>
        <p:sp>
          <p:nvSpPr>
            <p:cNvPr id="522" name=""/>
            <p:cNvSpPr/>
            <p:nvPr/>
          </p:nvSpPr>
          <p:spPr>
            <a:xfrm flipV="1">
              <a:off x="5562720" y="3657600"/>
              <a:ext cx="1143000" cy="42840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 flipV="1">
              <a:off x="5562720" y="4064040"/>
              <a:ext cx="1143000" cy="42804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 flipV="1">
              <a:off x="5562720" y="4471920"/>
              <a:ext cx="1143000" cy="42840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 flipV="1">
              <a:off x="5562720" y="4879080"/>
              <a:ext cx="1143000" cy="42840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 flipV="1">
              <a:off x="5562720" y="5285880"/>
              <a:ext cx="1143000" cy="42804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6705360" y="3581280"/>
            <a:ext cx="1829160" cy="427680"/>
            <a:chOff x="6705360" y="3581280"/>
            <a:chExt cx="1829160" cy="427680"/>
          </a:xfrm>
        </p:grpSpPr>
        <p:sp>
          <p:nvSpPr>
            <p:cNvPr id="528" name=""/>
            <p:cNvSpPr/>
            <p:nvPr/>
          </p:nvSpPr>
          <p:spPr>
            <a:xfrm>
              <a:off x="7315200" y="3581280"/>
              <a:ext cx="1219320" cy="427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>
              <a:off x="6705360" y="3733920"/>
              <a:ext cx="60948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0" name=""/>
          <p:cNvSpPr/>
          <p:nvPr/>
        </p:nvSpPr>
        <p:spPr>
          <a:xfrm>
            <a:off x="4648320" y="3641400"/>
            <a:ext cx="1600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648320" y="4038480"/>
            <a:ext cx="1600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648320" y="4327200"/>
            <a:ext cx="10666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648320" y="4876560"/>
            <a:ext cx="1600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648320" y="5257440"/>
            <a:ext cx="1600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5562720" y="3656880"/>
            <a:ext cx="1143000" cy="42876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5562720" y="4064760"/>
            <a:ext cx="1143000" cy="42732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5562720" y="4471200"/>
            <a:ext cx="1143000" cy="42876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562720" y="4879080"/>
            <a:ext cx="1143000" cy="42732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5562720" y="5285520"/>
            <a:ext cx="1143000" cy="42876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5105520" y="2925720"/>
            <a:ext cx="533160" cy="655560"/>
            <a:chOff x="5105520" y="2925720"/>
            <a:chExt cx="533160" cy="655560"/>
          </a:xfrm>
        </p:grpSpPr>
        <p:sp>
          <p:nvSpPr>
            <p:cNvPr id="541" name=""/>
            <p:cNvSpPr/>
            <p:nvPr/>
          </p:nvSpPr>
          <p:spPr>
            <a:xfrm>
              <a:off x="5105520" y="2925720"/>
              <a:ext cx="533160" cy="427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334120" y="3352680"/>
              <a:ext cx="0" cy="2286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3" name=""/>
          <p:cNvSpPr/>
          <p:nvPr/>
        </p:nvSpPr>
        <p:spPr>
          <a:xfrm>
            <a:off x="838080" y="2514600"/>
            <a:ext cx="609624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33520" y="1219320"/>
            <a:ext cx="6553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Elements of  B  are: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33520" y="1981080"/>
            <a:ext cx="79246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or (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i =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  i &lt; 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length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   i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 {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0" dur="indefinite" restart="never" nodeType="tmRoot">
          <p:childTnLst>
            <p:seq>
              <p:cTn id="1061" dur="indefinite" nodeType="mainSeq">
                <p:childTnLst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6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9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4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9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2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5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8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1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4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7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0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5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8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4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7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0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"/>
          <p:cNvGrpSpPr/>
          <p:nvPr/>
        </p:nvGrpSpPr>
        <p:grpSpPr>
          <a:xfrm>
            <a:off x="380880" y="838080"/>
            <a:ext cx="8534160" cy="5714640"/>
            <a:chOff x="380880" y="838080"/>
            <a:chExt cx="8534160" cy="5714640"/>
          </a:xfrm>
        </p:grpSpPr>
        <p:sp>
          <p:nvSpPr>
            <p:cNvPr id="547" name=""/>
            <p:cNvSpPr/>
            <p:nvPr/>
          </p:nvSpPr>
          <p:spPr>
            <a:xfrm>
              <a:off x="380880" y="1208880"/>
              <a:ext cx="8534160" cy="5343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80880" y="838080"/>
              <a:ext cx="8534160" cy="37080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etCopy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9" name=""/>
          <p:cNvSpPr/>
          <p:nvPr/>
        </p:nvSpPr>
        <p:spPr>
          <a:xfrm>
            <a:off x="609480" y="1600200"/>
            <a:ext cx="662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class getCopy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838080" y="1981080"/>
            <a:ext cx="716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ring[ ] args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066680" y="585144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80880" y="1051560"/>
            <a:ext cx="7620120" cy="762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impor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java.util.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//Scanner </a:t>
            </a:r>
            <a:r>
              <a:rPr b="1" lang="ar-SA" sz="2200" spc="-1" strike="noStrike">
                <a:solidFill>
                  <a:srgbClr val="4d4d4d"/>
                </a:solidFill>
                <a:latin typeface="Arial"/>
              </a:rPr>
              <a:t>تحديد مكان وجود الـ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447920" y="5318280"/>
            <a:ext cx="30477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] = 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num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447920" y="4327560"/>
            <a:ext cx="609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Enter num: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066680" y="3900600"/>
            <a:ext cx="655344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 مع كل تكرار للحلقة يتم قراءة العدد من المستخدم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752480" y="2437920"/>
            <a:ext cx="472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]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floa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[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;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914400" y="2437920"/>
            <a:ext cx="1600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flo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990720" y="3352680"/>
            <a:ext cx="7924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(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i 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i &lt;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eng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 i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{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447920" y="4800600"/>
            <a:ext cx="6019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flo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num = scanner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xtFloat(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):  نسخ عناصر المصفوفة و تخزينها بمصفوفة أُخر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752480" y="2895120"/>
            <a:ext cx="472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]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floa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[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;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914400" y="2895120"/>
            <a:ext cx="1600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flo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1" dur="indefinite" restart="never" nodeType="tmRoot">
          <p:childTnLst>
            <p:seq>
              <p:cTn id="1122" dur="indefinite" nodeType="mainSeq">
                <p:childTnLst>
                  <p:par>
                    <p:cTn id="1123" fill="hold">
                      <p:stCondLst>
                        <p:cond delay="0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7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0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5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0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3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8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1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6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1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4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9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4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9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3" name=""/>
          <p:cNvGrpSpPr/>
          <p:nvPr/>
        </p:nvGrpSpPr>
        <p:grpSpPr>
          <a:xfrm>
            <a:off x="380880" y="762120"/>
            <a:ext cx="8534160" cy="5867280"/>
            <a:chOff x="380880" y="762120"/>
            <a:chExt cx="8534160" cy="5867280"/>
          </a:xfrm>
        </p:grpSpPr>
        <p:sp>
          <p:nvSpPr>
            <p:cNvPr id="564" name=""/>
            <p:cNvSpPr/>
            <p:nvPr/>
          </p:nvSpPr>
          <p:spPr>
            <a:xfrm>
              <a:off x="380880" y="1143000"/>
              <a:ext cx="8534160" cy="5486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80880" y="762120"/>
              <a:ext cx="8534160" cy="38088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etCopy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6" name=""/>
          <p:cNvSpPr/>
          <p:nvPr/>
        </p:nvSpPr>
        <p:spPr>
          <a:xfrm>
            <a:off x="2286000" y="1143000"/>
            <a:ext cx="655308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 نسخ القيم المخزنة بالمصفوفة </a:t>
            </a: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A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 للمصفوفة </a:t>
            </a: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B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838080" y="1676520"/>
            <a:ext cx="7925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(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i 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i &lt;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eng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 i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{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600200" y="2209320"/>
            <a:ext cx="4419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838080" y="2743200"/>
            <a:ext cx="3886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for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209680" y="3048120"/>
            <a:ext cx="65534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 طباعة المصفوفة </a:t>
            </a: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B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914400" y="5029200"/>
            <a:ext cx="2514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for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295280" y="4495680"/>
            <a:ext cx="609624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838080" y="3505320"/>
            <a:ext cx="655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Elements of  B  are: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57200" y="609588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85800" y="563868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914400" y="4038480"/>
            <a:ext cx="7924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(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i 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i &lt;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eng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 i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{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28600" y="152280"/>
            <a:ext cx="876312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):  نسخ عناصر المصفوفة و تخزينها بمصفوفة أُخر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0" dur="indefinite" restart="never" nodeType="tmRoot">
          <p:childTnLst>
            <p:seq>
              <p:cTn id="1181" dur="indefinite" nodeType="mainSeq">
                <p:childTnLst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6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1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6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6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1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6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9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4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7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457200" y="914400"/>
            <a:ext cx="8458200" cy="1828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33520" y="1066680"/>
            <a:ext cx="830556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مثال(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): اكتب برنامج يقوم </a:t>
            </a:r>
            <a:r>
              <a:rPr b="1" lang="ar-SA" sz="2500" spc="-1" strike="noStrike">
                <a:solidFill>
                  <a:srgbClr val="ff0000"/>
                </a:solidFill>
                <a:latin typeface="Arial"/>
              </a:rPr>
              <a:t>بتوليد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 u="sng">
                <a:solidFill>
                  <a:srgbClr val="00007d"/>
                </a:solidFill>
                <a:uFillTx/>
                <a:latin typeface="Arial"/>
              </a:rPr>
              <a:t>5</a:t>
            </a:r>
            <a:r>
              <a:rPr b="1" lang="ar-SA" sz="2600" spc="-1" strike="noStrike" u="sng">
                <a:solidFill>
                  <a:srgbClr val="00007d"/>
                </a:solidFill>
                <a:uFillTx/>
                <a:latin typeface="Arial"/>
              </a:rPr>
              <a:t> </a:t>
            </a:r>
            <a:r>
              <a:rPr b="1" lang="ar-SA" sz="2600" spc="-1" strike="noStrike" u="sng">
                <a:solidFill>
                  <a:srgbClr val="000000"/>
                </a:solidFill>
                <a:uFillTx/>
                <a:latin typeface="Arial"/>
              </a:rPr>
              <a:t>أعداد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500" spc="-1" strike="noStrike">
                <a:solidFill>
                  <a:srgbClr val="ff0000"/>
                </a:solidFill>
                <a:latin typeface="Arial"/>
              </a:rPr>
              <a:t>عشوائية 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من النوع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فى المدى</a:t>
            </a:r>
            <a:r>
              <a:rPr b="1" lang="ar-SA" sz="25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من</a:t>
            </a:r>
            <a:r>
              <a:rPr b="1" lang="ar-SA" sz="25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99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 -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وتخزين هذه الاعداد بالمصفوفة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Arr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،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ثم يقوم البرنامج بنداء الدالة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printArr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()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التى تقوم بإستقبال المصفوفة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Arr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وطباعة القيم المخزنة بها على شاشة التنفي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6.4. Passing Array to Methods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إرسال مصفوفة للدوال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447920" y="2895480"/>
            <a:ext cx="75438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خطوات حل المثال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85800" y="3330000"/>
            <a:ext cx="807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تعريف المصفوفة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: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rr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من النوع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وتحديد طول المصفوفة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219320" y="4038120"/>
            <a:ext cx="7543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توليد أعداد عشوائية وتخزينها بالمصفوفة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r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76320" y="4388760"/>
            <a:ext cx="868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كتابة الدالة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rintArr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()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التى ستقوم بإستقبال المصفوفة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rr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لطباعة المصفوف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8" dur="indefinite" restart="never" nodeType="tmRoot">
          <p:childTnLst>
            <p:seq>
              <p:cTn id="1229" dur="indefinite" nodeType="mainSeq">
                <p:childTnLst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4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7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2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7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533520" y="563760"/>
            <a:ext cx="830556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- تعريف المصفوفة</a:t>
            </a: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:</a:t>
            </a:r>
            <a:r>
              <a:rPr b="1" lang="ar-SA" sz="25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من النوع</a:t>
            </a:r>
            <a:r>
              <a:rPr b="1" lang="ar-SA" sz="25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وتحديد طول المصفوفة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438280" y="1515600"/>
            <a:ext cx="5105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r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]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w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];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1295280" y="1508040"/>
            <a:ext cx="16002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i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6.4. Passing Array to Methods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إرسال مصفوفة للدوال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295280" y="2506680"/>
            <a:ext cx="75438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- توليد </a:t>
            </a:r>
            <a:r>
              <a:rPr b="1" lang="ar-SA" sz="2500" spc="-1" strike="noStrike" u="sng">
                <a:solidFill>
                  <a:srgbClr val="00007d"/>
                </a:solidFill>
                <a:uFillTx/>
                <a:latin typeface="Arial"/>
              </a:rPr>
              <a:t>أعداد عشوائية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وتخزينها بالمصفوفة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Arr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990720" y="3124080"/>
            <a:ext cx="79246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or (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i =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  i &lt; 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Arr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length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   i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 {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371600" y="3779640"/>
            <a:ext cx="685800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Arr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] = 10 + (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 (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Math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random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)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100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990720" y="4419720"/>
            <a:ext cx="3886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for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8" dur="indefinite" restart="never" nodeType="tmRoot">
          <p:childTnLst>
            <p:seq>
              <p:cTn id="1249" dur="indefinite" nodeType="mainSeq">
                <p:childTnLst>
                  <p:par>
                    <p:cTn id="1250" fill="hold">
                      <p:stCondLst>
                        <p:cond delay="0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4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7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0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5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0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3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8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6.4. Passing Array to Methods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إرسال مصفوفة للدوال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990720" y="2346480"/>
            <a:ext cx="79246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or (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i =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  i &lt; 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length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   i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 {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990720" y="3581280"/>
            <a:ext cx="3886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for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80880" y="654840"/>
            <a:ext cx="868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كتابة الدالة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rintArr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()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التى ستقوم بإستقبال وطباعة المصفوف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33520" y="1644480"/>
            <a:ext cx="20574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public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stati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590920" y="1644480"/>
            <a:ext cx="9144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voi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505320" y="1644480"/>
            <a:ext cx="167616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ntArr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800600" y="1644480"/>
            <a:ext cx="335268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 [ ]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) {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447920" y="3048120"/>
            <a:ext cx="60958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457200" y="4191120"/>
            <a:ext cx="38862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method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880" y="1523880"/>
            <a:ext cx="7925040" cy="335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9" dur="indefinite" restart="never" nodeType="tmRoot">
          <p:childTnLst>
            <p:seq>
              <p:cTn id="1280" dur="indefinite" nodeType="mainSeq">
                <p:childTnLst>
                  <p:par>
                    <p:cTn id="1281" fill="hold">
                      <p:stCondLst>
                        <p:cond delay="0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5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1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9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4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7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2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57200" y="914400"/>
            <a:ext cx="8458200" cy="1447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914400"/>
            <a:ext cx="83059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اكتب برنامج يطلب من المستخدم ادخال </a:t>
            </a:r>
            <a:r>
              <a:rPr b="1" lang="en-US" sz="2600" spc="-1" strike="noStrike" u="sng">
                <a:solidFill>
                  <a:srgbClr val="00007d"/>
                </a:solidFill>
                <a:uFillTx/>
                <a:latin typeface="Arial"/>
              </a:rPr>
              <a:t>5</a:t>
            </a:r>
            <a:r>
              <a:rPr b="1" lang="ar-SA" sz="2600" spc="-1" strike="noStrike" u="sng">
                <a:solidFill>
                  <a:srgbClr val="00007d"/>
                </a:solidFill>
                <a:uFillTx/>
                <a:latin typeface="Arial"/>
              </a:rPr>
              <a:t> </a:t>
            </a:r>
            <a:r>
              <a:rPr b="1" lang="ar-SA" sz="2600" spc="-1" strike="noStrike" u="sng">
                <a:solidFill>
                  <a:srgbClr val="000000"/>
                </a:solidFill>
                <a:uFillTx/>
                <a:latin typeface="Arial"/>
              </a:rPr>
              <a:t>أعداد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من النوع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double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وتخزين هذه الاعداد بالمصفوفة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myArr</a:t>
            </a: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،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ثم يقوم البرنامج بطباعة</a:t>
            </a: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ar-SA" sz="2600" spc="-1" strike="noStrike" u="sng">
                <a:solidFill>
                  <a:srgbClr val="00007d"/>
                </a:solidFill>
                <a:uFillTx/>
                <a:latin typeface="Arial"/>
              </a:rPr>
              <a:t>المتوسط الحسابى </a:t>
            </a:r>
            <a:r>
              <a:rPr b="1" lang="ar-SA" sz="2500" spc="-1" strike="noStrike" u="sng">
                <a:solidFill>
                  <a:srgbClr val="00007d"/>
                </a:solidFill>
                <a:uFillTx/>
                <a:latin typeface="Arial"/>
              </a:rPr>
              <a:t>لتلك الاعداد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بعد تخزينها بالمصفوفة وطباعة النتيجة على شاشة التنفي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2120" y="3062160"/>
            <a:ext cx="3352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ter number: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3.6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3048120"/>
            <a:ext cx="3657600" cy="3352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3595680"/>
            <a:ext cx="3352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ter number: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6.4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4143240"/>
            <a:ext cx="3352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ter number: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2.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4676760"/>
            <a:ext cx="3352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ter number: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7.0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5195880"/>
            <a:ext cx="3352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ter number: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5.5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62120" y="5715000"/>
            <a:ext cx="32004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The Average =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5.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90720" y="2431800"/>
            <a:ext cx="7772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بإفتراض أن المستخدم قام بإدخال القيم التالي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6.2.6 Processing Array    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:                               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4" name=""/>
          <p:cNvGrpSpPr/>
          <p:nvPr/>
        </p:nvGrpSpPr>
        <p:grpSpPr>
          <a:xfrm>
            <a:off x="380880" y="838080"/>
            <a:ext cx="8534160" cy="5714640"/>
            <a:chOff x="380880" y="838080"/>
            <a:chExt cx="8534160" cy="5714640"/>
          </a:xfrm>
        </p:grpSpPr>
        <p:sp>
          <p:nvSpPr>
            <p:cNvPr id="605" name=""/>
            <p:cNvSpPr/>
            <p:nvPr/>
          </p:nvSpPr>
          <p:spPr>
            <a:xfrm>
              <a:off x="380880" y="1208880"/>
              <a:ext cx="8534160" cy="5343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880" y="838080"/>
              <a:ext cx="8534160" cy="37080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splay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7" name=""/>
          <p:cNvSpPr/>
          <p:nvPr/>
        </p:nvSpPr>
        <p:spPr>
          <a:xfrm>
            <a:off x="609480" y="1219320"/>
            <a:ext cx="662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class display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838080" y="1600200"/>
            <a:ext cx="716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ring[ ] args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609480" y="586728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 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447920" y="3200400"/>
            <a:ext cx="655308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 مع كل تكرار للحلقة يتم توليد عدد عشوائى فى المدى (</a:t>
            </a: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99</a:t>
            </a: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 - </a:t>
            </a: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10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)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1447920" y="2133360"/>
            <a:ext cx="4724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r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]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[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;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914400" y="2133360"/>
            <a:ext cx="1600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): إرسال مصفوفة للدالة 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printArr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(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914400" y="2666880"/>
            <a:ext cx="79246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or (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i =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  i &lt; 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Arr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length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   i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 {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447920" y="3580920"/>
            <a:ext cx="693396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Arr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] = 10 + (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 (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Math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random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)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100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990720" y="4191120"/>
            <a:ext cx="3886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for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1295280" y="4738680"/>
            <a:ext cx="655344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 ارسال المصفوفة </a:t>
            </a: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Arr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 للدالة </a:t>
            </a: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printArr</a:t>
            </a: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()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 لطباعة محتوياتها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914400" y="5104440"/>
            <a:ext cx="7391520" cy="8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printArr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 Arr );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نداء الدالة من خلال إرسال اسم المصفوفة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3" dur="indefinite" restart="never" nodeType="tmRoot">
          <p:childTnLst>
            <p:seq>
              <p:cTn id="1314" dur="indefinite" nodeType="mainSeq">
                <p:childTnLst>
                  <p:par>
                    <p:cTn id="1315" fill="hold">
                      <p:stCondLst>
                        <p:cond delay="0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9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4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9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7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5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8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3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3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9" name=""/>
          <p:cNvGrpSpPr/>
          <p:nvPr/>
        </p:nvGrpSpPr>
        <p:grpSpPr>
          <a:xfrm>
            <a:off x="380880" y="762120"/>
            <a:ext cx="8534160" cy="5867280"/>
            <a:chOff x="380880" y="762120"/>
            <a:chExt cx="8534160" cy="5867280"/>
          </a:xfrm>
        </p:grpSpPr>
        <p:sp>
          <p:nvSpPr>
            <p:cNvPr id="620" name=""/>
            <p:cNvSpPr/>
            <p:nvPr/>
          </p:nvSpPr>
          <p:spPr>
            <a:xfrm>
              <a:off x="380880" y="1143000"/>
              <a:ext cx="8534160" cy="5486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880" y="762120"/>
              <a:ext cx="8534160" cy="38088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splay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2" name=""/>
          <p:cNvSpPr/>
          <p:nvPr/>
        </p:nvSpPr>
        <p:spPr>
          <a:xfrm>
            <a:off x="2286000" y="1143000"/>
            <a:ext cx="65530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 تعريف الدالة </a:t>
            </a: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printArr</a:t>
            </a: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(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457200" y="518148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): إرسال مصفوفة للدالة 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printArr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(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295280" y="2346480"/>
            <a:ext cx="792504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or (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i =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  i &lt; 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length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   i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 {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1295280" y="3581280"/>
            <a:ext cx="3886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for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838080" y="1644480"/>
            <a:ext cx="20574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public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stati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895480" y="1644480"/>
            <a:ext cx="9144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voi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809880" y="1644480"/>
            <a:ext cx="1676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ntArr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5105520" y="1644480"/>
            <a:ext cx="335268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int [ ]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) {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752480" y="3048120"/>
            <a:ext cx="609624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762120" y="4191120"/>
            <a:ext cx="38862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method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762120" y="1600200"/>
            <a:ext cx="7391160" cy="32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4" dur="indefinite" restart="never" nodeType="tmRoot">
          <p:childTnLst>
            <p:seq>
              <p:cTn id="1365" dur="indefinite" nodeType="mainSeq">
                <p:childTnLst>
                  <p:par>
                    <p:cTn id="1366" fill="hold">
                      <p:stCondLst>
                        <p:cond delay="0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0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3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6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9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2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7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5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fill="hold">
                      <p:stCondLst>
                        <p:cond delay="indefinite"/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0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3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6.5. Returning an Array from Method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04920" y="761400"/>
            <a:ext cx="868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357120" indent="-17136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نجد أنه يمكن أن يتم 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إرجاع مصفوفة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عند تنفيذ الدالة، أى ان يكون ناتج تنفيذ الدالة عبارة عن مصفوف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609480" y="2482920"/>
            <a:ext cx="20574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public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stati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2666880" y="2482920"/>
            <a:ext cx="1219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 [ 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657600" y="2482920"/>
            <a:ext cx="1676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adArr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4952880" y="2482920"/>
            <a:ext cx="335304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 {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57200" y="5927760"/>
            <a:ext cx="38862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method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457200" y="2438280"/>
            <a:ext cx="7924680" cy="403884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04920" y="1416600"/>
            <a:ext cx="86868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357120" indent="-17136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على سبيل المثال: يمكننا تعريف الدالة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readArr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()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التى تقوم بإرجاع مصفوفة بعد تخزين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قيم عشوائية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بها كما يلى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447920" y="4038480"/>
            <a:ext cx="655308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 مع كل تكرار للحلقة يتم توليد عدد عشوائى فى المدى (</a:t>
            </a: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99</a:t>
            </a: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 - </a:t>
            </a: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10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)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914400" y="3565440"/>
            <a:ext cx="79246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or (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i =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  i &lt; 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arr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length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   i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 {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1447920" y="4419360"/>
            <a:ext cx="670536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arr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] = 10 + (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 (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Math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random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)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100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990720" y="4952880"/>
            <a:ext cx="3886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for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838080" y="5310720"/>
            <a:ext cx="6782040" cy="8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return 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arr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200" spc="-1" strike="noStrike">
                <a:solidFill>
                  <a:srgbClr val="4d4d4d"/>
                </a:solidFill>
                <a:latin typeface="Arial"/>
              </a:rPr>
              <a:t>ارجاع المصفوفة بعد تخزين القيم بها</a:t>
            </a:r>
            <a:r>
              <a:rPr b="1" lang="ar-SA" sz="22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523880" y="3040200"/>
            <a:ext cx="472464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arr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]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[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5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;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990720" y="3047760"/>
            <a:ext cx="1600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4" dur="indefinite" restart="never" nodeType="tmRoot">
          <p:childTnLst>
            <p:seq>
              <p:cTn id="1405" dur="indefinite" nodeType="mainSeq">
                <p:childTnLst>
                  <p:par>
                    <p:cTn id="1406" fill="hold">
                      <p:stCondLst>
                        <p:cond delay="indefinite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0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5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8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1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4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7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fill="hold">
                      <p:stCondLst>
                        <p:cond delay="indefinite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2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5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fill="hold">
                      <p:stCondLst>
                        <p:cond delay="indefinite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0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5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8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1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6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9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"/>
          <p:cNvGrpSpPr/>
          <p:nvPr/>
        </p:nvGrpSpPr>
        <p:grpSpPr>
          <a:xfrm>
            <a:off x="380880" y="838080"/>
            <a:ext cx="8534160" cy="5714640"/>
            <a:chOff x="380880" y="838080"/>
            <a:chExt cx="8534160" cy="5714640"/>
          </a:xfrm>
        </p:grpSpPr>
        <p:sp>
          <p:nvSpPr>
            <p:cNvPr id="651" name=""/>
            <p:cNvSpPr/>
            <p:nvPr/>
          </p:nvSpPr>
          <p:spPr>
            <a:xfrm>
              <a:off x="380880" y="1208880"/>
              <a:ext cx="8534160" cy="5343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80880" y="838080"/>
              <a:ext cx="8534160" cy="37080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splay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3" name=""/>
          <p:cNvSpPr/>
          <p:nvPr/>
        </p:nvSpPr>
        <p:spPr>
          <a:xfrm>
            <a:off x="609480" y="1219320"/>
            <a:ext cx="662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class display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838080" y="1752480"/>
            <a:ext cx="716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ring[ ] args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57200" y="571500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 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295280" y="3595680"/>
            <a:ext cx="65534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 طباعة محتويات المصفوفة </a:t>
            </a: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B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1219320" y="2879640"/>
            <a:ext cx="17524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 [ ]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  B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2819520" y="2879640"/>
            <a:ext cx="26668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readArr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 );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5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ar-SA" sz="2500" spc="-1" strike="noStrike">
                <a:solidFill>
                  <a:srgbClr val="ffffff"/>
                </a:solidFill>
                <a:latin typeface="Arial"/>
              </a:rPr>
              <a:t>): إرجاع مصفوفة عند تنفيذ الدال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371600" y="2376360"/>
            <a:ext cx="655308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نداء الدالة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readArr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()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 لتخزين القيم بالمصفوفة </a:t>
            </a: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B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990720" y="4098960"/>
            <a:ext cx="79246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or (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i =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  i &lt; 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length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   i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 {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990720" y="5181480"/>
            <a:ext cx="3886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for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447920" y="4648320"/>
            <a:ext cx="60958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B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0" dur="indefinite" restart="never" nodeType="tmRoot">
          <p:childTnLst>
            <p:seq>
              <p:cTn id="1461" dur="indefinite" nodeType="mainSeq">
                <p:childTnLst>
                  <p:par>
                    <p:cTn id="1462" fill="hold">
                      <p:stCondLst>
                        <p:cond delay="0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6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1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2" fill="hold">
                      <p:stCondLst>
                        <p:cond delay="indefinite"/>
                      </p:stCondLst>
                      <p:childTnLst>
                        <p:par>
                          <p:cTn id="1473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6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1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4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fill="hold">
                      <p:stCondLst>
                        <p:cond delay="indefinite"/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9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2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7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0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5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6.2.6 Processing Array    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:                               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47920" y="609480"/>
            <a:ext cx="75438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خطوات حل المثال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967680"/>
            <a:ext cx="807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تعريف المصفوفة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: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yArr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من النوع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double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وتحديد طول المصفوفة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19320" y="1493280"/>
            <a:ext cx="754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قراءة الأعداد من المستخدم وتخزينها بالمصفوف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2026440"/>
            <a:ext cx="807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حساب </a:t>
            </a:r>
            <a:r>
              <a:rPr b="1" lang="ar-SA" sz="2400" spc="-1" strike="noStrike" u="sng">
                <a:solidFill>
                  <a:srgbClr val="00007d"/>
                </a:solidFill>
                <a:uFillTx/>
                <a:latin typeface="Arial"/>
              </a:rPr>
              <a:t>المتوسط الحسابى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للقيم المخزنة بعناصر المصفوفة وطباعة النتيج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2712240"/>
            <a:ext cx="8305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تعريف المصفوفة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: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yArr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من النوع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ouble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وتحديد طول المصفوفة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1074600"/>
            <a:ext cx="8458200" cy="160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81080" y="3398040"/>
            <a:ext cx="4496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yAr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]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w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doubl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];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3573360"/>
            <a:ext cx="16002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doub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6705720" y="4495320"/>
            <a:ext cx="1143000" cy="1447920"/>
            <a:chOff x="6705720" y="4495320"/>
            <a:chExt cx="1143000" cy="1447920"/>
          </a:xfrm>
        </p:grpSpPr>
        <p:sp>
          <p:nvSpPr>
            <p:cNvPr id="131" name=""/>
            <p:cNvSpPr/>
            <p:nvPr/>
          </p:nvSpPr>
          <p:spPr>
            <a:xfrm flipV="1">
              <a:off x="6705720" y="4494960"/>
              <a:ext cx="1143000" cy="30132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6705720" y="4782240"/>
              <a:ext cx="1143000" cy="30096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6705720" y="5068080"/>
              <a:ext cx="1143000" cy="30132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6705720" y="5354640"/>
              <a:ext cx="1143000" cy="30132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6705720" y="5642280"/>
              <a:ext cx="1143000" cy="30096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76920" y="4343400"/>
            <a:ext cx="1752120" cy="427680"/>
            <a:chOff x="4876920" y="4343400"/>
            <a:chExt cx="1752120" cy="427680"/>
          </a:xfrm>
        </p:grpSpPr>
        <p:sp>
          <p:nvSpPr>
            <p:cNvPr id="137" name=""/>
            <p:cNvSpPr/>
            <p:nvPr/>
          </p:nvSpPr>
          <p:spPr>
            <a:xfrm>
              <a:off x="4876920" y="4343400"/>
              <a:ext cx="1218960" cy="427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myAr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095880" y="4495680"/>
              <a:ext cx="53316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371600" y="502560"/>
            <a:ext cx="754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قراءة الأعداد من المستخدم وتخزينها بالمصفوف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6705720" y="3962520"/>
            <a:ext cx="1143000" cy="30168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6705720" y="4249080"/>
            <a:ext cx="1143000" cy="29988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6705720" y="4534920"/>
            <a:ext cx="1143000" cy="30132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6705720" y="4822200"/>
            <a:ext cx="1143000" cy="29988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705720" y="5108400"/>
            <a:ext cx="1143000" cy="30168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3260880"/>
            <a:ext cx="30481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myArr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] = </a:t>
            </a: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num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1143000"/>
            <a:ext cx="7924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(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i =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i &lt;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i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{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3886200"/>
            <a:ext cx="2514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for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38080" y="2133720"/>
            <a:ext cx="6096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Enter number :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38080" y="2666880"/>
            <a:ext cx="6019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n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scanner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xtInt(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62120" y="1614600"/>
            <a:ext cx="655308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 مع كل تكرار للحلقة يتم قراءة العدد من المستخدم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90060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yAr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6324120" y="411480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876920" y="4205160"/>
            <a:ext cx="16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yAr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6324120" y="443556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76920" y="4495680"/>
            <a:ext cx="16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yAr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6324120" y="472608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76920" y="4815000"/>
            <a:ext cx="16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yAr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6324120" y="504504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5119560"/>
            <a:ext cx="16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yAr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6324120" y="534996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791320" y="3276720"/>
            <a:ext cx="533160" cy="655560"/>
            <a:chOff x="5791320" y="3276720"/>
            <a:chExt cx="533160" cy="655560"/>
          </a:xfrm>
        </p:grpSpPr>
        <p:sp>
          <p:nvSpPr>
            <p:cNvPr id="162" name=""/>
            <p:cNvSpPr/>
            <p:nvPr/>
          </p:nvSpPr>
          <p:spPr>
            <a:xfrm>
              <a:off x="5791320" y="3276720"/>
              <a:ext cx="533160" cy="427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019920" y="3703680"/>
              <a:ext cx="0" cy="2286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 flipV="1">
            <a:off x="6705720" y="3962520"/>
            <a:ext cx="1143000" cy="301680"/>
          </a:xfrm>
          <a:prstGeom prst="rect">
            <a:avLst/>
          </a:prstGeom>
          <a:noFill/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6705720" y="4249080"/>
            <a:ext cx="1143000" cy="299880"/>
          </a:xfrm>
          <a:prstGeom prst="rect">
            <a:avLst/>
          </a:prstGeom>
          <a:noFill/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6705720" y="4534920"/>
            <a:ext cx="1143000" cy="301320"/>
          </a:xfrm>
          <a:prstGeom prst="rect">
            <a:avLst/>
          </a:prstGeom>
          <a:noFill/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6705720" y="4822200"/>
            <a:ext cx="1143000" cy="299880"/>
          </a:xfrm>
          <a:prstGeom prst="rect">
            <a:avLst/>
          </a:prstGeom>
          <a:noFill/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6705720" y="5108400"/>
            <a:ext cx="1143000" cy="301680"/>
          </a:xfrm>
          <a:prstGeom prst="rect">
            <a:avLst/>
          </a:prstGeom>
          <a:noFill/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6.2.6 Processing Array    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:                             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578520"/>
            <a:ext cx="91440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بعد إسناد القيم بالمصفوفة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myArr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يتم استخدام حلقة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للمرور على كل عناصر المصفوفة </a:t>
            </a:r>
            <a:r>
              <a:rPr b="1" lang="ar-SA" sz="2400" spc="-1" strike="noStrike" u="sng">
                <a:solidFill>
                  <a:srgbClr val="ff0000"/>
                </a:solidFill>
                <a:uFillTx/>
                <a:latin typeface="Arial"/>
              </a:rPr>
              <a:t>لحساب المتوسط الحسابى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كما يلى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09480" y="2286000"/>
            <a:ext cx="7925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(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i 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i &lt;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yAr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eng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 i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{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124080" y="2286000"/>
            <a:ext cx="2210040" cy="457200"/>
          </a:xfrm>
          <a:prstGeom prst="rect">
            <a:avLst/>
          </a:prstGeom>
          <a:noFill/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" y="1676160"/>
            <a:ext cx="4114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 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sum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7391520" y="2362320"/>
            <a:ext cx="1143000" cy="1904760"/>
            <a:chOff x="7391520" y="2362320"/>
            <a:chExt cx="1143000" cy="1904760"/>
          </a:xfrm>
        </p:grpSpPr>
        <p:sp>
          <p:nvSpPr>
            <p:cNvPr id="175" name=""/>
            <p:cNvSpPr/>
            <p:nvPr/>
          </p:nvSpPr>
          <p:spPr>
            <a:xfrm flipV="1">
              <a:off x="7391520" y="2362320"/>
              <a:ext cx="1143000" cy="396720"/>
            </a:xfrm>
            <a:prstGeom prst="rect">
              <a:avLst/>
            </a:prstGeom>
            <a:noFill/>
            <a:ln w="19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7391520" y="2739960"/>
              <a:ext cx="1143000" cy="395280"/>
            </a:xfrm>
            <a:prstGeom prst="rect">
              <a:avLst/>
            </a:prstGeom>
            <a:noFill/>
            <a:ln w="19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7391520" y="3115440"/>
              <a:ext cx="1143000" cy="397080"/>
            </a:xfrm>
            <a:prstGeom prst="rect">
              <a:avLst/>
            </a:prstGeom>
            <a:noFill/>
            <a:ln w="19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7391520" y="3494160"/>
              <a:ext cx="1143000" cy="395280"/>
            </a:xfrm>
            <a:prstGeom prst="rect">
              <a:avLst/>
            </a:prstGeom>
            <a:noFill/>
            <a:ln w="19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7391520" y="3870360"/>
              <a:ext cx="1143000" cy="396720"/>
            </a:xfrm>
            <a:prstGeom prst="rect">
              <a:avLst/>
            </a:prstGeom>
            <a:noFill/>
            <a:ln w="19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1371600" y="2971440"/>
            <a:ext cx="4419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um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s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+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yAr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3581280"/>
            <a:ext cx="3886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for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" y="152280"/>
            <a:ext cx="876312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6.2.6 Processing Array    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:                             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" y="4296960"/>
            <a:ext cx="655308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ouble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Avg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s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myArr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leng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876920"/>
            <a:ext cx="77724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The Average =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Avg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"/>
          <p:cNvGrpSpPr/>
          <p:nvPr/>
        </p:nvGrpSpPr>
        <p:grpSpPr>
          <a:xfrm>
            <a:off x="380880" y="838080"/>
            <a:ext cx="8534160" cy="5714640"/>
            <a:chOff x="380880" y="838080"/>
            <a:chExt cx="8534160" cy="5714640"/>
          </a:xfrm>
        </p:grpSpPr>
        <p:sp>
          <p:nvSpPr>
            <p:cNvPr id="186" name=""/>
            <p:cNvSpPr/>
            <p:nvPr/>
          </p:nvSpPr>
          <p:spPr>
            <a:xfrm>
              <a:off x="380880" y="1208880"/>
              <a:ext cx="8534160" cy="5343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0880" y="838080"/>
              <a:ext cx="8534160" cy="37080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etAvg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609480" y="1600200"/>
            <a:ext cx="662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class getAvg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38080" y="1981080"/>
            <a:ext cx="716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ring[ ] args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14400" y="585144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1051560"/>
            <a:ext cx="7620120" cy="762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impor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java.util.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//Scanner </a:t>
            </a:r>
            <a:r>
              <a:rPr b="1" lang="ar-SA" sz="2200" spc="-1" strike="noStrike">
                <a:solidFill>
                  <a:srgbClr val="4d4d4d"/>
                </a:solidFill>
                <a:latin typeface="Arial"/>
              </a:rPr>
              <a:t>تحديد مكان وجود الـ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447920" y="5318280"/>
            <a:ext cx="30477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myArr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] = </a:t>
            </a: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num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4327560"/>
            <a:ext cx="609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Enter number :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447920" y="4784760"/>
            <a:ext cx="6019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scanner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xtInt(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066680" y="3900600"/>
            <a:ext cx="655344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 مع كل تكرار للحلقة يتم قراءة العدد من المستخدم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2361960"/>
            <a:ext cx="5791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um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su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209680" y="2819160"/>
            <a:ext cx="472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yAr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]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dou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[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];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2796840"/>
            <a:ext cx="1600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dou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28600" y="152280"/>
            <a:ext cx="876312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6.2.6 Processing Array    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:                             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90720" y="3352680"/>
            <a:ext cx="7924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(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i 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i &lt;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yAr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eng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 i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{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"/>
          <p:cNvGrpSpPr/>
          <p:nvPr/>
        </p:nvGrpSpPr>
        <p:grpSpPr>
          <a:xfrm>
            <a:off x="380880" y="762120"/>
            <a:ext cx="8534160" cy="5867280"/>
            <a:chOff x="380880" y="762120"/>
            <a:chExt cx="8534160" cy="5867280"/>
          </a:xfrm>
        </p:grpSpPr>
        <p:sp>
          <p:nvSpPr>
            <p:cNvPr id="202" name=""/>
            <p:cNvSpPr/>
            <p:nvPr/>
          </p:nvSpPr>
          <p:spPr>
            <a:xfrm>
              <a:off x="380880" y="1143000"/>
              <a:ext cx="8534160" cy="5486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80880" y="762120"/>
              <a:ext cx="8534160" cy="38088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etAvg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6.2.6 Processing Array    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:                               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1143000"/>
            <a:ext cx="655308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 المرور على القيم المخزنة بالمصفوفة لحساب المتوسط الحسابى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525780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14400" y="1676520"/>
            <a:ext cx="79246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i 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i &lt;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yAr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eng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i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{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52480" y="2209320"/>
            <a:ext cx="4419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um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s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yAr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14400" y="3962520"/>
            <a:ext cx="77724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The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Average =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 Avg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14400" y="2743200"/>
            <a:ext cx="3886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for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" y="464832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62120" y="3428640"/>
            <a:ext cx="7924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double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Avg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su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yAr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eng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i="1" lang="ar-SA" sz="2000" spc="-1" strike="noStrike">
                <a:solidFill>
                  <a:srgbClr val="4d4d4d"/>
                </a:solidFill>
                <a:latin typeface="Arial"/>
              </a:rPr>
              <a:t>حساب المتوسط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80880" y="685800"/>
            <a:ext cx="8458200" cy="1371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609480"/>
            <a:ext cx="83059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اكتب برنامج يطلب من المستخدم ادخال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20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حروف(من النوع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char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وتخزين هذه الحروف بالمصفوفة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myChar</a:t>
            </a: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،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ثم يقوم البرنامج بطباعة</a:t>
            </a: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ar-SA" sz="2600" spc="-1" strike="noStrike" u="sng">
                <a:solidFill>
                  <a:srgbClr val="ff0000"/>
                </a:solidFill>
                <a:uFillTx/>
                <a:latin typeface="Arial"/>
              </a:rPr>
              <a:t>الحرف الأكبر من بين </a:t>
            </a:r>
            <a:r>
              <a:rPr b="1" lang="ar-SA" sz="2500" spc="-1" strike="noStrike" u="sng">
                <a:solidFill>
                  <a:srgbClr val="ff0000"/>
                </a:solidFill>
                <a:uFillTx/>
                <a:latin typeface="Arial"/>
              </a:rPr>
              <a:t>تلك الحروف</a:t>
            </a: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1" lang="ar-SA" sz="2500" spc="-1" strike="noStrike" u="sng">
                <a:solidFill>
                  <a:srgbClr val="ff0000"/>
                </a:solidFill>
                <a:uFillTx/>
                <a:latin typeface="Arial"/>
              </a:rPr>
              <a:t>عدد مرات تكرار هذا الحرف داخل المصفوف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6.2.6 Processing Array    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:                               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2286000"/>
            <a:ext cx="3352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ter char: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04920" y="2286000"/>
            <a:ext cx="2361960" cy="4114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04920" y="2666880"/>
            <a:ext cx="3352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ter char: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04920" y="3062160"/>
            <a:ext cx="3352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ter char: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04920" y="3443400"/>
            <a:ext cx="3352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ter char: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04920" y="3824280"/>
            <a:ext cx="3352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ter char: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W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04920" y="4267080"/>
            <a:ext cx="3352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ter char: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04920" y="4648320"/>
            <a:ext cx="3352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ter char: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04920" y="5043600"/>
            <a:ext cx="3352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ter char: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04920" y="5424480"/>
            <a:ext cx="3352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ter char: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04920" y="5805360"/>
            <a:ext cx="3352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ter char: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410080" y="3420720"/>
            <a:ext cx="327672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The max char is :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W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    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410080" y="3939840"/>
            <a:ext cx="327672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har’s duplication =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    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895480" y="2286000"/>
            <a:ext cx="33530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ter char: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W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971800" y="2286000"/>
            <a:ext cx="2286000" cy="4114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895480" y="2666880"/>
            <a:ext cx="33530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ter char: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895480" y="3062160"/>
            <a:ext cx="33530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ter char: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895480" y="3443400"/>
            <a:ext cx="33530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ter char: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895480" y="3824280"/>
            <a:ext cx="33530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ter char: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895480" y="4267080"/>
            <a:ext cx="23623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ter char: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W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4648320"/>
            <a:ext cx="33530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ter char: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95480" y="5043600"/>
            <a:ext cx="33530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ter char: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895480" y="5424480"/>
            <a:ext cx="22860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ter char: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895480" y="5805360"/>
            <a:ext cx="22860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ter char: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957400"/>
            <a:ext cx="32767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ناتج التنفيذ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9T13:40:41Z</dcterms:created>
  <dc:creator>HIND-SW</dc:creator>
  <dc:description/>
  <dc:language>en-US</dc:language>
  <cp:lastModifiedBy>Yahia</cp:lastModifiedBy>
  <dcterms:modified xsi:type="dcterms:W3CDTF">2011-07-03T14:09:14Z</dcterms:modified>
  <cp:revision>3219</cp:revision>
  <dc:subject>Programming Fundamentals</dc:subject>
  <dc:title>Chapter5: Methods</dc:title>
</cp:coreProperties>
</file>