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F2D1-78D2-4AA7-9B50-AE0DF546A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08FF-CA06-4670-A194-6662B4FDA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1BDE-6E56-4401-AD8C-4B893C018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BF36-3588-402A-9C85-2ED5FC4E6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1F48-EBC8-45D0-A106-FB0F03EBE0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FC5A-5226-47D9-B51E-1662D56DCC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23F8-435F-4633-AACC-538BF63EE3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128E-63FB-42B4-9E97-F201B90C4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0419-9396-4996-A564-F418387797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C541-88DE-4EE6-A645-B904FF1F4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1E92-D3C8-417F-B341-C8F4D18F3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1724-4A66-4037-A51D-5F9302858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497-F514-48E2-8E94-BFCD7D7DDF1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43200" y="806400"/>
            <a:ext cx="6248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بدء تنفيذها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35576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4894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42244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نداء الدالة لتبدأ تنفيذ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2" idx="1"/>
            <a:endCxn id="210" idx="1"/>
          </p:cNvCxnSpPr>
          <p:nvPr/>
        </p:nvCxnSpPr>
        <p:spPr>
          <a:xfrm flipH="1" rot="10800000">
            <a:off x="837000" y="2658240"/>
            <a:ext cx="762840" cy="1845360"/>
          </a:xfrm>
          <a:prstGeom prst="bentConnector3">
            <a:avLst>
              <a:gd name="adj1" fmla="val -63739"/>
            </a:avLst>
          </a:prstGeom>
          <a:ln w="22320">
            <a:solidFill>
              <a:srgbClr val="ff0000"/>
            </a:solidFill>
            <a:miter/>
            <a:headEnd len="med" type="stealth" w="lg"/>
          </a:ln>
        </p:spPr>
      </p:cxnSp>
      <p:sp>
        <p:nvSpPr>
          <p:cNvPr id="213" name=""/>
          <p:cNvSpPr/>
          <p:nvPr/>
        </p:nvSpPr>
        <p:spPr>
          <a:xfrm>
            <a:off x="914400" y="19018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9401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4267080"/>
            <a:ext cx="7848720" cy="1828800"/>
            <a:chOff x="838080" y="4267080"/>
            <a:chExt cx="7848720" cy="1828800"/>
          </a:xfrm>
        </p:grpSpPr>
        <p:sp>
          <p:nvSpPr>
            <p:cNvPr id="212" name=""/>
            <p:cNvSpPr/>
            <p:nvPr/>
          </p:nvSpPr>
          <p:spPr>
            <a:xfrm>
              <a:off x="838080" y="426708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4267080"/>
              <a:ext cx="914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voi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4267080"/>
              <a:ext cx="1523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5470560"/>
              <a:ext cx="60962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29200" y="4267080"/>
              <a:ext cx="33526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   ) 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4876920"/>
              <a:ext cx="7620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ystem.out.printl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“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Welcome on Jav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”);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4267080"/>
              <a:ext cx="624852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73915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25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howText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676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7180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743200"/>
            <a:ext cx="5257800" cy="457200"/>
          </a:xfrm>
          <a:prstGeom prst="rect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727360"/>
            <a:ext cx="48765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نداء الدالة لتبدأ تنفيذ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3117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431172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4311720"/>
            <a:ext cx="1524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5334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311720"/>
            <a:ext cx="3352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 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8610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5867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2068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2446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ين صحيحين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العددين المُدخلين وتحديد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عدد الأكبر بينهما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ثم طباعة النتيجة على شاشة التنفي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6496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( int  x , int  y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نفيذ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07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74320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74320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733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7672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11480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44956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8006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318280"/>
            <a:ext cx="220968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5867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260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265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114800" y="1523880"/>
            <a:ext cx="2133720" cy="1295640"/>
            <a:chOff x="4114800" y="1523880"/>
            <a:chExt cx="2133720" cy="1295640"/>
          </a:xfrm>
        </p:grpSpPr>
        <p:sp>
          <p:nvSpPr>
            <p:cNvPr id="269" name=""/>
            <p:cNvSpPr/>
            <p:nvPr/>
          </p:nvSpPr>
          <p:spPr>
            <a:xfrm>
              <a:off x="41148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434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360" y="1523880"/>
            <a:ext cx="3276720" cy="1371600"/>
            <a:chOff x="5562360" y="1523880"/>
            <a:chExt cx="3276720" cy="1371600"/>
          </a:xfrm>
        </p:grpSpPr>
        <p:sp>
          <p:nvSpPr>
            <p:cNvPr id="273" name=""/>
            <p:cNvSpPr/>
            <p:nvPr/>
          </p:nvSpPr>
          <p:spPr>
            <a:xfrm>
              <a:off x="6019920" y="1752480"/>
              <a:ext cx="2819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list of 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562360" y="2209680"/>
              <a:ext cx="990360" cy="685800"/>
              <a:chOff x="5562360" y="2209680"/>
              <a:chExt cx="990360" cy="685800"/>
            </a:xfrm>
          </p:grpSpPr>
          <p:sp>
            <p:nvSpPr>
              <p:cNvPr id="276" name=""/>
              <p:cNvSpPr/>
              <p:nvPr/>
            </p:nvSpPr>
            <p:spPr>
              <a:xfrm flipH="1">
                <a:off x="5562360" y="2209680"/>
                <a:ext cx="99036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400440" y="2209680"/>
                <a:ext cx="15228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733920" y="5334120"/>
            <a:ext cx="2819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248520" y="3429000"/>
            <a:ext cx="2666880" cy="2362320"/>
            <a:chOff x="6248520" y="3429000"/>
            <a:chExt cx="2666880" cy="2362320"/>
          </a:xfrm>
        </p:grpSpPr>
        <p:grpSp>
          <p:nvGrpSpPr>
            <p:cNvPr id="280" name=""/>
            <p:cNvGrpSpPr/>
            <p:nvPr/>
          </p:nvGrpSpPr>
          <p:grpSpPr>
            <a:xfrm>
              <a:off x="6248520" y="3429000"/>
              <a:ext cx="380880" cy="2362320"/>
              <a:chOff x="6248520" y="3429000"/>
              <a:chExt cx="380880" cy="2362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629400" y="3429000"/>
                <a:ext cx="0" cy="236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248520" y="34290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248520" y="57913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477120" y="420516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( int  x , int  y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27432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2120" y="3032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303228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05320" y="303228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3880" y="3565440"/>
            <a:ext cx="4343400" cy="1982520"/>
            <a:chOff x="1523880" y="3565440"/>
            <a:chExt cx="4343400" cy="1982520"/>
          </a:xfrm>
        </p:grpSpPr>
        <p:sp>
          <p:nvSpPr>
            <p:cNvPr id="292" name=""/>
            <p:cNvSpPr/>
            <p:nvPr/>
          </p:nvSpPr>
          <p:spPr>
            <a:xfrm>
              <a:off x="1600200" y="402264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x &gt; 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0200" y="3565440"/>
              <a:ext cx="4267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4403880"/>
              <a:ext cx="198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x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3880" y="478476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33720" y="508968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y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447920" y="5607000"/>
            <a:ext cx="220968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6095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5622840"/>
            <a:ext cx="2819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609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30322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91440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19384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3716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ين (مثلا)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1752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2209680"/>
            <a:ext cx="0" cy="838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2209680"/>
            <a:ext cx="0" cy="838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2438280"/>
            <a:ext cx="2286000" cy="6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ين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297" idx="1"/>
            <a:endCxn id="305" idx="1"/>
          </p:cNvCxnSpPr>
          <p:nvPr/>
        </p:nvCxnSpPr>
        <p:spPr>
          <a:xfrm flipH="1" rot="10800000">
            <a:off x="1447560" y="1988280"/>
            <a:ext cx="2160" cy="3855240"/>
          </a:xfrm>
          <a:prstGeom prst="bentConnector3">
            <a:avLst>
              <a:gd name="adj1" fmla="val -61200000"/>
            </a:avLst>
          </a:prstGeom>
          <a:ln w="2232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310" name=""/>
          <p:cNvSpPr/>
          <p:nvPr/>
        </p:nvSpPr>
        <p:spPr>
          <a:xfrm>
            <a:off x="4343400" y="259092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590920"/>
            <a:ext cx="38124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5562720"/>
            <a:ext cx="2286000" cy="533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048120"/>
            <a:ext cx="73152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1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7195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81916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41767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3526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أول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51055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55627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4724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ثانى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380880" y="457200"/>
            <a:ext cx="8305560" cy="6248160"/>
            <a:chOff x="380880" y="457200"/>
            <a:chExt cx="8305560" cy="6248160"/>
          </a:xfrm>
        </p:grpSpPr>
        <p:sp>
          <p:nvSpPr>
            <p:cNvPr id="330" name=""/>
            <p:cNvSpPr/>
            <p:nvPr/>
          </p:nvSpPr>
          <p:spPr>
            <a:xfrm>
              <a:off x="380880" y="862560"/>
              <a:ext cx="8305560" cy="58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457200"/>
              <a:ext cx="8305560" cy="40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914400" y="129528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max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8380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ارسال العددين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7524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max number is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1938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274320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74320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6576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32004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0384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4419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47242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25780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150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27432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623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743200"/>
            <a:ext cx="6858000" cy="34290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295280"/>
            <a:ext cx="52578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0666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حساب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ضروب العدد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عند 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a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باعة النتيجة على شاشة التنفي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6496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48769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نفيذ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447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83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44792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981080"/>
            <a:ext cx="4267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48769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343400"/>
            <a:ext cx="281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5880" y="2133720"/>
            <a:ext cx="2666880" cy="2589840"/>
            <a:chOff x="6095880" y="2133720"/>
            <a:chExt cx="2666880" cy="2589840"/>
          </a:xfrm>
        </p:grpSpPr>
        <p:grpSp>
          <p:nvGrpSpPr>
            <p:cNvPr id="365" name=""/>
            <p:cNvGrpSpPr/>
            <p:nvPr/>
          </p:nvGrpSpPr>
          <p:grpSpPr>
            <a:xfrm>
              <a:off x="6095880" y="2133720"/>
              <a:ext cx="380880" cy="2589840"/>
              <a:chOff x="6095880" y="2133720"/>
              <a:chExt cx="380880" cy="2589840"/>
            </a:xfrm>
          </p:grpSpPr>
          <p:sp>
            <p:nvSpPr>
              <p:cNvPr id="366" name=""/>
              <p:cNvSpPr/>
              <p:nvPr/>
            </p:nvSpPr>
            <p:spPr>
              <a:xfrm>
                <a:off x="6476760" y="2133720"/>
                <a:ext cx="0" cy="2589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095880" y="21337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095880" y="472356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324480" y="298476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144792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25146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g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3625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306216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26708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5349960"/>
            <a:ext cx="281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609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838080"/>
            <a:ext cx="658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54240" y="2193840"/>
            <a:ext cx="5603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6440" y="1295280"/>
            <a:ext cx="539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175248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209680"/>
            <a:ext cx="0" cy="76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2286000"/>
            <a:ext cx="22860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5146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5273640"/>
            <a:ext cx="220968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838080" y="2895480"/>
            <a:ext cx="7315200" cy="3369240"/>
            <a:chOff x="838080" y="2895480"/>
            <a:chExt cx="7315200" cy="3369240"/>
          </a:xfrm>
        </p:grpSpPr>
        <p:sp>
          <p:nvSpPr>
            <p:cNvPr id="388" name=""/>
            <p:cNvSpPr/>
            <p:nvPr/>
          </p:nvSpPr>
          <p:spPr>
            <a:xfrm>
              <a:off x="838080" y="289548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5480" y="2895480"/>
              <a:ext cx="8384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5320" y="2895480"/>
              <a:ext cx="990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fact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9320" y="3336840"/>
              <a:ext cx="4267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5791320"/>
              <a:ext cx="60962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91120" y="2895480"/>
              <a:ext cx="3352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n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19320" y="3718080"/>
              <a:ext cx="693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for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(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i =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;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 &gt;=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;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--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) </a:t>
              </a: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95280" y="4648320"/>
              <a:ext cx="2971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 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end of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57400" y="4205160"/>
              <a:ext cx="4267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i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1600" y="525780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8" name=""/>
          <p:cNvCxnSpPr/>
          <p:nvPr/>
        </p:nvCxnSpPr>
        <p:spPr>
          <a:xfrm flipV="1" rot="10800000">
            <a:off x="1204200" y="2010240"/>
            <a:ext cx="700920" cy="3552120"/>
          </a:xfrm>
          <a:prstGeom prst="bentConnector3">
            <a:avLst>
              <a:gd name="adj1" fmla="val 193371"/>
            </a:avLst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838080" y="2971800"/>
            <a:ext cx="601992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1752480"/>
            <a:ext cx="533412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3623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all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0481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4. void method example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4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657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5. Passing Parameters by Value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5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343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6. Overloading Method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6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0292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7. The Scope of Variable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8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7524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reat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638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8. The Math Clas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402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Fac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Fact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909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9481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أول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495288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fact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44956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fact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ارسال العدد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54100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fac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59277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80880" y="990720"/>
            <a:ext cx="8305560" cy="5257440"/>
            <a:chOff x="380880" y="990720"/>
            <a:chExt cx="8305560" cy="5257440"/>
          </a:xfrm>
        </p:grpSpPr>
        <p:sp>
          <p:nvSpPr>
            <p:cNvPr id="417" name=""/>
            <p:cNvSpPr/>
            <p:nvPr/>
          </p:nvSpPr>
          <p:spPr>
            <a:xfrm>
              <a:off x="380880" y="1332000"/>
              <a:ext cx="8305560" cy="49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990720"/>
              <a:ext cx="8305560" cy="341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Fac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28800" y="13860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f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828800"/>
            <a:ext cx="6858000" cy="373392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18288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1828800"/>
            <a:ext cx="83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270160"/>
            <a:ext cx="4267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90720" y="4724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182880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272736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g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37018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321480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1911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57600" y="182880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83736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wo 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all a method;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choice is based 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ther the metho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s a value or no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4929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جد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طريقتين ل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من داخل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ليتم بدء تنفيذها، وتعتمد طريقة النداء على حسب الدالة فى أنها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قوم بإرجاع قيمة عند تنفيذها أو لا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1480" y="2513880"/>
            <a:ext cx="79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ssigns the result of the method to the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3429000"/>
            <a:ext cx="7543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47998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all to the method must be a statemen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962160"/>
            <a:ext cx="77724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63868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ispla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الا: نداء الدالة لطباعة رسالة على شاشة التنفيذ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106668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143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عددين صحيحين من النوع (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 بحيث يُمثل العدد الأول (</a:t>
            </a:r>
            <a:r>
              <a:rPr b="1" lang="ar-SA" sz="2700" spc="-1" strike="noStrike">
                <a:solidFill>
                  <a:srgbClr val="ff0000"/>
                </a:solidFill>
                <a:latin typeface="Arial"/>
              </a:rPr>
              <a:t>الأساس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 والعدد الثانى يُمثل (</a:t>
            </a:r>
            <a:r>
              <a:rPr b="1" lang="ar-SA" sz="2700" spc="-1" strike="noStrike">
                <a:solidFill>
                  <a:srgbClr val="ff0000"/>
                </a:solidFill>
                <a:latin typeface="Arial"/>
              </a:rPr>
              <a:t>الأُس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، المطلوب كتابة دالة تسمى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powe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 تقوم بإستقبال العددين وحساب النتيجة وطباعتها على شاشة التنفيذ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3200400"/>
            <a:ext cx="8077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حيث يكون ناتج التنفيذ ك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nter base :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nter pow  :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The result =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ll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tatements that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p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erform an operation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2408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دال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method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هى عبارة عن مجموعة من التعليمات التى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م جمعها مع بعضها البعض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أداء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وظيفة محدد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البرنامج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2767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 سبيل المثال: (من الدوال الجاهزة والتابعة للغة البرمجة جافا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7339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ystem.out.println( 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exit( 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ext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xtInt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extDouble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th.po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.....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828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general, a method has the following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nt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812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od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572000"/>
            <a:ext cx="7772400" cy="762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/ method bod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5812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turnValueTyp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581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hodNa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5812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list of paramet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962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start metho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declaration consists of a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ethod bod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4d4d4d"/>
                </a:solidFill>
                <a:latin typeface="Arial"/>
              </a:rPr>
              <a:t>تحتوى الدالة على جزأين أساسين</a:t>
            </a:r>
            <a:r>
              <a:rPr b="1" lang="ar-SA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590920"/>
            <a:ext cx="327672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hod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19320" y="2971800"/>
            <a:ext cx="6400800" cy="152280"/>
            <a:chOff x="1219320" y="2971800"/>
            <a:chExt cx="6400800" cy="152280"/>
          </a:xfrm>
        </p:grpSpPr>
        <p:sp>
          <p:nvSpPr>
            <p:cNvPr id="130" name=""/>
            <p:cNvSpPr/>
            <p:nvPr/>
          </p:nvSpPr>
          <p:spPr>
            <a:xfrm flipH="1">
              <a:off x="1219320" y="3124080"/>
              <a:ext cx="6400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2971800"/>
              <a:ext cx="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66680" y="3124080"/>
            <a:ext cx="304920" cy="533520"/>
            <a:chOff x="1066680" y="3124080"/>
            <a:chExt cx="304920" cy="533520"/>
          </a:xfrm>
        </p:grpSpPr>
        <p:sp>
          <p:nvSpPr>
            <p:cNvPr id="133" name=""/>
            <p:cNvSpPr/>
            <p:nvPr/>
          </p:nvSpPr>
          <p:spPr>
            <a:xfrm>
              <a:off x="10666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467480" y="3124080"/>
            <a:ext cx="304920" cy="533520"/>
            <a:chOff x="7467480" y="3124080"/>
            <a:chExt cx="304920" cy="533520"/>
          </a:xfrm>
        </p:grpSpPr>
        <p:sp>
          <p:nvSpPr>
            <p:cNvPr id="136" name=""/>
            <p:cNvSpPr/>
            <p:nvPr/>
          </p:nvSpPr>
          <p:spPr>
            <a:xfrm>
              <a:off x="74674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43200" y="3124080"/>
            <a:ext cx="304920" cy="533520"/>
            <a:chOff x="2743200" y="3124080"/>
            <a:chExt cx="304920" cy="533520"/>
          </a:xfrm>
        </p:grpSpPr>
        <p:sp>
          <p:nvSpPr>
            <p:cNvPr id="139" name=""/>
            <p:cNvSpPr/>
            <p:nvPr/>
          </p:nvSpPr>
          <p:spPr>
            <a:xfrm>
              <a:off x="27432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480" y="3124080"/>
            <a:ext cx="304920" cy="533520"/>
            <a:chOff x="5181480" y="3124080"/>
            <a:chExt cx="304920" cy="533520"/>
          </a:xfrm>
        </p:grpSpPr>
        <p:sp>
          <p:nvSpPr>
            <p:cNvPr id="142" name=""/>
            <p:cNvSpPr/>
            <p:nvPr/>
          </p:nvSpPr>
          <p:spPr>
            <a:xfrm>
              <a:off x="51814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the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odifi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 valu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ethod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metho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810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odifi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hich i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ells the compiler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ow to call th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581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turnValue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data type of the value the method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057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57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35924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لتحديد نوع البيانات للقيمة الناتجة من تنفيذ الدالة، وتأخذ القيم الآتية: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hort, 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562720"/>
            <a:ext cx="83059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ف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بعض الحالات تقوم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أداء وظيفتها ولا تقوم ب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فى هذه الحالة يتم استخدام الكلمة المحجوز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895480"/>
            <a:ext cx="84582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لتحديد كيفية نداء الدالة، وغالبا ما يتم استخدام الكلمات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90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 that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s a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, and the method tha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es not return a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98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ethod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886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30440"/>
            <a:ext cx="8305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حوظة هامة: الدالة التى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والدالة التى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تقوم بإرجاع أى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343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م الدالة التى سيتم تعريفها بالبرنامج حيث يقو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بر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تحديد هذا الإسم وفقاً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لطبيعة عمل الدالة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0666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formal parameter (argument) lis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type, order, and number of the parameters of a method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905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قصد بها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قيم التى ستقوم الدالة بإستقب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بل بدء التنفيذ 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تكون إختيار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فى بعض الحالات لاتقوم الدالة بإستقبال أى قي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571640"/>
            <a:ext cx="830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01480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سم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هو عبارة عن مجموعة من التعليمات التى يتم كتابتها لإداء وظيفة محددة للدا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048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: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ابد أن تكون هذه القيم محصورة بي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وسين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لابد أن يتم تحديد نوع البيانات لها، فى حال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وجود أكثر من 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الفصل بينها بالعلامة (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كما يلى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46680"/>
            <a:ext cx="7467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thodName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value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value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819520"/>
            <a:ext cx="83059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0666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طباعة الرسالة ”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رات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على شاشة التنفيذ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عند 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459240"/>
            <a:ext cx="8001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وظيفة هذه الدالة عرض رسالة الترحي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7696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يتم تنفيذه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895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2895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895480"/>
            <a:ext cx="1523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403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181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186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1523880"/>
            <a:ext cx="2133720" cy="1295640"/>
            <a:chOff x="4343400" y="1523880"/>
            <a:chExt cx="2133720" cy="1295640"/>
          </a:xfrm>
        </p:grpSpPr>
        <p:sp>
          <p:nvSpPr>
            <p:cNvPr id="190" name=""/>
            <p:cNvSpPr/>
            <p:nvPr/>
          </p:nvSpPr>
          <p:spPr>
            <a:xfrm>
              <a:off x="43434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5720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790960" y="1523880"/>
            <a:ext cx="3276720" cy="1371600"/>
            <a:chOff x="5790960" y="1523880"/>
            <a:chExt cx="3276720" cy="1371600"/>
          </a:xfrm>
        </p:grpSpPr>
        <p:sp>
          <p:nvSpPr>
            <p:cNvPr id="194" name=""/>
            <p:cNvSpPr/>
            <p:nvPr/>
          </p:nvSpPr>
          <p:spPr>
            <a:xfrm>
              <a:off x="6248520" y="1752480"/>
              <a:ext cx="2819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 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790960" y="2209680"/>
              <a:ext cx="99036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48520" y="3505320"/>
            <a:ext cx="2666880" cy="914400"/>
            <a:chOff x="6248520" y="3505320"/>
            <a:chExt cx="2666880" cy="914400"/>
          </a:xfrm>
        </p:grpSpPr>
        <p:grpSp>
          <p:nvGrpSpPr>
            <p:cNvPr id="198" name=""/>
            <p:cNvGrpSpPr/>
            <p:nvPr/>
          </p:nvGrpSpPr>
          <p:grpSpPr>
            <a:xfrm>
              <a:off x="6248520" y="3505320"/>
              <a:ext cx="380880" cy="914400"/>
              <a:chOff x="6248520" y="3505320"/>
              <a:chExt cx="38088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6629400" y="3505320"/>
                <a:ext cx="0" cy="9144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248520" y="35053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248520" y="44197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477120" y="38052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590920" y="890640"/>
            <a:ext cx="624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895480"/>
            <a:ext cx="335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 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673440"/>
            <a:ext cx="76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860360"/>
            <a:ext cx="79250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لحوظة هامة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تم كتابة الد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باشرةً بعد الانتهاء من كتابة الدالة الرئيسي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بالبرنامج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2T10:32:59Z</dcterms:modified>
  <cp:revision>1949</cp:revision>
  <dc:subject>Programming Fundamentals</dc:subject>
  <dc:title>Chapter5: Methods</dc:title>
</cp:coreProperties>
</file>