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912A-8E96-4656-841A-3FE622FA0C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C45B-C409-4D1A-8345-9D38D95BE0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3E65-F4CE-4EDD-99E0-5C02EF637C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172A-0CB3-4714-B3EE-B1E51450B6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54A4-44F0-4BE6-9D40-A3A373DEED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FEFF-26B8-4479-AAFA-5DE3730495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15AF-DB1B-405B-9DB3-32CF01DCD0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7848-CE68-4965-909C-08075357B5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875F5-DC67-448D-B44D-0656712E32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A7C3F-82A7-4BBD-8F10-12BB756337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731AA-B4A7-46FB-86F3-63DBE54C05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A6D0-B112-426B-8E11-BA3D64FF44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4264-F05F-4D4B-8E0E-142131AF091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80920" y="30481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(5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9900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scope of a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part of the program wher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ble can be referenc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6.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 Scope of Variabl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813320"/>
            <a:ext cx="883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عتبر تعريف المتغيرات جزء أساسى من البرنامج ، حيث يتم من خلال هذا التعريف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تحديد مجال هذه المتغير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وكيفية الوصول للقيم المخزنة بها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داخل البرنام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2920" y="3123360"/>
            <a:ext cx="842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able defin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side a meth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referred to a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cal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794760"/>
            <a:ext cx="883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جد أن المتغيرات التى يتم تعريفها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داخل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ُسمى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المتغيرات المحل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أى ان هذه المتغيرات تكون 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Arial"/>
              </a:rPr>
              <a:t>مُعرفه داخل الدالة فقط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لا يمكن استخدامها خارج الدالة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6.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 Scope of Variabl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2118240"/>
            <a:ext cx="883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جد أن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حدود التعامل مع هذه المتغيرات المحل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بدأ من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تعريف المتغير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ينتهى مع نهاية الجزء الذى تم به تعريف هذه المتغيرات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end of block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0280" y="989640"/>
            <a:ext cx="8655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ope of a local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ar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i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in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d of the block that contain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9520" y="3428280"/>
            <a:ext cx="840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arameter is actually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cal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 scope of a method parameter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overs the entire meth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4191120"/>
            <a:ext cx="8839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جد أن المتغيرات التابعة للدالة(التى تم تعريفها بالـ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ethod heade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ُصنف على أنها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تغيرات محل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، وبالتالى حدود التعامل لهذه المتغيرات يكون محصوراً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فقط داخل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6. The Scope of Variables 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: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0" y="12952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129528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1295280"/>
            <a:ext cx="1676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thod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53080" y="1295280"/>
            <a:ext cx="2210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752480"/>
            <a:ext cx="1828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2362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i&lt;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2711520"/>
            <a:ext cx="1828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276720"/>
            <a:ext cx="6629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j 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3701880"/>
            <a:ext cx="1828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4083120"/>
            <a:ext cx="1828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4540320"/>
            <a:ext cx="4267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62320" y="5302080"/>
            <a:ext cx="4267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319480" y="2590920"/>
            <a:ext cx="271440" cy="2133360"/>
            <a:chOff x="2319480" y="2590920"/>
            <a:chExt cx="271440" cy="2133360"/>
          </a:xfrm>
        </p:grpSpPr>
        <p:sp>
          <p:nvSpPr>
            <p:cNvPr id="256" name=""/>
            <p:cNvSpPr/>
            <p:nvPr/>
          </p:nvSpPr>
          <p:spPr>
            <a:xfrm flipV="1">
              <a:off x="2319480" y="2590920"/>
              <a:ext cx="0" cy="21333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19480" y="4724280"/>
              <a:ext cx="27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19480" y="2590920"/>
              <a:ext cx="27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76320" y="3459240"/>
            <a:ext cx="2361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cope of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800240" y="3505320"/>
            <a:ext cx="228960" cy="1371600"/>
            <a:chOff x="4800240" y="3505320"/>
            <a:chExt cx="228960" cy="1371600"/>
          </a:xfrm>
        </p:grpSpPr>
        <p:sp>
          <p:nvSpPr>
            <p:cNvPr id="261" name=""/>
            <p:cNvSpPr/>
            <p:nvPr/>
          </p:nvSpPr>
          <p:spPr>
            <a:xfrm flipV="1">
              <a:off x="5029200" y="3505320"/>
              <a:ext cx="0" cy="13716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800240" y="487692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800240" y="350532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105520" y="3962520"/>
            <a:ext cx="2361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cope of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514600" y="12952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129528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1295280"/>
            <a:ext cx="1676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thod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1295280"/>
            <a:ext cx="2210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3200400"/>
            <a:ext cx="6629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i &lt;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4114800"/>
            <a:ext cx="4267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4800600"/>
            <a:ext cx="4267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285640" y="2057400"/>
            <a:ext cx="305280" cy="2971440"/>
            <a:chOff x="2285640" y="2057400"/>
            <a:chExt cx="305280" cy="2971440"/>
          </a:xfrm>
        </p:grpSpPr>
        <p:sp>
          <p:nvSpPr>
            <p:cNvPr id="273" name=""/>
            <p:cNvSpPr/>
            <p:nvPr/>
          </p:nvSpPr>
          <p:spPr>
            <a:xfrm flipV="1">
              <a:off x="2285640" y="2057400"/>
              <a:ext cx="0" cy="297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502884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05740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6320" y="3459240"/>
            <a:ext cx="2361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cope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i , s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19520" y="1812960"/>
            <a:ext cx="2895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19520" y="2346480"/>
            <a:ext cx="2895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sum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3718080"/>
            <a:ext cx="2895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m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=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 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267080" y="2209680"/>
            <a:ext cx="4114800" cy="1067040"/>
            <a:chOff x="4267080" y="2209680"/>
            <a:chExt cx="4114800" cy="1067040"/>
          </a:xfrm>
        </p:grpSpPr>
        <p:sp>
          <p:nvSpPr>
            <p:cNvPr id="281" name=""/>
            <p:cNvSpPr/>
            <p:nvPr/>
          </p:nvSpPr>
          <p:spPr>
            <a:xfrm>
              <a:off x="5410080" y="2209680"/>
              <a:ext cx="297180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t is wrong to declare  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 two nesting bloc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267080" y="2666880"/>
              <a:ext cx="114300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581280" y="3276720"/>
            <a:ext cx="762120" cy="38088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6. The Scope of Variables 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: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828800" y="10666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106668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1066680"/>
            <a:ext cx="1676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thod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1066680"/>
            <a:ext cx="2210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2178000"/>
            <a:ext cx="6629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i &lt;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3092400"/>
            <a:ext cx="4267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5378400"/>
            <a:ext cx="4267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599840" y="1828800"/>
            <a:ext cx="305280" cy="3809520"/>
            <a:chOff x="1599840" y="1828800"/>
            <a:chExt cx="305280" cy="3809520"/>
          </a:xfrm>
        </p:grpSpPr>
        <p:sp>
          <p:nvSpPr>
            <p:cNvPr id="293" name=""/>
            <p:cNvSpPr/>
            <p:nvPr/>
          </p:nvSpPr>
          <p:spPr>
            <a:xfrm flipV="1">
              <a:off x="1599840" y="1828800"/>
              <a:ext cx="0" cy="38095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00200" y="56383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00200" y="182880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-152280" y="3230640"/>
            <a:ext cx="1904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cop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33720" y="1584360"/>
            <a:ext cx="2895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x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, y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2695680"/>
            <a:ext cx="2895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=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 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2971800"/>
            <a:ext cx="2971800" cy="609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fine to declare i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non-nest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6. The Scope of Variables 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: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33720" y="3809880"/>
            <a:ext cx="6629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i &lt;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09680" y="4724280"/>
            <a:ext cx="4267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90920" y="4327560"/>
            <a:ext cx="2895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=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 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105520" y="2666880"/>
            <a:ext cx="914400" cy="1143000"/>
            <a:chOff x="5105520" y="2666880"/>
            <a:chExt cx="914400" cy="1143000"/>
          </a:xfrm>
        </p:grpSpPr>
        <p:sp>
          <p:nvSpPr>
            <p:cNvPr id="305" name=""/>
            <p:cNvSpPr/>
            <p:nvPr/>
          </p:nvSpPr>
          <p:spPr>
            <a:xfrm flipH="1" flipV="1">
              <a:off x="5181120" y="2666880"/>
              <a:ext cx="83844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105520" y="3200400"/>
              <a:ext cx="91440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90720" y="144792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144792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447920"/>
            <a:ext cx="1676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thod4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1447920"/>
            <a:ext cx="2209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371600" y="2438280"/>
            <a:ext cx="6629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i &lt;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3444840"/>
            <a:ext cx="4267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419720"/>
            <a:ext cx="4267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2987640"/>
            <a:ext cx="2895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m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=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 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6. The Scope of Variables 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: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914400"/>
            <a:ext cx="8305920" cy="4572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اهو ناتج تنفيذ البرنامج الآت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1933560"/>
            <a:ext cx="2895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sum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3962520"/>
            <a:ext cx="5029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5105520"/>
            <a:ext cx="8077320" cy="106668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ff"/>
                </a:solidFill>
                <a:latin typeface="Arial"/>
              </a:rPr>
              <a:t>ناتج تنفيذ البرنامج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yntax error because variable</a:t>
            </a: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not defined outside of the</a:t>
            </a: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op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2280" y="913320"/>
            <a:ext cx="8915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can b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overloa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is means you can create another method with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e 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ut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ifferent parameters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304920"/>
            <a:ext cx="876276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7. Overloading Method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1766880"/>
            <a:ext cx="8534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فكرة الرئيسية من عملية الـ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overloading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هى إمكانية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تعريف نفس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أكثر من مرة بالبرنامج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حيث يتم استخدام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فس اسم الدالة فى التعريف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ولكن يُشترط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ن تكون المتغيرات المعرفة بالدالة مختلفة فى نوع البيانات والعدد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3168720"/>
            <a:ext cx="8610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لى سبيل المثال : يمكن تعريف الدالة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حيث تستقبل العددين من النوع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وتعريف نفس الدالة مرة أخرى بالبرنامج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تستقبل العددين من النوع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oubl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ما يلى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46324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463248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352680" y="4616280"/>
            <a:ext cx="1676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91120" y="4632480"/>
            <a:ext cx="3809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x ,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   .....    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53020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66880" y="530208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86200" y="5302080"/>
            <a:ext cx="1676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48320" y="5302080"/>
            <a:ext cx="38098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x ,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62120" y="5715000"/>
            <a:ext cx="38098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....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4495680"/>
            <a:ext cx="82296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52280" y="1096200"/>
            <a:ext cx="891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compiler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etermin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method is us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ased on the method signa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ethod head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304920"/>
            <a:ext cx="876276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7. Overloading Method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1646280"/>
            <a:ext cx="8534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جد أنه عند نداء الدالة يقوم ال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بتحديد الدالة المناسب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يتم ندائها وفقاً للمتغيرات المرسلة (من الدالة الرئيسي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 (أى يتم مطابقة نداء الدالة مع الدوال التى تم تعريفها لتحديد الدالة التى سيتم تنفيذها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2280" y="2651400"/>
            <a:ext cx="861084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ثال : يمكننا كتابة تعريف الدالة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بثلاثة طرق كما يل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2440" algn="r" rtl="1">
              <a:lnSpc>
                <a:spcPct val="100000"/>
              </a:lnSpc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  <a:ea typeface="Arial"/>
              </a:rPr>
              <a:t> 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ea typeface="Arial"/>
              </a:rPr>
              <a:t> بحيث تستقبل العددين من النوع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i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ea typeface="Arial"/>
              </a:rPr>
              <a:t> 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2440" algn="r" rtl="1">
              <a:lnSpc>
                <a:spcPct val="100000"/>
              </a:lnSpc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ea typeface="Arial"/>
              </a:rPr>
              <a:t> بحيث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تستقبل العددين من النوع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  <a:ea typeface="Arial"/>
              </a:rPr>
              <a:t>doubl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،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2440" algn="r" rtl="1">
              <a:lnSpc>
                <a:spcPct val="100000"/>
              </a:lnSpc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  <a:ea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ea typeface="Arial"/>
              </a:rPr>
              <a:t> بحيث تستقبل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  <a:ea typeface="Arial"/>
              </a:rPr>
              <a:t>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  <a:cs typeface="Arial"/>
              </a:rPr>
              <a:t>ثلاثة اعداد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  <a:ea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من النوع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  <a:ea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  <a:ea typeface="Arial"/>
              </a:rPr>
              <a:t>.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  <a:ea typeface="Arial"/>
              </a:rPr>
              <a:t>dou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7. Overloading Methods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                  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133720" y="829800"/>
            <a:ext cx="678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 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 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121932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43200" y="1219320"/>
            <a:ext cx="685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29000" y="1219320"/>
            <a:ext cx="99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16765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x &gt;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205740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251460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32767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1219320"/>
            <a:ext cx="3352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1235160"/>
            <a:ext cx="8153280" cy="249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05120" y="281952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0" y="3785760"/>
            <a:ext cx="678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 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 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41752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95480" y="417528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4159080"/>
            <a:ext cx="990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46324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x &gt;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501336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547056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623268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4159080"/>
            <a:ext cx="3886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4191120"/>
            <a:ext cx="8001000" cy="249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57400" y="577548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920" y="304920"/>
            <a:ext cx="876276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7. Overloading Methods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                  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860400"/>
            <a:ext cx="79246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x 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x ,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y,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z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182880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38280" y="182880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81280" y="182880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251460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( x &gt; y) &amp;&amp; (x &gt; z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295596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33526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571500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1828800"/>
            <a:ext cx="457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z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1844640"/>
            <a:ext cx="8381880" cy="44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22096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66680" y="380988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( y &gt; x) &amp;&amp; (y &gt; z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00200" y="425124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90720" y="46483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502920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447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ssing Parameters by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Valu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5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1240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Overloading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Method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362320"/>
            <a:ext cx="7772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6.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Scop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of Variabl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8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962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8.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Math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Clas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9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380880" y="990720"/>
            <a:ext cx="8534160" cy="5333400"/>
            <a:chOff x="380880" y="990720"/>
            <a:chExt cx="8534160" cy="5333400"/>
          </a:xfrm>
        </p:grpSpPr>
        <p:sp>
          <p:nvSpPr>
            <p:cNvPr id="378" name=""/>
            <p:cNvSpPr/>
            <p:nvPr/>
          </p:nvSpPr>
          <p:spPr>
            <a:xfrm>
              <a:off x="380880" y="1336680"/>
              <a:ext cx="8534160" cy="498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0880" y="990720"/>
              <a:ext cx="8534160" cy="3459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09480" y="13716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Max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19051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7. Overloading Methods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                  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24480" y="2590920"/>
            <a:ext cx="190512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4400" y="2575080"/>
            <a:ext cx="7772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number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+  max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14400" y="3260880"/>
            <a:ext cx="792468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number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+ max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.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24480" y="3276720"/>
            <a:ext cx="205740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352680" y="4038480"/>
            <a:ext cx="3124440" cy="53352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480060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number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+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403848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 max 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.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3.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62120" y="5410080"/>
            <a:ext cx="716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380880" y="457200"/>
            <a:ext cx="8457840" cy="6248160"/>
            <a:chOff x="380880" y="457200"/>
            <a:chExt cx="8457840" cy="6248160"/>
          </a:xfrm>
        </p:grpSpPr>
        <p:sp>
          <p:nvSpPr>
            <p:cNvPr id="392" name=""/>
            <p:cNvSpPr/>
            <p:nvPr/>
          </p:nvSpPr>
          <p:spPr>
            <a:xfrm>
              <a:off x="380880" y="862560"/>
              <a:ext cx="8457840" cy="58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0880" y="457200"/>
              <a:ext cx="8457840" cy="4053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28800" y="83808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تعريف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ma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121932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1219320"/>
            <a:ext cx="685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1219320"/>
            <a:ext cx="990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17524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x &gt;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447920" y="220968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5909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35268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67080" y="1219320"/>
            <a:ext cx="3353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1219320"/>
            <a:ext cx="7772400" cy="259056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23880" y="2971800"/>
            <a:ext cx="198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457200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x &gt;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502920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54100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615636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2120" y="3886200"/>
            <a:ext cx="7848360" cy="274320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5791320"/>
            <a:ext cx="198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382572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819520" y="3825720"/>
            <a:ext cx="144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3809880"/>
            <a:ext cx="99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00600" y="3809880"/>
            <a:ext cx="3886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41911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380880" y="457200"/>
            <a:ext cx="8534160" cy="5867280"/>
            <a:chOff x="380880" y="457200"/>
            <a:chExt cx="8534160" cy="5867280"/>
          </a:xfrm>
        </p:grpSpPr>
        <p:sp>
          <p:nvSpPr>
            <p:cNvPr id="417" name=""/>
            <p:cNvSpPr/>
            <p:nvPr/>
          </p:nvSpPr>
          <p:spPr>
            <a:xfrm>
              <a:off x="380880" y="838080"/>
              <a:ext cx="85341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0880" y="457200"/>
              <a:ext cx="85341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828800" y="83808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تعريف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ma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1295280"/>
            <a:ext cx="8305560" cy="411480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3520" y="129528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38280" y="129528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129528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6680" y="198108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( x &gt; y) &amp;&amp; (x &gt; z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600200" y="242244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90720" y="28195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49528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343400" y="1295280"/>
            <a:ext cx="457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z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3520" y="16765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066680" y="327672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( y &gt; x) &amp;&amp; (y &gt; z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600200" y="371808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90720" y="411480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449568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571500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52280" y="913680"/>
            <a:ext cx="891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a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contains the methods needed to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erform basic mathematical functions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8.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 Math Clas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1432080"/>
            <a:ext cx="8534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حتوى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lass Math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لى مجموعة من الدوال لمعالجة العمليات الرياضية،  وتعتبر هذه الدوال من الدوال الجاهزة والمعرفة بالجافا، ليتم استخدامها فقط بالبرنامج. أمثلة لبعض من هذه الدوا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2734920"/>
            <a:ext cx="80010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il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)  </a:t>
            </a:r>
            <a:r>
              <a:rPr b="1" lang="en-US" sz="21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100" spc="-1" strike="noStrike">
                <a:solidFill>
                  <a:srgbClr val="4d4d4d"/>
                </a:solidFill>
                <a:latin typeface="Arial"/>
              </a:rPr>
              <a:t>تقريب الكسر للعدد الأكبر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3520" y="3444480"/>
            <a:ext cx="8001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x: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(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ceil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.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);  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7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43000" y="3992400"/>
            <a:ext cx="8001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(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ceil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-2.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); 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-2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4563720"/>
            <a:ext cx="83055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lo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)  </a:t>
            </a:r>
            <a:r>
              <a:rPr b="1" lang="en-US" sz="21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100" spc="-1" strike="noStrike">
                <a:solidFill>
                  <a:srgbClr val="4d4d4d"/>
                </a:solidFill>
                <a:latin typeface="Arial"/>
              </a:rPr>
              <a:t>تقريب الكسر للعدد الأصغر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" y="5349600"/>
            <a:ext cx="8001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x: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(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floor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.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);  //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5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5897160"/>
            <a:ext cx="8001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(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floor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-2.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); //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-3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8.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 Math Clas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أمثلة لبعض من هذه الدوا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3520" y="91404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ow (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x,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1447560"/>
            <a:ext cx="8001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x: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(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pow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);  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9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1965960"/>
            <a:ext cx="81536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public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rt 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doubl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)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ايجاد الجذر التربيعى للعدد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8080" y="2666880"/>
            <a:ext cx="8001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x: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(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sqrt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);  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6320" y="3275640"/>
            <a:ext cx="8915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s ar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verloa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inim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im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numbers between two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lo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loat, or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4601880"/>
            <a:ext cx="8001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x: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max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;  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19320" y="5135400"/>
            <a:ext cx="50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max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.5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;  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5668560"/>
            <a:ext cx="50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min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.5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3.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;  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8.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 Math Clas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أمثلة لبعض من هذه الدوا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823680"/>
            <a:ext cx="89154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nd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s :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gener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rando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greater than or equ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0.0 and less than 1.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random() &lt;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توليد أرقام عشوائية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2285640"/>
            <a:ext cx="8001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x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143000" y="2590200"/>
            <a:ext cx="762012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random(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;  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return  a random integer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    betwe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" y="350496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4110120"/>
            <a:ext cx="7620120" cy="793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M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random(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turn  a random number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             betwe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+ b -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5014440"/>
            <a:ext cx="761976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M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random(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;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returns  a random integer  betwee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0880" y="1066680"/>
            <a:ext cx="8458200" cy="91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11430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and correct the errors in the following progra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مطلوب تحديد الأخطاء الموجودة بالبرنامج وتعديلها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205740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ublic class Test {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xMethod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.4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t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xMetho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n, m) {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n &gt; 0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1;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8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else if (n == 0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0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9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else if (n &lt; 0)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1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1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}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22860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) ماهو ناتج تنفيذ البرنامج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838080"/>
            <a:ext cx="8076960" cy="563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ublic class Test {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i = 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le ( i &lt;=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xMetho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i ,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xMethod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 ,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num) {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j =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 j&lt;=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 j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(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" 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22860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) ناتج تنفيذ البرنامج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90720" y="1219320"/>
            <a:ext cx="67816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    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     4     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     4      8     16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837000"/>
            <a:ext cx="8686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rgu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match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ame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atible 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s defined in the method signature(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ethod hea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. Passing Parameters by Valu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949760"/>
            <a:ext cx="8534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لحوظة ها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عند نداء الدالة لابد أن يت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إلتزام بالقيم(المعاملات) التى سيتم إرسال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حيث تكون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بنفس الترتي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العدد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من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نفس نوع البيان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م تعريفها بالدالة(أى كما تم تعريفها بالـ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method heade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58020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vok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method with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ame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value of the argument  is passed to the parameter. This is referred to as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pass-by-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692960"/>
            <a:ext cx="8534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ند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وإرسال قيم المتغيرات ل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 يتم إستقبال هذه القيم وفقاً لترتيب المتغيرات التى تم تعريفها بالدالة بحيث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يتم إسناد هذه القيم لكل متغي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بدء التنفيذ بالدالة، وتُسمى هذه العملية (</a:t>
            </a: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pass-by-valu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9900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riabl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 aff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gardl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an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de to the parameter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inside the meth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. Passing Parameters by Valu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537920"/>
            <a:ext cx="83055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جد أن القيم التى يتم ارسالها من (الدالة الرئيسية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لا تتغير قيمت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 ولكن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يمكن أن يحدث التغيي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قيمة هذه المتغيرات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داخل الدالة فقط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ند بدء تنفيذها. (أى أن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تأثير التغيير على قيم المتغيرات يكون 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Arial"/>
              </a:rPr>
              <a:t>داخل الدالة فقط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بحيث تظل قيم هذه المتغيرات كما هى بالدالة الرئيسي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657600"/>
            <a:ext cx="8229600" cy="259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65760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مثال توضيحى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عطى المتغيرات التالية: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x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, y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برنامج يقوم بنداء الدال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قوم بإستقبال العددي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, x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بديل القيم التى تم تخزينها بالمتغيرين وطباعتهما بعد التبديل، كما يلى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umbers after swap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251460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2514600"/>
            <a:ext cx="144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2482920"/>
            <a:ext cx="1219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a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2971800"/>
            <a:ext cx="1828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tem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344484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mp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60958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920" y="1447920"/>
            <a:ext cx="1904760" cy="1142640"/>
            <a:chOff x="304920" y="1447920"/>
            <a:chExt cx="1904760" cy="1142640"/>
          </a:xfrm>
        </p:grpSpPr>
        <p:sp>
          <p:nvSpPr>
            <p:cNvPr id="126" name=""/>
            <p:cNvSpPr/>
            <p:nvPr/>
          </p:nvSpPr>
          <p:spPr>
            <a:xfrm>
              <a:off x="304920" y="1649520"/>
              <a:ext cx="144756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7d"/>
                  </a:solidFill>
                  <a:latin typeface="Arial"/>
                </a:rPr>
                <a:t>modifi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1447920"/>
              <a:ext cx="304560" cy="26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95280" y="2052720"/>
              <a:ext cx="152640" cy="470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95280" y="2052720"/>
              <a:ext cx="914400" cy="53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52480" y="1447920"/>
            <a:ext cx="2590920" cy="1066320"/>
            <a:chOff x="1752480" y="1447920"/>
            <a:chExt cx="2590920" cy="1066320"/>
          </a:xfrm>
        </p:grpSpPr>
        <p:sp>
          <p:nvSpPr>
            <p:cNvPr id="131" name=""/>
            <p:cNvSpPr/>
            <p:nvPr/>
          </p:nvSpPr>
          <p:spPr>
            <a:xfrm>
              <a:off x="1752480" y="1647720"/>
              <a:ext cx="25909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returnValueType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1447920"/>
              <a:ext cx="304560" cy="266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8120" y="2047680"/>
              <a:ext cx="152280" cy="466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191120" y="1447920"/>
            <a:ext cx="2133360" cy="1142640"/>
            <a:chOff x="4191120" y="1447920"/>
            <a:chExt cx="2133360" cy="1142640"/>
          </a:xfrm>
        </p:grpSpPr>
        <p:sp>
          <p:nvSpPr>
            <p:cNvPr id="135" name=""/>
            <p:cNvSpPr/>
            <p:nvPr/>
          </p:nvSpPr>
          <p:spPr>
            <a:xfrm>
              <a:off x="4191120" y="1649520"/>
              <a:ext cx="213336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methodName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5160" y="1447920"/>
              <a:ext cx="304560" cy="26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419000" y="2052720"/>
              <a:ext cx="380520" cy="53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095880" y="1371600"/>
            <a:ext cx="2286000" cy="1218960"/>
            <a:chOff x="6095880" y="1371600"/>
            <a:chExt cx="2286000" cy="1218960"/>
          </a:xfrm>
        </p:grpSpPr>
        <p:sp>
          <p:nvSpPr>
            <p:cNvPr id="139" name=""/>
            <p:cNvSpPr/>
            <p:nvPr/>
          </p:nvSpPr>
          <p:spPr>
            <a:xfrm>
              <a:off x="6476760" y="1574640"/>
              <a:ext cx="19051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parameters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96080" y="1371600"/>
              <a:ext cx="304560" cy="27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095880" y="1981080"/>
              <a:ext cx="83808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705360" y="3200400"/>
            <a:ext cx="2438280" cy="3047400"/>
            <a:chOff x="6705360" y="3200400"/>
            <a:chExt cx="2438280" cy="3047400"/>
          </a:xfrm>
        </p:grpSpPr>
        <p:grpSp>
          <p:nvGrpSpPr>
            <p:cNvPr id="143" name=""/>
            <p:cNvGrpSpPr/>
            <p:nvPr/>
          </p:nvGrpSpPr>
          <p:grpSpPr>
            <a:xfrm>
              <a:off x="6705360" y="3200400"/>
              <a:ext cx="348480" cy="3047400"/>
              <a:chOff x="6705360" y="3200400"/>
              <a:chExt cx="348480" cy="3047400"/>
            </a:xfrm>
          </p:grpSpPr>
          <p:sp>
            <p:nvSpPr>
              <p:cNvPr id="144" name=""/>
              <p:cNvSpPr/>
              <p:nvPr/>
            </p:nvSpPr>
            <p:spPr>
              <a:xfrm>
                <a:off x="7053840" y="3200400"/>
                <a:ext cx="0" cy="30474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6705360" y="3200400"/>
                <a:ext cx="348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6705360" y="6247800"/>
                <a:ext cx="348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914520" y="4204080"/>
              <a:ext cx="22291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ethod body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057400" y="631800"/>
            <a:ext cx="67816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ap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um1,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um2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2482920"/>
            <a:ext cx="41911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1 ,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num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1981080"/>
            <a:ext cx="761760" cy="609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397836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451152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2 =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tem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49528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After Swap :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5349960"/>
            <a:ext cx="556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1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 num1 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2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5335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892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990720"/>
            <a:ext cx="41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y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1447920"/>
            <a:ext cx="647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1905120"/>
            <a:ext cx="1981080" cy="76176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1447920"/>
            <a:ext cx="2057400" cy="761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 by Valu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إرسال القيم للد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3" idx="1"/>
            <a:endCxn id="159" idx="1"/>
          </p:cNvCxnSpPr>
          <p:nvPr/>
        </p:nvCxnSpPr>
        <p:spPr>
          <a:xfrm flipH="1" rot="10800000">
            <a:off x="837000" y="1675800"/>
            <a:ext cx="1677240" cy="1211760"/>
          </a:xfrm>
          <a:prstGeom prst="bentConnector3">
            <a:avLst>
              <a:gd name="adj1" fmla="val -13632"/>
            </a:avLst>
          </a:prstGeom>
          <a:ln w="2232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181480" y="2286000"/>
            <a:ext cx="381240" cy="380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2666880"/>
            <a:ext cx="8458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5228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: 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نداء الدالة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wap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لبدء تنفيذها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65104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265104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635200"/>
            <a:ext cx="1219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a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617220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2635200"/>
            <a:ext cx="4038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um1 ,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um2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31240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m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358128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mp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403848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449568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2 =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tem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1905120"/>
            <a:ext cx="2514600" cy="76176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286000"/>
            <a:ext cx="380880" cy="380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49528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After Swap :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410080"/>
            <a:ext cx="716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1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2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180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wap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0948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swapNum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286000"/>
            <a:ext cx="6019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y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3565440"/>
            <a:ext cx="41907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wa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  ,  y 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289548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نداء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wap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()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وارسال العددين لها ليتم بدء تنفيذها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4343400"/>
            <a:ext cx="7848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numbers after calling method:”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5943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505320"/>
            <a:ext cx="2895480" cy="593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4861080"/>
            <a:ext cx="7620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5394240"/>
            <a:ext cx="7620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80880" y="457200"/>
            <a:ext cx="8305560" cy="6171480"/>
            <a:chOff x="380880" y="457200"/>
            <a:chExt cx="8305560" cy="6171480"/>
          </a:xfrm>
        </p:grpSpPr>
        <p:sp>
          <p:nvSpPr>
            <p:cNvPr id="194" name=""/>
            <p:cNvSpPr/>
            <p:nvPr/>
          </p:nvSpPr>
          <p:spPr>
            <a:xfrm>
              <a:off x="380880" y="857520"/>
              <a:ext cx="8305560" cy="57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880" y="457200"/>
              <a:ext cx="8305560" cy="4003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wap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828800" y="83808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تعريف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w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5943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295280"/>
            <a:ext cx="7696440" cy="449604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2952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29528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295280"/>
            <a:ext cx="1218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a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525780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8320" y="1295280"/>
            <a:ext cx="36576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um1,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num2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1296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m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228600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mp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281952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335268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2 =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tem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38098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After Swap :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4359240"/>
            <a:ext cx="716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1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2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: 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ناتج تنفيذ البرنامج عند نداء الدالة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a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990720"/>
            <a:ext cx="8229600" cy="403848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219320"/>
            <a:ext cx="2743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After Swap 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173664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1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209680"/>
            <a:ext cx="228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2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3108240"/>
            <a:ext cx="7848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numbers after calling method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3565440"/>
            <a:ext cx="1905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4038480"/>
            <a:ext cx="175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876560" y="1219320"/>
            <a:ext cx="3600720" cy="1371600"/>
            <a:chOff x="4876560" y="1219320"/>
            <a:chExt cx="3600720" cy="1371600"/>
          </a:xfrm>
        </p:grpSpPr>
        <p:grpSp>
          <p:nvGrpSpPr>
            <p:cNvPr id="219" name=""/>
            <p:cNvGrpSpPr/>
            <p:nvPr/>
          </p:nvGrpSpPr>
          <p:grpSpPr>
            <a:xfrm>
              <a:off x="4876560" y="1219320"/>
              <a:ext cx="347760" cy="1371600"/>
              <a:chOff x="4876560" y="1219320"/>
              <a:chExt cx="347760" cy="137160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219320"/>
                <a:ext cx="0" cy="13716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876560" y="1219320"/>
                <a:ext cx="3474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876560" y="2590920"/>
                <a:ext cx="3474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5181480" y="1671480"/>
              <a:ext cx="32958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عند نداء الدالة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wap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933800" y="3108240"/>
            <a:ext cx="3619800" cy="1844640"/>
            <a:chOff x="4933800" y="3108240"/>
            <a:chExt cx="3619800" cy="1844640"/>
          </a:xfrm>
        </p:grpSpPr>
        <p:grpSp>
          <p:nvGrpSpPr>
            <p:cNvPr id="225" name=""/>
            <p:cNvGrpSpPr/>
            <p:nvPr/>
          </p:nvGrpSpPr>
          <p:grpSpPr>
            <a:xfrm>
              <a:off x="4933800" y="3108240"/>
              <a:ext cx="347760" cy="1371600"/>
              <a:chOff x="4933800" y="3108240"/>
              <a:chExt cx="347760" cy="1371600"/>
            </a:xfrm>
          </p:grpSpPr>
          <p:sp>
            <p:nvSpPr>
              <p:cNvPr id="226" name=""/>
              <p:cNvSpPr/>
              <p:nvPr/>
            </p:nvSpPr>
            <p:spPr>
              <a:xfrm>
                <a:off x="5281560" y="3108240"/>
                <a:ext cx="0" cy="13716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4933800" y="3108240"/>
                <a:ext cx="3477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4933800" y="4479840"/>
                <a:ext cx="3477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5257800" y="3184560"/>
              <a:ext cx="3295800" cy="17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بعد تنفيذ الدالة يتم الرجوع لمواصلة تنفيذ التعليمات الموجودة بالدالة الرئيسية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وطباعة الآتى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8458200" y="1676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534520" y="3200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HIND-SW</dc:creator>
  <dc:description/>
  <dc:language>en-US</dc:language>
  <cp:lastModifiedBy>Yahia</cp:lastModifiedBy>
  <dcterms:modified xsi:type="dcterms:W3CDTF">2011-06-29T06:12:10Z</dcterms:modified>
  <cp:revision>2418</cp:revision>
  <dc:subject>Programming Fundamentals</dc:subject>
  <dc:title>Chapter5: Methods</dc:title>
</cp:coreProperties>
</file>