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F56E-3BB4-477D-ADDC-CE3F447687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66C9-C459-4DB4-935C-212647F99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EF42-D605-4631-953C-D662ADFE56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2FD1-D825-42AA-A3A7-A586FC810E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CA41-C0AE-4B8B-845B-95CD893AA9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7F2D-DD01-4708-B537-FA3065090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47C5-924A-4030-AB49-CC6614623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198D-C585-40A5-9AD4-98A868C7A8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1931-3474-456B-A775-FC5539A38A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F31D-8125-49CB-BD8F-CAE311B17F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CE35-4CF2-4E75-855A-FDDC683E4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5335-7EC0-46E3-9702-6C180358F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2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21A0-EA4E-4FB1-89DD-D1CE6EADC8B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3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3716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case statements ar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hecke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sequential order, it is good programming style to follow the logical sequence of the cases and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place the default case at the en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2438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يتم تنفيذ عبارات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وفقاً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لتسلسل كتابتها بالبرنامج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 من الطرق المفضلة لكتابة تعليمة الاختيار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هو أن </a:t>
            </a:r>
            <a:r>
              <a:rPr b="1" lang="ar-SA" sz="2300" spc="-1" strike="noStrike" u="sng">
                <a:solidFill>
                  <a:srgbClr val="0000ff"/>
                </a:solidFill>
                <a:uFillTx/>
                <a:latin typeface="Arial"/>
              </a:rPr>
              <a:t>يتم البدء بكتابة جميع الخيارات المتوقع تنفيذها بكل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عبارة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ثم بعد ذلك </a:t>
            </a:r>
            <a:r>
              <a:rPr b="1" lang="ar-SA" sz="2300" spc="-1" strike="noStrike" u="sng">
                <a:solidFill>
                  <a:srgbClr val="ff0000"/>
                </a:solidFill>
                <a:uFillTx/>
                <a:latin typeface="Arial"/>
              </a:rPr>
              <a:t>يتم انهاءعبارة الـ </a:t>
            </a:r>
            <a:r>
              <a:rPr b="1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switch</a:t>
            </a:r>
            <a:r>
              <a:rPr b="1" lang="ar-SA" sz="2300" spc="-1" strike="noStrike" u="sng">
                <a:solidFill>
                  <a:srgbClr val="ff0000"/>
                </a:solidFill>
                <a:uFillTx/>
                <a:latin typeface="Arial"/>
              </a:rPr>
              <a:t> بكتابة الـ </a:t>
            </a:r>
            <a:r>
              <a:rPr b="1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default case</a:t>
            </a:r>
            <a:r>
              <a:rPr b="0" lang="ar-SA" sz="23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3893760"/>
            <a:ext cx="175248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3885840"/>
            <a:ext cx="373392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3901680"/>
            <a:ext cx="106668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095880"/>
            <a:ext cx="571500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43430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43430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359240"/>
            <a:ext cx="449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4647960"/>
            <a:ext cx="12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0288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50288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045040"/>
            <a:ext cx="449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5317920"/>
            <a:ext cx="12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5638680"/>
            <a:ext cx="1143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5654520"/>
            <a:ext cx="556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rror number, try agai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1066680"/>
            <a:ext cx="8077320" cy="5029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163520"/>
            <a:ext cx="77724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 بإستخدام تعليمة الاختيار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كتب برنامج يطلب من المستخدم ادخال عدد صحيح من النوع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مثل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رقم القسم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كلية علوم الحاسوب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يقوم البرنامج بطباع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سم القسم وفقاً للخيارت التالية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37096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mputer Scienc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301716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formation Technolog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70296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etworks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31244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oftware Engineering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4937760"/>
            <a:ext cx="777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ادخال أى رقم غير الأرقام الموضحة اعلاه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rror number, try ag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05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Dep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Dep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90060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start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3809880"/>
            <a:ext cx="7696080" cy="2743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433760"/>
            <a:ext cx="69343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Computer Scienc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495288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5500800"/>
            <a:ext cx="73152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100" spc="-1" strike="noStrike">
                <a:solidFill>
                  <a:srgbClr val="00007d"/>
                </a:solidFill>
                <a:latin typeface="Arial"/>
              </a:rPr>
              <a:t>Information Technolog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6019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21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Dep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914400" y="1371600"/>
            <a:ext cx="7696080" cy="4114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160020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etwork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211932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2819520"/>
            <a:ext cx="73152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oftware Engineering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3864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038480"/>
            <a:ext cx="73911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error number, try ag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470844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end of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5638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6110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762120"/>
            <a:ext cx="8077320" cy="3886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1143000"/>
            <a:ext cx="7543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ch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'a'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173844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ch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'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09480" y="762120"/>
            <a:ext cx="8305560" cy="5638320"/>
            <a:chOff x="609480" y="762120"/>
            <a:chExt cx="8305560" cy="5638320"/>
          </a:xfrm>
        </p:grpSpPr>
        <p:sp>
          <p:nvSpPr>
            <p:cNvPr id="338" name=""/>
            <p:cNvSpPr/>
            <p:nvPr/>
          </p:nvSpPr>
          <p:spPr>
            <a:xfrm>
              <a:off x="609480" y="1127880"/>
              <a:ext cx="8305560" cy="527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480" y="76212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3505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month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29718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419112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mon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start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4114800"/>
            <a:ext cx="7696080" cy="2133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4724280"/>
            <a:ext cx="7620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5776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5243400"/>
            <a:ext cx="6172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 month +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has 31 Day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53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914400" y="1371600"/>
            <a:ext cx="7696080" cy="4114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343400"/>
            <a:ext cx="73911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error number, try ag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486108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end of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638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110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2819520"/>
            <a:ext cx="7620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380988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3338640"/>
            <a:ext cx="6172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 month +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has 30 Day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1447920"/>
            <a:ext cx="7620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220968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752480"/>
            <a:ext cx="6172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 month +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has 28 Day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066680"/>
            <a:ext cx="579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</a:t>
            </a:r>
            <a:r>
              <a:rPr b="1" lang="en-US" sz="2700" spc="-1" strike="noStrike">
                <a:solidFill>
                  <a:srgbClr val="4d4d4d"/>
                </a:solidFill>
                <a:latin typeface="Arial"/>
              </a:rPr>
              <a:t> if  Statemen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7524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1. simple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2. if ... else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8195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3. nested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04360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590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switch Stat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32100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5.</a:t>
            </a:r>
            <a:r>
              <a:rPr b="1" lang="en-US" sz="2700" spc="-1" strike="noStrike">
                <a:solidFill>
                  <a:srgbClr val="4d4d4d"/>
                </a:solidFill>
                <a:latin typeface="Arial"/>
              </a:rPr>
              <a:t> Conditional Expres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762120"/>
            <a:ext cx="8077320" cy="49528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8380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قم بإعادة كتابة البرنامج الموضح ادناه من خلال استخدام الـ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143208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45412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353376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452448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09480" y="762120"/>
            <a:ext cx="8077320" cy="41907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85896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إستخدام تعليمة الاختيار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كتب برنامج يطلب من المستخدم ادخال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يمثل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ترتيب الفائز بالمسابقة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يقوم البرنامج بطباعة </a:t>
            </a:r>
            <a:r>
              <a:rPr b="1" lang="ar-SA" sz="2600" spc="-1" strike="noStrike">
                <a:solidFill>
                  <a:srgbClr val="0000ff"/>
                </a:solidFill>
                <a:latin typeface="Arial"/>
              </a:rPr>
              <a:t>جائزة المسابقة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فقاً للخيارت التال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05128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رقم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old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832200"/>
            <a:ext cx="7772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فى حالة ادخال أى رقم غير الأرقام الموضحة اعلاه يتم طباع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  ”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invalid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, try again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262116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رقم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23064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رقم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5105520"/>
            <a:ext cx="7543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حيث يكون ناتج تنفيذ البرنامج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order: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066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f statement make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lections based on a si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di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657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provides a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to hand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ultiple 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fficient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572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الـ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وجود عدة خيارات(شروط) للتنفيذ بالبرنام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sted 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can be used to implemen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ultiple alternat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فى حالة وجود عدة خيارت بالبرنامج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 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7621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switch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43000" y="6248520"/>
            <a:ext cx="304920" cy="533160"/>
            <a:chOff x="1143000" y="6248520"/>
            <a:chExt cx="304920" cy="533160"/>
          </a:xfrm>
        </p:grpSpPr>
        <p:sp>
          <p:nvSpPr>
            <p:cNvPr id="121" name=""/>
            <p:cNvSpPr/>
            <p:nvPr/>
          </p:nvSpPr>
          <p:spPr>
            <a:xfrm>
              <a:off x="1143000" y="6477120"/>
              <a:ext cx="30492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280" y="6248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1219320"/>
            <a:ext cx="304920" cy="685800"/>
            <a:chOff x="1066680" y="1219320"/>
            <a:chExt cx="304920" cy="685800"/>
          </a:xfrm>
        </p:grpSpPr>
        <p:sp>
          <p:nvSpPr>
            <p:cNvPr id="124" name=""/>
            <p:cNvSpPr/>
            <p:nvPr/>
          </p:nvSpPr>
          <p:spPr>
            <a:xfrm>
              <a:off x="1219320" y="15242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6680" y="121932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505320" y="2057400"/>
            <a:ext cx="175248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95280" y="2362320"/>
            <a:ext cx="6096240" cy="3886200"/>
            <a:chOff x="1295280" y="2362320"/>
            <a:chExt cx="6096240" cy="3886200"/>
          </a:xfrm>
        </p:grpSpPr>
        <p:sp>
          <p:nvSpPr>
            <p:cNvPr id="129" name=""/>
            <p:cNvSpPr/>
            <p:nvPr/>
          </p:nvSpPr>
          <p:spPr>
            <a:xfrm>
              <a:off x="7391520" y="2362320"/>
              <a:ext cx="0" cy="388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295280" y="6248520"/>
              <a:ext cx="609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905120" y="23623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905120"/>
            <a:ext cx="1600200" cy="914400"/>
            <a:chOff x="457200" y="1905120"/>
            <a:chExt cx="1600200" cy="914400"/>
          </a:xfrm>
        </p:grpSpPr>
        <p:sp>
          <p:nvSpPr>
            <p:cNvPr id="133" name=""/>
            <p:cNvSpPr/>
            <p:nvPr/>
          </p:nvSpPr>
          <p:spPr>
            <a:xfrm>
              <a:off x="590760" y="1905120"/>
              <a:ext cx="1333440" cy="914400"/>
            </a:xfrm>
            <a:prstGeom prst="flowChartDecision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198108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d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d"/>
                  </a:solidFill>
                  <a:latin typeface="Arial"/>
                </a:rPr>
                <a:t>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943600" y="2057400"/>
            <a:ext cx="9907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2362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1828800"/>
            <a:ext cx="175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value1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048120"/>
            <a:ext cx="17524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3526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3048120"/>
            <a:ext cx="99072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3526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81952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value2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276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114300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962520"/>
            <a:ext cx="17524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2670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038480"/>
            <a:ext cx="9907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2670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3809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value3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4267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733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048120"/>
            <a:ext cx="114300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876920"/>
            <a:ext cx="114300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876920"/>
            <a:ext cx="17524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1814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876920"/>
            <a:ext cx="99072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181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14680" y="47242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(n)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1814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562720"/>
            <a:ext cx="1752480" cy="53316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efault a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86728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562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55627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defaul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8672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219320"/>
            <a:ext cx="1524240" cy="609480"/>
          </a:xfrm>
          <a:prstGeom prst="flowChartPunchedCar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ستخدم لإنها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نفيذ ال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934320" y="1828800"/>
            <a:ext cx="457200" cy="3049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5105520"/>
            <a:ext cx="1600200" cy="1066680"/>
          </a:xfrm>
          <a:prstGeom prst="flowChartPunchedCar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قيمة افتراضية يتم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نفيذها فى حالة عدم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نفيذ الخيارت الساب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571500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The Syntax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768320"/>
            <a:ext cx="37339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witch - 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1767960"/>
            <a:ext cx="22096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1502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301840"/>
            <a:ext cx="990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2333160"/>
            <a:ext cx="26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85084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3413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565440"/>
            <a:ext cx="990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3596760"/>
            <a:ext cx="26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9621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114800"/>
            <a:ext cx="1295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...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4420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572000"/>
            <a:ext cx="990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4603320"/>
            <a:ext cx="26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501624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478480"/>
            <a:ext cx="1752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53269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- for- default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6019560"/>
            <a:ext cx="67820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end of switch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768680"/>
            <a:ext cx="12952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04920" y="838080"/>
            <a:ext cx="1904760" cy="1006560"/>
            <a:chOff x="304920" y="838080"/>
            <a:chExt cx="1904760" cy="1006560"/>
          </a:xfrm>
        </p:grpSpPr>
        <p:sp>
          <p:nvSpPr>
            <p:cNvPr id="192" name=""/>
            <p:cNvSpPr/>
            <p:nvPr/>
          </p:nvSpPr>
          <p:spPr>
            <a:xfrm>
              <a:off x="914400" y="1235160"/>
              <a:ext cx="762120" cy="609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20" y="838080"/>
              <a:ext cx="1904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9144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00400" y="930240"/>
            <a:ext cx="304560" cy="990720"/>
            <a:chOff x="3200400" y="930240"/>
            <a:chExt cx="304560" cy="990720"/>
          </a:xfrm>
        </p:grpSpPr>
        <p:sp>
          <p:nvSpPr>
            <p:cNvPr id="196" name=""/>
            <p:cNvSpPr/>
            <p:nvPr/>
          </p:nvSpPr>
          <p:spPr>
            <a:xfrm>
              <a:off x="3352680" y="1327320"/>
              <a:ext cx="0" cy="5936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00400" y="930240"/>
              <a:ext cx="304560" cy="39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562720" y="930240"/>
            <a:ext cx="2895120" cy="1066680"/>
            <a:chOff x="5562720" y="930240"/>
            <a:chExt cx="2895120" cy="1066680"/>
          </a:xfrm>
        </p:grpSpPr>
        <p:sp>
          <p:nvSpPr>
            <p:cNvPr id="199" name=""/>
            <p:cNvSpPr/>
            <p:nvPr/>
          </p:nvSpPr>
          <p:spPr>
            <a:xfrm flipH="1">
              <a:off x="5562720" y="1311120"/>
              <a:ext cx="3808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3600" y="930240"/>
              <a:ext cx="251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</a:t>
              </a: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switc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5000" y="1006560"/>
              <a:ext cx="22824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-228600" y="2438280"/>
            <a:ext cx="2437920" cy="702360"/>
            <a:chOff x="-228600" y="2438280"/>
            <a:chExt cx="2437920" cy="702360"/>
          </a:xfrm>
        </p:grpSpPr>
        <p:sp>
          <p:nvSpPr>
            <p:cNvPr id="203" name=""/>
            <p:cNvSpPr/>
            <p:nvPr/>
          </p:nvSpPr>
          <p:spPr>
            <a:xfrm>
              <a:off x="1704960" y="2590920"/>
              <a:ext cx="5043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228600" y="2438280"/>
              <a:ext cx="1849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52600" y="2438280"/>
              <a:ext cx="2520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" y="2682720"/>
            <a:ext cx="2895480" cy="1601280"/>
            <a:chOff x="228600" y="2682720"/>
            <a:chExt cx="2895480" cy="1601280"/>
          </a:xfrm>
        </p:grpSpPr>
        <p:sp>
          <p:nvSpPr>
            <p:cNvPr id="207" name=""/>
            <p:cNvSpPr/>
            <p:nvPr/>
          </p:nvSpPr>
          <p:spPr>
            <a:xfrm flipV="1">
              <a:off x="1752480" y="2682720"/>
              <a:ext cx="1371600" cy="4413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2971800"/>
              <a:ext cx="14479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قيمة الخيار المطلوب تنفيذه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29718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48520" y="1387440"/>
            <a:ext cx="2895120" cy="1066680"/>
            <a:chOff x="6248520" y="1387440"/>
            <a:chExt cx="2895120" cy="1066680"/>
          </a:xfrm>
        </p:grpSpPr>
        <p:sp>
          <p:nvSpPr>
            <p:cNvPr id="211" name=""/>
            <p:cNvSpPr/>
            <p:nvPr/>
          </p:nvSpPr>
          <p:spPr>
            <a:xfrm flipH="1">
              <a:off x="6248520" y="1768320"/>
              <a:ext cx="3808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9400" y="1387440"/>
              <a:ext cx="251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تعليمات المراد تنفيذ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0800" y="1463760"/>
              <a:ext cx="22824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86400" y="2835360"/>
            <a:ext cx="3429000" cy="915480"/>
            <a:chOff x="5486400" y="2835360"/>
            <a:chExt cx="3429000" cy="915480"/>
          </a:xfrm>
        </p:grpSpPr>
        <p:sp>
          <p:nvSpPr>
            <p:cNvPr id="215" name=""/>
            <p:cNvSpPr/>
            <p:nvPr/>
          </p:nvSpPr>
          <p:spPr>
            <a:xfrm flipH="1">
              <a:off x="5486400" y="306396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9920" y="2835360"/>
              <a:ext cx="2895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ستخدام الكلمة المحجوزة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eak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 لإنهاء تنفيذ الـ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9920" y="291132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0" y="4403880"/>
            <a:ext cx="2286000" cy="2531880"/>
            <a:chOff x="0" y="4403880"/>
            <a:chExt cx="2286000" cy="2531880"/>
          </a:xfrm>
        </p:grpSpPr>
        <p:sp>
          <p:nvSpPr>
            <p:cNvPr id="219" name=""/>
            <p:cNvSpPr/>
            <p:nvPr/>
          </p:nvSpPr>
          <p:spPr>
            <a:xfrm>
              <a:off x="1676520" y="4724280"/>
              <a:ext cx="609480" cy="914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4403880"/>
              <a:ext cx="15238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قيمة افتراضية يتم تنفيذها فى حالة عدم تنفيذ الخيارت السابق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44197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057400" y="2286000"/>
            <a:ext cx="6858000" cy="1219320"/>
          </a:xfrm>
          <a:prstGeom prst="rect">
            <a:avLst/>
          </a:prstGeom>
          <a:noFill/>
          <a:ln w="2556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038480" y="6080040"/>
            <a:ext cx="762120" cy="397080"/>
            <a:chOff x="4038480" y="6080040"/>
            <a:chExt cx="762120" cy="397080"/>
          </a:xfrm>
        </p:grpSpPr>
        <p:sp>
          <p:nvSpPr>
            <p:cNvPr id="224" name=""/>
            <p:cNvSpPr/>
            <p:nvPr/>
          </p:nvSpPr>
          <p:spPr>
            <a:xfrm flipH="1" flipV="1">
              <a:off x="4038480" y="6248520"/>
              <a:ext cx="457200" cy="15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6080040"/>
              <a:ext cx="304920" cy="39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8380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statement observes the following ru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8288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witch-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ield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ype,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ways b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clo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344760"/>
            <a:ext cx="373392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witch – expression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3352320"/>
            <a:ext cx="10666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353040"/>
            <a:ext cx="121932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5943240"/>
            <a:ext cx="60958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14240" y="2895480"/>
            <a:ext cx="3048120" cy="533520"/>
            <a:chOff x="2514240" y="2895480"/>
            <a:chExt cx="3048120" cy="533520"/>
          </a:xfrm>
        </p:grpSpPr>
        <p:sp>
          <p:nvSpPr>
            <p:cNvPr id="236" name=""/>
            <p:cNvSpPr/>
            <p:nvPr/>
          </p:nvSpPr>
          <p:spPr>
            <a:xfrm flipH="1">
              <a:off x="2514240" y="2895480"/>
              <a:ext cx="135468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9280" y="2895480"/>
              <a:ext cx="169308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905120" y="5334120"/>
            <a:ext cx="838080" cy="380880"/>
          </a:xfrm>
          <a:prstGeom prst="rect">
            <a:avLst/>
          </a:prstGeom>
          <a:solidFill>
            <a:srgbClr val="99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876920"/>
            <a:ext cx="838080" cy="3808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4419720"/>
            <a:ext cx="838080" cy="380880"/>
          </a:xfrm>
          <a:prstGeom prst="rect">
            <a:avLst/>
          </a:prstGeom>
          <a:solidFill>
            <a:srgbClr val="00007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3962520"/>
            <a:ext cx="838080" cy="380880"/>
          </a:xfrm>
          <a:prstGeom prst="rect">
            <a:avLst/>
          </a:prstGeom>
          <a:solidFill>
            <a:srgbClr val="8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352680" y="3886200"/>
            <a:ext cx="2210040" cy="1523880"/>
            <a:chOff x="3352680" y="3886200"/>
            <a:chExt cx="2210040" cy="1523880"/>
          </a:xfrm>
        </p:grpSpPr>
        <p:sp>
          <p:nvSpPr>
            <p:cNvPr id="243" name=""/>
            <p:cNvSpPr/>
            <p:nvPr/>
          </p:nvSpPr>
          <p:spPr>
            <a:xfrm>
              <a:off x="4267080" y="3886200"/>
              <a:ext cx="0" cy="533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52680" y="4419720"/>
              <a:ext cx="2210040" cy="99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لابد أن تكون قيمة التعبير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خاص بالـ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م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نوع البيانات التالية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895480" y="39625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4479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. . ., and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onstant expression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must have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the same data typ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s the value of th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witch-expression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3344760"/>
            <a:ext cx="17524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3352320"/>
            <a:ext cx="32004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3353040"/>
            <a:ext cx="121932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943240"/>
            <a:ext cx="57150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666880"/>
            <a:ext cx="8305560" cy="609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ال: بإفتراض ان المتغي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ن النوع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ستكون الخيارات من نفس النوع: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39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9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’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916440"/>
            <a:ext cx="4496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“Excellent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4357800"/>
            <a:ext cx="1295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48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48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’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4816440"/>
            <a:ext cx="4496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“V.Good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5257800"/>
            <a:ext cx="1295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5486400"/>
            <a:ext cx="1295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...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676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4479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ase stateme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matches the value of the switch-expression, the statements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tarting from this case are execute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until either a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reak stateme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or the end of the switch statement is reached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2767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ما يتم مقارن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قي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ع الخيارات المتاحة يتم المرور على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جميع القيم الموضح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خيارت الـ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مقارنتها مع القيمة المُدخ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ى أن يتم تنفيذ الخيار المناظر للقيم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وانهاء التنفيذ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ن خلال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ـكلمة المحجوز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وصول لنهاية التنفيذ لتعليمة الاختيار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witch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1523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option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The break statement immediately ends the switch statement.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4382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ستخدام الـكلمة المحجوزة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أختيارى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 ويكون ذلك وفقاً لطبيعة عمل البرنامج،  وفى حالة استخدامها تقوم بإنهاء تنفيذ تعليمة الاختيار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witch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بعد تنفيذ التعليما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3733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3733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se is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option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can be used to perform actions when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none of the specified cases match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witch-express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51055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ستخدام الـ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اختيارى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، حيث تستخدم لإعطاء 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قيمة افتراضي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يتم تنفيذها 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فى حالة عدم مطابقة الخيار المُدخل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ع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Arial"/>
              </a:rPr>
              <a:t>قيمة الخيارات الموضحة بتعليمة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wit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05T07:20:50Z</dcterms:modified>
  <cp:revision>1930</cp:revision>
  <dc:subject>Programming Fundamentals</dc:subject>
  <dc:title>Primitive Data Type</dc:title>
</cp:coreProperties>
</file>