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CFD6-CE20-4802-A581-500E4A0D78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374C-10C2-47F0-BA6F-2B858BE39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AEB0-8290-44DA-A5C7-E7BB20EDFE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9CFF-4DFC-4286-B30F-5212674BA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6A54-C97E-48E5-84C7-B8537F3C66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5FE1-7B41-494D-BFCF-EA3F2D0C4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1476-5A06-46A1-8C1A-30572C7E5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CE67-D53B-436C-847C-7F72DD4B14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81E5-C9D4-46D9-9D9A-E89343499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601F-483D-4FC6-9903-A2CB1BC3FF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B079-A52E-48DC-B1F0-624B2148E1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EEAC-08AA-464D-930D-9700109F8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D34C-29ED-4845-8DE0-D8325090899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3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762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mportant Notes:(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cc0000"/>
                </a:solidFill>
                <a:latin typeface="Arial"/>
              </a:rPr>
              <a:t>ملاحظات هام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1320" y="1218600"/>
            <a:ext cx="860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nclosed i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orms of the if stat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270160"/>
            <a:ext cx="58672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ooleanExpression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2567520"/>
            <a:ext cx="59436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ة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00040"/>
            <a:ext cx="5791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33360" y="1676520"/>
            <a:ext cx="5181480" cy="685800"/>
            <a:chOff x="2133360" y="1676520"/>
            <a:chExt cx="5181480" cy="685800"/>
          </a:xfrm>
        </p:grpSpPr>
        <p:sp>
          <p:nvSpPr>
            <p:cNvPr id="255" name=""/>
            <p:cNvSpPr/>
            <p:nvPr/>
          </p:nvSpPr>
          <p:spPr>
            <a:xfrm flipH="1">
              <a:off x="2133360" y="1676520"/>
              <a:ext cx="51814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05160" y="1676520"/>
              <a:ext cx="22096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43000" y="455616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( i &gt; 0 ) &amp;&amp; ( i &lt;= 10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571464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419720"/>
            <a:ext cx="73911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5211360"/>
            <a:ext cx="685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is number between 0 to 10”)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00200" y="4114800"/>
            <a:ext cx="2971440" cy="533160"/>
            <a:chOff x="1600200" y="4114800"/>
            <a:chExt cx="2971440" cy="533160"/>
          </a:xfrm>
        </p:grpSpPr>
        <p:sp>
          <p:nvSpPr>
            <p:cNvPr id="262" name=""/>
            <p:cNvSpPr/>
            <p:nvPr/>
          </p:nvSpPr>
          <p:spPr>
            <a:xfrm flipH="1">
              <a:off x="1600200" y="4114800"/>
              <a:ext cx="29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411480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1640" y="411480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752480" y="3962520"/>
            <a:ext cx="6553440" cy="1065960"/>
            <a:chOff x="1752480" y="3962520"/>
            <a:chExt cx="6553440" cy="1065960"/>
          </a:xfrm>
        </p:grpSpPr>
        <p:sp>
          <p:nvSpPr>
            <p:cNvPr id="266" name=""/>
            <p:cNvSpPr/>
            <p:nvPr/>
          </p:nvSpPr>
          <p:spPr>
            <a:xfrm>
              <a:off x="5638680" y="3962520"/>
              <a:ext cx="2667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Boolean Ex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752480" y="4190760"/>
              <a:ext cx="3962520" cy="837720"/>
              <a:chOff x="1752480" y="4190760"/>
              <a:chExt cx="3962520" cy="837720"/>
            </a:xfrm>
          </p:grpSpPr>
          <p:sp>
            <p:nvSpPr>
              <p:cNvPr id="268" name=""/>
              <p:cNvSpPr/>
              <p:nvPr/>
            </p:nvSpPr>
            <p:spPr>
              <a:xfrm>
                <a:off x="1752480" y="4571640"/>
                <a:ext cx="2667240" cy="4568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962520" y="4190760"/>
                <a:ext cx="1752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1981080" y="373356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762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mportant Notes:(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cc0000"/>
                </a:solidFill>
                <a:latin typeface="Arial"/>
              </a:rPr>
              <a:t>ملاحظات هام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1478520" y="1432080"/>
            <a:ext cx="12185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مكن تجاهل كتابة ال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block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ى حالة وجود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تعليمة واحدة فقط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عبارت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  أما فى حالة وجود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عدد من التعليمات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لابد من كتابتها داخل ال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bloc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2666880"/>
            <a:ext cx="3962160" cy="1676520"/>
            <a:chOff x="533520" y="2666880"/>
            <a:chExt cx="3962160" cy="1676520"/>
          </a:xfrm>
        </p:grpSpPr>
        <p:grpSp>
          <p:nvGrpSpPr>
            <p:cNvPr id="275" name=""/>
            <p:cNvGrpSpPr/>
            <p:nvPr/>
          </p:nvGrpSpPr>
          <p:grpSpPr>
            <a:xfrm>
              <a:off x="685800" y="2666880"/>
              <a:ext cx="3809880" cy="1676520"/>
              <a:chOff x="685800" y="2666880"/>
              <a:chExt cx="3809880" cy="167652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" y="3031920"/>
                <a:ext cx="380988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0000ff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200" spc="-1" strike="noStrike">
                    <a:solidFill>
                      <a:srgbClr val="00007d"/>
                    </a:solidFill>
                    <a:latin typeface="Arial"/>
                  </a:rPr>
                  <a:t>booleanExpression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5800" y="3611160"/>
                <a:ext cx="304812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1" i="1" lang="en-US" sz="2200" spc="-1" strike="noStrike">
                    <a:solidFill>
                      <a:srgbClr val="ff0000"/>
                    </a:solidFill>
                    <a:latin typeface="Arial"/>
                  </a:rPr>
                  <a:t>single statement;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5800" y="2666880"/>
                <a:ext cx="342900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33520" y="274320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343400" y="2666880"/>
            <a:ext cx="4114800" cy="1677240"/>
            <a:chOff x="4343400" y="2666880"/>
            <a:chExt cx="4114800" cy="1677240"/>
          </a:xfrm>
        </p:grpSpPr>
        <p:sp>
          <p:nvSpPr>
            <p:cNvPr id="281" name=""/>
            <p:cNvSpPr/>
            <p:nvPr/>
          </p:nvSpPr>
          <p:spPr>
            <a:xfrm>
              <a:off x="4648320" y="2727360"/>
              <a:ext cx="3809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booleanExpression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9200" y="3214440"/>
              <a:ext cx="2819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statement 1;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3885840"/>
              <a:ext cx="259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666880"/>
              <a:ext cx="373356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3611160"/>
              <a:ext cx="2819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statement 2;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43400" y="27432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762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mportant Notes:(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cc0000"/>
                </a:solidFill>
                <a:latin typeface="Arial"/>
              </a:rPr>
              <a:t>ملاحظات هام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22004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common mistake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ding a semicol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 the end of an if cla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092400"/>
            <a:ext cx="58672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ooleanExpression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3558240"/>
            <a:ext cx="59436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ة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11444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965960"/>
            <a:ext cx="8305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كثر الاخطاء الشائعة التى يقوم بها المبرمجين عند كتابة عبارة الاختيا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و إضافة العلامة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بعد كتابة التعبير المنطقى،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86040" y="2895480"/>
            <a:ext cx="16765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3504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45000"/>
            <a:ext cx="8076960" cy="192132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ُصنف هذا الخطأ من الاخطاء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Logical error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 حيث يؤثرعلى تنفيذ عبارة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ذلك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تجاهل الشر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عبارة المنطقية وتنفيذ جميع التعليمات التابعة لعبارة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(حتى فى حالة عدم تحقق الشرط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ما يؤثر فى الحصول على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Arial"/>
              </a:rPr>
              <a:t>قيم خاطئ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التنفي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             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295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تحديد اذا كان هذا العدد 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زوجى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فرد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19320"/>
            <a:ext cx="8077320" cy="17524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335268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i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ve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 is  odd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609480" y="762120"/>
            <a:ext cx="8305560" cy="5409720"/>
            <a:chOff x="609480" y="762120"/>
            <a:chExt cx="8305560" cy="5409720"/>
          </a:xfrm>
        </p:grpSpPr>
        <p:sp>
          <p:nvSpPr>
            <p:cNvPr id="302" name=""/>
            <p:cNvSpPr/>
            <p:nvPr/>
          </p:nvSpPr>
          <p:spPr>
            <a:xfrm>
              <a:off x="609480" y="1113120"/>
              <a:ext cx="8305560" cy="50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80" y="762120"/>
              <a:ext cx="8305560" cy="351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38080" y="18288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23623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403848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0814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8951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4290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4724280"/>
            <a:ext cx="6934320" cy="83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num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%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ختبار اذا كان العدد زوج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533412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even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648320"/>
            <a:ext cx="7467480" cy="1218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193760"/>
            <a:ext cx="8305560" cy="292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990720"/>
            <a:ext cx="830556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ss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1600200"/>
            <a:ext cx="6934320" cy="83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num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%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ختبار اذا كان العدد فرد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20968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odd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523880"/>
            <a:ext cx="7467840" cy="1219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2971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 end of 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5053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752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ions that an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f ... 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specifies differ based on whether the condition is true or fal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0810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2. i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statement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195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 els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تقوم بتنفيذ الشرط (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لعبارة المنطق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وفقاً للقيمة المنطقية التى يتم التحصل عليها سواءً كانت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.. else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9907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yntax for a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if .. else state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133720"/>
            <a:ext cx="6094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2133720"/>
            <a:ext cx="37339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2133360"/>
            <a:ext cx="2133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437920"/>
            <a:ext cx="76201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تعليمات التى سيتم تنفيذها فى حالة تنفيذ الشرط بالقيم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3123720"/>
            <a:ext cx="57909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1600200"/>
            <a:ext cx="2057400" cy="702360"/>
            <a:chOff x="380880" y="1600200"/>
            <a:chExt cx="2057400" cy="702360"/>
          </a:xfrm>
        </p:grpSpPr>
        <p:sp>
          <p:nvSpPr>
            <p:cNvPr id="334" name=""/>
            <p:cNvSpPr/>
            <p:nvPr/>
          </p:nvSpPr>
          <p:spPr>
            <a:xfrm>
              <a:off x="914400" y="1996920"/>
              <a:ext cx="380880" cy="212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520" y="1600200"/>
              <a:ext cx="1904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0880" y="167616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743200" y="1600200"/>
            <a:ext cx="1600200" cy="702360"/>
            <a:chOff x="2743200" y="1600200"/>
            <a:chExt cx="1600200" cy="702360"/>
          </a:xfrm>
        </p:grpSpPr>
        <p:sp>
          <p:nvSpPr>
            <p:cNvPr id="338" name=""/>
            <p:cNvSpPr/>
            <p:nvPr/>
          </p:nvSpPr>
          <p:spPr>
            <a:xfrm flipH="1">
              <a:off x="3504960" y="1904760"/>
              <a:ext cx="75960" cy="3045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1600200"/>
              <a:ext cx="1447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تعبير المنطق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167616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028840" y="1523880"/>
            <a:ext cx="3200760" cy="838080"/>
            <a:chOff x="5028840" y="1523880"/>
            <a:chExt cx="3200760" cy="838080"/>
          </a:xfrm>
        </p:grpSpPr>
        <p:sp>
          <p:nvSpPr>
            <p:cNvPr id="342" name=""/>
            <p:cNvSpPr/>
            <p:nvPr/>
          </p:nvSpPr>
          <p:spPr>
            <a:xfrm flipH="1">
              <a:off x="5028840" y="1981080"/>
              <a:ext cx="114300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4480" y="1523880"/>
              <a:ext cx="1905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1599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152920" y="1905120"/>
            <a:ext cx="381600" cy="761400"/>
            <a:chOff x="8152920" y="1905120"/>
            <a:chExt cx="381600" cy="761400"/>
          </a:xfrm>
        </p:grpSpPr>
        <p:sp>
          <p:nvSpPr>
            <p:cNvPr id="346" name=""/>
            <p:cNvSpPr/>
            <p:nvPr/>
          </p:nvSpPr>
          <p:spPr>
            <a:xfrm flipH="1">
              <a:off x="8152920" y="2133360"/>
              <a:ext cx="228600" cy="5331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29600" y="1905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447560" y="3139920"/>
            <a:ext cx="2819520" cy="397440"/>
            <a:chOff x="1447560" y="3139920"/>
            <a:chExt cx="2819520" cy="397440"/>
          </a:xfrm>
        </p:grpSpPr>
        <p:sp>
          <p:nvSpPr>
            <p:cNvPr id="349" name=""/>
            <p:cNvSpPr/>
            <p:nvPr/>
          </p:nvSpPr>
          <p:spPr>
            <a:xfrm flipH="1">
              <a:off x="1447560" y="336852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3139920"/>
              <a:ext cx="1904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321624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143000" y="4130640"/>
            <a:ext cx="91440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4130280"/>
            <a:ext cx="5029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434840"/>
            <a:ext cx="76197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تعليمات التى سيتم تنفيذها فى حالة تنفيذ الشرط بالقيم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5121000"/>
            <a:ext cx="5791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04920" y="3733920"/>
            <a:ext cx="2361960" cy="702360"/>
            <a:chOff x="304920" y="3733920"/>
            <a:chExt cx="2361960" cy="702360"/>
          </a:xfrm>
        </p:grpSpPr>
        <p:sp>
          <p:nvSpPr>
            <p:cNvPr id="357" name=""/>
            <p:cNvSpPr/>
            <p:nvPr/>
          </p:nvSpPr>
          <p:spPr>
            <a:xfrm>
              <a:off x="762120" y="4146840"/>
              <a:ext cx="380880" cy="212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880" y="3733920"/>
              <a:ext cx="2286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920" y="374976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285640" y="3733920"/>
            <a:ext cx="3810240" cy="701640"/>
            <a:chOff x="2285640" y="3733920"/>
            <a:chExt cx="3810240" cy="701640"/>
          </a:xfrm>
        </p:grpSpPr>
        <p:sp>
          <p:nvSpPr>
            <p:cNvPr id="361" name=""/>
            <p:cNvSpPr/>
            <p:nvPr/>
          </p:nvSpPr>
          <p:spPr>
            <a:xfrm flipH="1">
              <a:off x="2285640" y="4054680"/>
              <a:ext cx="114300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81280" y="373392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</a:t>
              </a: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52680" y="38260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620120" y="3978360"/>
            <a:ext cx="380520" cy="761400"/>
            <a:chOff x="7620120" y="3978360"/>
            <a:chExt cx="380520" cy="761400"/>
          </a:xfrm>
        </p:grpSpPr>
        <p:sp>
          <p:nvSpPr>
            <p:cNvPr id="365" name=""/>
            <p:cNvSpPr/>
            <p:nvPr/>
          </p:nvSpPr>
          <p:spPr>
            <a:xfrm flipH="1">
              <a:off x="7620120" y="4206600"/>
              <a:ext cx="228240" cy="5331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96080" y="39783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47560" y="5121360"/>
            <a:ext cx="3124440" cy="397440"/>
            <a:chOff x="1447560" y="5121360"/>
            <a:chExt cx="3124440" cy="397440"/>
          </a:xfrm>
        </p:grpSpPr>
        <p:sp>
          <p:nvSpPr>
            <p:cNvPr id="368" name=""/>
            <p:cNvSpPr/>
            <p:nvPr/>
          </p:nvSpPr>
          <p:spPr>
            <a:xfrm flipH="1">
              <a:off x="1447560" y="534960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62320" y="5121360"/>
              <a:ext cx="220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</a:t>
              </a: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1973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.. else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990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if ..else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52680" y="2590920"/>
            <a:ext cx="2133720" cy="14475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43400" y="5334120"/>
            <a:ext cx="304560" cy="761400"/>
            <a:chOff x="4343400" y="5334120"/>
            <a:chExt cx="304560" cy="761400"/>
          </a:xfrm>
        </p:grpSpPr>
        <p:sp>
          <p:nvSpPr>
            <p:cNvPr id="375" name=""/>
            <p:cNvSpPr/>
            <p:nvPr/>
          </p:nvSpPr>
          <p:spPr>
            <a:xfrm>
              <a:off x="4343400" y="579096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95680" y="53341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267080" y="1905120"/>
            <a:ext cx="304920" cy="685800"/>
            <a:chOff x="4267080" y="1905120"/>
            <a:chExt cx="304920" cy="685800"/>
          </a:xfrm>
        </p:grpSpPr>
        <p:sp>
          <p:nvSpPr>
            <p:cNvPr id="378" name=""/>
            <p:cNvSpPr/>
            <p:nvPr/>
          </p:nvSpPr>
          <p:spPr>
            <a:xfrm>
              <a:off x="4419720" y="22100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7080" y="190512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09480" y="4267080"/>
            <a:ext cx="35053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for tru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349960" y="2971800"/>
            <a:ext cx="1736640" cy="1295280"/>
            <a:chOff x="5349960" y="2971800"/>
            <a:chExt cx="1736640" cy="1295280"/>
          </a:xfrm>
        </p:grpSpPr>
        <p:sp>
          <p:nvSpPr>
            <p:cNvPr id="382" name=""/>
            <p:cNvSpPr/>
            <p:nvPr/>
          </p:nvSpPr>
          <p:spPr>
            <a:xfrm>
              <a:off x="5486400" y="335268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86600" y="3352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49960" y="2971800"/>
              <a:ext cx="1355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838080" y="1752480"/>
            <a:ext cx="2819160" cy="1295640"/>
            <a:chOff x="838080" y="1752480"/>
            <a:chExt cx="2819160" cy="1295640"/>
          </a:xfrm>
        </p:grpSpPr>
        <p:grpSp>
          <p:nvGrpSpPr>
            <p:cNvPr id="386" name=""/>
            <p:cNvGrpSpPr/>
            <p:nvPr/>
          </p:nvGrpSpPr>
          <p:grpSpPr>
            <a:xfrm>
              <a:off x="838080" y="1752480"/>
              <a:ext cx="2438280" cy="1242360"/>
              <a:chOff x="838080" y="1752480"/>
              <a:chExt cx="2438280" cy="1242360"/>
            </a:xfrm>
          </p:grpSpPr>
          <p:sp>
            <p:nvSpPr>
              <p:cNvPr id="387" name=""/>
              <p:cNvSpPr/>
              <p:nvPr/>
            </p:nvSpPr>
            <p:spPr>
              <a:xfrm>
                <a:off x="914040" y="1752480"/>
                <a:ext cx="2286000" cy="10670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8080" y="182880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124080" y="2362320"/>
              <a:ext cx="533160" cy="685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981080" y="2895480"/>
            <a:ext cx="1371600" cy="1371600"/>
            <a:chOff x="1981080" y="2895480"/>
            <a:chExt cx="1371600" cy="1371600"/>
          </a:xfrm>
        </p:grpSpPr>
        <p:sp>
          <p:nvSpPr>
            <p:cNvPr id="391" name=""/>
            <p:cNvSpPr/>
            <p:nvPr/>
          </p:nvSpPr>
          <p:spPr>
            <a:xfrm flipV="1">
              <a:off x="1981080" y="327636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2763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289548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181480" y="4267080"/>
            <a:ext cx="36576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for false c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7960" y="4800600"/>
            <a:ext cx="2438640" cy="380880"/>
            <a:chOff x="4647960" y="4800600"/>
            <a:chExt cx="2438640" cy="380880"/>
          </a:xfrm>
        </p:grpSpPr>
        <p:sp>
          <p:nvSpPr>
            <p:cNvPr id="396" name=""/>
            <p:cNvSpPr/>
            <p:nvPr/>
          </p:nvSpPr>
          <p:spPr>
            <a:xfrm flipH="1">
              <a:off x="4647960" y="518148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660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81080" y="4800600"/>
            <a:ext cx="2666880" cy="533160"/>
            <a:chOff x="1981080" y="4800600"/>
            <a:chExt cx="2666880" cy="533160"/>
          </a:xfrm>
        </p:grpSpPr>
        <p:sp>
          <p:nvSpPr>
            <p:cNvPr id="399" name=""/>
            <p:cNvSpPr/>
            <p:nvPr/>
          </p:nvSpPr>
          <p:spPr>
            <a:xfrm>
              <a:off x="4343400" y="502920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81080" y="518148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108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5238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62920" y="3276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.. else statements               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1295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تحديد اذا كان هذا العدد زوجى أو فردى، قم بتعديل البرنامج واستخدام عبارة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.. else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1219320"/>
            <a:ext cx="8077320" cy="17524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35268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i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od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lection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990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everal ty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selection statemen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6002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mple if stateme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. else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819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ested if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42900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0384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nditional express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09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380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0574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342900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.. else statement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51424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90720" y="29718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3962520"/>
            <a:ext cx="6934320" cy="83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num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%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فى حالة أن العدد زوج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441972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even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3886200"/>
            <a:ext cx="7467480" cy="2057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952880"/>
            <a:ext cx="69343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فى حالة أن العدد فرد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541008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odd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59436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63388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762120"/>
            <a:ext cx="8077320" cy="30477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3962520"/>
            <a:ext cx="7848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a yea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is a Leap yea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 يمث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سنة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 يقوم البرنامج بإختبار السنة وتحديد اذا كانت كبيسة أم لا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371600" y="2088360"/>
            <a:ext cx="6705720" cy="1514520"/>
            <a:chOff x="1371600" y="2088360"/>
            <a:chExt cx="6705720" cy="1514520"/>
          </a:xfrm>
        </p:grpSpPr>
        <p:sp>
          <p:nvSpPr>
            <p:cNvPr id="430" name=""/>
            <p:cNvSpPr/>
            <p:nvPr/>
          </p:nvSpPr>
          <p:spPr>
            <a:xfrm>
              <a:off x="1371600" y="2088360"/>
              <a:ext cx="6705720" cy="884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ffffff"/>
                  </a:solidFill>
                  <a:latin typeface="Arial"/>
                  <a:cs typeface="Traditional Arabic"/>
                </a:rPr>
                <a:t>يتم حساب السنة الكبيسة بتحقق الشرط الآتي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1600" y="2778840"/>
              <a:ext cx="6705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اذا كانت السنة المدخلة تقبل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لقسمة على العدد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ولا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قبل القسمة على العدد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914400" y="5257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a yea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s not a Leap year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34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eapYear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LeapYear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ear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a yea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962520"/>
            <a:ext cx="69343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48769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45100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”is a Leap Year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Leap Year</a:t>
            </a:r>
            <a:r>
              <a:rPr b="1" i="1" lang="ar-SA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5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23880" y="533412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”not a Leap Year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62625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388620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762120"/>
            <a:ext cx="8077320" cy="21333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320040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uess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orrect number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من المستخدم، يقوم البرنامج بإختبار ما اذا كان العدد محصور فى المدى من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فى حالة ادخال عدد صحيح يتم طباعة الرسالة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rrect numbe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 وفى حالة ادخال قيمة خاطئة يتم طباعة الرسالة ”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wrong number, try again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4648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uess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wrong number, try agai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56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uess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3962520"/>
            <a:ext cx="6934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48769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47920" y="45100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orrect numbe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Guess Number from (0 -- 10)  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5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5334120"/>
            <a:ext cx="69343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rong number, try ag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62625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388620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0880" y="914400"/>
            <a:ext cx="8458200" cy="144792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514600"/>
            <a:ext cx="7848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حيث يكون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first number: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second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max number is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ين صحيحين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مقارنة العددين وطباعة العدد الأكب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952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f 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05740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1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mple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681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2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f ... else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9076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0384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47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mple if statement executes an action if and only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the condition is 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92880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1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mple if statement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362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ليمة الاختيار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قوم بتنفيذ الشرط الموجود بالبرنامج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عبارة المنطق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اذا كانت قيمتة المنطقية </a:t>
            </a:r>
            <a:r>
              <a:rPr b="1" lang="ar-SA" sz="2300" spc="-1" strike="noStrike">
                <a:solidFill>
                  <a:srgbClr val="cc0000"/>
                </a:solidFill>
                <a:latin typeface="Arial"/>
              </a:rPr>
              <a:t>(فقط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yntax for a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imple if state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648320"/>
            <a:ext cx="60984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648320"/>
            <a:ext cx="373356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647960"/>
            <a:ext cx="2133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082120"/>
            <a:ext cx="59436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ة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5790960"/>
            <a:ext cx="5791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3718080"/>
            <a:ext cx="2057400" cy="1006200"/>
            <a:chOff x="380880" y="3718080"/>
            <a:chExt cx="2057400" cy="1006200"/>
          </a:xfrm>
        </p:grpSpPr>
        <p:sp>
          <p:nvSpPr>
            <p:cNvPr id="128" name=""/>
            <p:cNvSpPr/>
            <p:nvPr/>
          </p:nvSpPr>
          <p:spPr>
            <a:xfrm>
              <a:off x="914400" y="4114800"/>
              <a:ext cx="761760" cy="609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160" y="3718080"/>
              <a:ext cx="1905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37940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809880"/>
            <a:ext cx="1600200" cy="838080"/>
            <a:chOff x="2743200" y="3809880"/>
            <a:chExt cx="1600200" cy="838080"/>
          </a:xfrm>
        </p:grpSpPr>
        <p:sp>
          <p:nvSpPr>
            <p:cNvPr id="132" name=""/>
            <p:cNvSpPr/>
            <p:nvPr/>
          </p:nvSpPr>
          <p:spPr>
            <a:xfrm>
              <a:off x="3581640" y="4190760"/>
              <a:ext cx="0" cy="457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840" y="3809880"/>
              <a:ext cx="1447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تعبير المنطق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3885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10080" y="3733920"/>
            <a:ext cx="2286000" cy="1066680"/>
            <a:chOff x="5410080" y="3733920"/>
            <a:chExt cx="2286000" cy="1066680"/>
          </a:xfrm>
        </p:grpSpPr>
        <p:sp>
          <p:nvSpPr>
            <p:cNvPr id="136" name=""/>
            <p:cNvSpPr/>
            <p:nvPr/>
          </p:nvSpPr>
          <p:spPr>
            <a:xfrm flipH="1">
              <a:off x="5410080" y="4114800"/>
              <a:ext cx="3808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0960" y="3733920"/>
              <a:ext cx="1905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360" y="38098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91520" y="5334120"/>
            <a:ext cx="838080" cy="304560"/>
            <a:chOff x="7391520" y="5334120"/>
            <a:chExt cx="838080" cy="304560"/>
          </a:xfrm>
        </p:grpSpPr>
        <p:sp>
          <p:nvSpPr>
            <p:cNvPr id="140" name=""/>
            <p:cNvSpPr/>
            <p:nvPr/>
          </p:nvSpPr>
          <p:spPr>
            <a:xfrm flipH="1">
              <a:off x="7391520" y="5486400"/>
              <a:ext cx="457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334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52120" y="6095880"/>
            <a:ext cx="2972160" cy="397440"/>
            <a:chOff x="1752120" y="6095880"/>
            <a:chExt cx="2972160" cy="397440"/>
          </a:xfrm>
        </p:grpSpPr>
        <p:sp>
          <p:nvSpPr>
            <p:cNvPr id="143" name=""/>
            <p:cNvSpPr/>
            <p:nvPr/>
          </p:nvSpPr>
          <p:spPr>
            <a:xfrm flipH="1" flipV="1">
              <a:off x="1752120" y="6095880"/>
              <a:ext cx="685800" cy="1526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6095880"/>
              <a:ext cx="1904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0920" y="61722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if 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266688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38480" y="5105520"/>
            <a:ext cx="304920" cy="914400"/>
            <a:chOff x="4038480" y="5105520"/>
            <a:chExt cx="304920" cy="914400"/>
          </a:xfrm>
        </p:grpSpPr>
        <p:sp>
          <p:nvSpPr>
            <p:cNvPr id="150" name=""/>
            <p:cNvSpPr/>
            <p:nvPr/>
          </p:nvSpPr>
          <p:spPr>
            <a:xfrm>
              <a:off x="4038480" y="5715360"/>
              <a:ext cx="30492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1120" y="510552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38480" y="1981080"/>
            <a:ext cx="304920" cy="685800"/>
            <a:chOff x="4038480" y="1981080"/>
            <a:chExt cx="304920" cy="685800"/>
          </a:xfrm>
        </p:grpSpPr>
        <p:sp>
          <p:nvSpPr>
            <p:cNvPr id="153" name=""/>
            <p:cNvSpPr/>
            <p:nvPr/>
          </p:nvSpPr>
          <p:spPr>
            <a:xfrm>
              <a:off x="4191120" y="2286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198108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95480" y="4038480"/>
            <a:ext cx="2743200" cy="1066680"/>
            <a:chOff x="2895480" y="4038480"/>
            <a:chExt cx="2743200" cy="1066680"/>
          </a:xfrm>
        </p:grpSpPr>
        <p:sp>
          <p:nvSpPr>
            <p:cNvPr id="156" name=""/>
            <p:cNvSpPr/>
            <p:nvPr/>
          </p:nvSpPr>
          <p:spPr>
            <a:xfrm>
              <a:off x="419112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95480" y="4572000"/>
              <a:ext cx="27432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Statement(s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403848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91120" y="3048120"/>
            <a:ext cx="2209680" cy="2361600"/>
            <a:chOff x="4191120" y="3048120"/>
            <a:chExt cx="2209680" cy="2361600"/>
          </a:xfrm>
        </p:grpSpPr>
        <p:grpSp>
          <p:nvGrpSpPr>
            <p:cNvPr id="160" name=""/>
            <p:cNvGrpSpPr/>
            <p:nvPr/>
          </p:nvGrpSpPr>
          <p:grpSpPr>
            <a:xfrm>
              <a:off x="4191120" y="3429000"/>
              <a:ext cx="2209680" cy="1980720"/>
              <a:chOff x="4191120" y="3429000"/>
              <a:chExt cx="2209680" cy="1980720"/>
            </a:xfrm>
          </p:grpSpPr>
          <p:sp>
            <p:nvSpPr>
              <p:cNvPr id="161" name=""/>
              <p:cNvSpPr/>
              <p:nvPr/>
            </p:nvSpPr>
            <p:spPr>
              <a:xfrm>
                <a:off x="5257800" y="342900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00800" y="3429000"/>
                <a:ext cx="0" cy="19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191120" y="54097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10080" y="304812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4920" y="1905120"/>
            <a:ext cx="2819160" cy="1294920"/>
            <a:chOff x="304920" y="1905120"/>
            <a:chExt cx="2819160" cy="1294920"/>
          </a:xfrm>
        </p:grpSpPr>
        <p:grpSp>
          <p:nvGrpSpPr>
            <p:cNvPr id="166" name=""/>
            <p:cNvGrpSpPr/>
            <p:nvPr/>
          </p:nvGrpSpPr>
          <p:grpSpPr>
            <a:xfrm>
              <a:off x="304920" y="1905120"/>
              <a:ext cx="2438280" cy="1242000"/>
              <a:chOff x="304920" y="1905120"/>
              <a:chExt cx="2438280" cy="124200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880" y="1905120"/>
                <a:ext cx="2286000" cy="106668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920" y="198108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590920" y="2514600"/>
              <a:ext cx="533160" cy="685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80880" y="4191120"/>
            <a:ext cx="2286000" cy="22269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تنفيذ التعليمات التابعة لعبارة ال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محصورة ب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2793960"/>
            <a:ext cx="22860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           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295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قيمة نصف قطر الدائرة من المستخدم ومن ثم يقوم البرنامج بحساب مساحة الدائرة فى حالة أن نصف القطر أكبر من الصفر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وفقا للقانون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19320"/>
            <a:ext cx="8077320" cy="22096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2743200"/>
            <a:ext cx="495288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a  =  PI  </a:t>
            </a:r>
            <a:r>
              <a:rPr b="1" lang="en-US" sz="2500" spc="-1" strike="noStrike">
                <a:solidFill>
                  <a:srgbClr val="000000"/>
                </a:solidFill>
                <a:latin typeface="Miriam Fixed"/>
                <a:ea typeface="Miriam Fixed"/>
              </a:rPr>
              <a:t>×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1" lang="en-US" sz="2500" spc="-1" strike="noStrike">
                <a:solidFill>
                  <a:srgbClr val="000000"/>
                </a:solidFill>
                <a:latin typeface="Miriam Fixed"/>
                <a:ea typeface="Miriam Fixed"/>
              </a:rPr>
              <a:t> ×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1" lang="en-US" sz="2500" spc="-1" strike="noStrike">
                <a:solidFill>
                  <a:srgbClr val="000000"/>
                </a:solidFill>
                <a:latin typeface="Miriam Fixed"/>
                <a:ea typeface="Miriam Fixe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7339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 بافتراض أن المستخدم قام بادخال قيمة نصف القطر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radiu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The area of radiu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is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14.15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220968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38480" y="4952880"/>
            <a:ext cx="228600" cy="838080"/>
            <a:chOff x="4038480" y="4952880"/>
            <a:chExt cx="228600" cy="838080"/>
          </a:xfrm>
        </p:grpSpPr>
        <p:sp>
          <p:nvSpPr>
            <p:cNvPr id="180" name=""/>
            <p:cNvSpPr/>
            <p:nvPr/>
          </p:nvSpPr>
          <p:spPr>
            <a:xfrm>
              <a:off x="4038480" y="5511960"/>
              <a:ext cx="228600" cy="2790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2960" y="4952880"/>
              <a:ext cx="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38480" y="1523880"/>
            <a:ext cx="304920" cy="685800"/>
            <a:chOff x="4038480" y="1523880"/>
            <a:chExt cx="304920" cy="685800"/>
          </a:xfrm>
        </p:grpSpPr>
        <p:sp>
          <p:nvSpPr>
            <p:cNvPr id="183" name=""/>
            <p:cNvSpPr/>
            <p:nvPr/>
          </p:nvSpPr>
          <p:spPr>
            <a:xfrm>
              <a:off x="4191120" y="1828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152388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33720" y="4114800"/>
            <a:ext cx="388620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(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3581280"/>
            <a:ext cx="914400" cy="533520"/>
            <a:chOff x="3276720" y="3581280"/>
            <a:chExt cx="914400" cy="533520"/>
          </a:xfrm>
        </p:grpSpPr>
        <p:sp>
          <p:nvSpPr>
            <p:cNvPr id="187" name=""/>
            <p:cNvSpPr/>
            <p:nvPr/>
          </p:nvSpPr>
          <p:spPr>
            <a:xfrm>
              <a:off x="419112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6720" y="358128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91120" y="2590920"/>
            <a:ext cx="2209680" cy="2666160"/>
            <a:chOff x="4191120" y="2590920"/>
            <a:chExt cx="2209680" cy="2666160"/>
          </a:xfrm>
        </p:grpSpPr>
        <p:grpSp>
          <p:nvGrpSpPr>
            <p:cNvPr id="190" name=""/>
            <p:cNvGrpSpPr/>
            <p:nvPr/>
          </p:nvGrpSpPr>
          <p:grpSpPr>
            <a:xfrm>
              <a:off x="4191120" y="3021120"/>
              <a:ext cx="2209680" cy="2235960"/>
              <a:chOff x="4191120" y="3021120"/>
              <a:chExt cx="2209680" cy="2235960"/>
            </a:xfrm>
          </p:grpSpPr>
          <p:sp>
            <p:nvSpPr>
              <p:cNvPr id="191" name=""/>
              <p:cNvSpPr/>
              <p:nvPr/>
            </p:nvSpPr>
            <p:spPr>
              <a:xfrm>
                <a:off x="5257800" y="302112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800" y="3021120"/>
                <a:ext cx="0" cy="223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191120" y="525708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5410080" y="259092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352680" y="838080"/>
            <a:ext cx="5410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low char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572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1414440"/>
            <a:ext cx="3352320" cy="3018600"/>
            <a:chOff x="304920" y="1414440"/>
            <a:chExt cx="3352320" cy="3018600"/>
          </a:xfrm>
        </p:grpSpPr>
        <p:sp>
          <p:nvSpPr>
            <p:cNvPr id="199" name=""/>
            <p:cNvSpPr/>
            <p:nvPr/>
          </p:nvSpPr>
          <p:spPr>
            <a:xfrm>
              <a:off x="304920" y="1414440"/>
              <a:ext cx="2646720" cy="30186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ختبار قيمة نصف القطر اذا كان ناتج تنفيذ التعبير المنطقى بالقيمة 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يتم حساب مساحة الدائرة وطباعة المساح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1640" y="2238840"/>
              <a:ext cx="705600" cy="274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553080" y="3276720"/>
            <a:ext cx="2362320" cy="22870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09480" y="762120"/>
            <a:ext cx="8305560" cy="5867280"/>
            <a:chOff x="609480" y="762120"/>
            <a:chExt cx="8305560" cy="5867280"/>
          </a:xfrm>
        </p:grpSpPr>
        <p:sp>
          <p:nvSpPr>
            <p:cNvPr id="203" name=""/>
            <p:cNvSpPr/>
            <p:nvPr/>
          </p:nvSpPr>
          <p:spPr>
            <a:xfrm>
              <a:off x="609480" y="1143000"/>
              <a:ext cx="83055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762120"/>
              <a:ext cx="83055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uteArea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ComputeArea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43828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14159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380988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adius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1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3526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radius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343400"/>
            <a:ext cx="6934320" cy="85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radiu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{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ختبار القيمة المُدخلة أكبر من الصف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34996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area of radius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radius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487692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 =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Miriam Fixed"/>
                <a:ea typeface="Miriam Fixed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1" lang="en-US" sz="2400" spc="-1" strike="noStrike">
                <a:solidFill>
                  <a:srgbClr val="000000"/>
                </a:solidFill>
                <a:latin typeface="Miriam Fixed"/>
                <a:ea typeface="Miriam Fixed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s;</a:t>
            </a:r>
            <a:r>
              <a:rPr b="1" lang="en-US" sz="2400" spc="-1" strike="noStrike">
                <a:solidFill>
                  <a:srgbClr val="000000"/>
                </a:solidFill>
                <a:latin typeface="Miriam Fixed"/>
                <a:ea typeface="Miriam Fix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6095880"/>
            <a:ext cx="6934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 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end of if bol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267080"/>
            <a:ext cx="746748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885960"/>
            <a:ext cx="7772400" cy="13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762120"/>
            <a:ext cx="7772400" cy="304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Area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666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 end of 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6002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97180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038480" y="5715000"/>
            <a:ext cx="228600" cy="837720"/>
            <a:chOff x="4038480" y="5715000"/>
            <a:chExt cx="228600" cy="837720"/>
          </a:xfrm>
        </p:grpSpPr>
        <p:sp>
          <p:nvSpPr>
            <p:cNvPr id="226" name=""/>
            <p:cNvSpPr/>
            <p:nvPr/>
          </p:nvSpPr>
          <p:spPr>
            <a:xfrm>
              <a:off x="4038480" y="6273720"/>
              <a:ext cx="228600" cy="2790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2960" y="57150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38480" y="2286000"/>
            <a:ext cx="304920" cy="685800"/>
            <a:chOff x="4038480" y="2286000"/>
            <a:chExt cx="304920" cy="685800"/>
          </a:xfrm>
        </p:grpSpPr>
        <p:sp>
          <p:nvSpPr>
            <p:cNvPr id="229" name=""/>
            <p:cNvSpPr/>
            <p:nvPr/>
          </p:nvSpPr>
          <p:spPr>
            <a:xfrm>
              <a:off x="4191120" y="2590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228600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33720" y="4876920"/>
            <a:ext cx="388620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(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76720" y="4343400"/>
            <a:ext cx="914400" cy="533520"/>
            <a:chOff x="3276720" y="4343400"/>
            <a:chExt cx="914400" cy="533520"/>
          </a:xfrm>
        </p:grpSpPr>
        <p:sp>
          <p:nvSpPr>
            <p:cNvPr id="233" name=""/>
            <p:cNvSpPr/>
            <p:nvPr/>
          </p:nvSpPr>
          <p:spPr>
            <a:xfrm>
              <a:off x="4191120" y="4419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434340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191120" y="3352680"/>
            <a:ext cx="2209680" cy="2666520"/>
            <a:chOff x="4191120" y="3352680"/>
            <a:chExt cx="2209680" cy="2666520"/>
          </a:xfrm>
        </p:grpSpPr>
        <p:grpSp>
          <p:nvGrpSpPr>
            <p:cNvPr id="236" name=""/>
            <p:cNvGrpSpPr/>
            <p:nvPr/>
          </p:nvGrpSpPr>
          <p:grpSpPr>
            <a:xfrm>
              <a:off x="4191120" y="3782880"/>
              <a:ext cx="2209680" cy="2236320"/>
              <a:chOff x="4191120" y="3782880"/>
              <a:chExt cx="2209680" cy="2236320"/>
            </a:xfrm>
          </p:grpSpPr>
          <p:sp>
            <p:nvSpPr>
              <p:cNvPr id="237" name=""/>
              <p:cNvSpPr/>
              <p:nvPr/>
            </p:nvSpPr>
            <p:spPr>
              <a:xfrm>
                <a:off x="5257800" y="378288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00800" y="3782880"/>
                <a:ext cx="0" cy="223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191120" y="601920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410080" y="335268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800600" y="24382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5334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4920" y="2971800"/>
            <a:ext cx="2895480" cy="2226960"/>
            <a:chOff x="304920" y="2971800"/>
            <a:chExt cx="2895480" cy="2226960"/>
          </a:xfrm>
        </p:grpSpPr>
        <p:sp>
          <p:nvSpPr>
            <p:cNvPr id="245" name=""/>
            <p:cNvSpPr/>
            <p:nvPr/>
          </p:nvSpPr>
          <p:spPr>
            <a:xfrm>
              <a:off x="304920" y="2971800"/>
              <a:ext cx="2286000" cy="22269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ذا كان ناتج تنفيذ التعبير المنطقى بالقيمة </a:t>
              </a: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r>
                <a:rPr b="1" lang="ar-SA" sz="20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يتم تنفيذ التعليمات التابعة لعبارة الـ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المحصورة بين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 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3429000"/>
              <a:ext cx="609480" cy="152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629400" y="3200400"/>
            <a:ext cx="22860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05T02:16:27Z</dcterms:modified>
  <cp:revision>1538</cp:revision>
  <dc:subject>Programming Fundamentals</dc:subject>
  <dc:title>Primitive Data Type</dc:title>
</cp:coreProperties>
</file>