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505-B0FE-42CE-A888-C31C6EE9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8D6-414A-4F97-8334-E5DC6663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91D-7931-4ADB-A8E1-45FCE61B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11B-CA08-463E-8984-DF9D541C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0C965-E95E-42D0-8786-47A0F23E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F4B1B-8AA8-4776-9782-FFA42D91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51D15-40F8-45C1-B093-50CC6D4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152DD-CAC2-48BC-8CD1-8C60490F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389B8-F5A6-49FB-97AC-DD9CC31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08C60-6175-4DA1-883F-6F56C06F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239CF-A715-4DE3-BBAB-26226124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C07-AE65-4435-8424-C95E074C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2B0CE-E8C2-4633-A0C8-FDB5F4F3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B3EBD-74B1-4C4E-BD1A-6E9FA7B0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E6438-8760-4A76-ABBC-1FA98F20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46E8D-27CC-4460-8D15-B0D0B2AF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40D61-593C-44A7-93A5-174D90DF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94D-D2FC-49AC-AFA2-B3EDC83B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79B-1DCC-471F-B944-9B5AC442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2AB-312A-4DEF-8CC8-0B997E4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08C-986A-49D5-8D18-80CCB929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FDD-8884-4B74-BBEC-2C7510E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50A-2C7F-49A1-A9E1-7D814DC6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005-B943-497B-AD1F-F61047A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627851B-F615-4BE1-8300-38672FC6165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D3DB5A-23BD-4C75-8351-4A668EA7C57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327672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محاضرة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10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br>
              <a:rPr sz="3600"/>
            </a:b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تابع الانترنت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76320"/>
            <a:ext cx="9143640" cy="91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الكيبل/الكابل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400" spc="-1" strike="noStrike">
                <a:solidFill>
                  <a:srgbClr val="ff0000"/>
                </a:solidFill>
                <a:latin typeface="Century Schoolbook"/>
              </a:rPr>
              <a:t>سرعات الاتصال: </a:t>
            </a:r>
            <a:r>
              <a:rPr b="1" lang="ar-SA" sz="3400" spc="-1" strike="noStrike">
                <a:solidFill>
                  <a:srgbClr val="000000"/>
                </a:solidFill>
                <a:latin typeface="Century Schoolbook"/>
              </a:rPr>
              <a:t>يمكن أن تختلف سرعات الكيبل اعتمادًا على مزود الكابل ، ومدى جودة خطوطهم ، ومدى جودة اتصالهم بالإنترنت. تتراوح السرعات من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512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كيلو بايت في الثانية إلى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52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ميغابت في الثان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400" spc="-1" strike="noStrike">
                <a:solidFill>
                  <a:srgbClr val="ff0000"/>
                </a:solidFill>
                <a:latin typeface="Century Schoolbook"/>
              </a:rPr>
              <a:t>التوفر: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400" spc="-1" strike="noStrike">
                <a:solidFill>
                  <a:srgbClr val="000000"/>
                </a:solidFill>
                <a:latin typeface="Century Schoolbook"/>
              </a:rPr>
              <a:t>تكتسب خدمة الإنترنت عبر الكابل شعبية ، ولكنها لا تزال غير متوفرة على نطاق واسع مثل خدمة الطلب الهاتفي العاد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400" spc="-1" strike="noStrike">
                <a:solidFill>
                  <a:srgbClr val="ff0000"/>
                </a:solidFill>
                <a:latin typeface="Century Schoolbook"/>
              </a:rPr>
              <a:t>التكلفة: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400" spc="-1" strike="noStrike">
                <a:solidFill>
                  <a:srgbClr val="000000"/>
                </a:solidFill>
                <a:latin typeface="Century Schoolbook"/>
              </a:rPr>
              <a:t>شهريا حسب الاتفاق مع مزود الخدمة (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ISP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0" y="1080"/>
            <a:ext cx="9143640" cy="9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igital Subscriber Line: 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هي عبارة طريقة خدمة للاتصال بالانترنت، حيث تقدم خدمة الاتصال عبر طرق مختلف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المتزا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ynchronous Digital Subscriber Line: S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غير المتزا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synchronous Digital Subscriber Line: A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للخدمات الرقمية المتكام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grated Services Digital Network Digital Subscriber Line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:I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1080"/>
            <a:ext cx="9143640" cy="10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entury Schoolbook"/>
              </a:rPr>
              <a:t>خط المشترك الرقمي المتزامن 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SDSL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المتزامن، هو الخيار الأفضل من بين الخيارات المتاحة لخدمة التوصيل عبر خط المشترك الرقمي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عادةً ما يكون الحصول على خدمات الانترنت عبر هذه الطريقة  أسرع من بقية الطرق الأخرى، كما ان ميزته الرئيسية هي أن سرعة التحميل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pload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مساوية لسرعة التنزيل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ownload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0" y="1080"/>
            <a:ext cx="9143640" cy="9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entury Schoolbook"/>
              </a:rPr>
              <a:t>خط المشترك الرقمي غير المتزامن 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ADSL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غير المتزامن، هو الخيار الأكثر انتشاراً من بين الخيارات المتاحة لخدمة التوصيل عبر خط المشترك الرقمي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للاتصال بالا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يتمثل عيبه الرئيسي في أن سرعة تحميل الملفات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pload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ليست مساوية لسرع تنزيل الملفات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ownload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1080"/>
            <a:ext cx="9143640" cy="9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خط المشترك الرقمي للخدمات الرقمية المتكاملة 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DSL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خط المشترك الرقمي للخدمات الرقمية المتكاملة هي طريقة قديمة للوصول إلى الإنترنت التي تتطلب خط هاتف رقمي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يشبه خط المشترك الرقمي للخدمات الرقمية المتكاملة مزيجاً من الاثنين، حيث يقدم خدمة خط المشترك الرقمي على خط الهاتف الرقمي المتكامل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الجانب السلبي هو أنك تحتاج إلى خط هاتف ثانٍ لـلحصول على خدمة خط المشترك الرقمي للخدمات الرقمية المتكامل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1080"/>
            <a:ext cx="9143640" cy="83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سرعات الاتصال: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مكن أن تختلف سرعات الاتصال اختلافًا كبيرًا بين مخدمي الخدمة وحتى مستخدمي نفس مقدم الخد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خط المشترك الرقمي لديه سرعات مختلفة في أي مكان تتراوح مابين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512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كيلو بايت في الثانية إلى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ميغابت في الثانية، على الرغم من أن سرعة عملية التحميل عبر الخط المشترك الرقمي غير المتزامن عادة ما تكون أقل بكثير من سرعة التنزي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بلغ الحد الأقصى لسرعة خط المشترك الرقمي للشبكة الرقمية للخدمات المتكاملة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44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كيلو بايت في الثا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1080"/>
            <a:ext cx="9143640" cy="9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وفر: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توفر خط المشترك الرقمي غير المتزامن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على نطاق واسع ، حيث تقدم معظم شركات الهاتف المحلية الخدمة عبره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خط المشترك الرقمي المتزامن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ليس متاحاً مثل خط المشترك الرقمي غير المتزامن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، وعادةً ما تستهدف به الشركات والمؤسسات  أكثر من الأفر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لا يحدد العديد من موفري خط المشترك الرقمي ما إذا كانت خدمتهم عبارة عن خط مشترك رقمي غير متزامن أو مشترك رقمي متزامن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قد يطلقون عليها فقط "خط المشترك الرقمي" ، ولكن عادةً ما تكون حزمة المستهلك اتصال مشترك رقمي غير متزا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0" y="1080"/>
            <a:ext cx="9143640" cy="84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وف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إذا كنت تفكر في اتصال خط المشترك الرقمي ، تأكد من سؤال الشركة عما إذا كانت تقدم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أو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أو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كلفة: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ختلف التكلفة بين مقدمي خدمات خدمات الانترنت عبر خط المشترك الرقمي، ولكن عادةً ما يتم تحديد تكلفة شهرية للتنافس مع مقدمي خدمة الاتصال عبر الكيبل/الكاب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إذا لم يكن هناك خدمة إنترنت عبر الكبيل/الكابل متاحة في  أي منطقةٍ ما ، عادةً ما يكون سعر خدمة خط المشترك الرقمي عالياً نسبي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0" y="1080"/>
            <a:ext cx="9143640" cy="86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65120" indent="-465120" algn="just" rtl="1">
              <a:lnSpc>
                <a:spcPct val="10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الشبكة المحلية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Local Area Network-LAN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6999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تستخدم طريقة اتصال الشبكة المحلية جهاز توجيه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outer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للاتصال بجهاز توجيه آخر لدى مزود خدمة الإنترنت عبر خط عالي السرعة ، والذي بدوره يتصل بالإ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6999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عادةً ما تستخدم الشركات/والمؤسسات طريقة الاتصال عبر الشبكة المحلية عبر مقدمي خدمة الانترنت وذلك بغرض تقديم الخدمة للعاملين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0" y="1080"/>
            <a:ext cx="9143640" cy="11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65120" indent="-465120" algn="just" rtl="1">
              <a:lnSpc>
                <a:spcPct val="10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الشبكة المحلية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Local Area Network-LAN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سرعات الاتصال: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توفر طريق الاتصال عبر الشبكة المحلية سرعة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1.54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ميغابت في الثانية وأكث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كما أنها تمثل طريقة اتصال للشركات/والمؤسسات موثوق بها من الطرق الأخرى كما أنها تحافظ على سرعة ثابتة لتلقى الخدم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وفر: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تتوفر خدمة الاتصال عبر الشبكات المحلية لدى المراكز الكبير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كلفة: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تختلف تكاليف الاتصال عبر الشبكة المحلية وذلك وفقًا لحجم حركة المرور (النطاق الترددي) الذي تستخدمه المؤسسة/الشركة، كما يمكن أنه تختلف الأسعار شهريا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6999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2133720" y="0"/>
            <a:ext cx="7009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5400" spc="-1" strike="noStrike">
                <a:solidFill>
                  <a:srgbClr val="000000"/>
                </a:solidFill>
                <a:latin typeface="Century Schoolbook"/>
              </a:rPr>
              <a:t>مفاهيم أساسية</a:t>
            </a: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85800" y="1600200"/>
            <a:ext cx="76957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تقوم بنية الانترنت من ناحية تصميمية على مفهومين أساسيين هم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لامركزية (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ecentralization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تكرار (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edundancy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838080"/>
            <a:ext cx="9143640" cy="9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هناك العديد من البروتوكولات التي يمكن اتباعها بغرض الاتصال بالانترنت ومن ثم تلقي الخدمات المختلفة، وتشمل بروتكولات الانترنت العامة/المشتركة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mmon protocol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CP/I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(Transmission Control Protocol/Internet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: بروتوكول التحكم في الإرسال / بروتوكول الإنترن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DP  (User Datagram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مخطط بيانات المستخد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TP  (HyperText Transfer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نقل النص التشع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TP  (File Transfer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نقل الملف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838080"/>
            <a:ext cx="9143640" cy="77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CP/I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(Transmission Control Protocol/Internet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: بروتوكول التحكم في الإرسال / بروتوكول الإنترن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هو عبارة عن بروتوكول تدفق بيانات، وهذا يعني أنه يتم التفاوض على اتصال بين العميل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ent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والخادم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rver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بغرض جعل بيانات تنتقل بي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وكذلك يسمى أيضاً بروتوكول نظير إلى نظ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838080"/>
            <a:ext cx="914364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D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(User Datagram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مخطط بيانات المستخد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برتوكول مخطط بيانات المستخدم هو بروتوكول اتصالات يسهل تبادل الرسائل بين أجهزة الحاسبوب في الشبكة. أي يمكن أن يكون بديلاً لبروتوكول التحكم في الإرسال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CP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838080"/>
            <a:ext cx="9143640" cy="79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T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(HyperText Transfer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نقل النص التشعب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هو البروتوكول المستخدم لنقل جميع البيانات الموجودة على الشبكة العالمية. وهذا يشمل النص والوسائط المتعددة والرسومات. إنه البروتوكول المستخدم لنقل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، وهي اللغة التي تصنع جميع الزخارف الفاخرة في متصفح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838080"/>
            <a:ext cx="914364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T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(File Transfer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نقل الملف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بروتوكول نقل الملفات هو بروتوكول يعمل على تسهيل عملية نقل ملف من جهاز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ent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الى جهاز آخر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rver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1562400" y="0"/>
            <a:ext cx="67525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عنوان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الإنترن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838080"/>
            <a:ext cx="914364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2700" spc="-1" strike="noStrike">
                <a:solidFill>
                  <a:srgbClr val="000000"/>
                </a:solidFill>
                <a:latin typeface="Century Schoolbook"/>
              </a:rPr>
              <a:t>يستخدم عنوان بروتوكول الإنترنت بغرض اتصال الحاسبات فيما بينها على الانترنت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700" spc="-1" strike="noStrike">
                <a:solidFill>
                  <a:srgbClr val="000000"/>
                </a:solidFill>
                <a:latin typeface="Century Schoolbook"/>
              </a:rPr>
              <a:t>يكتب عنوان بروتوكول الإنترنت باستخدام النظام الثنائي حيث يتألف العنوان من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32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ثنائية (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bit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) في حال استخدام بروتوكول الانترنت الإصدارة الرابعة (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IPV4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700" spc="-1" strike="noStrike">
                <a:solidFill>
                  <a:srgbClr val="000000"/>
                </a:solidFill>
                <a:latin typeface="Century Schoolbook"/>
              </a:rPr>
              <a:t>يكتب العنوان على النحو التالي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xxxxxxxxxxxxxxxxxxxxxxxxxxxxxxxx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700" spc="-1" strike="noStrike">
                <a:solidFill>
                  <a:srgbClr val="000000"/>
                </a:solidFill>
                <a:latin typeface="Century Schoolbook"/>
              </a:rPr>
              <a:t>كما يمكن أن يتألف العنوان من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64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ثنائية فى حال استخدام بروتوكول الانترنت الإصدارة الرابعة (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IPV6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)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1562400" y="0"/>
            <a:ext cx="67525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عنوان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الإنترن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838080"/>
            <a:ext cx="9143640" cy="64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مثيل عنوان بروتوكول الانترنت باستخدام الثنئيات أمر يصعب تذكره، ولذلك كان لابد من وجود آلية أخر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قسيم العنوان الى أربعة مجموعات ثنائية كل مجموعة تحتوى على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ثنائيا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ت لكل منها) ، ثم حوّل كل جزء إلى الرقم العشري المقابل له مع فصلها عن بعضها باستخدام بالنقطة (.)، مث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عنوان الثنائي التالي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xxxxxxxxxxxxxxxxxxxxxxxxxxxxxxx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يمكن كتابته على النظام العشري كما يلي: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xx.xxx.xxx.xxx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حيث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xx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رقم عشر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9360"/>
            <a:ext cx="9143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كذلك قد يصعب تذكر العنوان على صورته العشرية لكثير من مستخدمي الانترنت،  ولذلك كان لابد من وجود آلية أخرى اكثر سهولة وقابلة للحف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فكان البديل للعنوان على صورة الرقم لعشري هو استخدام الحروف الهجائية مثل: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sudanet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5400" spc="-1" strike="noStrike">
                <a:solidFill>
                  <a:srgbClr val="000000"/>
                </a:solidFill>
                <a:latin typeface="Century Schoolbook"/>
              </a:rPr>
              <a:t>مفاهيم أساسية</a:t>
            </a: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85800" y="1143000"/>
            <a:ext cx="7924320" cy="74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لامركزية (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ecentralization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تقوم الانترنت على مفهوم اللامركزية وذلك لتقليل احتمالات انقطاع خدمات الانترن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بحيث أن هنالك عدد من مخدمات الانترنت منتشرة في مواقع مختلفة يمكن لواحد منها تقديم خدمة الانترنت دون اعتبار للمخدمات الأخر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0" y="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5400" spc="-1" strike="noStrike">
                <a:solidFill>
                  <a:srgbClr val="000000"/>
                </a:solidFill>
                <a:latin typeface="Century Schoolbook"/>
              </a:rPr>
              <a:t>مفاهيم أساسية</a:t>
            </a: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57200" y="1143000"/>
            <a:ext cx="8305560" cy="83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تكرار (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edundancy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تكرار يعني وجود نفس الشيئ على الانترت أكثر مما هو مطلوب أو يحتاج الي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مثلاً يمكن أن يكون هنالك أكثر من جهاز حاسوب وفي مواقع مختلفة تؤدي نفس الوظيفة، كما يمكن أن يكون هنالك أكثر من صفحة وبنفس المحتوي موجودة في اكثر من جها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5400" spc="-1" strike="noStrike">
                <a:solidFill>
                  <a:srgbClr val="000000"/>
                </a:solidFill>
                <a:latin typeface="Century Schoolbook"/>
              </a:rPr>
              <a:t>مفاهيم أساسية</a:t>
            </a: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1143000"/>
            <a:ext cx="914364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التكرار (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عتبر أمر التكرار وبهذه الصورة جيداً لأنه في فقد الخدمة بالجهاز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فيمكن الحصول عليها من الجهاز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كما انه في حالة عدم الحصول على صفحة من الجهاز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فإنه يمكن الحصول عليها من الجهاز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0" y="0"/>
            <a:ext cx="914364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طرق الاتصال بالإنترن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6001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Connection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6320" y="1447920"/>
            <a:ext cx="9143640" cy="73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Century Schoolbook"/>
              </a:rPr>
              <a:t>هنالك أكثر من طريقة يمكن اتباعها للاتصال بالانترنت ومن ثم امكانية المشاركة في الخدمات المتاحة بالانترنت، نذكر منها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طلب تلفوني/هاتفي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ial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كيبل/الكابل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خط المشترك الرقمي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igital Subscriber Line-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شبكة المحلية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Local Area Network-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76320"/>
            <a:ext cx="91436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طلب تلفوني/هاتفي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ial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يُعد الطلب الهاتفي أحد أقدم الطرق التي يتصل بها المستخدمون بالإنترنت ، وهي لا تزال الأكثر شعب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يعتبرلحد ما أبطأ أنواع الاتصال وذلك لأن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algn="just" rtl="1">
              <a:lnSpc>
                <a:spcPct val="150000"/>
              </a:lnSpc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يتم استخدام خطوط الهاتف التناظرية لنقل واستقبال البيان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0" y="76320"/>
            <a:ext cx="9143640" cy="84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طلب تلفوني/هاتفي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ial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سرعات الاتصال: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السرعة الفعلية من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28.8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كيلو بايت أو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33.3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كيلو بايت إلى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56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كيلو بايت وتعتمد السرعة على حالة خطوط الهاتف ومزود خدمة الاتصال الهاتفي وكل شيء آخر بينهما يمكن أن يؤثر على الاتص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وفر: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خدمة الطلب الهاتفي هي أكثر طريقة متاحة على نطاق واسع للاتصال بالإ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كلفة: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تعتمد التكلفة على قيمة جهاز المودم الهاتفي، وكذلك قيمة خدمة الطلب الهاتفي، بالاضافة لقيمة الاشتراك الشه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0" y="76320"/>
            <a:ext cx="91436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الكيبل/الكابل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تقدم العديد من شركات الكابلات الآن إمكانية الوصول إلى الإنترنت عبر خطوط الكابل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عادة ما تكون العملية سهلة إلى حد ما للحصول على إعدادات الوصول إلى الإنترنت عبر الكابل في المنازل وأي مواقع أخرى، إذا كان هنالك خدمة تلفزيون متوفرةعبرالكاب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83</TotalTime>
  <Application>LibreOffice/7.4.7.2$Linux_X86_64 LibreOffice_project/40$Build-2</Application>
  <AppVersion>15.0000</AppVersion>
  <Words>1430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53:44Z</dcterms:modified>
  <cp:revision>519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7</vt:r8>
  </property>
</Properties>
</file>