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FC09-43BD-4607-99DB-A8C16E62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E4AF-BBB7-47D1-8930-5374745B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0EA0-CA8A-45FF-8E00-095E3AD0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C202-AED5-4080-BE15-9862CBAA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10C1-010B-41FB-9361-25CAE5E1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5CBC-94FC-44F8-A91A-AC418E90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CA67-7FC1-4A55-BF16-16404022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4708-4209-4D12-A4AD-9A92CD0C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4B56-41B5-4E47-AB4E-850B6DC0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AC70-43ED-4BCC-9D70-D749197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402B-0916-486B-94F3-110644D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E989-7D0B-4F8D-8F3F-F84111E1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5766704-ADE6-4228-97BB-A1D25BEDF54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68576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 </a:t>
            </a:r>
            <a:r>
              <a:rPr b="1" lang="ar-DZ" sz="6600" spc="-1" strike="noStrike">
                <a:solidFill>
                  <a:srgbClr val="262626"/>
                </a:solidFill>
                <a:latin typeface="Century Schoolbook"/>
              </a:rPr>
              <a:t>المحاضرة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 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14200" y="1714680"/>
            <a:ext cx="60717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</a:rPr>
              <a:t>أهمية إيقاف تشغيل الحاسوب بشكل صحي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</a:rPr>
              <a:t>استخدا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80"/>
                </a:solidFill>
                <a:latin typeface="Century Schoolbook"/>
              </a:rPr>
              <a:t>UPS (</a:t>
            </a:r>
            <a:r>
              <a:rPr b="0" lang="en-GB" sz="2000" spc="-1" strike="noStrike">
                <a:solidFill>
                  <a:srgbClr val="000080"/>
                </a:solidFill>
                <a:latin typeface="Century Schoolbook"/>
              </a:rPr>
              <a:t>Un-interruptible Power Supply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</a:rPr>
              <a:t>الوقاية من مخاطر الارتفاع المفاجئ في الجهد الكهربائي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573960" y="2286000"/>
            <a:ext cx="2569680" cy="2666520"/>
          </a:xfrm>
          <a:prstGeom prst="rect">
            <a:avLst/>
          </a:prstGeom>
          <a:ln w="9525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CEEC33-3761-4845-B79A-DA5E86C585F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66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توفير بيئة عمل جيدة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400" y="1285920"/>
            <a:ext cx="777204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Times New Roman Backslanted"/>
              </a:rPr>
              <a:t>أشياء يجب توفره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هوية جيد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بيئة نظيف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سطح ثابت خالِ من أي اهتزازات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Times New Roman Backslanted"/>
              </a:rPr>
              <a:t>أشياء يجب تجنبه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الغبار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الأكل أو الشرب على لوحة المفاتي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الحرارة أو البرودة أو الرطوب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وضع أشياء فوق الشاش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وضع أقراص مرنة بالقرب من الشاش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9" name="Picture 4" descr="bd00028_"/>
          <p:cNvPicPr/>
          <p:nvPr/>
        </p:nvPicPr>
        <p:blipFill>
          <a:blip r:embed="rId1"/>
          <a:stretch/>
        </p:blipFill>
        <p:spPr>
          <a:xfrm>
            <a:off x="500040" y="2214720"/>
            <a:ext cx="2285640" cy="2239560"/>
          </a:xfrm>
          <a:prstGeom prst="rect">
            <a:avLst/>
          </a:prstGeom>
          <a:ln w="9525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sldNum" idx="1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592D9F-42FA-4D1A-B5FA-78978E34A23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66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توفير بيئة عمل جيدة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Times New Roman Backslanted"/>
                <a:cs typeface="Mudir MT"/>
              </a:rPr>
              <a:t>أهمية النسخ الاحتياطي لملفات الحاسوب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642888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إن أهم شيء تقوم بتخزينه على الحاسوب الخاص بك هي المعلوم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عادةً ما تمثل محتويات القرص الصلب خلاصة سنوات من العمل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فإذا توقف القرص الصلب عن العمل، من الممكن أن تفقد كل هذا المجهود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لذلك، من الواجب عليك إنشاء نسخ احتياطية بشكل منتظم من المعلومات المخزنة على الحاسوب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6686640" y="2209680"/>
            <a:ext cx="2457000" cy="2719080"/>
          </a:xfrm>
          <a:prstGeom prst="rect">
            <a:avLst/>
          </a:prstGeom>
          <a:ln w="9525">
            <a:noFill/>
          </a:ln>
        </p:spPr>
      </p:pic>
      <p:sp>
        <p:nvSpPr>
          <p:cNvPr id="85" name="PlaceHolder 3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4E1ABF-7DD4-4ACC-833A-8FBFB3C11C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257880" y="2286000"/>
            <a:ext cx="2885760" cy="2885760"/>
          </a:xfrm>
          <a:prstGeom prst="rect">
            <a:avLst/>
          </a:prstGeom>
          <a:ln w="9525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607176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ما هي فيروسات الحاسوب؟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هي برامج </a:t>
            </a:r>
            <a:r>
              <a:rPr b="1" lang="ar-SA" sz="2100" spc="-1" strike="noStrike">
                <a:solidFill>
                  <a:srgbClr val="000080"/>
                </a:solidFill>
                <a:latin typeface="Times New Roman Backslanted"/>
              </a:rPr>
              <a:t>تخريبية</a:t>
            </a:r>
            <a:r>
              <a:rPr b="0" lang="en-US" sz="2100" spc="-1" strike="noStrike">
                <a:solidFill>
                  <a:srgbClr val="000080"/>
                </a:solidFill>
                <a:latin typeface="Times New Roman Backslanted"/>
              </a:rPr>
              <a:t> صغيرة تختفي في موضع ما على الأقراص الخاصة ب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نشط الفيروسات بطرق مختلف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إذا لم تكن تستخدم برنامج مضاد للفيروسات فأن بياناتك وجهازك عرضة التخريب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5DC7FE-F3DA-4819-B845-2C9EFF3B87C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642960" y="7128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6600" spc="-1" strike="noStrike">
                <a:solidFill>
                  <a:srgbClr val="000000"/>
                </a:solidFill>
                <a:latin typeface="Simplified Arabic Backslanted"/>
                <a:cs typeface="MCS Gulf S_U normal."/>
              </a:rPr>
              <a:t>فيروسات الحاسو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bd06551_"/>
          <p:cNvPicPr/>
          <p:nvPr/>
        </p:nvPicPr>
        <p:blipFill>
          <a:blip r:embed="rId1"/>
          <a:stretch/>
        </p:blipFill>
        <p:spPr>
          <a:xfrm>
            <a:off x="5600880" y="2514600"/>
            <a:ext cx="3400200" cy="2779200"/>
          </a:xfrm>
          <a:prstGeom prst="rect">
            <a:avLst/>
          </a:prstGeom>
          <a:ln w="9525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14200" y="1571760"/>
            <a:ext cx="5857560" cy="46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كيف يصيب الفيروس الحاسوب؟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ختفي الفيروسات على أي قرص وعندما تصل إلى القرص (إما قرص مرن أو قرص صلب آخر عبر شبكة)، يبدأ برنامج الفيروس بالعمل ويصيب الحاسوب الذي تعمل عليه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أسوأ شيء في الفيروسات هو أنها يمكن أن تنتشر من حاسوب لآخر (من خلال استخدام قرص مرن به فيروس) أو عبر شبكة من الحواسيب، بما في الإنترن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1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D4FCB4-4297-4F11-AAD1-26CEB9E584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42960" y="7128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6600" spc="-1" strike="noStrike">
                <a:solidFill>
                  <a:srgbClr val="000000"/>
                </a:solidFill>
                <a:latin typeface="Simplified Arabic Backslanted"/>
                <a:cs typeface="MCS Gulf S_U normal."/>
              </a:rPr>
              <a:t>فيروسات الحاسو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791400" y="2666880"/>
            <a:ext cx="2209320" cy="187452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4200" y="1500120"/>
            <a:ext cx="6928920" cy="47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كيفية حماية الحاسوب من مخاطر الفيروسات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هناك عدد كبير من البرامج المضادة للفيروسات مثل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just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80"/>
                </a:solidFill>
                <a:latin typeface="Times New Roman Backslanted"/>
              </a:rPr>
              <a:t>Norton, MacAfee, Nod32, AVG, PC-Cillin</a:t>
            </a:r>
            <a:r>
              <a:rPr b="0" lang="en-US" sz="1800" spc="-1" strike="noStrike">
                <a:solidFill>
                  <a:srgbClr val="000080"/>
                </a:solidFill>
                <a:latin typeface="Times New Roman Backslante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أهم شيء بالنسبة للبرنامج المضاد للفيروسات الذي ستستخدمه هو أن تقوم بتحديثه بشكل دائم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قدم الكثير من الشركات أقراص تحديث بشكل منتظم أو تتيح لك الحصول على نسخة محدثة من خلال الإنترن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Num" idx="1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4683EB-E8DC-4960-8CA8-C85919AAA1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42960" y="7128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6600" spc="-1" strike="noStrike">
                <a:solidFill>
                  <a:srgbClr val="000000"/>
                </a:solidFill>
                <a:latin typeface="Simplified Arabic Backslanted"/>
                <a:cs typeface="MCS Gulf S_U normal."/>
              </a:rPr>
              <a:t>فيروسات الحاسو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  <a:cs typeface="Mudir MT"/>
              </a:rPr>
              <a:t>حقوق النسخ الخاصة بالبرامج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5723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أنواع البرامج تبعاً للمصدر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 Backslanted"/>
              </a:rPr>
              <a:t>البرامج المجانية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Freew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البرامج التجريبية 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Sharew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البرامج التي تجدها على الإنترنت 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Public Domain Softw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البرامج المفتوحة المصدر 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Open Source Softw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Picture 5" descr="pe02668_"/>
          <p:cNvPicPr/>
          <p:nvPr/>
        </p:nvPicPr>
        <p:blipFill>
          <a:blip r:embed="rId1"/>
          <a:stretch/>
        </p:blipFill>
        <p:spPr>
          <a:xfrm>
            <a:off x="1071720" y="4406760"/>
            <a:ext cx="3335040" cy="2450880"/>
          </a:xfrm>
          <a:prstGeom prst="rect">
            <a:avLst/>
          </a:prstGeom>
          <a:ln w="9525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sldNum" idx="1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B578B2F-8E29-4F08-B265-67C2451C0BB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Times New Roman Backslanted"/>
                <a:cs typeface="Mudir MT"/>
              </a:rPr>
              <a:t>قانون حماية البيانات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28840"/>
            <a:ext cx="8305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إذا كان الحاسوب الذي تعمل عليه به بيانات عن أشخاص، يجب أن تتعامل مع هذه البيانات بطريقة قانونية وأخلاقي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في أي مجتمع حر، لديك الحق في الحفاظ على سرية هذه المعلومات وعدم إساءة استخدامها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في الكثير من الدول، يتم الحفاظ على هذا الحق بمقتضى قوانين حماية البيان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4" name="Picture 4" descr="bd00028_"/>
          <p:cNvPicPr/>
          <p:nvPr/>
        </p:nvPicPr>
        <p:blipFill>
          <a:blip r:embed="rId1"/>
          <a:stretch/>
        </p:blipFill>
        <p:spPr>
          <a:xfrm>
            <a:off x="1357200" y="4500720"/>
            <a:ext cx="1828440" cy="1792080"/>
          </a:xfrm>
          <a:prstGeom prst="rect">
            <a:avLst/>
          </a:prstGeom>
          <a:ln w="9525">
            <a:noFill/>
          </a:ln>
        </p:spPr>
      </p:pic>
      <p:sp>
        <p:nvSpPr>
          <p:cNvPr id="105" name="PlaceHolder 3"/>
          <p:cNvSpPr>
            <a:spLocks noGrp="1"/>
          </p:cNvSpPr>
          <p:nvPr>
            <p:ph type="sldNum" idx="1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E92215B-DDB1-4B10-B186-1D6BDA1F5AA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9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7200" spc="-1" strike="noStrike" cap="small">
                <a:solidFill>
                  <a:srgbClr val="000000"/>
                </a:solidFill>
                <a:latin typeface="Arial Black"/>
                <a:cs typeface="SKR HEAD2"/>
              </a:rPr>
              <a:t>الحاسوب في حياتنا اليومية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981080"/>
            <a:ext cx="6857640" cy="35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الاستخدامات الشائعة للحاسوب داخل المنز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  <a:cs typeface="Arial"/>
              </a:rPr>
              <a:t>ألعاب الحاسوب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عمل من المنزل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خدمات المصرفية عبر الإنترنت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اتصال بالويب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3034D7-03DE-4286-B725-566891480EA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e01561_"/>
          <p:cNvPicPr/>
          <p:nvPr/>
        </p:nvPicPr>
        <p:blipFill>
          <a:blip r:embed="rId1"/>
          <a:stretch/>
        </p:blipFill>
        <p:spPr>
          <a:xfrm>
            <a:off x="214200" y="3714840"/>
            <a:ext cx="3809520" cy="252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ستخدامات الحاسوب في التعليم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53240" cy="46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3600" spc="-1" strike="noStrike">
                <a:solidFill>
                  <a:srgbClr val="000080"/>
                </a:solidFill>
                <a:latin typeface="Times New Roman Backslanted"/>
              </a:rPr>
              <a:t>التدريب المعتمد على الحاسوب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يعد نظام "التدريب المعتمد على الحاسوب" حلاً ذا تكلفة قليلة لاحتياجات التدريب والتي يتم فيها تدريب عدد كبير من الأشخاص على موضوع واحد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عادةً ما تتوفر هذه البرامج على قرص مدمج وتتضمن نصوصًا ورسومًا وأصواتًا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تنوع مجموعات البرامج من حيث الحجم والموضوع؛ ما بين الموسوعات الكبيرة إلى برامج تعليم اللغات الأجنبي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DA5208-B568-4447-B185-950FE51216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4200" y="1357200"/>
            <a:ext cx="87865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80"/>
                </a:solidFill>
                <a:latin typeface="Times New Roman Backslanted"/>
              </a:rPr>
              <a:t>نظم الإنتاج الآلي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</a:rPr>
              <a:t>تستخدم الكثير من مصانع تصنيع السيارات نظمًا آلية في تصنيع السيارات ويتم تجميع السيارات من خلال أجهزة روبوت آلية يتم التحكم فيها عن طريق الحاسوب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</a:rPr>
              <a:t>وقد أصبحت هذه الآلية مظهرًا شائعًا في الصناعات المختلف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80"/>
                </a:solidFill>
                <a:latin typeface="Times New Roman Backslanted"/>
              </a:rPr>
              <a:t>نظم التصمي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</a:rPr>
              <a:t>يتم تصميم العديد من المنتجات باستخدام برامج التصميمات المعتمدة على الحاسوب للوصول إلى مواصفات دقيقة ورسوم تفصيلية على الحاسوب قبل إنتاج نماذج من المنتجات الجديد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EE4EDD3-E71E-4C42-9709-169330E690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ستخدامات الحاسوب في العمل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1428840"/>
            <a:ext cx="876276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3600" spc="-1" strike="noStrike">
                <a:solidFill>
                  <a:srgbClr val="000080"/>
                </a:solidFill>
                <a:latin typeface="Times New Roman Backslanted"/>
              </a:rPr>
              <a:t>مراقبة المخزون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إن مراقبة المخزون يمكن القيام بها بطريقة آلية، وفي الكثير من الشركات، أصبحت تعتمد بالكامل على الحاسوب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إن نظام مراقبة المخزون يقوم بتتبع عدد العناصر الموجودة في المخازن ويقوم تلقائيًا بإصدار أوامر بشراء عناصر جديدة عند الحاج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3600" spc="-1" strike="noStrike">
                <a:solidFill>
                  <a:srgbClr val="000080"/>
                </a:solidFill>
                <a:latin typeface="Times New Roman Backslanted"/>
              </a:rPr>
              <a:t>المحاسبة/الرواتب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تستخدم أغلب الشركات الكبيرة نظمًا معتمدة على الحاسوب للتعامل مع الحسابات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ونظرًا لطبيعة الحسابات التي تتسم بالتكرار، فإن النظام المعتمد على الحاسوب يعد هو النظام المثالي للقيام بهذه المهمة ويضمن أيضًا الدقة المتناهي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ldNum" idx="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1279C6-4DE5-4079-8657-51C22C0A20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ستخدامات الحاسوب في العمل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0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</a:rPr>
              <a:t>المهام المتكر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</a:rPr>
              <a:t>المهام البسيطة التي يمكن أتمتته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</a:rPr>
              <a:t>العمليات الحسابي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</a:rPr>
              <a:t>المجالات الخطي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FFBB36-50F6-475F-A0DC-28C5CB7219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ستخدامات الحاسوب في العمل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Century Schoolbook"/>
                <a:cs typeface="SKR HEAD2"/>
              </a:rPr>
              <a:t>تكنولوجيا المعلومات والمجتمع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172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مجتمع المعلوما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شير مفهوم مجتمع المعلومات إلى أنه من السهل عليك الآن أن تربط الحواسيب المتعددة معًا وأن تصل إلى المعلومات المخزنة على الحواسيب الأخرى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عد الإنترنت خير مثال على ذلك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مكنك عن طريق الاتصال بالإنترنت الوصول إلى ملايين من الحواسيب المتصلة في جميع أنحاء العال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مكنك أيضًا أن تتصل من خلال البريد الإلكتروني بأي شخص في العالم (مع افتراض أن هذا الشخص لديه أيضًا اتصال بالبريد الإلكتروني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663600C-3F74-49C0-9E7B-874315BC06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43040"/>
            <a:ext cx="800064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مجتمع المعلومات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شير مصطلح التجارة الإلكترونية إلى عمليات الشراء أو البيع التي تتم عبر الإنترنت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مكنك شراء ما تريد مباشرةً من خلال مواقع الويب وذلك باختيار الشيء الذي تريده ثم إدخال البيانات الخاصة ببطاقة الائتمان الخاصة بك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" name="Picture 5" descr="bs00580_"/>
          <p:cNvPicPr/>
          <p:nvPr/>
        </p:nvPicPr>
        <p:blipFill>
          <a:blip r:embed="rId1"/>
          <a:stretch/>
        </p:blipFill>
        <p:spPr>
          <a:xfrm>
            <a:off x="1143000" y="4611600"/>
            <a:ext cx="2666520" cy="2246040"/>
          </a:xfrm>
          <a:prstGeom prst="rect">
            <a:avLst/>
          </a:prstGeom>
          <a:ln w="9525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4185322-37FD-43B8-94DC-AD70BC7C180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Century Schoolbook"/>
                <a:cs typeface="SKR HEAD2"/>
              </a:rPr>
              <a:t>تكنولوجيا المعلومات والمجتمع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rtl="1">
              <a:lnSpc>
                <a:spcPct val="100000"/>
              </a:lnSpc>
              <a:buNone/>
            </a:pPr>
            <a:r>
              <a:rPr b="1" lang="ar-SA" sz="72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لصحة والأمان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الاحتياطات الصحية والخاصة بالأمان عند استخدام الحاسوب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التأكد من التركيب الآمن للكابلات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عدم التحميل الزائد على مقابس الكهرباء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احترس أيضًا من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الإرهاق المتكرر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وميض الشاش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الوضع الخاطئ للجلوس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FE4E4A-68D6-471A-BCC8-D070F33F7BE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90</TotalTime>
  <Application>LibreOffice/7.4.7.2$Linux_X86_64 LibreOffice_project/40$Build-2</Application>
  <AppVersion>15.0000</AppVersion>
  <Words>782</Words>
  <Paragraphs>1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41:48Z</dcterms:modified>
  <cp:revision>525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7</vt:r8>
  </property>
</Properties>
</file>