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D05AF-E5C9-4F43-BF36-ECD97834A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5F27E-99D5-41B3-9EDD-BD0B477E63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AF4-8C9F-4AE2-98FB-A5D1B128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85E-0472-41A6-B5DD-E2D1744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96F-5E6D-46A6-B0A9-40281765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B49-2426-4AD1-910C-44662D87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9AE3E-47D4-4598-ABF0-3B347944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3F74-7D42-43C7-9021-3DFD03F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71C9C-8268-4D3C-98DA-961F6F4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084FE-4A83-4593-9071-FF3873E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EB8E0-1DB8-4BE6-9DB3-A867856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920E-9D7F-40C8-90C8-D345100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462D-4DB6-4499-9D01-4705AE3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AEA-79FB-4853-9A01-785DA10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B5BFD-8CDA-4AE7-BC08-3B5420A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AEA9-145F-447D-A761-B831301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E6AD-119E-44F9-A95D-13440EE1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C17FB-E1FA-4A32-8681-4ACCC53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53C54-DBC5-411C-8FBC-D0AE555E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F10-67E7-48FC-AD2E-846DFBA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968-A06A-4FAB-9CC6-DCA41331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9B-2F58-47CB-AE2A-A8D0EEE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24D-21B5-496C-AED8-822B7F6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1DB-9288-4B69-9528-C94DF2B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346-8CC1-455F-A564-CE635944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165-B3DC-4A9A-800A-BA201FD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F06FBD-9C3B-432C-A3B3-759AEDFC94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4A5506-5691-4493-BAFF-739C27B8A77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6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نظم التشغيل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ربط بين نظام التشغيل وجميع المكونات المادية – ماعدا اللوحة الأم – يتم من خلال برنامج خاص يسمى </a:t>
            </a: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المشغل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chemeClr val="accent1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4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كونات المادية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F861-DDD9-4C2D-AF99-9C67B14C94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واجهة تطبيقات البرامج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تتيح للمبرمجين استخدام برامج نظام التشغيل بدون الحاجة إلى تتبع تفاصيل العملية في المعالج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كل ما يفعله المبرمج هو كتابة كود للواجهة ، ثم يعطي ثقته لنظام التشغيل لتنفيذ الباقي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5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واجهة التطبيقات 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Application interface</a:t>
            </a:r>
            <a:r>
              <a:rPr b="0" lang="en-US" sz="2400" spc="-1" strike="noStrike" cap="small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C15E-9C7F-4510-B435-080D48E4A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جلب التفاعلية بين المستخدم والحاسب ، واجهة رسومية في أنظمة ويندوز وآبل ماكنتوش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واجهة المستخدم هي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بارة عن برنامج أو مجموعة برامج تجلس فوق نظام التشغيل نفسه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6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واجهة المستخدم 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User interface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639F4-B8E4-45AA-A5ED-8A6578B74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000000"/>
                </a:solidFill>
                <a:latin typeface="Century Schoolbook"/>
              </a:rPr>
              <a:t>وظائف نظام التشغي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2760" cy="55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متابعة مصادر التخزين ومواقعها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من مهام نظام التشغيل التحكم بالملفات المنشأة وملفات النظام وتخزين إسترجاع البيانات وحفظها في ملفات وتذكر أسمائها وعناوينها وتحديث أي تغيرات مثل حذف ملف أو إنشاء ملف جد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4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التحكم بأجهزة النظام والاجهزة المتصلة بالحاسب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عمل نظام التشغيل على تنظيم المدخلات والمخرجات ويستخدم منطقة تسمى 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Century Schoolbook"/>
              </a:rPr>
              <a:t>Buffer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حفظ بها كل مايتم إدخاله إلى الحاسب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إحتفاظ بكل ضربة مفتاح من لوحة المفاتيح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000000"/>
                </a:solidFill>
                <a:latin typeface="Century Schoolbook"/>
              </a:rPr>
              <a:t>وظائف نظام التشغي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2760" cy="55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5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توفير واجهة العمل على الجهاز (سطح المكتب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تكون واجهة سطح المكتب من مجموعة من القوائم والأيقونات , كل برنامج يُحمّل على الجهاز لابد أن يعمل ضمن هذه الواجه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6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تمكين البرامج من العم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عمل نظام التشغيل على تشغيل البرامج بمختلف أنواعها وتحميلها إلى الذاكرة أثناء العمل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برنامج دايركت إكس وهو برنامج لتشغيل الوسائط المتعدد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مزايا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الإستخدام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قدرة على القيام بأكثر من عملية في نفس الوقت مثل:طباعة ملف والعمل على ملف آخر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الإنتقال من برنامج إلى آخر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نقل المعلومات وتبادلها بين البرامج أو الملفات المختلف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إمكانية نقل المعلومات والملفات بين أجهزة الحاسب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تحكم بأكثر من معالج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عدد ونوعية البرامج التي يتم تشغيلها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طريقة عمل الحاسب الآلي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ُخزن تعليمات نظام التشغيل في جزء يُسمى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BIO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ويوجد في ذاكرة 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2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عند تشغيل الحاسب يبدأ النظام بعملية تسمى التحفيز الذاتي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Booting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وتتضمن عملية إختبار ذاتي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Post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كشف النظام عن كل ما هو متصل بالحاسب من ذاكرة أو شرائح أو وحدات تخزين أو لوحة مفاتيح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طريقة عمل الحاسب الآلي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يتم البحث عن نظام التشغيل لتحميله . يبدأ البحث في الأقراص الخارجية أولاً مثل: القرص المرن أو القرص المدمج,ثم ينتقل إلى القرص الصلب وبعدها يتم تحميل النظام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كتمل عملية التحميل وتظهر واجهة المستخدم ويصبح الحاسب جاهز للعمل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يمكن تقسم فئات نظام التشغيل على حسب 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1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طريقة العمل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2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عدد المستخدمين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3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نوع المهم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الزمن الحقيقي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ستجيب لجميع التعليمات فور تلقيها ولايكون هناك فرق بين دخول البيانات وخروجها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rgbClr val="1f497d"/>
                </a:solidFill>
                <a:latin typeface="Century Schoolbook"/>
              </a:rPr>
              <a:t> نظام التشغيل المستخدم في الألعاب الإلكترونية و الأجهزة الأوتوماتيكية مثل أجهزة الصراف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2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مهمة واحدة ومستخدم واح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عمل على تحليل مهمة واحدة لمستخدم واحد في نفس الوقت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أنظمة تشغيل الأجهزة الرقمية المساعدة والهواتف الجوالة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entury Schoolbook"/>
              </a:rPr>
              <a:t>اذا يحمل نظام التشغيل برامج المستخدم في الذاكرة ويشغلها بالمعالج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يقوم نظام التشغيل بدورين رئيسيي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دارة المكونات المادية والبرمجية للحاسب ، مثل : المعالج / الذاكرة ... الخ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يعمل بطريقة فعالة لربط التطبيقات بالمكونات المادية بدون معرفة تفاصيلها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i="1" lang="ar-SA" sz="54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نظام التشغيل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مستطيل 6"/>
          <p:cNvSpPr/>
          <p:nvPr/>
        </p:nvSpPr>
        <p:spPr>
          <a:xfrm>
            <a:off x="571320" y="2071800"/>
            <a:ext cx="7857720" cy="1552680"/>
          </a:xfrm>
          <a:prstGeom prst="rect">
            <a:avLst/>
          </a:prstGeom>
          <a:gradFill rotWithShape="0">
            <a:gsLst>
              <a:gs pos="0">
                <a:srgbClr val="e4f9c8"/>
              </a:gs>
              <a:gs pos="100000">
                <a:srgbClr val="c9f67f"/>
              </a:gs>
            </a:gsLst>
            <a:path path="circle">
              <a:fillToRect l="0" t="95000" r="100000" b="5000"/>
            </a:path>
          </a:gradFill>
          <a:ln>
            <a:solidFill>
              <a:srgbClr val="8bb537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chemeClr val="dk1"/>
                </a:solidFill>
                <a:latin typeface="Century Schoolbook"/>
              </a:rPr>
              <a:t>هو عبارة عن حزمة برامج تجعل جهاز الحاسب يعمل بشكل صحيح ، يقوم بإخبار الحاسب كيف يتعامل مع البرامج الأخرى و يتحكم في المكونات المادية المركبة على الجها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97AA9-38BF-476E-BFCB-ECE2DF609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أكثر من مهمة ومستخدم واح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العمل على أكثر من مهمة في نفس الوقت لمستخدم واحد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rgbClr val="1f497d"/>
                </a:solidFill>
                <a:latin typeface="Century Schoolbook"/>
              </a:rPr>
              <a:t> أجهزة الحاسبات الشخصية 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4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أكثر من مهمة وأكثر من مستخد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عمل على أكثر من مهمة في نفس الوقت,ويمكن للنظام أن يتحكم ويوزع العمل على أكثر من معالج في نفس الوقت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حجز الطيران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0980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واجهة المستخدم الرسومية( 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GUI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2</a:t>
            </a:r>
            <a:r>
              <a:rPr b="0" lang="en-US" sz="27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مترجم الأوامر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rgbClr val="10243e"/>
                </a:solidFill>
                <a:latin typeface="Century Schoolbook"/>
              </a:rPr>
              <a:t>يسمح للمستخدم الخبير بالاستفادة من الحاسوب من خلال كتابه اوامر نصية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واجهة نداء النظام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rgbClr val="10243e"/>
                </a:solidFill>
                <a:latin typeface="Century Schoolbook"/>
              </a:rPr>
              <a:t>يوصل برامج المستخدم بالمكونات المادية 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واجهات نظام التشغيل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32911-4EFA-46AE-803F-CAFAF0B674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467120" cy="44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تنشيط مشغل الأقراص والبحث عن الجزء الأول من نظام التشغيل الذي يسمى بـ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ootstrap load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Bootstrap</a:t>
            </a:r>
            <a:r>
              <a:rPr b="0" lang="en-US" sz="21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entury Schoolbook"/>
              </a:rPr>
              <a:t> </a:t>
            </a: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loader</a:t>
            </a: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 : هو عبارة عن برنامج صغير لديه مهمة واحدة وهي تحميل نظام التشغيل من القرص إلى الذاكرة والسماح له ببدء التحكم في الحاسب </a:t>
            </a:r>
            <a:r>
              <a:rPr b="0" lang="en-US" sz="21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فحص المكونات المادية والتأكد من سلامتها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، من خلال برنامج يقوم بالكشف عن الاخطاء الناتجة من المعالج والذاكرة وأنظمة الدخل والخرج الأساسية ويخزنها في ذاكرة خاص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7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الوظائف الأساسية لأي نظام تشغيل </a:t>
            </a:r>
            <a:br>
              <a:rPr sz="3000"/>
            </a:b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يقوم الحاسب عند تشغيله بتنفيذ مجموعة تعليمات مخزنة على ذاكرة الحاسب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ROM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 تقوم بـ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4ED0-16AE-41F5-9FA9-DCC5A6CBD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معالج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ذاكر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عملية التخزين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مكونات المادي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واجهة التطبيقات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واجهة المستخد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تتلخص وظائف نظام التشغيل في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0A19-F797-41CE-97DD-26F3129D4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قلب إدارة المعالج يقتصر على أمرين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2560" indent="-50400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تأكد من أن كل عملية وتطبيق تتلقى الزمن الكافي من وقت المعالج للعمل بشكل سليم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2560" indent="-50400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ستعمال أكبر عدد ممكن من عمليات المعالج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11640" indent="-5040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في نوع نظام التشغيل ذو المهمة الواحدة مثل نظام دوس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كون جدولة المهام بسيطة ومباشرة ولا يتوقف تنفيذ برنامج معين إلا بالمقاطعات أو مدخلات المستخدم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11640" indent="-5040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في نظام التشغيل متعدد المهام مثل نظام ويندوز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عملية معقدة أكثر لأنه لا يمكن تنفيذ أكثر من عملية في الوقت ذاته ، ولكي يظهر لك تنفيذ عدة مهام في نفس الوقت يجب على نظام التشغيل أن يتنقل بين مختلف العمليات آلاف المرات في ثاني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1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عالج 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6788A-B627-4D5A-96CE-144281D23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يوجد نوعان من أنظمة التشغيل التي تستعمل أكثر من معالج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تناظري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ymmetric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: يوزع الأحمال على جميع المعالجات بالتساوي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غير تناظري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ymmetric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: يستعمل معالج خاص لنظام التشغيل وباقي المعالجات للتطبيقات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1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عالج . ( تابع 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33DF-FCB5-4591-BC60-C86B9F7A9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توجد مهمتان يجب على نظام التشغيل تلبيتها عند إدارة الذاكرة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جب توفير ذاكرة كافية لكل عملية عند التنفيذ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جب استخدام جميع أنواع الذاكرة المتاحة في النظام بطريقة صحيحة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ندما تمتلئ الذاكرة الأصل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يضاف إلى الذاكرة الأصلية ذاكرة وهمية متواجدة متواجدة بالقرص الصلب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&amp;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ذاكرة والتخزين 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7CF9E-CF7A-46C5-A96C-9AE50D78B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أنواع الذاكرة المستعملة في الحاسب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che memor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سريعة جدا وحجمها صغير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ذاكرة الرئيس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ويقاس حجمها بالميجا باي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ذاكرة الثانوية أو الوهم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جزء من القرص وتعتبر الأبطأ بالمقارنة مع الانواع الأخرى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يجب على نظام التشغيل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وازنة الاحتياجات لمختلف البرامج بين مختلف أنواع الذاكر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نقل البيانات على شكل مجموعات تسمى صفحا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&amp;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ذاكرة والتخزين . ( تابع 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6FAD1-13BD-443A-89AD-E113983C7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76</TotalTime>
  <Application>LibreOffice/7.4.7.2$Linux_X86_64 LibreOffice_project/40$Build-2</Application>
  <AppVersion>15.0000</AppVersion>
  <Words>1041</Words>
  <Paragraphs>1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4:00Z</dcterms:modified>
  <cp:revision>515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