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4.wmf" ContentType="image/x-wmf"/>
  <Override PartName="/ppt/media/image22.png" ContentType="image/png"/>
  <Override PartName="/ppt/media/image5.png" ContentType="image/png"/>
  <Override PartName="/ppt/media/image21.png" ContentType="image/png"/>
  <Override PartName="/ppt/media/image4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540C-FEAC-483E-9CBB-03D3C5F3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D885-34B8-40D3-A5A0-B3E5AE2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2119-3531-48BD-98AE-5BC0477E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D1EE-9C7B-4ABF-9D92-F46D25CD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B68A-8283-4DDC-B219-BE8CA0A3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DEAD-D413-4777-999D-C1BDAA51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A66E-80B9-49F2-932A-60028F93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BCBB-766B-4639-B8F8-AFEE1666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471D-C7C2-481E-8834-AC667268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BDFB-63D4-4E82-937E-18B85F6D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C8AA-D6D7-4CDB-B5A5-7F9DB857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568C-F54A-443B-ADDE-D90A10E5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964E-B7D8-4E33-91FE-24640120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61B4-23E5-4B4D-A0C0-38CE348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E967-A569-4F68-9F87-667F66E9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C8AC-5504-4C6C-B120-C1EBAD43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ECAD-D633-483B-A39A-DDF9658D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3B99-434F-4D64-897F-2EBBAA18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9C82-02B2-4574-8BC9-0A2DAD7F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79E7-7E8D-47A1-9D6B-5C6CFE36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620A-7C43-40B5-AAD4-6C9807A8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9588-F7D6-40A0-9CA0-95BE487F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C095-2DA8-4C06-B83A-6232AB98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6123-49E0-400A-BB48-015C0724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382997-8628-477D-9F69-10EC458C26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0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4f81bd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4f81bd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70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31447AE-49D4-4F47-BF26-3505FDE9123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68576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 </a:t>
            </a:r>
            <a:r>
              <a:rPr b="1" lang="ar-DZ" sz="6600" spc="-1" strike="noStrike">
                <a:solidFill>
                  <a:srgbClr val="262626"/>
                </a:solidFill>
                <a:latin typeface="Century Schoolbook"/>
              </a:rPr>
              <a:t>المحاضرة </a:t>
            </a: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1</a:t>
            </a: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-</a:t>
            </a: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000000"/>
                </a:solidFill>
                <a:latin typeface="Times New Roman Backslanted"/>
              </a:rPr>
              <a:t> </a:t>
            </a:r>
            <a:r>
              <a:rPr b="1" lang="ar-SA" sz="3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أولاً:المكونات المادية لأي حاسوب شخصي (</a:t>
            </a:r>
            <a:r>
              <a:rPr b="1" lang="en-US" sz="3600" spc="-1" strike="noStrike" cap="small">
                <a:solidFill>
                  <a:srgbClr val="000000"/>
                </a:solidFill>
                <a:latin typeface="Times New Roman Backslanted"/>
              </a:rPr>
              <a:t>Hardware</a:t>
            </a:r>
            <a:r>
              <a:rPr b="1" lang="en-US" sz="3600" spc="-1" strike="noStrike" cap="small">
                <a:solidFill>
                  <a:srgbClr val="000000"/>
                </a:solidFill>
                <a:latin typeface="Times New Roman Backslante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839592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EG" sz="2400" spc="-1" strike="noStrike">
                <a:solidFill>
                  <a:srgbClr val="000000"/>
                </a:solidFill>
                <a:latin typeface="Century Schoolbook"/>
              </a:rPr>
              <a:t>وحدة المعالجة المركزية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ntral Processing Unit (CPU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EG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حدات الإدخال والإخراج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put/output Uni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EG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حدات الذاكرة والتخزي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mory &amp; Storage Un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EG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ذاكرة الرئيسية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Main Memory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EG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ذاكرة الثانوية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Secondary Storage Uni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F74F2A-8D12-4136-94A3-466F6EB55A9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743040" indent="0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 cap="small">
                <a:solidFill>
                  <a:srgbClr val="000000"/>
                </a:solidFill>
                <a:latin typeface="Times New Roman Backslanted"/>
              </a:rPr>
              <a:t> </a:t>
            </a:r>
            <a:r>
              <a:rPr b="1" lang="ar-SA" sz="3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المكونات المادية لأي حاسوب شخصي (</a:t>
            </a:r>
            <a:r>
              <a:rPr b="1" lang="en-US" sz="3600" spc="-1" strike="noStrike" cap="small">
                <a:solidFill>
                  <a:srgbClr val="000000"/>
                </a:solidFill>
                <a:latin typeface="Times New Roman Backslanted"/>
              </a:rPr>
              <a:t>Hardware</a:t>
            </a:r>
            <a:r>
              <a:rPr b="1" lang="en-US" sz="3600" spc="-1" strike="noStrike" cap="small">
                <a:solidFill>
                  <a:srgbClr val="000000"/>
                </a:solidFill>
                <a:latin typeface="Times New Roman Backslante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1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BF05965-89C8-4C86-9632-C992F84F96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1000080" y="1143000"/>
            <a:ext cx="7500600" cy="5500440"/>
            <a:chOff x="1000080" y="1143000"/>
            <a:chExt cx="7500600" cy="5500440"/>
          </a:xfrm>
        </p:grpSpPr>
        <p:sp>
          <p:nvSpPr>
            <p:cNvPr id="154" name="Rectangle 13"/>
            <p:cNvSpPr/>
            <p:nvPr/>
          </p:nvSpPr>
          <p:spPr>
            <a:xfrm>
              <a:off x="2744640" y="1143000"/>
              <a:ext cx="3750120" cy="440028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3006720" y="1312920"/>
              <a:ext cx="3312720" cy="29602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t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SA" sz="1800" spc="-1" strike="noStrike">
                  <a:solidFill>
                    <a:schemeClr val="dk1"/>
                  </a:solidFill>
                  <a:latin typeface="Century Schoolbook"/>
                </a:rPr>
                <a:t>وحدة المعالجة المركز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chemeClr val="dk1"/>
                  </a:solidFill>
                  <a:latin typeface="Century Schoolbook"/>
                </a:rPr>
                <a:t>Center Processing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>
              <a:off x="3442320" y="3512520"/>
              <a:ext cx="2529000" cy="67680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المسجل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837680" y="2158560"/>
              <a:ext cx="1482480" cy="93060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وحدة التحك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Control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8"/>
            <p:cNvSpPr/>
            <p:nvPr/>
          </p:nvSpPr>
          <p:spPr>
            <a:xfrm>
              <a:off x="3006360" y="2158560"/>
              <a:ext cx="1482480" cy="93060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وحدة الحساب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والمنط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9"/>
            <p:cNvSpPr/>
            <p:nvPr/>
          </p:nvSpPr>
          <p:spPr>
            <a:xfrm>
              <a:off x="3094200" y="5967360"/>
              <a:ext cx="3052440" cy="676080"/>
            </a:xfrm>
            <a:prstGeom prst="rect">
              <a:avLst/>
            </a:prstGeom>
            <a:solidFill>
              <a:schemeClr val="accent6">
                <a:lumMod val="20000"/>
                <a:lumOff val="80000"/>
              </a:schemeClr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وحدات التخزين </a:t>
              </a:r>
              <a:r>
                <a:rPr b="1" lang="ar-SA" sz="1800" spc="-1" strike="noStrike">
                  <a:solidFill>
                    <a:srgbClr val="000000"/>
                  </a:solidFill>
                  <a:latin typeface="Century Schoolbook"/>
                </a:rPr>
                <a:t>الثانو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Secondary Storage Un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0"/>
            <p:cNvSpPr/>
            <p:nvPr/>
          </p:nvSpPr>
          <p:spPr>
            <a:xfrm>
              <a:off x="7018200" y="2835360"/>
              <a:ext cx="1482480" cy="93060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وحدات الإخرا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Output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1"/>
            <p:cNvSpPr/>
            <p:nvPr/>
          </p:nvSpPr>
          <p:spPr>
            <a:xfrm>
              <a:off x="1000080" y="2835360"/>
              <a:ext cx="1307880" cy="930600"/>
            </a:xfrm>
            <a:prstGeom prst="rect">
              <a:avLst/>
            </a:prstGeom>
            <a:solidFill>
              <a:srgbClr val="0080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وحدات الإدخا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Input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2"/>
            <p:cNvSpPr/>
            <p:nvPr/>
          </p:nvSpPr>
          <p:spPr>
            <a:xfrm>
              <a:off x="3354480" y="4867200"/>
              <a:ext cx="2530080" cy="676080"/>
            </a:xfrm>
            <a:prstGeom prst="rect">
              <a:avLst/>
            </a:prstGeom>
            <a:solidFill>
              <a:schemeClr val="bg2">
                <a:lumMod val="90000"/>
              </a:schemeClr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الذاكرة الرئيس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Main 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3"/>
            <p:cNvSpPr/>
            <p:nvPr/>
          </p:nvSpPr>
          <p:spPr>
            <a:xfrm flipH="1">
              <a:off x="2308320" y="3342960"/>
              <a:ext cx="435960" cy="3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4" name="Line 24"/>
            <p:cNvSpPr/>
            <p:nvPr/>
          </p:nvSpPr>
          <p:spPr>
            <a:xfrm>
              <a:off x="6494760" y="3342960"/>
              <a:ext cx="436320" cy="3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5" name="Line 25"/>
            <p:cNvSpPr/>
            <p:nvPr/>
          </p:nvSpPr>
          <p:spPr>
            <a:xfrm flipV="1">
              <a:off x="3878280" y="4273920"/>
              <a:ext cx="360" cy="5079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6" name="Line 26"/>
            <p:cNvSpPr/>
            <p:nvPr/>
          </p:nvSpPr>
          <p:spPr>
            <a:xfrm>
              <a:off x="5186520" y="4358520"/>
              <a:ext cx="360" cy="4233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7" name="Line 27"/>
            <p:cNvSpPr/>
            <p:nvPr/>
          </p:nvSpPr>
          <p:spPr>
            <a:xfrm flipV="1">
              <a:off x="3878280" y="5627880"/>
              <a:ext cx="360" cy="3387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8" name="Line 28"/>
            <p:cNvSpPr/>
            <p:nvPr/>
          </p:nvSpPr>
          <p:spPr>
            <a:xfrm>
              <a:off x="5186520" y="5627880"/>
              <a:ext cx="360" cy="3387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571760" y="4286160"/>
            <a:ext cx="7571880" cy="257148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977840" cy="1285560"/>
          </a:xfrm>
          <a:prstGeom prst="rect">
            <a:avLst/>
          </a:prstGeom>
          <a:ln w="9525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57680" y="142920"/>
            <a:ext cx="6286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marL="731160" indent="0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800" spc="-1" strike="noStrike" cap="small">
                <a:solidFill>
                  <a:srgbClr val="000000"/>
                </a:solidFill>
                <a:latin typeface="Times New Roman Backslanted"/>
              </a:rPr>
              <a:t>1</a:t>
            </a:r>
            <a:r>
              <a:rPr b="1" lang="en-US" sz="4800" spc="-1" strike="noStrike" cap="small">
                <a:solidFill>
                  <a:srgbClr val="000000"/>
                </a:solidFill>
                <a:latin typeface="Times New Roman Backslanted"/>
              </a:rPr>
              <a:t>. وحدة المعالجة المركزية</a:t>
            </a:r>
            <a:r>
              <a:rPr b="1" lang="en-US" sz="4800" spc="-1" strike="noStrike" cap="small">
                <a:solidFill>
                  <a:srgbClr val="000000"/>
                </a:solidFill>
                <a:latin typeface="Times New Roman Backslanted"/>
              </a:rPr>
              <a:t>  </a:t>
            </a:r>
            <a:r>
              <a:rPr b="0" lang="en-US" sz="4800" spc="-1" strike="noStrike" cap="small">
                <a:solidFill>
                  <a:srgbClr val="000000"/>
                </a:solidFill>
                <a:latin typeface="Times New Roman Backslanted"/>
              </a:rPr>
              <a:t>CPU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64360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إن وحدة المعالجة المركزية تكون بشكل عام من فئة بنتيوم الخاصة بشركة إنتل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(أو ما يعادلها) وتعد واحدة من أهم المكونات الموجودة في الحاسوب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حدد سرعة تشغيل الحاسوب الذي تستخدمه وتقاس سرعتها 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بالميجا هيرت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قاس سرعة المعالج بالهرتز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ertz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وهي وحدة لقياس التردد (عدد الذبذبات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yc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في الثانية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معالج بنتيوم الذي تبلغ سرعته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0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ميجا هيرتز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Hz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أسرع بكثير من المعالج بنتيوم الذي سرعته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0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قوم هذه الوحدة بكل العمليات التي تتم داخل الحاسوب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7BB2E99-5295-4733-9214-040C8969365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43080" y="214200"/>
            <a:ext cx="600048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indent="0" rtl="1">
              <a:lnSpc>
                <a:spcPct val="100000"/>
              </a:lnSpc>
              <a:buNone/>
            </a:pPr>
            <a:r>
              <a:rPr b="1" lang="ar-SA" sz="48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ة المعالجة المركزية </a:t>
            </a:r>
            <a:r>
              <a:rPr b="0" lang="en-US" sz="4800" spc="-1" strike="noStrike" cap="small">
                <a:solidFill>
                  <a:srgbClr val="000000"/>
                </a:solidFill>
                <a:latin typeface="Times New Roman Backslanted"/>
              </a:rPr>
              <a:t>CPU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714680"/>
            <a:ext cx="876276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Times New Roman Backslanted"/>
              </a:rPr>
              <a:t>تعد وحدة المعالجة المركزية (المعالج) هي الجزء المتحكم الرئيسي في الحاسوب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Times New Roman Backslanted"/>
              </a:rPr>
              <a:t>تقوم بأغلب العمليات التي تتم داخل الحاسوب وهي مسئولة عن التشغيل الجيد لنظام التشغيل (نظام مايكروسوفت ويندوز مثلاً) وكذلك البرامج، مثل تلك الخاصة بمعالجة النصوص والجداول الإلكترونية. وقواعد البيانا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638000" cy="1657080"/>
          </a:xfrm>
          <a:prstGeom prst="rect">
            <a:avLst/>
          </a:prstGeom>
          <a:ln w="9525">
            <a:noFill/>
          </a:ln>
        </p:spPr>
      </p:pic>
      <p:sp>
        <p:nvSpPr>
          <p:cNvPr id="177" name="PlaceHolder 3"/>
          <p:cNvSpPr>
            <a:spLocks noGrp="1"/>
          </p:cNvSpPr>
          <p:nvPr>
            <p:ph type="sldNum" idx="1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1243EE6-07A9-47E7-AB66-7A090307D09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1571760" y="4286160"/>
            <a:ext cx="7571880" cy="257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وحدة المعالجة المركزية 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PU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71960" y="1814400"/>
            <a:ext cx="5071680" cy="34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هناك ثلاثة مكونات رئيسية لوحدة المعالجة المركزية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alibri"/>
              <a:buAutoNum type="arabicParenR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وحدة الحساب والمنطق 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Arithmetic Logic Unit (ALU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alibri"/>
              <a:buAutoNum type="arabicParenR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وحدة التحكم 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Control Unit (CU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alibri"/>
              <a:buAutoNum type="arabicParenR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مسجلات 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Regist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04E4B3F-1A35-4884-8B2E-B9311B7292C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20"/>
          <p:cNvGrpSpPr/>
          <p:nvPr/>
        </p:nvGrpSpPr>
        <p:grpSpPr>
          <a:xfrm>
            <a:off x="214200" y="1928880"/>
            <a:ext cx="3643200" cy="3071520"/>
            <a:chOff x="214200" y="1928880"/>
            <a:chExt cx="3643200" cy="3071520"/>
          </a:xfrm>
        </p:grpSpPr>
        <p:sp>
          <p:nvSpPr>
            <p:cNvPr id="183" name="Rectangle 14"/>
            <p:cNvSpPr/>
            <p:nvPr/>
          </p:nvSpPr>
          <p:spPr>
            <a:xfrm>
              <a:off x="214200" y="1928880"/>
              <a:ext cx="3642840" cy="307152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وحدة المعالجة المركز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Center Processing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693720" y="4210560"/>
              <a:ext cx="2779920" cy="70164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المسجل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2227680" y="2806560"/>
              <a:ext cx="1629720" cy="96516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وحدة التحك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Control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214200" y="2806560"/>
              <a:ext cx="1629720" cy="96516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وحدة الحساب</a:t>
              </a: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والمنط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36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43040" indent="-74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</a:pPr>
            <a:r>
              <a:rPr b="1" lang="ar-SA" sz="3600" spc="-1" strike="noStrike">
                <a:solidFill>
                  <a:srgbClr val="1f497d"/>
                </a:solidFill>
                <a:latin typeface="Century Schoolbook"/>
              </a:rPr>
              <a:t>وحدة الحساب والمنطق </a:t>
            </a:r>
            <a:r>
              <a:rPr b="1" lang="en-US" sz="3600" spc="-1" strike="noStrike">
                <a:solidFill>
                  <a:srgbClr val="1f497d"/>
                </a:solidFill>
                <a:latin typeface="Century Schoolbook"/>
              </a:rPr>
              <a:t>ALU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وحدة الحساب والمنطق جزء م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وتتم فيها العمليات الحسابية والمنطقية وتقوم بالعمليات الحسابية الأساسية الأربعة: الجمع + والطرح – والضرب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والقسمة / ، مث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= 10+5/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العمليات المنطقية التي تنفذ في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مثل المقارنات التي تسمح بتقييم المواقف واتخاذ القرار مثل &lt;  ،  &gt;  ،  =&lt;  ،  =&gt;  ،  =  ،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 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،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 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،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،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مثال: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AVG &gt;= 90 PRINT “Excellent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</a:pPr>
            <a:r>
              <a:rPr b="1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مسجلات  </a:t>
            </a:r>
            <a:r>
              <a:rPr b="1" lang="en-US" sz="2400" spc="-1" strike="noStrike">
                <a:solidFill>
                  <a:srgbClr val="1f497d"/>
                </a:solidFill>
                <a:latin typeface="Century Schoolbook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واقع ذاكرة لإجراء بعض العمليات الوسيطة بسرعة عالي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ldNum" idx="1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25134E9-CAF5-4BA2-863B-647059BC849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وحدة المعالجة المركزية 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PU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47224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743040" indent="-74304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</a:pPr>
            <a:r>
              <a:rPr b="1" lang="ar-SA" sz="3900" spc="-1" strike="noStrike">
                <a:solidFill>
                  <a:srgbClr val="1f497d"/>
                </a:solidFill>
                <a:latin typeface="Century Schoolbook"/>
              </a:rPr>
              <a:t>وحدة التحكم </a:t>
            </a:r>
            <a:r>
              <a:rPr b="1" lang="en-US" sz="3900" spc="-1" strike="noStrike">
                <a:solidFill>
                  <a:srgbClr val="1f497d"/>
                </a:solidFill>
                <a:latin typeface="Century Schoolbook"/>
              </a:rPr>
              <a:t>CU</a:t>
            </a: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قوم وحدة التحكم بتوجيه وتوظيف جميع مكونات نظام الحاسوب. وبالاعتماد على تعليمات البرامج الموجودة في الذاكرة الرئيسية، تعمل على نقل البيانات من وإل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والمسجلات والذاكرة الرئيسية وأجهزة الإدخال والإخراج، كما تخبر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عن العمليات التي يجب أن تنفذها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تقوم وحدة التحكم بالوظائف التالية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قراءة تعليمات البرنامج وتفسيرها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توجيه العمليات داخل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PU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التحكم بتدفق البرامج من وإلى الذاكرة الرئيسية وأجهزة الإدخال والإخراج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ldNum" idx="20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89F344-6FFB-4EC9-B425-7D8A3500BC2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وحدة المعالجة المركزية 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PU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743040" indent="0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 cap="small">
                <a:solidFill>
                  <a:srgbClr val="1f497d"/>
                </a:solidFill>
                <a:latin typeface="Century Schoolbook"/>
              </a:rPr>
              <a:t>2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. وحدات الإدخال والإخراج 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en-US" sz="3200" spc="-1" strike="noStrike" cap="small">
                <a:solidFill>
                  <a:srgbClr val="1f497d"/>
                </a:solidFill>
                <a:latin typeface="Century Schoolbook"/>
              </a:rPr>
              <a:t>Input/output Units</a:t>
            </a:r>
            <a:r>
              <a:rPr b="1" lang="en-US" sz="32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2148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0" indent="-45720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وحدات الإدخا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 algn="r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وهى تعتبر حلقة الوصل ما بين المستخدم والحاسب حيث يقوم المستخدم بإدخال البيانات والأوامر من خلالها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وحدات الإخرا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 algn="r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تستخدم وحدات الإخراج لإظهار البيانات والنتائج والتقارير والرسوم وعرضها بالصورة المطلوب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BE9C3AC-157A-4871-AD50-D1830D5C644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6629400" y="1738440"/>
            <a:ext cx="1733040" cy="1233000"/>
          </a:xfrm>
          <a:prstGeom prst="rect">
            <a:avLst/>
          </a:prstGeom>
          <a:ln w="9525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ات الإدخال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71760"/>
            <a:ext cx="60955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فأر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تستخدم للانتقال داخل نظام التشغيل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لوحة المفاتيح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- مازالت لوحة المفاتيح هي أكثر وحدات إدخال البيانات إلى الحاسوب شيوعًا واستخدامًا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كرة التتب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هي بديل للفأرة التقليدية ويستخدمها غالبية مصممي الرسوم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2103120" cy="243792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3"/>
          <a:stretch/>
        </p:blipFill>
        <p:spPr>
          <a:xfrm>
            <a:off x="6629400" y="4114800"/>
            <a:ext cx="1599840" cy="1599840"/>
          </a:xfrm>
          <a:prstGeom prst="rect">
            <a:avLst/>
          </a:prstGeom>
          <a:ln w="9525">
            <a:noFill/>
          </a:ln>
        </p:spPr>
      </p:pic>
      <p:sp>
        <p:nvSpPr>
          <p:cNvPr id="201" name="PlaceHolder 3"/>
          <p:cNvSpPr>
            <a:spLocks noGrp="1"/>
          </p:cNvSpPr>
          <p:nvPr>
            <p:ph type="sldNum" idx="2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ADD710C-DBE9-422E-B29C-5337EECD99A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ات الإدخال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285920"/>
            <a:ext cx="670536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ماسح الضوئي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95080"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يتيح لك الماسح الضوئي مسح (قراءة) مادة مطبوعة ضوئيًا وتحويلها إلى تنسيق ملف يمكن التعامل معه داخل الحاسوب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488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لوحات اللمس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95080"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إن لوحة اللمس عبارة عن جهاز يوضع على سطح المكتب ويستجيب للضغ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488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الأقلام الضوئ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95080"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يُستخدم القلم الضوئي ليتيح للمستخدمين الإشارة إلى مواضع على الشاش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488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عصا توجيه الألعاب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95080"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تحتاج الكثير من الألعاب إلى عصا توجيه حتى يمكن ممارستها بشكل صحي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7286760" y="5357880"/>
            <a:ext cx="1049040" cy="121392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2"/>
          <a:stretch/>
        </p:blipFill>
        <p:spPr>
          <a:xfrm>
            <a:off x="7143840" y="3643200"/>
            <a:ext cx="1614240" cy="155232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14" descr=""/>
          <p:cNvPicPr/>
          <p:nvPr/>
        </p:nvPicPr>
        <p:blipFill>
          <a:blip r:embed="rId3"/>
          <a:stretch/>
        </p:blipFill>
        <p:spPr>
          <a:xfrm>
            <a:off x="7182000" y="2428920"/>
            <a:ext cx="1676160" cy="12394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16" descr=""/>
          <p:cNvPicPr/>
          <p:nvPr/>
        </p:nvPicPr>
        <p:blipFill>
          <a:blip r:embed="rId4"/>
          <a:stretch/>
        </p:blipFill>
        <p:spPr>
          <a:xfrm>
            <a:off x="7043760" y="857160"/>
            <a:ext cx="1956960" cy="1499760"/>
          </a:xfrm>
          <a:prstGeom prst="rect">
            <a:avLst/>
          </a:prstGeom>
          <a:ln w="9525">
            <a:noFill/>
          </a:ln>
        </p:spPr>
      </p:pic>
      <p:sp>
        <p:nvSpPr>
          <p:cNvPr id="208" name="PlaceHolder 3"/>
          <p:cNvSpPr>
            <a:spLocks noGrp="1"/>
          </p:cNvSpPr>
          <p:nvPr>
            <p:ph type="sldNum" idx="23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23C6A0C-C6FB-423F-9047-1944FEE131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0" y="1371600"/>
            <a:ext cx="61718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400" spc="-1" strike="noStrike" cap="small">
                <a:solidFill>
                  <a:srgbClr val="1f497d"/>
                </a:solidFill>
                <a:latin typeface="Century Schoolbook"/>
              </a:rPr>
              <a:t>مقدمة في علم الحاسوب</a:t>
            </a:r>
            <a:br>
              <a:rPr sz="4400"/>
            </a:br>
            <a:r>
              <a:rPr b="1" lang="ar-SA" sz="4400" spc="-1" strike="noStrike" cap="small">
                <a:solidFill>
                  <a:srgbClr val="1f497d"/>
                </a:solidFill>
                <a:latin typeface="Century Schoolbook"/>
              </a:rPr>
              <a:t>مفاهيم أساسية في تكنولوجيا المعلومات </a:t>
            </a:r>
            <a:r>
              <a:rPr b="1" lang="en-US" sz="4400" spc="-1" strike="noStrike" cap="small">
                <a:solidFill>
                  <a:srgbClr val="1f497d"/>
                </a:solidFill>
                <a:latin typeface="Century Schoolbook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54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ات الإخراج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571760"/>
            <a:ext cx="64767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حدة العرض المرئي (الشاشة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- تُستخدم شاشة الحاسوب في إخراج البيانات بتنسيق معروف للمستخدمين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طابعات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هناك أنواع كثيرة للطابعا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- في الشركات الكبيرة، تُستخدم طابعات الليزر بشكل كبير لأنها تقوم بالطباعة بسرعة جدًا وتكون مخرجاتها ذات جودة متميز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815160" y="1447920"/>
            <a:ext cx="1871280" cy="1904760"/>
          </a:xfrm>
          <a:prstGeom prst="rect">
            <a:avLst/>
          </a:prstGeom>
          <a:ln w="9525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7162920" y="3581280"/>
            <a:ext cx="1704600" cy="1177560"/>
          </a:xfrm>
          <a:prstGeom prst="rect">
            <a:avLst/>
          </a:prstGeom>
          <a:ln w="9525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3"/>
          <a:stretch/>
        </p:blipFill>
        <p:spPr>
          <a:xfrm>
            <a:off x="7010280" y="4978440"/>
            <a:ext cx="1676160" cy="1117080"/>
          </a:xfrm>
          <a:prstGeom prst="rect">
            <a:avLst/>
          </a:prstGeom>
          <a:ln w="9525">
            <a:noFill/>
          </a:ln>
        </p:spPr>
      </p:pic>
      <p:sp>
        <p:nvSpPr>
          <p:cNvPr id="214" name="PlaceHolder 3"/>
          <p:cNvSpPr>
            <a:spLocks noGrp="1"/>
          </p:cNvSpPr>
          <p:nvPr>
            <p:ph type="sldNum" idx="2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520C964-7068-4673-A6E3-56D1EB1FA4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54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ات الإخراج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6714720" cy="49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طابعة الرسوم الهندسي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1f497d"/>
                </a:solidFill>
                <a:latin typeface="Century Schoolbook"/>
              </a:rPr>
              <a:t>- إن طابعة الرسوم الهندسية عبارة عن جهاز إخراج  مشابه للطابعة، ولكنه يتيح لك طباعة صور أكب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السماع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3200" spc="-1" strike="noStrike">
                <a:solidFill>
                  <a:srgbClr val="1f497d"/>
                </a:solidFill>
                <a:latin typeface="Century Schoolbook"/>
                <a:cs typeface="Arial"/>
              </a:rPr>
              <a:t>تزيد من الاستفادة من المواد التعليمية والعروض التقديمية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277040" y="3868560"/>
            <a:ext cx="1723680" cy="1631520"/>
          </a:xfrm>
          <a:prstGeom prst="rect">
            <a:avLst/>
          </a:prstGeom>
          <a:ln w="9525">
            <a:noFill/>
          </a:ln>
        </p:spPr>
      </p:pic>
      <p:sp>
        <p:nvSpPr>
          <p:cNvPr id="218" name="PlaceHolder 3"/>
          <p:cNvSpPr>
            <a:spLocks noGrp="1"/>
          </p:cNvSpPr>
          <p:nvPr>
            <p:ph type="sldNum" idx="2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3D17297-F984-4901-859C-4BCA8B32315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7215120" y="2222640"/>
            <a:ext cx="1928520" cy="1920600"/>
          </a:xfrm>
          <a:prstGeom prst="rect">
            <a:avLst/>
          </a:prstGeom>
          <a:ln w="9525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358040" y="4714920"/>
            <a:ext cx="1785600" cy="1356840"/>
          </a:xfrm>
          <a:prstGeom prst="rect">
            <a:avLst/>
          </a:prstGeom>
          <a:ln w="9525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428840"/>
            <a:ext cx="742932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</a:pPr>
            <a:r>
              <a:rPr b="1" lang="en-US" sz="2400" spc="-1" strike="noStrike">
                <a:solidFill>
                  <a:srgbClr val="1f497d"/>
                </a:solidFill>
                <a:latin typeface="Century Schoolbook"/>
              </a:rPr>
              <a:t> الذاكرة الرئيسية </a:t>
            </a:r>
            <a:r>
              <a:rPr b="1" lang="en-US" sz="2400" spc="-1" strike="noStrike">
                <a:solidFill>
                  <a:srgbClr val="1f497d"/>
                </a:solidFill>
                <a:latin typeface="Century Schoolbook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أنواع الذاكرة الرئيسية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ذاكرة الوصول العشوائي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andom Access Memo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هي المكان الذي يتم تحميل نظام التشغيل إليه عندما يتم بدء تشغيل الحاسوب وأيضًا عند نسخ البرامج التطبيقية عند تحميل أي برنامج، على سبيل المثال: أي برنامج خاص بقواعد البيانات أو معالجة النصو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ذاكرة القراءة فقط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O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ad Only Memo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ead Only Memory-Basic Input Output System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OM-BIO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شريحة خاصة يتم تركيبها في لوحة النظام للحاسوب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حتوي على البرامج اللازمة لجعل الحاسوب يعمل مع نظام التشغي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حتاج لبطارية لحفظ معلومات الوقت والتاريخ واعدادت بدء التشغي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ldNum" idx="2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43E14A-5C43-4C13-BB64-8F6828C154D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743040"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3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. </a:t>
            </a:r>
            <a:r>
              <a:rPr b="1" lang="ar-EG" sz="3600" spc="-1" strike="noStrike" cap="small">
                <a:solidFill>
                  <a:srgbClr val="1f497d"/>
                </a:solidFill>
                <a:latin typeface="Century Schoolbook"/>
              </a:rPr>
              <a:t>وحدات الذاكرة والتخزين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br>
              <a:rPr sz="3600"/>
            </a:b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Memory &amp; Storage Uni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1428840"/>
            <a:ext cx="68576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القرص الصلب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ard disk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 Backslanted"/>
                <a:cs typeface="Mudir MT"/>
              </a:rPr>
              <a:t>تعد الأقراص الصلبة مساحة تخزين البيانات الرئيسية والكبيرة الموجودة داخل الحاسوب الخاص ب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 Backslanted"/>
                <a:cs typeface="Mudir MT"/>
              </a:rPr>
              <a:t>تُستخدم الأقراص الصلبة في تخزين نظام التشغيل والبرامج التي تستخدمها (على سبيل المثال، برنامج معالجة النصوص والألعاب وهكذا) والبيانات الخاصة ب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 Backslanted"/>
                <a:cs typeface="Mudir MT"/>
              </a:rPr>
              <a:t>هي أسرع بكثير من الأقراص المدمجة والمرنة ويمكنها تخزين قدر أكبر بكثير من البيانات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7093080" y="2438280"/>
            <a:ext cx="1979280" cy="2209320"/>
          </a:xfrm>
          <a:prstGeom prst="rect">
            <a:avLst/>
          </a:prstGeom>
          <a:ln w="9525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sldNum" idx="2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8E8DFE-F779-49BE-BE68-C312D635312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title"/>
          </p:nvPr>
        </p:nvSpPr>
        <p:spPr>
          <a:xfrm>
            <a:off x="357120" y="0"/>
            <a:ext cx="86436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lvl="1" marL="365400" indent="-365400" algn="r" rtl="1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29084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entury Schoolbook"/>
              </a:rPr>
              <a:t> الذاكرة الثانوية  </a:t>
            </a:r>
            <a:r>
              <a:rPr b="1" lang="en-US" sz="4000" spc="-1" strike="noStrike">
                <a:solidFill>
                  <a:srgbClr val="1f497d"/>
                </a:solidFill>
                <a:latin typeface="Century Schoolbook"/>
              </a:rPr>
              <a:t>Secondary Storage Uni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4200" spc="-1" strike="noStrike" cap="small">
                <a:solidFill>
                  <a:srgbClr val="1f497d"/>
                </a:solidFill>
                <a:latin typeface="Century Schoolbook"/>
              </a:rPr>
              <a:t>مقارنة بين ذاكرة الوصول العشوائي والقرص الصلب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29" name="Content Placeholder 4"/>
          <p:cNvGraphicFramePr/>
          <p:nvPr/>
        </p:nvGraphicFramePr>
        <p:xfrm>
          <a:off x="457200" y="1214280"/>
          <a:ext cx="8229240" cy="587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Hard Dis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entury Schoolbook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ذاكرة ثا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ذاكرة رئيس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نوع الذاك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وسط مغناطيس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دوائر الكترون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وسط التخز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كبيرة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صغيرة بالمقارنة بالقرص الصل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سعة التخز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أبطأ بكثير من الـ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عالية جداً (وصول عشوائي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السرعة (سرعة الوصول للبيانا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تحتفظ بالبيانات بعد انقطاع التيار الكهربائ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لا تحتفظ بالبيانات بعد انقطاع التيار الكهربائ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الاحتفاظ بالبيان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30" name="PlaceHolder 2"/>
          <p:cNvSpPr>
            <a:spLocks noGrp="1"/>
          </p:cNvSpPr>
          <p:nvPr>
            <p:ph type="sldNum" idx="2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5577B5-B739-4AEC-A353-E3CF3D3F61B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ات قياس الذاكرة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714680"/>
            <a:ext cx="9000720" cy="44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ب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Bit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</a:t>
            </a: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تستخدم كل الحواسيب نظام الترقيم الثنائي، أي إنها تقوم بمعالجة البيانات كصفر أو واحد. وهذا المستوى من التخزين يسمى بالب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باي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Byte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</a:t>
            </a: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تكون البايت الواحد من 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8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 ب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8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كيلو باي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KB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</a:t>
            </a: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تكون الكيلو بايت الواحد من 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1024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 باي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8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ميجا باي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B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</a:t>
            </a: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تكون الميجا بايت الواحد من 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1024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 كيلو باي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الجيجا باي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B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</a:t>
            </a: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تكون الجيجا البايت الواحد من 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1024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 ميجا باي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2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B1ED7FF-9071-4133-9E78-38F01DAECD7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تخزين البيانات على القرص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0072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الملفات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تم تخزين البيانات والبرامج على </a:t>
            </a:r>
            <a:r>
              <a:rPr b="1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قرص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 الذي تستخدمه على هيئة </a:t>
            </a:r>
            <a:r>
              <a:rPr b="1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ملفات </a:t>
            </a: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Files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هناك أنواع مختلفة من الملفات (حسب نوع امتداد الملف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just" rtl="1">
              <a:lnSpc>
                <a:spcPct val="100000"/>
              </a:lnSpc>
              <a:spcBef>
                <a:spcPts val="40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ar-SA" sz="2000" spc="-1" strike="noStrike">
                <a:solidFill>
                  <a:srgbClr val="000080"/>
                </a:solidFill>
                <a:latin typeface="Century Schoolbook"/>
                <a:cs typeface="Arial"/>
              </a:rPr>
              <a:t>ملفات البرامج التطبيقية لها الامتداد 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just" rtl="1">
              <a:lnSpc>
                <a:spcPct val="100000"/>
              </a:lnSpc>
              <a:spcBef>
                <a:spcPts val="40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ar-SA" sz="20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ملفات النصية لها الامتداد 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just" rtl="1">
              <a:lnSpc>
                <a:spcPct val="100000"/>
              </a:lnSpc>
              <a:spcBef>
                <a:spcPts val="40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ar-SA" sz="2000" spc="-1" strike="noStrike">
                <a:solidFill>
                  <a:srgbClr val="000080"/>
                </a:solidFill>
                <a:latin typeface="Century Schoolbook"/>
                <a:cs typeface="Arial"/>
              </a:rPr>
              <a:t>ملفات الصور لها الامتداد 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jpg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  أو 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gif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 أو 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مجلدات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old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مكن أن تحتوي على ملفات أو مجلدات فرعية 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Subfol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تنظيم الملفات والمجلد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سجلات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سجل عبارة عن مجموعة من البيانات الموجودة داخل مل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هو نوع من وحدات التخزين تستخدمه أي قاعدة للبيان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9EC0B04-CEB6-46BF-86CB-F01394829B0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1433160" cy="1599840"/>
          </a:xfrm>
          <a:prstGeom prst="rect">
            <a:avLst/>
          </a:prstGeom>
          <a:ln w="9525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686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Times New Roman Backslanted"/>
                <a:cs typeface="Mudir MT"/>
              </a:rPr>
              <a:t>المقارنة بين الأنواع المختلفة لوحدات التخزين الخاصة بالذاكرة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429400" cy="59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2400" spc="-1" strike="noStrike">
                <a:solidFill>
                  <a:srgbClr val="1f497d"/>
                </a:solidFill>
                <a:latin typeface="Century Schoolbook"/>
              </a:rPr>
              <a:t>الأقراص الصلبة الداخلي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سرعة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- سرعة عالية جدًا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- وعادةً ما يُطلق على سرعة أي قرص صلب سرعة "متوسط وقت الوصول" والتي تُقاس بالميللي ثانية. وكلما قل هذا الرقم، زادت سرعة القر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سعة التخزينية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كبيرة! جداً، تصل سعتها اليوم أكثر من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B10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1TB = 1024GB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سعر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لقد بدأت أسعار الأقراص الصلبة في الانخفاض بشكل كبير حيث إنها تعد أرخص طريقة لتخزين البيانا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3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A3F630-845A-41C7-8BC4-5D50E3A1237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6864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Times New Roman Backslanted"/>
                <a:cs typeface="Mudir MT"/>
              </a:rPr>
              <a:t>المقارنة بين الأنواع المختلفة لوحدات التخزين الخاصة بالذاكرة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57680" cy="48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4000" spc="-1" strike="noStrike">
                <a:solidFill>
                  <a:srgbClr val="1f497d"/>
                </a:solidFill>
                <a:latin typeface="Century Schoolbook"/>
              </a:rPr>
              <a:t>الأقراص الصلبة الخارجية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سرعة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أبطأ من الأقراص الداخلية، ولكن تقدم الأنواع مرتفعة الثمن منها الأداء نفسه الذي تقدمه الأقراص الصلبة الداخلي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سعة التخزينية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مثل الأقراص الداخلي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سعر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أغلى من الأقراص الصلبة الداخلي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3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812B67F-05BA-4779-8A9A-9E8B8FA90C4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4000" spc="-1" strike="noStrike" cap="small">
                <a:solidFill>
                  <a:srgbClr val="1f497d"/>
                </a:solidFill>
                <a:latin typeface="Century Schoolbook"/>
                <a:cs typeface="Mudir MT"/>
              </a:rPr>
              <a:t>الأجهزة الطرفية  </a:t>
            </a:r>
            <a:r>
              <a:rPr b="0" lang="en-US" sz="4000" spc="-1" strike="noStrike" cap="small">
                <a:solidFill>
                  <a:srgbClr val="1f497d"/>
                </a:solidFill>
                <a:latin typeface="Century Schoolbook"/>
              </a:rPr>
              <a:t>Peripherals</a:t>
            </a:r>
            <a:r>
              <a:rPr b="0" lang="en-US" sz="40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04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Times New Roman Backslanted"/>
              </a:rPr>
              <a:t>إن الجهاز الطرفي هو أي جهاز يمكنك توصيله بالحاسوب التابع لك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1f497d"/>
                </a:solidFill>
                <a:latin typeface="Times New Roman Backslanted"/>
              </a:rPr>
              <a:t>يمكنك توصيل ماسح ضوئي أو مودم أو طابعة بالجزء الخلفي لوحدة الحاسوب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3200400" y="4557600"/>
          <a:ext cx="2971440" cy="2228400"/>
        </p:xfrm>
        <a:graphic>
          <a:graphicData uri="http://schemas.openxmlformats.org/presentationml/2006/ole">
            <p:oleObj progId="Word.Picture.8"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557600"/>
                    <a:ext cx="2971440" cy="22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3"/>
          <p:cNvSpPr>
            <a:spLocks noGrp="1"/>
          </p:cNvSpPr>
          <p:nvPr>
            <p:ph type="sldNum" idx="33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FE994FC-24A2-46F1-86EC-69FEC1148FB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7200" spc="-1" strike="noStrike" cap="small">
                <a:solidFill>
                  <a:srgbClr val="1f497d"/>
                </a:solidFill>
                <a:latin typeface="Arial Black"/>
                <a:cs typeface="SKR HEAD2"/>
              </a:rPr>
              <a:t>مقدمة عامة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472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تلعب الحواسيب دوراً مؤثراً في حياتن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تستخدم في جميع المؤسسات: المدارس، المصانع، المستشفيات، البنوك، والمؤسسات العسكرية والمدنية المختلف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زاد التأثير بدرجة بكبيرة بعد اتصال الحواسيب بعضها ببعض وتبادل المعلوم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الناتج أكبر بنوعية أفضل وبأقل تكلفة 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FAD41B8-DFBB-43B4-A46A-0683322831D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أداء الحاسوب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04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Times New Roman Backslanted"/>
                <a:cs typeface="Mudir MT"/>
              </a:rPr>
              <a:t>بعض العوامل التي تؤثر على أداء الحاسو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سرعة المعالج</a:t>
            </a:r>
            <a:r>
              <a:rPr b="0" lang="en-US" sz="3200" spc="-1" strike="noStrike">
                <a:solidFill>
                  <a:srgbClr val="000080"/>
                </a:solidFill>
                <a:latin typeface="Times New Roman Backslanted"/>
              </a:rPr>
              <a:t>  </a:t>
            </a:r>
            <a:r>
              <a:rPr b="0" lang="en-US" sz="3200" spc="-1" strike="noStrike">
                <a:solidFill>
                  <a:srgbClr val="000080"/>
                </a:solidFill>
                <a:latin typeface="Times New Roman Backslanted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000080"/>
                </a:solidFill>
                <a:latin typeface="Times New Roman Backslanted"/>
                <a:cs typeface="Arial"/>
              </a:rPr>
              <a:t>حجم ذاكرة الوصول العشوائي </a:t>
            </a:r>
            <a:r>
              <a:rPr b="0" lang="en-US" sz="3200" spc="-1" strike="noStrike">
                <a:solidFill>
                  <a:srgbClr val="000080"/>
                </a:solidFill>
                <a:latin typeface="Times New Roman Backslanted"/>
              </a:rPr>
              <a:t>RA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000080"/>
                </a:solidFill>
                <a:latin typeface="Times New Roman Backslanted"/>
                <a:cs typeface="Arial"/>
              </a:rPr>
              <a:t>سرعة القرص الصلب وسعته </a:t>
            </a:r>
            <a:r>
              <a:rPr b="0" lang="en-US" sz="3200" spc="-1" strike="noStrike">
                <a:solidFill>
                  <a:srgbClr val="000080"/>
                </a:solidFill>
                <a:latin typeface="Times New Roman Backslanted"/>
              </a:rPr>
              <a:t>Hard Disk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A023C2C-A65D-4E3E-8023-DA9BCC000DC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تكنولوجيا المعلومات 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I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2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هو مصطلح عام يشير إلى كل الأدوات المستخدمة لإنشاء, تخزين, نقل, البيانات  بصورها الالكترونية (نص, صوت, صورة, فيديو) وصيانتها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تكنولوجيا المعلومات مرتبطة بكل جوانب إدارة المعلومات ومعالجتها، خاصة داخل أي شركة كبيرة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الحواسيب من الأدوات المهمة في إدارة المعلومات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يطلق على أقسام الحاسوب الموجودة داخل الشركات الكبرى أقسام تكنولوجيا المعلومات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2790EF-68B3-4B0E-8C0F-E5C2E3B538C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تعريف الحاسوب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64360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</a:rPr>
              <a:t>الحاسوب هو آلة لها القدرة على تخزين ومعالجة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بيانات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وفقا لمجموعة من التعليمات (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برامج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للحصول على معلومات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هو آلة لها القدرة على إجراء العمليات والقرارات المنطقية (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تعليمات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بسرعة هائلة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هو آلة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يمكن برمجتها</a:t>
            </a: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، وتستقبل البيانات وتعالجها وتخزن الناتج (المعلومات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دورة معالجة البيانات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إدخال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إدخال </a:t>
            </a:r>
            <a:r>
              <a:rPr b="1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بيانات</a:t>
            </a:r>
            <a:r>
              <a:rPr b="0" lang="en-US" sz="2400" spc="-1" strike="noStrike">
                <a:solidFill>
                  <a:srgbClr val="1f497d"/>
                </a:solidFill>
                <a:latin typeface="Century Schoolbook"/>
              </a:rPr>
              <a:t> للحاسوب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معالجة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rocessing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إجراء </a:t>
            </a:r>
            <a:r>
              <a:rPr b="1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عمليات</a:t>
            </a:r>
            <a:r>
              <a:rPr b="0" lang="en-US" sz="2400" spc="-1" strike="noStrike">
                <a:solidFill>
                  <a:srgbClr val="1f497d"/>
                </a:solidFill>
                <a:latin typeface="Century Schoolbook"/>
              </a:rPr>
              <a:t> على البيانات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إخراج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عرض النتائج (</a:t>
            </a:r>
            <a:r>
              <a:rPr b="1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معلومات</a:t>
            </a:r>
            <a:r>
              <a:rPr b="0" lang="en-US" sz="2400" spc="-1" strike="noStrike">
                <a:solidFill>
                  <a:srgbClr val="1f497d"/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تخزين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torag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تخزين </a:t>
            </a:r>
            <a:r>
              <a:rPr b="1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بيانات والبرامج والمعلومات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لاستخدامها لاحقا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DBD4B36-67E1-4CC8-8AF0-5EC2E958B5A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ig01-05"/>
          <p:cNvPicPr/>
          <p:nvPr/>
        </p:nvPicPr>
        <p:blipFill>
          <a:blip r:embed="rId1"/>
          <a:srcRect l="0" t="5402" r="0" b="0"/>
          <a:stretch/>
        </p:blipFill>
        <p:spPr>
          <a:xfrm>
            <a:off x="0" y="428760"/>
            <a:ext cx="8929440" cy="5071680"/>
          </a:xfrm>
          <a:prstGeom prst="rect">
            <a:avLst/>
          </a:prstGeom>
          <a:ln w="9525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02760" y="391680"/>
            <a:ext cx="5866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Num" idx="10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5B5E24F-68DA-4245-9E7E-513B921F889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2"/>
          <p:cNvGrpSpPr/>
          <p:nvPr/>
        </p:nvGrpSpPr>
        <p:grpSpPr>
          <a:xfrm>
            <a:off x="1285920" y="5572080"/>
            <a:ext cx="7428960" cy="642600"/>
            <a:chOff x="1285920" y="5572080"/>
            <a:chExt cx="7428960" cy="642600"/>
          </a:xfrm>
        </p:grpSpPr>
        <p:sp>
          <p:nvSpPr>
            <p:cNvPr id="125" name="Rounded Rectangle 4"/>
            <p:cNvSpPr/>
            <p:nvPr/>
          </p:nvSpPr>
          <p:spPr>
            <a:xfrm>
              <a:off x="1285920" y="5572080"/>
              <a:ext cx="1356840" cy="6426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ar-SA" sz="1800" spc="-1" strike="noStrike">
                  <a:solidFill>
                    <a:schemeClr val="lt1"/>
                  </a:solidFill>
                  <a:latin typeface="Century Schoolbook"/>
                </a:rPr>
                <a:t>إدخال</a:t>
              </a:r>
              <a:r>
                <a:rPr b="0" lang="en-US" sz="1800" spc="-1" strike="noStrike">
                  <a:solidFill>
                    <a:schemeClr val="lt1"/>
                  </a:solidFill>
                  <a:latin typeface="Century Schoolboo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ight Arrow 5"/>
            <p:cNvSpPr/>
            <p:nvPr/>
          </p:nvSpPr>
          <p:spPr>
            <a:xfrm>
              <a:off x="2643120" y="5715000"/>
              <a:ext cx="713880" cy="356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27" name="Rounded Rectangle 6"/>
            <p:cNvSpPr/>
            <p:nvPr/>
          </p:nvSpPr>
          <p:spPr>
            <a:xfrm>
              <a:off x="3357720" y="5572080"/>
              <a:ext cx="1356840" cy="6426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ar-SA" sz="1800" spc="-1" strike="noStrike">
                  <a:solidFill>
                    <a:schemeClr val="lt1"/>
                  </a:solidFill>
                  <a:latin typeface="Century Schoolbook"/>
                </a:rPr>
                <a:t>معالج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ight Arrow 7"/>
            <p:cNvSpPr/>
            <p:nvPr/>
          </p:nvSpPr>
          <p:spPr>
            <a:xfrm>
              <a:off x="4714920" y="5715000"/>
              <a:ext cx="642600" cy="356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29" name="Rounded Rectangle 8"/>
            <p:cNvSpPr/>
            <p:nvPr/>
          </p:nvSpPr>
          <p:spPr>
            <a:xfrm>
              <a:off x="5357880" y="5572080"/>
              <a:ext cx="1356840" cy="6426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ar-SA" sz="1800" spc="-1" strike="noStrike">
                  <a:solidFill>
                    <a:schemeClr val="lt1"/>
                  </a:solidFill>
                  <a:latin typeface="Century Schoolbook"/>
                </a:rPr>
                <a:t>إخرا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ight Arrow 9"/>
            <p:cNvSpPr/>
            <p:nvPr/>
          </p:nvSpPr>
          <p:spPr>
            <a:xfrm>
              <a:off x="6715080" y="5715000"/>
              <a:ext cx="642600" cy="356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31" name="Rounded Rectangle 10"/>
            <p:cNvSpPr/>
            <p:nvPr/>
          </p:nvSpPr>
          <p:spPr>
            <a:xfrm>
              <a:off x="7358040" y="5572080"/>
              <a:ext cx="1356840" cy="6426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ar-SA" sz="1800" spc="-1" strike="noStrike">
                  <a:solidFill>
                    <a:schemeClr val="lt1"/>
                  </a:solidFill>
                  <a:latin typeface="Century Schoolbook"/>
                </a:rPr>
                <a:t>تخزي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072200" y="1214280"/>
            <a:ext cx="2071440" cy="1996560"/>
          </a:xfrm>
          <a:prstGeom prst="rect">
            <a:avLst/>
          </a:prstGeom>
          <a:ln w="9525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9858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54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أنواع الحواسيب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73576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حاسوب الكبير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infra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الفائق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per Compu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الصغير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 Compu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المتصل بالشبك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المحمو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rtable Computer (Laptop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الشخصي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onal Computer (P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r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7572240" y="5000760"/>
            <a:ext cx="1571400" cy="128556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3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290ADF3-6317-42FD-B75E-9FBF953196C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200" spc="-1" strike="noStrike" cap="small">
                <a:solidFill>
                  <a:srgbClr val="1f497d"/>
                </a:solidFill>
                <a:latin typeface="Century Schoolbook"/>
                <a:cs typeface="Mudir MT"/>
              </a:rPr>
              <a:t>التمييز بين أنواع الحاسوب من حيث </a:t>
            </a:r>
            <a:br>
              <a:rPr sz="3200"/>
            </a:br>
            <a:r>
              <a:rPr b="1" lang="ar-SA" sz="3200" spc="-1" strike="noStrike" cap="small">
                <a:solidFill>
                  <a:srgbClr val="1f497d"/>
                </a:solidFill>
                <a:latin typeface="Century Schoolbook"/>
                <a:cs typeface="Mudir MT"/>
              </a:rPr>
              <a:t>السعة والسرعة والسعر والمستخدم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650052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حواسيب الكبير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</a:rPr>
              <a:t>ذات إمكانيات عالية جدًا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تستخدمها الهيئات الكبيرة مثل البنوك للتحكم في سير العمل بالكامل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مرتفعة الثمن جدًا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واسيب الشخص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رخيصة وسهلة الاستخدام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 تستخدم عادةً كحواسيب مستقلة أو في شبك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 من الممكن توصيلها بحواسيب كبيرة رئيسية داخل الشركات الكبير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572160" y="1714680"/>
            <a:ext cx="2571480" cy="189828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7134120" y="3962520"/>
            <a:ext cx="1485720" cy="2252160"/>
          </a:xfrm>
          <a:prstGeom prst="rect">
            <a:avLst/>
          </a:prstGeom>
          <a:ln w="9525">
            <a:noFill/>
          </a:ln>
        </p:spPr>
      </p:pic>
      <p:sp>
        <p:nvSpPr>
          <p:cNvPr id="141" name="PlaceHolder 3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FF1A4A8-40F0-4FF3-9900-C3B2B800E87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مكونات نظام الحاسوب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8576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أولاً: المعدات (المكونات المادية)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هي الأجزاء الملموسة من الحاسوب مثل الشاشة والطابعة ولوحة المفاتيح .... الخ. ولا فائدة منها دون برمجيا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ثانياً: البرمجيات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مجموعة التعليمات التي تتحكم في عمل الحاسوب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ثالثا: المستخدم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مستخدم شخص يشغل البرامج على الحاسوب لانجاز مهام محدد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3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EB0F96B-4D80-4394-8E84-B9EAFC67F19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143840" y="1000080"/>
            <a:ext cx="1872720" cy="207144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7215120" y="3508200"/>
            <a:ext cx="1285560" cy="1634760"/>
          </a:xfrm>
          <a:prstGeom prst="rect">
            <a:avLst/>
          </a:prstGeom>
          <a:ln w="50800">
            <a:noFill/>
          </a:ln>
        </p:spPr>
      </p:pic>
      <p:sp>
        <p:nvSpPr>
          <p:cNvPr id="147" name="Smiley Face 6"/>
          <p:cNvSpPr/>
          <p:nvPr/>
        </p:nvSpPr>
        <p:spPr>
          <a:xfrm>
            <a:off x="7500960" y="5500800"/>
            <a:ext cx="1071360" cy="999720"/>
          </a:xfrm>
          <a:prstGeom prst="smileyFace">
            <a:avLst>
              <a:gd name="adj" fmla="val 4653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85</TotalTime>
  <Application>LibreOffice/7.4.7.2$Linux_X86_64 LibreOffice_project/40$Build-2</Application>
  <AppVersion>15.0000</AppVersion>
  <Words>1659</Words>
  <Paragraphs>2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40:26Z</dcterms:modified>
  <cp:revision>521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