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6543-0246-4244-A014-3B91CEA74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E2E6-DB04-46A7-901B-44BD9D3D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AEC0-5EB5-41E2-A100-B444CA5DC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6681-838A-463A-AF46-643B14450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1682A-B93F-455E-8985-9E114D082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2725A-466A-443E-86F0-5986EC97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9C7DD-149D-435E-89DB-5E2A50FD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BDF5F-DC00-42DB-9116-A2E46D2F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52B5F2-8E9E-4C1E-80D3-827A14BE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14AAE-25B7-4721-B96C-B15EFD31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D54F1-9126-4820-ADE1-84D13EFE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17CC-587E-46E8-B2C1-53E82982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3699F2-1902-42CD-AAA5-4B9F49AD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F89FC5-382B-4519-B27E-1472DBA8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A47F35-70D4-4C50-8981-D033E571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6A3384-0915-4518-BC60-DCB9D6E49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841CF1-F991-4FED-BD1F-A8FB7E41C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02FF-8B81-4766-B085-4036C695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1191-9BBE-4E0F-B0A3-AFF11034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5000-71CE-4596-8EC6-BB495AA1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BEBC-E901-4396-A0C7-812744CB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A33F-7984-4DA4-A8E8-15B0E3C9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14F1-8B71-4370-9533-6EA240CE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2A16-7D8E-4B32-94D3-5D12AA52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4f81bd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Straight Connector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4f81bd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Straight Connector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Rectangle 9" hidden="1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4" name="Straight Connector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Oval 11" hidden="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4f81bd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0" y="3124080"/>
            <a:ext cx="61718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en-US" sz="3000" spc="-1" strike="noStrike" cap="small">
                <a:solidFill>
                  <a:srgbClr val="1f497d"/>
                </a:solidFill>
                <a:latin typeface="Century Schoolbook"/>
              </a:rPr>
              <a:t>Click to edit Master title styl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 rot="5400000">
            <a:off x="7765200" y="1174320"/>
            <a:ext cx="2285640" cy="3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 rot="5400000">
            <a:off x="7077240" y="4181400"/>
            <a:ext cx="365724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9"/>
          <p:cNvSpPr/>
          <p:nvPr/>
        </p:nvSpPr>
        <p:spPr>
          <a:xfrm>
            <a:off x="380880" y="0"/>
            <a:ext cx="609120" cy="6857640"/>
          </a:xfrm>
          <a:prstGeom prst="rect">
            <a:avLst/>
          </a:prstGeom>
          <a:solidFill>
            <a:schemeClr val="accent1">
              <a:tint val="60000"/>
              <a:alpha val="54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0" name="Rectangle 11"/>
          <p:cNvSpPr/>
          <p:nvPr/>
        </p:nvSpPr>
        <p:spPr>
          <a:xfrm>
            <a:off x="276480" y="0"/>
            <a:ext cx="104400" cy="6857640"/>
          </a:xfrm>
          <a:prstGeom prst="rect">
            <a:avLst/>
          </a:prstGeom>
          <a:solidFill>
            <a:schemeClr val="accent1">
              <a:tint val="40000"/>
              <a:alpha val="36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990720" y="0"/>
            <a:ext cx="181440" cy="6857640"/>
          </a:xfrm>
          <a:prstGeom prst="rect">
            <a:avLst/>
          </a:prstGeom>
          <a:solidFill>
            <a:schemeClr val="accent1">
              <a:tint val="40000"/>
              <a:alpha val="70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2" name="Rectangle 18"/>
          <p:cNvSpPr/>
          <p:nvPr/>
        </p:nvSpPr>
        <p:spPr>
          <a:xfrm>
            <a:off x="1141200" y="0"/>
            <a:ext cx="230040" cy="6857640"/>
          </a:xfrm>
          <a:prstGeom prst="rect">
            <a:avLst/>
          </a:prstGeom>
          <a:solidFill>
            <a:schemeClr val="accent1">
              <a:tint val="20000"/>
              <a:alpha val="7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3" name="Straight Connector 10"/>
          <p:cNvSpPr/>
          <p:nvPr/>
        </p:nvSpPr>
        <p:spPr>
          <a:xfrm>
            <a:off x="106200" y="0"/>
            <a:ext cx="360" cy="6858000"/>
          </a:xfrm>
          <a:prstGeom prst="line">
            <a:avLst/>
          </a:prstGeom>
          <a:ln w="57150">
            <a:solidFill>
              <a:srgbClr val="4f81bd">
                <a:tint val="60000"/>
                <a:alpha val="7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Straight Connector 17"/>
          <p:cNvSpPr/>
          <p:nvPr/>
        </p:nvSpPr>
        <p:spPr>
          <a:xfrm>
            <a:off x="914400" y="0"/>
            <a:ext cx="360" cy="6858000"/>
          </a:xfrm>
          <a:prstGeom prst="line">
            <a:avLst/>
          </a:prstGeom>
          <a:ln w="57150">
            <a:solidFill>
              <a:srgbClr val="4f81bd">
                <a:tint val="20000"/>
                <a:alpha val="8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Straight Connector 19"/>
          <p:cNvSpPr/>
          <p:nvPr/>
        </p:nvSpPr>
        <p:spPr>
          <a:xfrm>
            <a:off x="853920" y="0"/>
            <a:ext cx="360" cy="6858000"/>
          </a:xfrm>
          <a:prstGeom prst="line">
            <a:avLst/>
          </a:prstGeom>
          <a:ln w="57150">
            <a:solidFill>
              <a:srgbClr val="4f81bd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Straight Connector 15"/>
          <p:cNvSpPr/>
          <p:nvPr/>
        </p:nvSpPr>
        <p:spPr>
          <a:xfrm>
            <a:off x="1726560" y="0"/>
            <a:ext cx="360" cy="6858000"/>
          </a:xfrm>
          <a:prstGeom prst="line">
            <a:avLst/>
          </a:prstGeom>
          <a:ln w="28575">
            <a:solidFill>
              <a:srgbClr val="4f81bd">
                <a:tint val="60000"/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Straight Connector 14"/>
          <p:cNvSpPr/>
          <p:nvPr/>
        </p:nvSpPr>
        <p:spPr>
          <a:xfrm>
            <a:off x="1066680" y="0"/>
            <a:ext cx="360" cy="6858000"/>
          </a:xfrm>
          <a:prstGeom prst="line">
            <a:avLst/>
          </a:prstGeom>
          <a:ln w="9525">
            <a:solidFill>
              <a:srgbClr val="4f81bd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Straight Connector 21"/>
          <p:cNvSpPr/>
          <p:nvPr/>
        </p:nvSpPr>
        <p:spPr>
          <a:xfrm>
            <a:off x="9113760" y="0"/>
            <a:ext cx="360" cy="6858000"/>
          </a:xfrm>
          <a:prstGeom prst="line">
            <a:avLst/>
          </a:prstGeom>
          <a:ln w="57150">
            <a:solidFill>
              <a:srgbClr val="4f81bd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Rectangle 26"/>
          <p:cNvSpPr/>
          <p:nvPr/>
        </p:nvSpPr>
        <p:spPr>
          <a:xfrm>
            <a:off x="1219320" y="0"/>
            <a:ext cx="75960" cy="6857640"/>
          </a:xfrm>
          <a:prstGeom prst="rect">
            <a:avLst/>
          </a:prstGeom>
          <a:solidFill>
            <a:schemeClr val="accent1">
              <a:tint val="60000"/>
              <a:alpha val="5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0" name="Oval 20"/>
          <p:cNvSpPr/>
          <p:nvPr/>
        </p:nvSpPr>
        <p:spPr>
          <a:xfrm>
            <a:off x="609480" y="3429000"/>
            <a:ext cx="1294920" cy="1294920"/>
          </a:xfrm>
          <a:prstGeom prst="ellipse">
            <a:avLst/>
          </a:prstGeom>
          <a:solidFill>
            <a:schemeClr val="accent1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1" name="Oval 22"/>
          <p:cNvSpPr/>
          <p:nvPr/>
        </p:nvSpPr>
        <p:spPr>
          <a:xfrm>
            <a:off x="1309680" y="4866840"/>
            <a:ext cx="641160" cy="641160"/>
          </a:xfrm>
          <a:prstGeom prst="ellipse">
            <a:avLst/>
          </a:prstGeom>
          <a:solidFill>
            <a:srgbClr val="4f81bd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2" name="Oval 23"/>
          <p:cNvSpPr/>
          <p:nvPr/>
        </p:nvSpPr>
        <p:spPr>
          <a:xfrm>
            <a:off x="1091160" y="5500800"/>
            <a:ext cx="136800" cy="136800"/>
          </a:xfrm>
          <a:prstGeom prst="ellipse">
            <a:avLst/>
          </a:prstGeom>
          <a:solidFill>
            <a:srgbClr val="4f81bd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3" name="Oval 25"/>
          <p:cNvSpPr/>
          <p:nvPr/>
        </p:nvSpPr>
        <p:spPr>
          <a:xfrm>
            <a:off x="1664280" y="5788080"/>
            <a:ext cx="273960" cy="273960"/>
          </a:xfrm>
          <a:prstGeom prst="ellipse">
            <a:avLst/>
          </a:prstGeom>
          <a:solidFill>
            <a:srgbClr val="4f81bd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4" name="Oval 24"/>
          <p:cNvSpPr/>
          <p:nvPr/>
        </p:nvSpPr>
        <p:spPr>
          <a:xfrm>
            <a:off x="1905120" y="4495680"/>
            <a:ext cx="365400" cy="365400"/>
          </a:xfrm>
          <a:prstGeom prst="ellipse">
            <a:avLst/>
          </a:prstGeom>
          <a:solidFill>
            <a:srgbClr val="4f81bd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1325520" y="4928760"/>
            <a:ext cx="6091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151D840-DB1A-4E32-ACC4-E1E28B76B21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traight Connector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4f81bd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Straight Connector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4f81bd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Straight Connector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7" name="Straight Connector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4f81bd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en-US" sz="3000" spc="-1" strike="noStrike" cap="small">
                <a:solidFill>
                  <a:srgbClr val="1f497d"/>
                </a:solidFill>
                <a:latin typeface="Century Schoolbook"/>
              </a:rPr>
              <a:t>Click to edit Master title styl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econd leve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 algn="r" rtl="1">
              <a:lnSpc>
                <a:spcPct val="100000"/>
              </a:lnSpc>
              <a:spcBef>
                <a:spcPts val="360"/>
              </a:spcBef>
              <a:buClr>
                <a:srgbClr val="4571a6"/>
              </a:buClr>
              <a:buSzPct val="60000"/>
              <a:buFont typeface="Wingdings" charset="2"/>
              <a:buChar char="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 algn="r" rtl="1">
              <a:lnSpc>
                <a:spcPct val="100000"/>
              </a:lnSpc>
              <a:spcBef>
                <a:spcPts val="360"/>
              </a:spcBef>
              <a:buClr>
                <a:srgbClr val="b2c0da"/>
              </a:buClr>
              <a:buSzPct val="60000"/>
              <a:buFont typeface="Wingdings" charset="2"/>
              <a:buChar char="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 algn="r" rtl="1">
              <a:lnSpc>
                <a:spcPct val="100000"/>
              </a:lnSpc>
              <a:spcBef>
                <a:spcPts val="320"/>
              </a:spcBef>
              <a:buClr>
                <a:srgbClr val="dcb2b2"/>
              </a:buClr>
              <a:buSzPct val="68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5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8151669-F891-43F2-9B26-3DB78FA1E6D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ftr" idx="6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28800" y="1371600"/>
            <a:ext cx="685764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ar-SA" sz="3600" spc="-1" strike="noStrike" cap="small">
                <a:solidFill>
                  <a:srgbClr val="1f497d"/>
                </a:solidFill>
                <a:latin typeface="Century Schoolbook"/>
              </a:rPr>
              <a:t>المحاضرة </a:t>
            </a:r>
            <a:r>
              <a:rPr b="1" lang="en-US" sz="3600" spc="-1" strike="noStrike" cap="small">
                <a:solidFill>
                  <a:srgbClr val="1f497d"/>
                </a:solidFill>
                <a:latin typeface="Century Schoolbook"/>
              </a:rPr>
              <a:t>11</a:t>
            </a:r>
            <a:r>
              <a:rPr b="1" lang="en-US" sz="3600" spc="-1" strike="noStrike" cap="small">
                <a:solidFill>
                  <a:srgbClr val="1f497d"/>
                </a:solidFill>
                <a:latin typeface="Century Schoolbook"/>
              </a:rPr>
              <a:t> </a:t>
            </a:r>
            <a:br>
              <a:rPr sz="3600"/>
            </a:br>
            <a:br>
              <a:rPr sz="3600"/>
            </a:br>
            <a:r>
              <a:rPr b="1" lang="ar-SA" sz="3600" spc="-1" strike="noStrike" cap="small">
                <a:solidFill>
                  <a:srgbClr val="1f497d"/>
                </a:solidFill>
                <a:latin typeface="Century Schoolbook"/>
              </a:rPr>
              <a:t>تابع الانترنت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0" y="0"/>
            <a:ext cx="9143640" cy="77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50000"/>
              </a:lnSpc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SimSun"/>
              </a:rPr>
              <a:t>: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SimSun"/>
              </a:rPr>
              <a:t>Hypertext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SimSu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نص المتشعّب يعني أن بعض النصوص في مستند لغة ترميز النص المتشعّب تحمل رابطاً إلى موقع مختلف، والذي يمكن أن يكون في نفس الصفحة أو صفحة أخرى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SimSun"/>
              </a:rPr>
              <a:t>Markup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SimSun"/>
              </a:rPr>
              <a:t>: </a:t>
            </a:r>
            <a:r>
              <a:rPr b="1" lang="ar-SA" sz="32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تعني أن أجزاء معينة من المستند يتم ترميزها للإشارة إلى كيفية عرضها بواسطة متصفح الويب على جهاز المستخد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ar-SA" sz="32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تتألف لغة ترميز النص المتشعب (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  <a:ea typeface="SimSun"/>
              </a:rPr>
              <a:t>HTML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  <a:ea typeface="SimSun"/>
              </a:rPr>
              <a:t>) من مجموعة علامات (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  <a:ea typeface="SimSun"/>
              </a:rPr>
              <a:t>tags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  <a:ea typeface="SimSun"/>
              </a:rPr>
              <a:t>) توضع حول العناصر المكونة لمستند لغة ترميز النص المتشعّ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0" y="0"/>
            <a:ext cx="9143640" cy="77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14440" indent="-514440" algn="just" rtl="1">
              <a:lnSpc>
                <a:spcPct val="150000"/>
              </a:lnSpc>
              <a:buClr>
                <a:srgbClr val="000000"/>
              </a:buClr>
              <a:buFont typeface="Century Schoolbook"/>
              <a:buAutoNum type="arabicPeriod" startAt="2"/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JavaScript / Jscript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هي لغة برمجة تسخدم لتطوير برمجيات انترنت تعمل بصورة عامة على مستوى متصفح الويب. كما انه يمكن استخدامها على مستوى مخدم/خادم الويب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 rtl="1">
              <a:lnSpc>
                <a:spcPct val="150000"/>
              </a:lnSpc>
              <a:buClr>
                <a:srgbClr val="000000"/>
              </a:buClr>
              <a:buFont typeface="Century Schoolbook"/>
              <a:buAutoNum type="arabicPeriod" startAt="2"/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جافا (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Java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): هي لغة برمجة قوية للغاية تستخدم على الإنترنت في شكل تطبيقات صغيرة مضمنة في صفحة الرئيسية المصممة بواسطة الـ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HTML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 rtl="1">
              <a:lnSpc>
                <a:spcPct val="150000"/>
              </a:lnSpc>
              <a:buClr>
                <a:srgbClr val="000000"/>
              </a:buClr>
              <a:buFont typeface="Century Schoolbook"/>
              <a:buAutoNum type="arabicPeriod" startAt="2"/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SP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ctive Server Pages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: صفحات الخادم النشطة هي تقنية تم الترويج لها بواسطة مايكروسفت. تستخدم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SP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بعض العلامات الخاصة ، والتي يمكن تضمينها في تعليمات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HTML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البرمجية ، لإنشاء صفحات ويب تفاعل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0" y="0"/>
            <a:ext cx="9143640" cy="45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14440" indent="-514440" algn="just" rtl="1">
              <a:lnSpc>
                <a:spcPct val="150000"/>
              </a:lnSpc>
              <a:buClr>
                <a:srgbClr val="000000"/>
              </a:buClr>
              <a:buFont typeface="Century Schoolbook"/>
              <a:buAutoNum type="arabicPeriod" startAt="5"/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XML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(eXtensible Markup Language)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لغة الترميز القابلة للتوسعة: هي عبارة عن لغة مطورة لصفحة ويب تمكن المطورين من إنشاء علامات ترميز بصورة مختصرة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 rtl="1">
              <a:lnSpc>
                <a:spcPct val="150000"/>
              </a:lnSpc>
              <a:buClr>
                <a:srgbClr val="000000"/>
              </a:buClr>
              <a:buFont typeface="Century Schoolbook"/>
              <a:buAutoNum type="arabicPeriod" startAt="5"/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PHP (Personal Home Page)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: هي عبارة عن بيئة تطوير مفتوحة المصدر، تم استخدامها كبديل للـ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SP</a:t>
            </a: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، وذلك لتطوير صفحات ويب تفاعل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0" y="0"/>
            <a:ext cx="91436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ar-SA" sz="4400" spc="-1" strike="noStrike">
                <a:solidFill>
                  <a:srgbClr val="ff0000"/>
                </a:solidFill>
                <a:latin typeface="Century Schoolbook"/>
              </a:rPr>
              <a:t>أنواع صفحات الوي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0" y="878040"/>
            <a:ext cx="9143640" cy="65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Century Schoolbook"/>
              </a:rPr>
              <a:t>تنقسم صفحات الويب الى قسمين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04640" indent="509760" algn="just" rtl="1">
              <a:lnSpc>
                <a:spcPct val="150000"/>
              </a:lnSpc>
              <a:buClr>
                <a:srgbClr val="000000"/>
              </a:buClr>
              <a:buFont typeface="Century Schoolbook"/>
              <a:buAutoNum type="arabicPeriod"/>
              <a:tabLst>
                <a:tab algn="l" pos="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Century Schoolbook"/>
              </a:rPr>
              <a:t>صفحات ثابتة (</a:t>
            </a:r>
            <a:r>
              <a:rPr b="1" lang="en-US" sz="2900" spc="-1" strike="noStrike">
                <a:solidFill>
                  <a:srgbClr val="000000"/>
                </a:solidFill>
                <a:latin typeface="Century Schoolbook"/>
              </a:rPr>
              <a:t>Static Web Page</a:t>
            </a:r>
            <a:r>
              <a:rPr b="1" lang="en-US" sz="29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04640" indent="509760" algn="just" rtl="1">
              <a:lnSpc>
                <a:spcPct val="150000"/>
              </a:lnSpc>
              <a:buClr>
                <a:srgbClr val="000000"/>
              </a:buClr>
              <a:buFont typeface="Century Schoolbook"/>
              <a:buAutoNum type="arabicPeriod"/>
              <a:tabLst>
                <a:tab algn="l" pos="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Century Schoolbook"/>
              </a:rPr>
              <a:t>صفحات تفاعلية (</a:t>
            </a:r>
            <a:r>
              <a:rPr b="1" lang="en-US" sz="2900" spc="-1" strike="noStrike">
                <a:solidFill>
                  <a:srgbClr val="000000"/>
                </a:solidFill>
                <a:latin typeface="Century Schoolbook"/>
              </a:rPr>
              <a:t>Dynamic Web Page</a:t>
            </a:r>
            <a:r>
              <a:rPr b="1" lang="en-US" sz="29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04640" indent="509760" algn="just" rtl="1">
              <a:lnSpc>
                <a:spcPct val="150000"/>
              </a:lnSpc>
              <a:tabLst>
                <a:tab algn="l" pos="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46512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Century Schoolbook"/>
              </a:rPr>
              <a:t>الصفحة الثابتة (</a:t>
            </a:r>
            <a:r>
              <a:rPr b="1" lang="en-US" sz="2900" spc="-1" strike="noStrike">
                <a:solidFill>
                  <a:srgbClr val="000000"/>
                </a:solidFill>
                <a:latin typeface="Century Schoolbook"/>
              </a:rPr>
              <a:t>Static Web Page</a:t>
            </a:r>
            <a:r>
              <a:rPr b="1" lang="en-US" sz="2900" spc="-1" strike="noStrike">
                <a:solidFill>
                  <a:srgbClr val="000000"/>
                </a:solidFill>
                <a:latin typeface="Century Schoolbook"/>
              </a:rPr>
              <a:t>) هي عبارة عن أي صفحة ويب يتعامل معها متصفح الانترنت كما تم تخزينها، دون إمكانية تعديلها في اللحظة المحددة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46512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46512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Century Schoolbook"/>
              </a:rPr>
              <a:t>الصفحة التفاعلية (</a:t>
            </a:r>
            <a:r>
              <a:rPr b="1" lang="en-US" sz="2900" spc="-1" strike="noStrike">
                <a:solidFill>
                  <a:srgbClr val="000000"/>
                </a:solidFill>
                <a:latin typeface="Century Schoolbook"/>
              </a:rPr>
              <a:t>Dynamic Web Page</a:t>
            </a:r>
            <a:r>
              <a:rPr b="1" lang="en-US" sz="2900" spc="-1" strike="noStrike">
                <a:solidFill>
                  <a:srgbClr val="000000"/>
                </a:solidFill>
                <a:latin typeface="Century Schoolbook"/>
              </a:rPr>
              <a:t>) هي عبارة عن أي صفحة ويب  يتم إنشاؤها بواسطة تطبيق ويب، بحيث يسمح بتغيير محتواها في أي لحظة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0"/>
            <a:ext cx="91436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ar-SA" sz="4400" spc="-1" strike="noStrike">
                <a:solidFill>
                  <a:srgbClr val="ff0000"/>
                </a:solidFill>
                <a:latin typeface="Century Schoolbook"/>
              </a:rPr>
              <a:t>أنواع صفحات الوي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878040"/>
            <a:ext cx="9143640" cy="84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465120" algn="just" rtl="1">
              <a:lnSpc>
                <a:spcPct val="100000"/>
              </a:lnSpc>
              <a:buClr>
                <a:srgbClr val="000000"/>
              </a:buClr>
              <a:buFont typeface="Century Schoolbook"/>
              <a:buAutoNum type="arabicPeriod"/>
            </a:pP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صفحات ثابتة (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Static Web Page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entury Schoolbook"/>
              </a:rPr>
              <a:t>تتميز صفحات الويب الثابتة بالآتي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509760" indent="404640" algn="just" rtl="1">
              <a:lnSpc>
                <a:spcPts val="57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entury Schoolbook"/>
              </a:rPr>
              <a:t>تعرض صفحات الويب الثابتة نفس المعلومات لجميع المستخدمين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49280" algn="just" rtl="1">
              <a:lnSpc>
                <a:spcPts val="57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entury Schoolbook"/>
              </a:rPr>
              <a:t>صفحات الويب الثابتة هي عبارة مستندات</a:t>
            </a:r>
            <a:r>
              <a:rPr b="1" lang="en-US" sz="2600" spc="-1" strike="noStrike">
                <a:solidFill>
                  <a:srgbClr val="000000"/>
                </a:solidFill>
                <a:latin typeface="Century Schoolbook"/>
              </a:rPr>
              <a:t>HTML</a:t>
            </a:r>
            <a:r>
              <a:rPr b="1" lang="en-US" sz="2600" spc="-1" strike="noStrike">
                <a:solidFill>
                  <a:srgbClr val="000000"/>
                </a:solidFill>
                <a:latin typeface="Century Schoolbook"/>
              </a:rPr>
              <a:t>  يتم تخزينها كملفات ويتم إتاحتها بواسطة خادم الويب عبر بروتوكول نقل النص التشعبي (</a:t>
            </a:r>
            <a:r>
              <a:rPr b="1" lang="en-US" sz="2600" spc="-1" strike="noStrike">
                <a:solidFill>
                  <a:srgbClr val="000000"/>
                </a:solidFill>
                <a:latin typeface="Century Schoolbook"/>
              </a:rPr>
              <a:t>HTTP</a:t>
            </a:r>
            <a:r>
              <a:rPr b="1" lang="en-US" sz="2600" spc="-1" strike="noStrike">
                <a:solidFill>
                  <a:srgbClr val="000000"/>
                </a:solidFill>
                <a:latin typeface="Century Schoolbook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49280" algn="just" rtl="1">
              <a:lnSpc>
                <a:spcPts val="57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entury Schoolbook"/>
              </a:rPr>
              <a:t>صفحات الويب الثابتة بسيطة للغاية في التصميم وغنية بالمعلومات. ويتطلب إنشاء محتوى المواقع الثابتة على مستوى عالٍ من الخبرة الفنية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49280" algn="just" rtl="1">
              <a:lnSpc>
                <a:spcPts val="57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entury Schoolbook"/>
              </a:rPr>
              <a:t>تصميم صفحات الويب الثابتة لاتحتاج الى مهارة برمجية عالية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0" y="0"/>
            <a:ext cx="91436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ar-SA" sz="4400" spc="-1" strike="noStrike">
                <a:solidFill>
                  <a:srgbClr val="ff0000"/>
                </a:solidFill>
                <a:latin typeface="Century Schoolbook"/>
              </a:rPr>
              <a:t>أنواع صفحات الوي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0" y="878040"/>
            <a:ext cx="9143640" cy="59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465120" algn="just" rtl="1">
              <a:lnSpc>
                <a:spcPct val="150000"/>
              </a:lnSpc>
              <a:buClr>
                <a:srgbClr val="000000"/>
              </a:buClr>
              <a:buFont typeface="Century Schoolbook"/>
              <a:buAutoNum type="arabicPeriod" startAt="2"/>
            </a:pP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الصفحات التفاعلية (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Dynamic Web Page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5000"/>
              </a:lnSpc>
              <a:tabLst>
                <a:tab algn="l" pos="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entury Schoolbook"/>
              </a:rPr>
              <a:t>تتميز صفحات الويب التفاعلية بالآتي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914400" indent="-449280" algn="just" rtl="1">
              <a:lnSpc>
                <a:spcPts val="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entury Schoolbook"/>
              </a:rPr>
              <a:t>محتوى صفحات الويب التفاعلية متجدد (المحتوى/التخطيط)، ويتم عرضه بصورة مختلفة من مستخدم لآخ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914400" indent="-449280" algn="just" rtl="1">
              <a:lnSpc>
                <a:spcPts val="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entury Schoolbook"/>
              </a:rPr>
              <a:t>يتم تحديث محتوى صفحات الويب بصورة مرنة من حسب الحاجة لتغيير محتوى الصحفة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914400" indent="-449280" algn="just" rtl="1">
              <a:lnSpc>
                <a:spcPts val="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entury Schoolbook"/>
              </a:rPr>
              <a:t>سهولة تحديث محتوى الصفحات التفاعلية من أي موقع يسهل فيه الوصول للإنترن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0" y="76320"/>
            <a:ext cx="8842680" cy="16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ar-SA" sz="3300" spc="-1" strike="noStrike">
                <a:solidFill>
                  <a:srgbClr val="ff0000"/>
                </a:solidFill>
                <a:latin typeface="Century Schoolbook"/>
              </a:rPr>
              <a:t>تطوير</a:t>
            </a: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ar-SA" sz="3300" spc="-1" strike="noStrike">
                <a:solidFill>
                  <a:srgbClr val="ff0000"/>
                </a:solidFill>
                <a:latin typeface="Century Schoolbook"/>
              </a:rPr>
              <a:t>صفحات</a:t>
            </a: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ar-SA" sz="3300" spc="-1" strike="noStrike">
                <a:solidFill>
                  <a:srgbClr val="ff0000"/>
                </a:solidFill>
                <a:latin typeface="Century Schoolbook"/>
              </a:rPr>
              <a:t>الويب</a:t>
            </a: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ar-SA" sz="3300" spc="-1" strike="noStrike">
                <a:solidFill>
                  <a:srgbClr val="ff0000"/>
                </a:solidFill>
                <a:latin typeface="Century Schoolbook"/>
              </a:rPr>
              <a:t>باستخدام تقنية لغة ترميز النص المتشعّب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HT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0" y="1253160"/>
            <a:ext cx="9143640" cy="71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50000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ملف لغة ترميز النص المتشعّب (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HTML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) عبارة عن ملف نصي يحتوي على مجموعة من علامات التمييز (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ags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تدل علامات التمريز (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ags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) على كيفية عرض الصفحة بواسطة متصفح الويب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يمكن إنشاء ملف لغة ترميز النص المتشعّب (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HTML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) باستخدام أي محرر نصوص (على سبيل المثال المفكرة (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notepad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)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يجب أن ينتهي ملف لغة ترميز النص المتشعّب (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HTML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) بـاسم امتداد للملف عبارة عن"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htm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" أو"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html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47520" y="-570600"/>
            <a:ext cx="9067320" cy="7547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 rtl="1">
              <a:lnSpc>
                <a:spcPct val="100000"/>
              </a:lnSpc>
            </a:pPr>
            <a:r>
              <a:rPr b="1" lang="ar-SA" sz="3600" spc="-1" strike="noStrike">
                <a:solidFill>
                  <a:srgbClr val="ff0066"/>
                </a:solidFill>
                <a:latin typeface="Times New Roman"/>
                <a:cs typeface="Times New Roman"/>
              </a:rPr>
              <a:t>بنية (شكل) ملف لغة ترميز النص المتشعّب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HTML File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5301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كون بنية (شكل) ملف لغة ترميز النص المتشعب على النحو التال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SimSun"/>
              </a:rPr>
              <a:t>&lt;html&gt;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5301"/>
              </a:lnSpc>
              <a:tabLst>
                <a:tab algn="l" pos="465120"/>
              </a:tabLst>
            </a:pPr>
            <a:r>
              <a:rPr b="1" i="1" lang="en-US" sz="3200" spc="-1" strike="noStrike">
                <a:solidFill>
                  <a:srgbClr val="6600ff"/>
                </a:solidFill>
                <a:latin typeface="Times New Roman"/>
                <a:ea typeface="SimSun"/>
              </a:rPr>
              <a:t>	</a:t>
            </a:r>
            <a:r>
              <a:rPr b="1" i="1" lang="en-US" sz="3200" spc="-1" strike="noStrike">
                <a:solidFill>
                  <a:srgbClr val="6600ff"/>
                </a:solidFill>
                <a:latin typeface="Times New Roman"/>
                <a:ea typeface="SimSun"/>
              </a:rPr>
              <a:t>&lt;head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5301"/>
              </a:lnSpc>
              <a:tabLst>
                <a:tab algn="l" pos="914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SimSun"/>
              </a:rPr>
              <a:t>	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SimSun"/>
              </a:rPr>
              <a:t>&lt;</a:t>
            </a:r>
            <a:r>
              <a:rPr b="1" i="1" lang="en-US" sz="3200" spc="-1" strike="noStrike">
                <a:solidFill>
                  <a:srgbClr val="6600ff"/>
                </a:solidFill>
                <a:latin typeface="Times New Roman"/>
                <a:ea typeface="SimSun"/>
              </a:rPr>
              <a:t>title&gt;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Title of the page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SimSun"/>
              </a:rPr>
              <a:t>&lt;/title&gt;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5301"/>
              </a:lnSpc>
              <a:tabLst>
                <a:tab algn="l" pos="465120"/>
              </a:tabLst>
            </a:pPr>
            <a:r>
              <a:rPr b="1" i="1" lang="en-US" sz="3200" spc="-1" strike="noStrike">
                <a:solidFill>
                  <a:srgbClr val="6600ff"/>
                </a:solidFill>
                <a:latin typeface="Times New Roman"/>
                <a:ea typeface="SimSun"/>
              </a:rPr>
              <a:t>	</a:t>
            </a:r>
            <a:r>
              <a:rPr b="1" i="1" lang="en-US" sz="3200" spc="-1" strike="noStrike">
                <a:solidFill>
                  <a:srgbClr val="6600ff"/>
                </a:solidFill>
                <a:latin typeface="Times New Roman"/>
                <a:ea typeface="SimSun"/>
              </a:rPr>
              <a:t>&lt;/head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5301"/>
              </a:lnSpc>
              <a:tabLst>
                <a:tab algn="l" pos="4651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SimSu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SimSun"/>
              </a:rPr>
              <a:t>&lt;body&gt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this is my homep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5301"/>
              </a:lnSpc>
              <a:tabLst>
                <a:tab algn="l" pos="465120"/>
              </a:tabLst>
            </a:pPr>
            <a:r>
              <a:rPr b="1" i="1" lang="en-US" sz="3200" spc="-1" strike="noStrike">
                <a:solidFill>
                  <a:srgbClr val="6600ff"/>
                </a:solidFill>
                <a:latin typeface="Times New Roman"/>
                <a:ea typeface="SimSun"/>
              </a:rPr>
              <a:t>	</a:t>
            </a:r>
            <a:r>
              <a:rPr b="1" i="1" lang="en-US" sz="3200" spc="-1" strike="noStrike">
                <a:solidFill>
                  <a:srgbClr val="6600ff"/>
                </a:solidFill>
                <a:latin typeface="Times New Roman"/>
                <a:ea typeface="SimSun"/>
              </a:rPr>
              <a:t>	</a:t>
            </a:r>
            <a:r>
              <a:rPr b="1" i="1" lang="en-US" sz="3200" spc="-1" strike="noStrike">
                <a:solidFill>
                  <a:srgbClr val="6600ff"/>
                </a:solidFill>
                <a:latin typeface="Times New Roman"/>
                <a:ea typeface="SimSun"/>
              </a:rPr>
              <a:t>&lt;b&gt;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SimSun"/>
              </a:rPr>
              <a:t>This text is bold</a:t>
            </a:r>
            <a:r>
              <a:rPr b="1" i="1" lang="en-US" sz="3200" spc="-1" strike="noStrike">
                <a:solidFill>
                  <a:srgbClr val="6600ff"/>
                </a:solidFill>
                <a:latin typeface="Times New Roman"/>
                <a:ea typeface="SimSun"/>
              </a:rPr>
              <a:t>&lt;/b&gt;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5301"/>
              </a:lnSpc>
              <a:tabLst>
                <a:tab algn="l" pos="46512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SimSu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SimSun"/>
              </a:rPr>
              <a:t>&lt;/body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46512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SimSun"/>
              </a:rPr>
              <a:t>&lt;/html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SimSun"/>
              </a:rPr>
              <a:t>&gt;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7"/>
          <p:cNvGrpSpPr/>
          <p:nvPr/>
        </p:nvGrpSpPr>
        <p:grpSpPr>
          <a:xfrm>
            <a:off x="6477120" y="2286000"/>
            <a:ext cx="2452320" cy="2369880"/>
            <a:chOff x="6477120" y="2286000"/>
            <a:chExt cx="2452320" cy="2369880"/>
          </a:xfrm>
        </p:grpSpPr>
        <p:sp>
          <p:nvSpPr>
            <p:cNvPr id="140" name="Right Brace 8"/>
            <p:cNvSpPr/>
            <p:nvPr/>
          </p:nvSpPr>
          <p:spPr>
            <a:xfrm>
              <a:off x="6477120" y="2286000"/>
              <a:ext cx="761760" cy="1752120"/>
            </a:xfrm>
            <a:prstGeom prst="rightBrace">
              <a:avLst>
                <a:gd name="adj1" fmla="val 8333"/>
                <a:gd name="adj2" fmla="val 50000"/>
              </a:avLst>
            </a:prstGeom>
            <a:solidFill>
              <a:schemeClr val="bg1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Rectangle 9"/>
            <p:cNvSpPr/>
            <p:nvPr/>
          </p:nvSpPr>
          <p:spPr>
            <a:xfrm>
              <a:off x="6872400" y="2371680"/>
              <a:ext cx="205704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يشمل معلومات لا يتم عرض على كجزء من محتويات صفحة الوي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10"/>
          <p:cNvSpPr/>
          <p:nvPr/>
        </p:nvSpPr>
        <p:spPr>
          <a:xfrm>
            <a:off x="1905120" y="1404000"/>
            <a:ext cx="7238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دل علامة الترميز هذه لبداية ملف ال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1828800" y="5943600"/>
            <a:ext cx="73148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دل على نهاية محتوى ملف لغة ترميز النص المتشع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2590920" y="3080520"/>
            <a:ext cx="37335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رض عنوان الصفحة الذي في أعلى الصفح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4"/>
          <p:cNvGrpSpPr/>
          <p:nvPr/>
        </p:nvGrpSpPr>
        <p:grpSpPr>
          <a:xfrm>
            <a:off x="5867280" y="4222080"/>
            <a:ext cx="3047760" cy="2416680"/>
            <a:chOff x="5867280" y="4222080"/>
            <a:chExt cx="3047760" cy="2416680"/>
          </a:xfrm>
        </p:grpSpPr>
        <p:sp>
          <p:nvSpPr>
            <p:cNvPr id="146" name="Right Brace 14"/>
            <p:cNvSpPr/>
            <p:nvPr/>
          </p:nvSpPr>
          <p:spPr>
            <a:xfrm>
              <a:off x="5867280" y="4222080"/>
              <a:ext cx="862920" cy="1492560"/>
            </a:xfrm>
            <a:prstGeom prst="rightBrace">
              <a:avLst>
                <a:gd name="adj1" fmla="val 8333"/>
                <a:gd name="adj2" fmla="val 50000"/>
              </a:avLst>
            </a:prstGeom>
            <a:solidFill>
              <a:schemeClr val="bg1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Rectangle 15"/>
            <p:cNvSpPr/>
            <p:nvPr/>
          </p:nvSpPr>
          <p:spPr>
            <a:xfrm>
              <a:off x="6584760" y="4354560"/>
              <a:ext cx="233028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تشمل المحتويات التي يتم عرضها كمحتوى لصفحة الوي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6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1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0" dur="5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4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2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2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514800" y="0"/>
            <a:ext cx="95338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ar-SA" sz="4400" spc="-1" strike="noStrike">
                <a:solidFill>
                  <a:srgbClr val="ff0000"/>
                </a:solidFill>
                <a:latin typeface="Century Schoolbook"/>
              </a:rPr>
              <a:t>تطوير صفحات الويب وكيفية عمله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0" y="909360"/>
            <a:ext cx="9143640" cy="71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50000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تتم معّيرة (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standardization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) تقنيات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الويب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من قبل تجمع/اتحاد شبكة الويب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العالمية (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World Wide Web Consortium – W3C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)، وذلك من خلال التوصية باستخدام أدوات قياسية لتطوير صفحات الويب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تتضمن توصية تجمع/اتحاد شبكة الويب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العالمية استخدا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 algn="just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لغة ترميز النص المتشعّب الموسعة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XHTML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 algn="just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نمط تنسيق الصفحات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CSS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 algn="just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لغة ترميز النص المتشعّب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HTML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. (تعتبر الآن تقنية "قديمة"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 algn="just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لغة الترميز الموسعة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XML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0" y="0"/>
            <a:ext cx="9143640" cy="78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50000"/>
              </a:lnSpc>
            </a:pPr>
            <a:r>
              <a:rPr b="1" lang="ar-SA" sz="3100" spc="-1" strike="noStrike">
                <a:solidFill>
                  <a:srgbClr val="ff0000"/>
                </a:solidFill>
                <a:latin typeface="Century Schoolbook"/>
              </a:rPr>
              <a:t>محتوى الويب </a:t>
            </a:r>
            <a:r>
              <a:rPr b="1" lang="ar-SA" sz="3100" spc="-1" strike="noStrike">
                <a:solidFill>
                  <a:srgbClr val="000000"/>
                </a:solidFill>
                <a:latin typeface="Century Schoolbook"/>
              </a:rPr>
              <a:t>عبارة عن محتوى نصي أو مرئي أو سمعي وغيرها من أشكال تمثيل البيانات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1" lang="ar-SA" sz="3100" spc="-1" strike="noStrike">
                <a:solidFill>
                  <a:srgbClr val="000000"/>
                </a:solidFill>
                <a:latin typeface="Century Schoolbook"/>
              </a:rPr>
              <a:t>هنالك بعض التعاريفات الهامة المرتبطة بصحفات الويب وكيفية عملها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ar-SA" sz="3100" spc="-1" strike="noStrike">
                <a:solidFill>
                  <a:srgbClr val="ff0000"/>
                </a:solidFill>
                <a:latin typeface="Century Schoolbook"/>
              </a:rPr>
              <a:t>صفحة الويب</a:t>
            </a:r>
            <a:r>
              <a:rPr b="1" lang="en-US" sz="3100" spc="-1" strike="noStrike">
                <a:solidFill>
                  <a:srgbClr val="000000"/>
                </a:solidFill>
                <a:latin typeface="Century Schoolbook"/>
              </a:rPr>
              <a:t>: ملف نصي بسيط لا يحتوي فقط على نص ، ولكن يحتوي أيضاً مجموعة من علامات </a:t>
            </a:r>
            <a:r>
              <a:rPr b="1" lang="en-US" sz="3100" spc="-1" strike="noStrike">
                <a:solidFill>
                  <a:srgbClr val="000000"/>
                </a:solidFill>
                <a:latin typeface="Century Schoolbook"/>
              </a:rPr>
              <a:t> لغة ترميز النص المتشعّب (</a:t>
            </a:r>
            <a:r>
              <a:rPr b="1" lang="en-US" sz="3100" spc="-1" strike="noStrike">
                <a:solidFill>
                  <a:srgbClr val="000000"/>
                </a:solidFill>
                <a:latin typeface="Century Schoolbook"/>
              </a:rPr>
              <a:t>tags</a:t>
            </a:r>
            <a:r>
              <a:rPr b="1" lang="en-US" sz="3100" spc="-1" strike="noStrike">
                <a:solidFill>
                  <a:srgbClr val="000000"/>
                </a:solidFill>
                <a:latin typeface="Century Schoolbook"/>
              </a:rPr>
              <a:t>) التي تصف كيفية تنسيق النص عند عرضه على الشاشة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en-US" sz="3100" spc="-1" strike="noStrike">
                <a:solidFill>
                  <a:srgbClr val="ff0000"/>
                </a:solidFill>
                <a:latin typeface="Century Schoolbook"/>
              </a:rPr>
              <a:t>HTML</a:t>
            </a:r>
            <a:r>
              <a:rPr b="1" lang="en-US" sz="3100" spc="-1" strike="noStrike">
                <a:solidFill>
                  <a:srgbClr val="000000"/>
                </a:solidFill>
                <a:latin typeface="Century Schoolbook"/>
              </a:rPr>
              <a:t>: "لغة ترميز النص المتشعّب" هي لغة برمجة حاوسوب بسيطة تسخدم علامات (</a:t>
            </a:r>
            <a:r>
              <a:rPr b="1" lang="en-US" sz="3100" spc="-1" strike="noStrike">
                <a:solidFill>
                  <a:srgbClr val="000000"/>
                </a:solidFill>
                <a:latin typeface="Century Schoolbook"/>
              </a:rPr>
              <a:t>tags</a:t>
            </a:r>
            <a:r>
              <a:rPr b="1" lang="en-US" sz="3100" spc="-1" strike="noStrike">
                <a:solidFill>
                  <a:srgbClr val="000000"/>
                </a:solidFill>
                <a:latin typeface="Century Schoolbook"/>
              </a:rPr>
              <a:t>) تصف كيفية تنسيق محتوى الصفحة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0" y="0"/>
            <a:ext cx="9143640" cy="81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50000"/>
              </a:lnSpc>
            </a:pPr>
            <a:r>
              <a:rPr b="1" lang="ar-SA" sz="3200" spc="-1" strike="noStrike">
                <a:solidFill>
                  <a:srgbClr val="ff0000"/>
                </a:solidFill>
                <a:latin typeface="Century Schoolbook"/>
              </a:rPr>
              <a:t>متصفح الويب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: </a:t>
            </a: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هو برنامج كمبيوتر يسمح للمستخدم بتصفح صفحات الويب مثل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Netscape </a:t>
            </a: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،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Mozilla Firefox</a:t>
            </a: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،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Google Chrome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و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Microsoft Internet Explorer</a:t>
            </a: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، ويقوم متصف الويب بعمل الآت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 rtl="1">
              <a:lnSpc>
                <a:spcPct val="150000"/>
              </a:lnSpc>
              <a:buClr>
                <a:srgbClr val="000000"/>
              </a:buClr>
              <a:buFont typeface="Century Schoolbook"/>
              <a:buAutoNum type="arabicPeriod"/>
            </a:pP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الاتصال بمخدم ويب على الإنترنت ومن ثم طلب صفحة معين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 rtl="1">
              <a:lnSpc>
                <a:spcPct val="150000"/>
              </a:lnSpc>
              <a:buClr>
                <a:srgbClr val="000000"/>
              </a:buClr>
              <a:buFont typeface="Century Schoolbook"/>
              <a:buAutoNum type="arabicPeriod"/>
            </a:pP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ترجمة مجموعة علامات لغة ترميز النص المتشعّب (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ags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) داخل الصفحة المطلوبة ومن ثم عرضها حسب التنسيق المحدد وفقاً لمجموعة العلامات المستخدم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0" y="0"/>
            <a:ext cx="9143640" cy="37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50000"/>
              </a:lnSpc>
            </a:pPr>
            <a:r>
              <a:rPr b="1" lang="ar-SA" sz="3200" spc="-1" strike="noStrike">
                <a:solidFill>
                  <a:srgbClr val="ff0000"/>
                </a:solidFill>
                <a:latin typeface="Century Schoolbook"/>
              </a:rPr>
              <a:t>مخدم/خادم الويب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: </a:t>
            </a: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هو برنامج كمبيوتر يوجد بالمخدم يستجيب لطلب متصفح الويب بالبحث عن الصفحة المطلوبة ومن ثم ارسالها إلى متصفح الويب عبر الإنترن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1035360" y="0"/>
            <a:ext cx="69080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ar-SA" sz="4400" spc="-1" strike="noStrike">
                <a:solidFill>
                  <a:srgbClr val="ff0000"/>
                </a:solidFill>
                <a:latin typeface="Century Schoolbook"/>
              </a:rPr>
              <a:t>كيف تعمل صفحات الوي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0" y="742320"/>
            <a:ext cx="9143640" cy="74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50000"/>
              </a:lnSpc>
            </a:pP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تعمل صفحات الويب وفقاً للخطوات الت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 rtl="1">
              <a:lnSpc>
                <a:spcPct val="150000"/>
              </a:lnSpc>
              <a:buClr>
                <a:srgbClr val="000000"/>
              </a:buClr>
              <a:buFont typeface="Century Schoolbook"/>
              <a:buAutoNum type="arabicPeriod"/>
            </a:pP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يقوم المستخدم على جهازه بكتابة عنوان الصفحة المطلوب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 rtl="1">
              <a:lnSpc>
                <a:spcPct val="150000"/>
              </a:lnSpc>
              <a:buClr>
                <a:srgbClr val="000000"/>
              </a:buClr>
              <a:buFont typeface="Century Schoolbook"/>
              <a:buAutoNum type="arabicPeriod"/>
            </a:pP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يقوم متصفح الويب على جهاز المستخدم بارسال طلب الصفحة الى مخدم الوي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 rtl="1">
              <a:lnSpc>
                <a:spcPct val="150000"/>
              </a:lnSpc>
              <a:buClr>
                <a:srgbClr val="000000"/>
              </a:buClr>
              <a:buFont typeface="Century Schoolbook"/>
              <a:buAutoNum type="arabicPeriod"/>
            </a:pP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يقوم مخدم الويب بالموجود بالمخدم بالبحث عن الصفحة المطلوبة ومن ثم يقوم بارسال الرد على الطلب إما بارسال محتوى الصفحة المطلوبة أو يرد بعدم وجود الصفحة المطلوب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1035360" y="0"/>
            <a:ext cx="69080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ar-SA" sz="4400" spc="-1" strike="noStrike">
                <a:solidFill>
                  <a:srgbClr val="ff0000"/>
                </a:solidFill>
                <a:latin typeface="Century Schoolbook"/>
              </a:rPr>
              <a:t>كيف تعمل صفحات الوي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0" y="742320"/>
            <a:ext cx="9143640" cy="71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14440" indent="-514440" algn="just" rtl="1">
              <a:lnSpc>
                <a:spcPct val="150000"/>
              </a:lnSpc>
              <a:buClr>
                <a:srgbClr val="000000"/>
              </a:buClr>
              <a:buFont typeface="Century Schoolbook"/>
              <a:buAutoNum type="arabicPeriod" startAt="4"/>
            </a:pPr>
            <a:r>
              <a:rPr b="1" lang="ar-SA" sz="3100" spc="-1" strike="noStrike">
                <a:solidFill>
                  <a:srgbClr val="000000"/>
                </a:solidFill>
                <a:latin typeface="Century Schoolbook"/>
              </a:rPr>
              <a:t>يقوم المتصفح باستلام الرد من المخدم (وفي حالة استلام محتوى الصفحة)، يعمل على ترجمة مجموعة علامات لغة النص المتشعّب (</a:t>
            </a:r>
            <a:r>
              <a:rPr b="1" lang="en-US" sz="3100" spc="-1" strike="noStrike">
                <a:solidFill>
                  <a:srgbClr val="000000"/>
                </a:solidFill>
                <a:latin typeface="Century Schoolbook"/>
              </a:rPr>
              <a:t>tags</a:t>
            </a:r>
            <a:r>
              <a:rPr b="1" lang="en-US" sz="3100" spc="-1" strike="noStrike">
                <a:solidFill>
                  <a:srgbClr val="000000"/>
                </a:solidFill>
                <a:latin typeface="Century Schoolbook"/>
              </a:rPr>
              <a:t>) داخل الصفحة المطلوبة ومن ثم عرضها حسب التنسيق المحدد وفقاً لمجموعة العلامات المستخدمة على جهاز المستخدم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 rtl="1">
              <a:lnSpc>
                <a:spcPct val="150000"/>
              </a:lnSpc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 rtl="1">
              <a:lnSpc>
                <a:spcPct val="150000"/>
              </a:lnSpc>
              <a:tabLst>
                <a:tab algn="l" pos="0"/>
              </a:tabLst>
            </a:pPr>
            <a:r>
              <a:rPr b="1" lang="ar-SA" sz="3100" spc="-1" strike="noStrike">
                <a:solidFill>
                  <a:srgbClr val="000000"/>
                </a:solidFill>
                <a:latin typeface="Century Schoolbook"/>
              </a:rPr>
              <a:t>يمكن توضيح كيفية عمل صفحات الويب كما في الشكل التالي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0" y="914400"/>
            <a:ext cx="9143640" cy="2029680"/>
          </a:xfrm>
          <a:prstGeom prst="rect">
            <a:avLst/>
          </a:prstGeom>
          <a:ln w="9525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3048120" y="2362320"/>
            <a:ext cx="3220920" cy="533160"/>
          </a:xfrm>
          <a:prstGeom prst="rect">
            <a:avLst/>
          </a:prstGeom>
          <a:ln w="9525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0" y="2803320"/>
            <a:ext cx="2495160" cy="834480"/>
          </a:xfrm>
          <a:prstGeom prst="rect">
            <a:avLst/>
          </a:prstGeom>
          <a:ln w="9525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4"/>
          <a:stretch/>
        </p:blipFill>
        <p:spPr>
          <a:xfrm>
            <a:off x="3048120" y="990720"/>
            <a:ext cx="3046320" cy="552240"/>
          </a:xfrm>
          <a:prstGeom prst="rect">
            <a:avLst/>
          </a:prstGeom>
          <a:ln w="9525">
            <a:noFill/>
          </a:ln>
        </p:spPr>
      </p:pic>
      <p:pic>
        <p:nvPicPr>
          <p:cNvPr id="124" name="Picture 5" descr=""/>
          <p:cNvPicPr/>
          <p:nvPr/>
        </p:nvPicPr>
        <p:blipFill>
          <a:blip r:embed="rId5"/>
          <a:stretch/>
        </p:blipFill>
        <p:spPr>
          <a:xfrm>
            <a:off x="6877080" y="2909520"/>
            <a:ext cx="2266560" cy="6379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-202320" y="0"/>
            <a:ext cx="95050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ar-SA" sz="4400" spc="-1" strike="noStrike">
                <a:solidFill>
                  <a:srgbClr val="ff0000"/>
                </a:solidFill>
                <a:latin typeface="Century Schoolbook"/>
              </a:rPr>
              <a:t>لغات الانترنت </a:t>
            </a:r>
            <a:r>
              <a:rPr b="1" lang="en-US" sz="4400" spc="-1" strike="noStrike">
                <a:solidFill>
                  <a:srgbClr val="ff0000"/>
                </a:solidFill>
                <a:latin typeface="Century Schoolbook"/>
              </a:rPr>
              <a:t>Internet Langu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0" y="742320"/>
            <a:ext cx="9143640" cy="74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50000"/>
              </a:lnSpc>
              <a:tabLst>
                <a:tab algn="l" pos="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تم تحسين وتوسيع قدرات الإنترنت باستخدام لغات البرمجة إلى جانب لغة ترميز النص المتشعّ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من بين هذه اللغات، قد يكون أهمها حالياً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Java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 و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TML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 و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JavaScript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و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XML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 وغيرها، وذلك حسب توصية تجمع/اتحاد شبكة الويب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العالمي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:(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SimSun"/>
              </a:rPr>
              <a:t>H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SimSun"/>
              </a:rPr>
              <a:t>yper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SimSun"/>
              </a:rPr>
              <a:t>T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SimSun"/>
              </a:rPr>
              <a:t>ext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SimSun"/>
              </a:rPr>
              <a:t>M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SimSun"/>
              </a:rPr>
              <a:t>arkup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SimSun"/>
              </a:rPr>
              <a:t>L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SimSun"/>
              </a:rPr>
              <a:t>anguage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  <a:ea typeface="SimSun"/>
              </a:rPr>
              <a:t>)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  <a:ea typeface="SimSun"/>
              </a:rPr>
              <a:t>HTML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  <a:ea typeface="SimSun"/>
              </a:rPr>
              <a:t> لغة ترميز النص المتشعّب وهي اللغة الرئيسية المستخدمة لتطوير صفحات الويب.للإنترن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riel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el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el</Template>
  <TotalTime>784</TotalTime>
  <Application>LibreOffice/7.4.7.2$Linux_X86_64 LibreOffice_project/40$Build-2</Application>
  <AppVersion>15.0000</AppVersion>
  <Words>1025</Words>
  <Paragraphs>8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EME</dc:creator>
  <dc:description/>
  <dc:language>en-US</dc:language>
  <cp:lastModifiedBy>jawish</cp:lastModifiedBy>
  <dcterms:modified xsi:type="dcterms:W3CDTF">2021-05-25T06:54:41Z</dcterms:modified>
  <cp:revision>521</cp:revision>
  <dc:subject/>
  <dc:title>المحاضرة الأولى الحاسبات وأنواعها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7</vt:r8>
  </property>
</Properties>
</file>