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32D6F-1B83-45BE-A19B-777C20466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B7DA7A-DB21-477A-A5C3-9A995E8F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AAA84-97AB-4012-AB4D-64C676CC3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70347-1899-47CD-B961-41333253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B63-D1B5-469F-8E01-820F5DC0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F4B-5AA2-48F4-B6AE-6397AE7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6FA-CBC1-457D-8936-A4564025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97-A678-4E6F-847A-7EE29527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BF78A-4CE1-4445-A892-466B905A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6676E-528D-441C-89AF-E420C75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EFD96-182C-4D96-BF22-5476324D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5784-3523-46BC-98C0-C8B6499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5300-9F3C-4F0F-8D22-D9945641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500D-84C0-4A98-8866-A4FC1687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73070-3B04-4792-BFFB-7FFB3DB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C26-B39E-48FA-936F-89F7B36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B346-281E-46D9-A27F-E31D79B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8EB6E-5F54-4CA5-A704-ED41CDF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B1B3-50C0-480E-92DE-8EE58D1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943CA-CCDC-4FA8-A075-D01C599E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46C63-1133-4363-89E4-3E905DC8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E4E-4B62-48FD-B6BE-B6E00C3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95B-C6DC-49FE-9830-CA252A6A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2B8-297E-4445-8DE6-2F90AE7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71D-045D-4161-A8F4-4D2D80EA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0EC-7874-4D4D-B1D8-4AB48CE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2C1-EC5E-4AB5-BFBC-19B2CB2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F1B-E5E1-4B48-B266-A4D2C7C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C60672-5D52-46AC-BD6F-F7657D7920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770DC8-E4F3-4415-9EA8-3F4265D253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www.bondo.co.uk/blog/wp-content/uploads/2008/07/browsers.jpg&amp;imgrefurl=http://www.bondo.co.uk/blog/?tag%3Dwoosabi&amp;usg=__1uG0PvqsEb5Wu9HOLb7XiVsTD3c=&amp;h=270&amp;w=280&amp;sz=59&amp;hl=en&amp;start=20&amp;tbnid=texgT3aijCkuKM:&amp;tbnh=110&amp;tbnw=114&amp;prev=/images?q%3Dweb%2Bbrowsers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9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How HTTP works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قوم المتصفح بإنشاء </a:t>
            </a:r>
            <a:r>
              <a:rPr b="0" lang="ar-SA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طلب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لرؤية صفحة ويب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صل الطلب إلى الخادم ثم </a:t>
            </a:r>
            <a:r>
              <a:rPr b="0" lang="ar-SA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يرد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بإرسال الصفحة بصيغة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ASCI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ستلم المتصفح الصفحة و يفسرها من صيغة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SCII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إلى خطوط و ألوان و تنسيقات مفهومة للبشر و يظهرها على الشاشة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3949A1-B4E5-44F8-81FD-FA9B057B8354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j0300520"/>
          <p:cNvPicPr/>
          <p:nvPr/>
        </p:nvPicPr>
        <p:blipFill>
          <a:blip r:embed="rId1"/>
          <a:stretch/>
        </p:blipFill>
        <p:spPr>
          <a:xfrm>
            <a:off x="1523880" y="4419720"/>
            <a:ext cx="16380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IP numbe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81165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هو إختصار لـ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et protocol numb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رقم مميز و فريد يتم تعريف المستخدم بواسطته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تم نزويد هذا الرقم للمستخدم من قبل مزود خدمة الإنترنت (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لذلك فيمكن أن يتغير في كل مرة تتصل بها بشبكة الا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مواقع المنشورة على الإنترنت يكون لها رقم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ثابت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Century Schoolbook"/>
              </a:rPr>
              <a:t>(لماذا؟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E65F7B-E272-4452-9F0C-8936C2A455D9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MPj0424388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2133720"/>
            <a:ext cx="7314840" cy="4419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D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1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هو أختصار ل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main nam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 هو نظام مكون من قاعدة بيانات ضخمة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يتم تخزين فيها 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لكل مواقع العال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مهمة الرئيسية لهذا النظام هو تحويل اسم الموقع الى 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الخاص به من أجل تحديد مكان الخادم الذي يحوي هذا الموق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0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000" spc="-1" strike="noStrike">
                <a:solidFill>
                  <a:srgbClr val="000000"/>
                </a:solidFill>
                <a:latin typeface="Century Schoolbook"/>
              </a:rPr>
              <a:t>مثال : الرقم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0.41.12.7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هو لموقع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328F24-57F7-4CA1-AB49-A25A3EC2C6B6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URL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هو إختصار لـ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niform Resource Loc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عبارة عن معرف الموقع و هو عنوان الموقع الالكتروني أو صفحة الويب على شبكة الانترن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ahoma"/>
              </a:rPr>
              <a:t>له عدة أجزاء (البروتوكول, الاسم, المسار, اسم المل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2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9CA282-1E76-41E2-92EC-0A3862034EDB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TL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op-level domain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 =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v =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u = educatio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 = networ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 = other organizations (often nonprofit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l = military instal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-letter country codes for geographic sit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9320" indent="-171720" algn="r" rtl="1">
              <a:lnSpc>
                <a:spcPct val="95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u (Australia), .uk (United Kingdon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ae (United Arab Emirates), .jo (Jorda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2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F2022A-162F-4393-B96B-12669CC37409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72691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صفح الانترنت  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Browsing the W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10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AB9AAC1-7A79-4D7F-A036-1C9E7800DF94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MCj02380700000[1]"/>
          <p:cNvPicPr/>
          <p:nvPr/>
        </p:nvPicPr>
        <p:blipFill>
          <a:blip r:embed="rId1"/>
          <a:stretch/>
        </p:blipFill>
        <p:spPr>
          <a:xfrm>
            <a:off x="3809880" y="3276720"/>
            <a:ext cx="2369880" cy="24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Browser</a:t>
            </a: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المتصفح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96428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هو برنامج حاسوبي صمم لإرسال طلبات عرض المعلومات من قبل المستخدم, تشمل هذه المعلومات مواقع الانترنت و بعدها يقوم البرنامج باستقبال الردود و تفسيرها لشكل نصي أو صوري يفهمه المستخد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DAC118-7E49-440E-B086-27F3D83D8038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brows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114800"/>
            <a:ext cx="2209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كيف يبدأ التصفح؟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تابة عنوان الموقع المراد تصفحة في صندوق العناوين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بعض الأزرار المفيدة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499760" cy="69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38000" cy="81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3505320" y="4952880"/>
            <a:ext cx="929880" cy="99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2122200" cy="8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تصفح الانترن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كيف يمكن إعادة زيارة موقع انترنت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6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قائمة المفضل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6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قائمة تاريخ التصف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r" rtl="1">
              <a:lnSpc>
                <a:spcPct val="13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سؤال: كيف يتم التحكم بالخيارين السابقين؟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725AB5-930D-490E-9BB3-A0CD0E0A6600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Servers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: </a:t>
            </a: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الخوادم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16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أجهزة حاسوب خاصة بقدرات معالجة كبيرة و مساحات تخزينية واسع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خوادم يمكنها أن تؤدي العديد من المهام بشكل متتالي و متوازي و ترسل المعلومات بشكل أسرع على الشبكة سواء المحلية أو (الانترنت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9BC6AC-06BA-432C-BDB3-9421355248EA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MCj04247900000[1]"/>
          <p:cNvPicPr/>
          <p:nvPr/>
        </p:nvPicPr>
        <p:blipFill>
          <a:blip r:embed="rId1"/>
          <a:stretch/>
        </p:blipFill>
        <p:spPr>
          <a:xfrm>
            <a:off x="1143000" y="4343400"/>
            <a:ext cx="17078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3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أجهزة المستخدم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ent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8040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ه الجهاز الذي نستخدمه يومي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ادة هو أقل قوة من أجهزة الخواد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 الاختلاف التقني الوحيد هو أن الخادم يشغل بعض البرامج التي لا يشغلها المستخدم و في الغالب يختلف نظام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052056-35C6-41C5-BCCA-D0B63669032C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999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Building Servic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services on the net are built us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contacts the server and they exchange information following s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D00CA0-EB7A-4F76-A02D-93CAE75BE161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ما هو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HTTP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2017800"/>
            <a:ext cx="79642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كلمة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هي إختصار ل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er Text Transfer Protoc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ahoma"/>
              </a:rPr>
              <a:t>يستخدم هذا البروتوكول ليعلم متصفحك كيفية عرض المعلومات من مواقع الانترنت و كيفية ارسالها و استقبال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BAB927-249A-4141-9785-521701806EC7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0</TotalTime>
  <Application>LibreOffice/7.4.7.2$Linux_X86_64 LibreOffice_project/40$Build-2</Application>
  <AppVersion>15.0000</AppVersion>
  <Words>477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0:40Z</dcterms:modified>
  <cp:revision>517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